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3.png" ContentType="image/png"/>
  <Override PartName="/ppt/media/image4.png" ContentType="image/png"/>
  <Override PartName="/ppt/media/image7.wmf" ContentType="image/x-wmf"/>
  <Override PartName="/ppt/media/image8.png" ContentType="image/png"/>
  <Override PartName="/ppt/media/image2.png" ContentType="image/png"/>
  <Override PartName="/ppt/media/image10.wmf" ContentType="image/x-wmf"/>
  <Override PartName="/ppt/media/image12.jpeg" ContentType="image/jpeg"/>
  <Override PartName="/ppt/media/image11.png" ContentType="image/pn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5B4E-1781-4246-A44C-C02D862A11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8E9F-300C-4D7A-8432-FF0C4B4A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6DB6-BFDE-4649-AB07-5C70A891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1D31-3ED3-4B5D-8761-A55EEB4E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60BF-DE32-49FC-8E08-2FD67548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A14F-938E-436D-855F-43CE685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017ED-ABC8-488F-B527-EC37B20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0CB19-E9B7-43F4-8B4B-8E6BCB3B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52912-DAF3-4EC6-A867-2C39848B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450C-EE7A-4732-9957-D76AAB3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1BC04-1921-4C0D-89D5-996BB5DAD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FD747-6F3B-4C0E-A5E3-015C95370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2CA8-D1C8-47C7-B870-EE37356D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3FA01-832B-424C-8538-DB9E853F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7CF8C-B846-425B-A242-DFE1E9AC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10CA4-E8CB-41D2-A699-1C815F16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184FA-7C0A-4D14-82CC-46AE593D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634A0-B883-4010-B114-BC3E4B4B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BC2A2-A4D1-4CA4-BF73-276217E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FBC88-06A2-48A6-A18E-934234C5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38B9B-AF10-48F9-9211-94FB5E2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9705D-AD07-4FFF-963E-1F8A83B2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64FD1-58DC-42BB-9F3C-A510BDB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D507-764E-4721-A5AE-ED95671D8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6E8C4-BD21-481F-A50F-3816E45C6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3221C-8417-454D-96C5-54796AA86E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B92741-2F64-44DE-8A22-3C07634C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24B202-CC96-4A8E-B9A5-250918E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2CAA6-8ADB-4966-8BEC-1734C570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1AAAB-5C31-4853-88FE-DC37DD85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FE632-4070-4F95-8D93-0F08BD94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BE125-D385-4950-BB57-9CF35EDC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CCBEBF-F08C-48C5-9A67-CD4B05F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E412CC-07D6-4864-92F5-B0E4B7A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E4C1A-6434-45EB-9287-163BAA788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B99BA7-2C3A-4013-B10E-E74C845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607CEE-2F03-4E64-A3CE-5D3482E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35E86-61D7-4441-8854-EC0F52E89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503CD-7F51-4CD9-A98C-5B1D57F60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2C9B3-EB4E-4B39-A476-5A789FD7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84A59-E9C6-4CFD-BAC1-2D71D770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7AB5-32EB-46A7-A213-3FDFB44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6E2FB-2692-4A56-BB48-18DC28D7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FD8A-E1A4-4C8D-BED4-C3471E66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2FCF-7D93-4B26-87EB-A99F8502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8AE4F-FBDA-45C2-832C-C8BB1E69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48042-FB25-4C75-BBD5-AF12B26F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EC510-7EA4-4E9F-BE4A-3604341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9EB37-6FA8-4FB0-AD1E-9550FF21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9199-B775-4767-B5A0-3BBDB59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8B1D-F9C5-443C-BC2E-350AF7AAD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6157D-16DD-4DA9-A557-38A9A655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675FA-677B-4522-AC56-28B1E654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19FF-1119-4C0F-8EF1-0C992DD3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5F468-D03E-4414-BB20-641AD86E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7314E-5AE4-4B9E-B915-282C040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AE19-8371-40EB-B5E8-DFC8F594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A10F4-8D40-4B10-B4B3-BD15C506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BBE63-E544-4E45-8183-DE440CB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7E588-1CDC-4F64-A780-B034ABFF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CE073-BB86-4639-AF0F-2181A56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6F58A-CE59-45F9-A351-116F8D514C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C381-4310-42F4-91F4-32EC65BF4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932-0003-4AF7-A5F7-5D3ACDC3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79C0-D571-47FE-8958-3A9C41B4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2222-1443-48E5-ADF9-B37A710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830-7693-43AB-AFE5-F573B578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8118-A43F-4EA8-870D-89149AE1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7805-D0AA-4F5A-9F4B-CBF84198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970-184D-4E1F-A317-73AA5F15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4800-12EA-4686-B41C-74A17E9D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FF22-9E43-4002-816C-8BF6CF2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6A1E-3DA8-49C5-9A78-68FB3AA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E4C-6B22-400E-8FF0-BA84FAB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B57C-3084-477D-A62A-C342042ABD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78C97-B147-4598-B1ED-81161BEEDF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ADBB4-CF51-464E-B69B-544EB93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AD4C4-A102-4C9F-9F7D-BC93991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C5B4-DBE4-4125-BE69-B526332C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B6FBF-03EF-4675-AE2F-AC57B3F6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D968C-E47C-44AD-A514-5FAE3118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EC466-048C-43E3-A7A0-D498A4C2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5C3C0-1917-41C9-A107-D238CDE0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C702A-6DA4-4FA4-BC34-179271E9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F732C-B916-47ED-9AEB-8716682F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28ACE-61EA-4E5A-AA50-7D7E8406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44AF5-5A1E-4820-818D-5E6BE51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9E0E5-238E-4980-AE4E-7464CB6C4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9ED89-42E9-4726-908B-C141CCCD7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3493-E913-4E2E-953E-ABDDBE9C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80FCF-0FE8-45A0-AA99-48933415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4E1F7-93A7-4732-B6A5-C730359C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EE38D-8E77-41EA-BED3-1072B201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33DFE-A8FC-4F45-8321-D52850B5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787B8-3ABD-41D7-AA08-C9F3B7B0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A2FAF-A192-41EE-B9E3-7E190888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58DE5-5B7E-4C20-85FB-075FDCD0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26CA4-7EEF-4B2B-A0EB-2DEA6720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4F0C0-6147-4C44-87CD-43FE380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2EFC1-F5AD-492D-BE91-543D88AB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189E-E572-4B2D-9C31-9EEB8E37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1FFDD-3327-4769-9798-B8F6BEBA7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A48E-DA8F-46B0-9C94-76B5E4D52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4F1F7-28EE-4B10-B298-707F025B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EEE3-D863-44A0-BD26-778F6452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38BAF-87C4-415D-B4B9-6467DA85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5B723-A316-475A-A2FE-B128CFAE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9A791-6EC3-44CF-82D6-462E5FB1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42E2F-22B7-4622-BB38-B65673E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ABE4-7F45-45B5-B453-1BA6ED63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01F8-68D7-4BD9-81C2-076455A4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C51E-D874-45E9-802F-ACD177C0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0FF9-9EB7-4A5A-A8C0-D47E47B4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F2D2-9ABE-491B-A0F2-5EF65B8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7D9E-D71A-4D1D-B454-0A65D1BFD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15EB4-7DE8-4348-9116-CB5AC9358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214F3-4BA2-433C-9784-CAF07759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FEAE5-A60A-4AAA-A51E-09944C93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2A025-A916-46DB-8C8E-93D3DC18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F51AB-E8D7-4510-9330-223D3A8B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08EE6-97F3-4664-8F72-DC3A88EF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40AD8-62DE-4055-B00F-8D1B83ED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17E7-FCB8-42D5-B8F7-E4728549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F5A1E-E24A-438B-A34B-0D071DB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66F79-D9EB-413B-98BD-31F19CF6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187AE-84FE-45FD-89A8-362C0458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1AB9A-729D-4A0C-AEA8-FFD9774C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B9173-5192-4B5B-AD9D-DB65988D5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38A28-8C9D-43BF-8BE3-E1CBEFBC1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F26706-67B3-4B10-AF48-3D792AB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2EEFA7-0527-45BA-AA9B-BF8ED9EF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DC054-486E-483F-8C28-3D635F45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7087BE-381A-4D09-930E-A7AD4656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2288-62D2-41DD-B11D-3751B5B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B8A6C8-8671-4783-8EB7-901BBB50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9896C8-A18A-4F4A-A4EB-D8E51855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DB5343-4083-4F29-B960-B65C99C2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042505-3737-476B-8B3E-D12FAE8D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3D49D-DCD9-4247-B980-02CE81C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684970-A48D-451E-8ACA-1D8E37C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8684E0-8B7D-44AB-AED3-AF39E80C7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5E27-C0D6-4919-864B-A3CBEC345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66960-B6F7-44F8-8A48-3ADB04B6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FDEF0-0BDD-4FA3-9D89-3F3B2932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7254"/>
                </a:srgbClr>
              </a:gs>
              <a:gs pos="100000">
                <a:srgbClr val="242852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60600" y="811080"/>
            <a:ext cx="6869160" cy="6161400"/>
            <a:chOff x="1560600" y="811080"/>
            <a:chExt cx="6869160" cy="616140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69160" cy="61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40000">
              <a:off x="2433600" y="1875960"/>
              <a:ext cx="511812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52280" y="712800"/>
            <a:ext cx="4680000" cy="5381640"/>
            <a:chOff x="152280" y="712800"/>
            <a:chExt cx="4680000" cy="538164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0000" cy="53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40000">
              <a:off x="534960" y="1825200"/>
              <a:ext cx="391500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3481560" y="-146160"/>
            <a:ext cx="6068880" cy="5276880"/>
            <a:chOff x="3481560" y="-146160"/>
            <a:chExt cx="6068880" cy="52768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68880" cy="527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40000">
              <a:off x="4227120" y="814320"/>
              <a:ext cx="4579920" cy="33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CBE41F-C9C3-445E-A651-6F456533652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9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0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CAB959-492C-44A2-8114-CFB3C8985600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1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2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9E91D7-F5FC-4799-8A1F-C5A8438314B2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3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4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7E20E5-67D4-4A74-BBD1-EC47408B1F2B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316404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FC9F24-D4C6-402D-A38E-0CC4284ADD88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97A884-ECB1-4BDA-84B1-873FAE7C30C2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31BC29-A290-4F8A-8614-A50D8E922D60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0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47CDE8-ACB4-4D57-BED3-341CDA7F4EB4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E7A893-9524-4B04-A056-DE6D1BD788D8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4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D7AB2A-1450-4D8D-B4BA-8DD040F478AF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6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F9C0D4-B9E0-4E25-A7BB-11F1D1705740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7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8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F1EE03-4BB4-484B-8ED5-E8C0667A5154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008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3260880" y="1782720"/>
            <a:ext cx="519120" cy="5558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4051440" y="3924360"/>
            <a:ext cx="528480" cy="5652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2187720" y="63504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2852640" y="2830680"/>
            <a:ext cx="633600" cy="6411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7"/>
          <a:stretch/>
        </p:blipFill>
        <p:spPr>
          <a:xfrm>
            <a:off x="2259000" y="4981680"/>
            <a:ext cx="593640" cy="6001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8"/>
          <a:stretch/>
        </p:blipFill>
        <p:spPr>
          <a:xfrm>
            <a:off x="3268800" y="6021360"/>
            <a:ext cx="503280" cy="6793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9"/>
          <a:stretch/>
        </p:blipFill>
        <p:spPr>
          <a:xfrm>
            <a:off x="5327640" y="223920"/>
            <a:ext cx="314280" cy="485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0"/>
          <a:stretch/>
        </p:blipFill>
        <p:spPr>
          <a:xfrm>
            <a:off x="4438800" y="1308240"/>
            <a:ext cx="314280" cy="4856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1"/>
          <a:stretch/>
        </p:blipFill>
        <p:spPr>
          <a:xfrm>
            <a:off x="3772080" y="2421000"/>
            <a:ext cx="290160" cy="4856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2"/>
          <a:stretch/>
        </p:blipFill>
        <p:spPr>
          <a:xfrm>
            <a:off x="5651640" y="5653080"/>
            <a:ext cx="314280" cy="4856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3"/>
          <a:stretch/>
        </p:blipFill>
        <p:spPr>
          <a:xfrm>
            <a:off x="5327640" y="3425760"/>
            <a:ext cx="324000" cy="5428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4"/>
          <a:stretch/>
        </p:blipFill>
        <p:spPr>
          <a:xfrm>
            <a:off x="5337000" y="4533840"/>
            <a:ext cx="3146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17640">
              <a:lnSpc>
                <a:spcPct val="150000"/>
              </a:lnSpc>
              <a:spcBef>
                <a:spcPts val="1151"/>
              </a:spcBef>
              <a:tabLst>
                <a:tab algn="l" pos="0"/>
                <a:tab algn="l" pos="657360"/>
                <a:tab algn="l" pos="1571760"/>
                <a:tab algn="l" pos="2486160"/>
                <a:tab algn="l" pos="3400560"/>
                <a:tab algn="l" pos="4314960"/>
                <a:tab algn="l" pos="5229360"/>
                <a:tab algn="l" pos="6143760"/>
                <a:tab algn="l" pos="7058160"/>
                <a:tab algn="l" pos="7972560"/>
                <a:tab algn="l" pos="8886960"/>
                <a:tab algn="l" pos="9801360"/>
                <a:tab algn="l" pos="9883800"/>
                <a:tab algn="l" pos="10333080"/>
                <a:tab algn="l" pos="1078236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 класс идёт в музей. Маленький мальчик играл в мяч. Скоро мы будем писать сочинение. Трудно увидеть в лесу дикое животное. Лучше всего читать следы зверей на свежем снегу.</a:t>
            </a:r>
            <a:endParaRPr b="0" lang="en-US" sz="4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1e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6991200" y="0"/>
            <a:ext cx="221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7920" y="-30240"/>
          <a:ext cx="6984720" cy="6903720"/>
        </p:xfrm>
        <a:graphic>
          <a:graphicData uri="http://schemas.openxmlformats.org/drawingml/2006/table">
            <a:tbl>
              <a:tblPr/>
              <a:tblGrid>
                <a:gridCol w="2289600"/>
                <a:gridCol w="2486520"/>
                <a:gridCol w="2208600"/>
              </a:tblGrid>
              <a:tr h="1405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стоящее врем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шедшее врем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дущее время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то делает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то делал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то будем делать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дёт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ед. ч.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грал (ед. ч.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дем писать (мн. ч.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nodeType="clickEffect" fill="hold">
                      <p:stCondLst>
                        <p:cond delay="0"/>
                      </p:stCondLst>
                      <p:childTnLst>
                        <p:par>
                          <p:cTn id="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08000" y="1844640"/>
            <a:ext cx="9036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17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657360"/>
                <a:tab algn="l" pos="1571760"/>
                <a:tab algn="l" pos="2486160"/>
                <a:tab algn="l" pos="3400560"/>
                <a:tab algn="l" pos="4314960"/>
                <a:tab algn="l" pos="5229360"/>
                <a:tab algn="l" pos="6143760"/>
                <a:tab algn="l" pos="7058160"/>
                <a:tab algn="l" pos="7972560"/>
                <a:tab algn="l" pos="8886960"/>
                <a:tab algn="l" pos="980136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еопределённая форма глагола»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" y="115920"/>
            <a:ext cx="754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Palatino Linotype"/>
                <a:ea typeface="Microsoft YaHei"/>
              </a:rPr>
              <a:t>Тема урока: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push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nodeType="clickEffect" fill="hold">
                      <p:stCondLst>
                        <p:cond delay="0"/>
                      </p:stCondLst>
                      <p:childTnLst>
                        <p:par>
                          <p:cTn id="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-17640" y="-100080"/>
            <a:ext cx="9244080" cy="6977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-14400" y="0"/>
            <a:ext cx="913932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урок!</a:t>
            </a:r>
            <a:br>
              <a:rPr sz="11500"/>
            </a:br>
            <a:br>
              <a:rPr sz="11500"/>
            </a:br>
            <a:endParaRPr b="0" lang="en-US" sz="11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push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nodeType="clickEffect" fill="hold">
                      <p:stCondLst>
                        <p:cond delay="0"/>
                      </p:stCondLst>
                      <p:childTnLst>
                        <p:par>
                          <p:cTn id="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5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0:04:49Z</dcterms:created>
  <dc:creator>Мария</dc:creator>
  <dc:description/>
  <dc:language>en-US</dc:language>
  <cp:lastModifiedBy>mmm</cp:lastModifiedBy>
  <dcterms:modified xsi:type="dcterms:W3CDTF">2014-10-20T17:02:20Z</dcterms:modified>
  <cp:revision>16</cp:revision>
  <dc:subject/>
  <dc:title>п . длежащее  ск . зуемое  обст . ятельство  гл . гол   д . полнение  опр . деление</dc:title>
</cp:coreProperties>
</file>