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26A-B39E-4345-8008-405DDBE2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343-5CE9-464A-BC34-F9BBADD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64F-62A5-4006-9E70-33F7BE93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4E9-9157-4B91-AAF8-A581195D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4412-A431-4BD4-B864-6FDF8C09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7C6D-EE43-4938-9BEF-37CC5146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45E3-9401-46E5-BA0F-581FF328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B6AF-E733-4BF9-88F1-5A821A7D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0261-DF89-4862-8C78-4DE5F415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6367-63EB-4EC5-9B38-32B7EBF5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E998-73DF-4DC9-A2C4-50084B2D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844-B051-4F81-93A7-A388FE59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08D6-AEFD-4BA3-B1CB-643B36B5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F8A9-A9D4-4CB9-A2AA-D44B145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8CE3-3975-4241-AD4C-3EF6104A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0CAC-786D-47A7-A17C-54CE4177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41DD-35CD-4205-B913-9228518E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517C-DCF4-4C7D-BDEA-084FF5FD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C4C4-AF32-4D27-8198-113DF20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31E2-5211-4068-8E2A-28A62E93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7CC4-94B9-4B27-914F-071579A5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C3C9-B5CB-40F3-99AD-FDA4C15A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5F8-E4DB-4113-9A67-01027CDE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C6B4-C6A6-427D-B5EA-2258B70E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9D39-EE20-408F-8F79-BE2E61EA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875C-EFC4-4EB9-93C0-2D35DFB6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99A5-1784-4AC4-A5D5-7BABA15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EC23-D7E5-4DB1-82D5-451CF3E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BECE9-2D4F-430F-9E68-DBC4CE4D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BEA7-184E-461D-9CC5-9E64C324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06F5-E7F8-44C7-9981-44B04E28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5B7A-CD7B-439D-9231-81B25E1A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D7EC-8BF6-4C0D-B7B9-E4FAD0F8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5AA-C17A-4673-A02B-1B55B405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7A8F-0D8D-43CB-9382-C24D6037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9B3E-5635-4725-A65F-D946BF5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8AE9-F9D1-4CF6-8189-668451B6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FB61-324E-42D2-B25E-C8C985A4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14E71-C7DC-496A-BA2A-EA176452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0C3D-0051-43C4-957D-FDF32ECE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60B10-327B-447A-9670-C80E1A42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DB19-C3FD-425A-A1B6-E99E6411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85FF2-CE0D-4673-856B-A6CF6F9D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0E040-9D69-4749-8719-47C10F29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D78-4BB6-4BBE-9756-6F62B42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8A3D8-1E80-46A0-88FD-E2577CB3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435B8-6387-4537-907E-54739D89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24611-F62E-41B7-99D3-791E3BDA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C954C-AEDA-48F1-AC21-7D955061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CE74-682A-4FA4-95F1-E99105B7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F13C2-3F82-456F-887B-F08E56C1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8E068-8951-44FC-8CFA-C49F0EA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C6F3F-C4A2-4B3A-9C13-8562EDF8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41D3-2965-40FC-878E-B57D3CB5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00F1-1436-45A8-8B07-152DF9DC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EEC-94AD-43A9-995E-66CB53C4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FFA78-1066-463D-9D6A-E2C5D542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D89-BC9D-4B11-8CE3-899970EE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D2C-9AF0-40FD-943C-4C29368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AF3-EC75-402B-A430-4D9D030C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5DCC-D0ED-4013-89C8-A635CBD649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EBA0-AEF0-4048-A194-C35EF6A7F7D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9301-E7A4-41AE-82E5-A2D7152D59A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8ADD-62DF-439A-9862-110C1C38A6A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DBEF-9B7C-44E2-95E9-DEDF495709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990720" y="2133720"/>
            <a:ext cx="7467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4600"/>
                </a:solidFill>
                <a:latin typeface="Georgia"/>
              </a:rPr>
              <a:t>Профилактик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4600"/>
                </a:solidFill>
                <a:latin typeface="Georgia"/>
              </a:rPr>
              <a:t>      </a:t>
            </a:r>
            <a:r>
              <a:rPr b="0" lang="ru-RU" sz="8000" spc="-1" strike="noStrike">
                <a:solidFill>
                  <a:srgbClr val="004600"/>
                </a:solidFill>
                <a:latin typeface="Georgia"/>
              </a:rPr>
              <a:t>ОРВИ и            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4600"/>
                </a:solidFill>
                <a:latin typeface="Georgia"/>
              </a:rPr>
              <a:t>       </a:t>
            </a:r>
            <a:r>
              <a:rPr b="0" lang="ru-RU" sz="8000" spc="-1" strike="noStrike">
                <a:solidFill>
                  <a:srgbClr val="004600"/>
                </a:solidFill>
                <a:latin typeface="Georgia"/>
              </a:rPr>
              <a:t>грипп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2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1676520" cy="26575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8" descr="5.jpg"/>
          <p:cNvPicPr/>
          <p:nvPr/>
        </p:nvPicPr>
        <p:blipFill>
          <a:blip r:embed="rId3"/>
          <a:stretch/>
        </p:blipFill>
        <p:spPr>
          <a:xfrm>
            <a:off x="6324480" y="3657600"/>
            <a:ext cx="2065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3"/>
          <p:cNvSpPr/>
          <p:nvPr/>
        </p:nvSpPr>
        <p:spPr>
          <a:xfrm>
            <a:off x="4419720" y="7621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Я заболе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Что 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685800" y="1981080"/>
            <a:ext cx="74674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. Свести к минимуму контакт с другими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2. Соблюдать постельный р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3. Обратиться за медицинской помощ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4. Соблюдать правила личной гигиены, использовать медицинскую мас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5. Пить много  жид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3"/>
          <p:cNvSpPr/>
          <p:nvPr/>
        </p:nvSpPr>
        <p:spPr>
          <a:xfrm>
            <a:off x="4114800" y="8380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Если в до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     </a:t>
            </a: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больно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685800" y="2286000"/>
            <a:ext cx="746748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1.Разместить больного в отдельной комна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.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.Частое проветривание и влажная уборка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4.При уходе за больным использовать маску, часто мыть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I:\флешка\грипп, ОРВИ\boleem_setyu-b.jpg"/>
          <p:cNvPicPr/>
          <p:nvPr/>
        </p:nvPicPr>
        <p:blipFill>
          <a:blip r:embed="rId2"/>
          <a:stretch/>
        </p:blipFill>
        <p:spPr>
          <a:xfrm>
            <a:off x="3505320" y="2114640"/>
            <a:ext cx="4610160" cy="4029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3"/>
          <p:cNvSpPr/>
          <p:nvPr/>
        </p:nvSpPr>
        <p:spPr>
          <a:xfrm>
            <a:off x="685800" y="358128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подготовлен с использованием сети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3"/>
          <p:cNvSpPr/>
          <p:nvPr/>
        </p:nvSpPr>
        <p:spPr>
          <a:xfrm>
            <a:off x="1600200" y="21337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Пути передачи  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3124080" cy="2946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общение1"/>
          <p:cNvPicPr/>
          <p:nvPr/>
        </p:nvPicPr>
        <p:blipFill>
          <a:blip r:embed="rId3"/>
          <a:stretch/>
        </p:blipFill>
        <p:spPr>
          <a:xfrm>
            <a:off x="4114800" y="3193920"/>
            <a:ext cx="4191120" cy="2816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чашка"/>
          <p:cNvPicPr/>
          <p:nvPr/>
        </p:nvPicPr>
        <p:blipFill>
          <a:blip r:embed="rId4"/>
          <a:stretch/>
        </p:blipFill>
        <p:spPr>
          <a:xfrm>
            <a:off x="5867280" y="228600"/>
            <a:ext cx="228600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mage005"/>
          <p:cNvPicPr/>
          <p:nvPr/>
        </p:nvPicPr>
        <p:blipFill>
          <a:blip r:embed="rId2"/>
          <a:stretch/>
        </p:blipFill>
        <p:spPr>
          <a:xfrm>
            <a:off x="-228600" y="838080"/>
            <a:ext cx="3273480" cy="6019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I:\флешка\грипп, ОРВИ\gripp.jpg"/>
          <p:cNvPicPr/>
          <p:nvPr/>
        </p:nvPicPr>
        <p:blipFill>
          <a:blip r:embed="rId3"/>
          <a:stretch/>
        </p:blipFill>
        <p:spPr>
          <a:xfrm>
            <a:off x="3124080" y="4038480"/>
            <a:ext cx="6229440" cy="2819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I:\флешка\фк\здоровьесбережение\демо\ghripp_skhiema_knizh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I:\флешка\грипп, ОРВИ\info3 -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4038480" y="9144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Профилак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685800" y="2895480"/>
            <a:ext cx="74674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комфортный температурный режи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помещ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регулярное проветри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влажная уборка помещ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ngsana New"/>
              </a:rPr>
              <a:t>одеваться    по пог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уборка"/>
          <p:cNvPicPr/>
          <p:nvPr/>
        </p:nvPicPr>
        <p:blipFill>
          <a:blip r:embed="rId2"/>
          <a:stretch/>
        </p:blipFill>
        <p:spPr>
          <a:xfrm>
            <a:off x="6553080" y="43434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3"/>
          <p:cNvSpPr/>
          <p:nvPr/>
        </p:nvSpPr>
        <p:spPr>
          <a:xfrm>
            <a:off x="4114800" y="9144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Профилак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609480" y="2286000"/>
            <a:ext cx="746784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Здоровый образ жиз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ЗОЖ"/>
          <p:cNvPicPr/>
          <p:nvPr/>
        </p:nvPicPr>
        <p:blipFill>
          <a:blip r:embed="rId2"/>
          <a:stretch/>
        </p:blipFill>
        <p:spPr>
          <a:xfrm>
            <a:off x="5791320" y="403848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3"/>
          <p:cNvSpPr/>
          <p:nvPr/>
        </p:nvSpPr>
        <p:spPr>
          <a:xfrm>
            <a:off x="4114800" y="9144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Профилак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609480" y="22860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равильно    используйте медицинскую мас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243828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I:\флешка\картинки\демо+фоны+рамки\fon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3"/>
          <p:cNvSpPr/>
          <p:nvPr/>
        </p:nvSpPr>
        <p:spPr>
          <a:xfrm>
            <a:off x="4114800" y="9144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0" lang="ru-RU" sz="4000" spc="-1" strike="noStrike">
                <a:solidFill>
                  <a:srgbClr val="006600"/>
                </a:solidFill>
                <a:latin typeface="Georgia"/>
              </a:rPr>
              <a:t>Профилак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5"/>
          <p:cNvSpPr/>
          <p:nvPr/>
        </p:nvSpPr>
        <p:spPr>
          <a:xfrm>
            <a:off x="914400" y="25909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снов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редство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офилак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РИ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АКЦИ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вакцинация1"/>
          <p:cNvPicPr/>
          <p:nvPr/>
        </p:nvPicPr>
        <p:blipFill>
          <a:blip r:embed="rId2"/>
          <a:stretch/>
        </p:blipFill>
        <p:spPr>
          <a:xfrm>
            <a:off x="5715000" y="3962520"/>
            <a:ext cx="2362320" cy="167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леново</cp:lastModifiedBy>
  <dcterms:modified xsi:type="dcterms:W3CDTF">2014-05-12T18:45:58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