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194C-17F9-4AF5-A3FA-830F70D7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6CC1-A7ED-469A-8C02-5D06C6C3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07E23-548C-4962-8EC4-9F36C233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888E4-235D-4325-A5F1-BE5BB492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BEAF2-6080-4F4D-9794-D20416D0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63D92-50E9-44C7-9E6A-F68857E0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6E7B5-CA84-4632-8AF5-32BB5C1F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A5D63-65C8-41D7-B129-C17C170B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B9A36-F7C8-46B2-BA35-457C1DCF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9DFF7-0BBE-475F-9165-94BB1884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8E96A-6611-48C3-BAAA-79397542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3230-A500-40B5-BB91-92AB2627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854A-162F-4364-BD03-AF7B804D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FC9F-3172-4452-A237-2C03480F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75B5-ECBC-4F53-94F4-13893A0B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CD94-094D-45DA-A137-30A9985A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7E00-4E50-4CC5-86F3-3EB6F209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526E-89C0-43C5-AA97-25045094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34F1-A58F-4239-B5E5-DBBD2EF8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9D15-3A43-4836-B6D0-15C0DD9F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4BF1-FFDF-42AE-89C3-A6C632DB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C8CC-5F92-4773-98F6-965C3B27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92FD-062F-436A-BF61-2573AC50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A99C-1BA0-4960-9C41-5144774D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B184-2891-4FFB-8446-31DF5FF8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4150-DA94-4DFD-AB7D-C727912D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DF21A-1121-47EB-8CC8-BEB2C8271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B03CF-7A30-404B-8E84-B14EB05E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24037-0184-4005-BA22-058E41F0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D9ABF-6F03-4BFE-A2E5-503CBECD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BBD48-A5FC-405E-A985-97F7E990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6A68-BCC4-4B12-A154-D7E872C3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B9071-98AD-404C-9D9B-9F568320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BA8FF-B3BC-4012-97C8-9A8137F4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C780E-1608-4322-8BDC-5BD46752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72643-5B37-4426-AF97-E630E81D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86663-99B6-4041-B240-75557601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46EB0-679D-413E-A40F-B0CCEAE62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AC7E6-8808-457E-B97E-47557929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DCB29-368C-4A06-9093-FBE34ABD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A8377-D5E3-445D-89B2-0E8E8FD7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7384B-163F-4F4E-8007-CA609AF9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5CEB-CF7F-4AC1-84E8-EA41EDAF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E1E21-162A-48C3-9611-CC3F3CF7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E8142-3F40-4A50-827D-4C095B9B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222D9-2226-41D2-A5AF-7BFFBFE2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36A08-DC96-43FC-B95A-04B1A657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C05FF-ED58-43CC-9F87-69DC596C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F33D5-F990-4D22-A5B5-FDF0DBE4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7EA4C-B5B0-463A-946D-6431A677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56862-F90E-4505-A473-6322B992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41A7B-3FC6-4369-AEC7-D82D14C8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50D444-925C-48A4-A4FC-CEB020E9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1BBA-A0D5-473E-9FB9-CC07A952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93C682-A7AC-435E-B804-D8F5BA9D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F3669A-3997-4EF1-9967-42C53414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286689-FEC4-4319-9609-7C20EBF5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22FCE6-571A-49AA-8712-E2FCBB90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8423F1-C8F1-402D-9A42-B8D6E6D1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847297-F49D-41E8-9CA1-C0DF33DC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87C58F-4630-466D-82A9-94AC85A9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22F10C-34B5-40C9-B30E-7931BEA0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BBED72-E66A-44B3-B678-6843B2FE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05B032-CDED-425C-8157-A389AA64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BB3D-B928-4BD6-92A5-0AC955D3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FB9EBB-3A69-4A8C-8FAB-358B57A6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716EF-49A0-49EA-ABBA-4F6A2F2C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BA027-3C89-40FF-8F34-3575B2E5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29A1B-3699-4FE9-A0B3-A5F05C5C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D6E38-C473-49AA-9817-27991CDD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5EEE2-C869-4880-939E-8882C91E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A3FF8-E8AD-49D6-BFF9-C893513A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A9362-17E4-4E0E-A49D-019735D2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AF922-7AD1-47A7-86E0-41CE92C9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4E124-B9ED-445E-9DA2-3B9F8FF1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6413-A755-4E81-8856-5E9A61A7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A618B-5D08-4B54-9929-BDDBBF86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FFE43-9F96-40A6-B17C-38010EBC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214DA-1C79-489A-8491-5E04F9A5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09268-E6E7-414F-8AE8-A9E9CA3D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F4109-4A42-4C39-8F48-B1AD9364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FAEB9-97A1-46F6-B98F-81EE199E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3B7EF-DDEA-4180-A290-B22316FF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EE652-0FA7-4587-AF1A-8B36B135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42891-0FD5-4D9B-913C-09A45ADC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836A9-4450-48A3-AB9B-F5740172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6E50-D416-4411-B26A-859045AC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CA938-8482-49B9-85B6-B7DFCA01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26D11-0547-4F0E-BE44-E6F1CC80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81190-0161-43F5-B116-5CE42D4B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97474-071F-4200-B9ED-7F22986C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F8FF3-7E7B-4463-B631-1524D0D4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D56C9-CCEA-4D96-B15E-71421DD0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AF9FB-A33C-4F54-8384-72420675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F1DF0-27C5-400E-AAD0-9632D711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A63AF-748B-4AB2-A76D-D423647B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D2925-2DEC-4EA2-8510-D6DF0960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AAF4-95EC-4835-97D2-15BE5B0E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FB0CF-73E5-49CE-B907-4E32CF06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19F33-C9CA-42D0-BC64-B1FE5193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97F01-C343-4672-AE57-0FDF5F9B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BCEA8-21FB-4500-97FB-44D337CE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DE9DF-95D2-49EA-82C7-539E6F94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AA350-A383-41F1-A169-64E3F8A6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505F5-BAC7-4EC1-A5A2-53DCE518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F0EF7-B6BB-4AB0-9D70-3A5B4F84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12E3A-01FD-43DF-B6E8-7FB33621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13E3A-851F-4C4E-947F-FC05A9D0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AD96-0BB8-4C19-9D78-0210482B7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2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D17A-86FD-4134-B6B9-0ACECFA04F5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FF7B-2486-4873-B895-9BC6C81662F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00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00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00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00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00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00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2FD7-6B60-4B71-AE86-FC70AF81B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F02F-6193-477B-9C1A-BCB4FE5BE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645D-9685-492E-9F0F-CE6C94076F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F5E1-1C47-4AE2-9E48-13F1B85D14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D9B6-8389-45E3-90F3-9806E25F43A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02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8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29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32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33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35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3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B746-5B39-4A4B-A73D-4A094385BE4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86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90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96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00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5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Фрагмент конспекта урока  русского языка по теме : «Правописание слов с проверяемыми безударными гласными в корне.»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40384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 клас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30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30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читель МОУ СОШ №24: Бобовникова Н.Ю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Разделить слова на две группы по двум признакам одновременно.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80880" y="2742840"/>
            <a:ext cx="8229600" cy="376380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Verdana"/>
              </a:rPr>
              <a:t>К…ток, в…дро, берёза, пов…р, в…сна, спос…б, ст…нал, малина, зел…нь</a:t>
            </a:r>
            <a:r>
              <a:rPr b="0" lang="ru-RU" sz="4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МА: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« Правописание слов с проверяемой безударной гласной в корн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143000" y="685800"/>
            <a:ext cx="2743200" cy="4267080"/>
          </a:xfrm>
          <a:prstGeom prst="rect">
            <a:avLst/>
          </a:prstGeom>
          <a:gradFill rotWithShape="0">
            <a:gsLst>
              <a:gs pos="0">
                <a:srgbClr val="706b4e"/>
              </a:gs>
              <a:gs pos="50000">
                <a:srgbClr val="f4e9aa"/>
              </a:gs>
              <a:gs pos="100000">
                <a:srgbClr val="706b4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а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ед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в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ес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посо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т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зел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724280" y="685800"/>
            <a:ext cx="2743200" cy="4267080"/>
          </a:xfrm>
          <a:prstGeom prst="rect">
            <a:avLst/>
          </a:prstGeom>
          <a:gradFill rotWithShape="0">
            <a:gsLst>
              <a:gs pos="0">
                <a:srgbClr val="70644e"/>
              </a:gs>
              <a:gs pos="50000">
                <a:srgbClr val="f3dbab"/>
              </a:gs>
              <a:gs pos="100000">
                <a:srgbClr val="70644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берё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7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7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838080" y="2514600"/>
            <a:ext cx="91440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3581280"/>
            <a:ext cx="838440" cy="19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971800" y="3352680"/>
            <a:ext cx="76212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3962520"/>
            <a:ext cx="7621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876920" y="4876920"/>
            <a:ext cx="761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867280" y="4648320"/>
            <a:ext cx="838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010280" y="2666880"/>
            <a:ext cx="914400" cy="28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7391520" y="2362320"/>
            <a:ext cx="99036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352680"/>
            <a:ext cx="838080" cy="19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029200" y="3124080"/>
            <a:ext cx="91440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95480" y="3657600"/>
            <a:ext cx="7621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62120" y="4572000"/>
            <a:ext cx="761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905120" y="4267080"/>
            <a:ext cx="6858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248520" y="2438280"/>
            <a:ext cx="914400" cy="28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4d"/>
            </a:gs>
            <a:gs pos="50000">
              <a:srgbClr val="ffff66"/>
            </a:gs>
            <a:gs pos="100000">
              <a:srgbClr val="c1c1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0203"/>
                </a:solidFill>
                <a:latin typeface="Times New Roman"/>
              </a:rPr>
              <a:t>Прочитайте пословицу.</a:t>
            </a:r>
            <a:br>
              <a:rPr sz="4800"/>
            </a:br>
            <a:r>
              <a:rPr b="1" lang="en-US" sz="4800" spc="-1" strike="noStrike">
                <a:solidFill>
                  <a:srgbClr val="280203"/>
                </a:solidFill>
                <a:latin typeface="Times New Roman"/>
              </a:rPr>
              <a:t>Объясните её смысл.</a:t>
            </a:r>
            <a:br>
              <a:rPr sz="4800"/>
            </a:br>
            <a:r>
              <a:rPr b="1" lang="en-US" sz="4800" spc="-1" strike="noStrike">
                <a:solidFill>
                  <a:srgbClr val="280203"/>
                </a:solidFill>
                <a:latin typeface="Times New Roman"/>
              </a:rPr>
              <a:t>Напишите пословицу по памяти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406044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Times New Roman"/>
              </a:rPr>
              <a:t>Большому кораблю – большое плаванье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sha</cp:lastModifiedBy>
  <dcterms:modified xsi:type="dcterms:W3CDTF">2007-05-21T19:06:2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