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323-A16F-4B61-87F5-9DB4094C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E28-4C62-4C5D-8E30-A5A9061D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953-D49E-4317-B191-C88B19F4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D62-E1F2-45ED-825A-1E3D4117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8F2-90D6-4D29-BDF2-3E4792E9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56A-6848-44FF-8D0F-4292993E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15F7-5E50-4934-A567-76911D5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03CB-D4ED-4EB1-BDED-0D77CDB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C729-4B91-48B5-AC4B-8FBE3D6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D0BE-85B7-491E-A089-AA1C7462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A3F-2088-4841-B252-8E3849BC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2D7-A054-4CC7-A5B8-FA30124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02B-4BE4-4D0E-963F-4EB0C8A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4BF-E9C6-4083-931B-5B666EA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CC31-F887-421B-BCD5-0070010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5FE-0C7A-4324-8F47-28F960D0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06D2-013A-4C14-89F3-1568A7F3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876-5CAA-425B-9F95-4E5D3694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CDC-C935-4C5C-AE70-8CD3984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94A-74F0-4ADD-8ABD-C0E2AD39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45-95BD-4921-AFE6-2FDBAD53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EFB-18E2-4F4A-BD9A-FD2560C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DB0-D9A8-4460-B493-9687EF4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6AF-E807-4D56-8174-49EE7C9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60A-D76A-4C89-AD3B-99071A820A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91F-A508-4D13-91F9-47ECF0FB32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Тема мероприятия: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4000" y="2637000"/>
            <a:ext cx="77770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Comic Sans MS"/>
              </a:rPr>
              <a:t>«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SMS – </a:t>
            </a:r>
            <a:r>
              <a:rPr b="0" lang="ru-RU" sz="8800" spc="-1" strike="noStrike">
                <a:solidFill>
                  <a:srgbClr val="ff3300"/>
                </a:solidFill>
                <a:latin typeface="Comic Sans MS"/>
              </a:rPr>
              <a:t>язык»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Сокращение по начальным буквам исходных словосочетаний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WALK (Sealed With A Loving Kiss –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«Запечатано с любовью»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TFN (Ta Ta For You -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«Пока прощаюсь»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382920" cy="2160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882720" y="3645000"/>
            <a:ext cx="3618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Аббревиатура в виде начальных бук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UK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ited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gdom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VIP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ry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portant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rs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Comic Sans MS"/>
              </a:rPr>
              <a:t>P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rsonal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mput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Comic Sans MS"/>
              </a:rPr>
              <a:t>FT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ce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Comic Sans MS"/>
              </a:rPr>
              <a:t>NY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w </a:t>
            </a: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5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850"/>
                            </p:stCondLst>
                            <p:childTnLst>
                              <p:par>
                                <p:cTn id="2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250"/>
                            </p:stCondLst>
                            <p:childTnLst>
                              <p:par>
                                <p:cTn id="2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400"/>
                            </p:stCondLst>
                            <p:childTnLst>
                              <p:par>
                                <p:cTn id="2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c3aa"/>
                </a:solidFill>
                <a:latin typeface="Arial"/>
              </a:rPr>
              <a:t>         </a:t>
            </a:r>
            <a:r>
              <a:rPr b="1" lang="en-US" sz="9600" spc="-1" strike="noStrike">
                <a:solidFill>
                  <a:srgbClr val="00ffff"/>
                </a:solidFill>
                <a:latin typeface="Comic Sans MS"/>
              </a:rPr>
              <a:t>U2</a:t>
            </a:r>
            <a:endParaRPr b="0" lang="en-US" sz="9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788000" y="4292640"/>
            <a:ext cx="403848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ou too”</a:t>
            </a: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 – </a:t>
            </a:r>
            <a:r>
              <a:rPr b="1" i="1" lang="ru-RU" sz="4400" spc="-1" strike="noStrike">
                <a:solidFill>
                  <a:srgbClr val="ff0066"/>
                </a:solidFill>
                <a:latin typeface="Comic Sans MS"/>
              </a:rPr>
              <a:t>«Ты тоже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2986200" cy="3672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022400" y="3941640"/>
            <a:ext cx="2906640" cy="2189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611280" y="2349360"/>
            <a:ext cx="3884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ou two” –</a:t>
            </a: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Comic Sans MS"/>
              </a:rPr>
              <a:t>«Вы оба»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ABBR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– </a:t>
            </a: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N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N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(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аббревиатура-слово    слово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Comic Sans MS"/>
              </a:rPr>
              <a:t>V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 ball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6600" spc="-1" strike="noStrike">
                <a:solidFill>
                  <a:srgbClr val="ff5050"/>
                </a:solidFill>
                <a:latin typeface="Comic Sans MS"/>
              </a:rPr>
              <a:t>volley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ball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Comic Sans MS"/>
              </a:rPr>
              <a:t>F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 ball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ff5050"/>
                </a:solidFill>
                <a:latin typeface="Comic Sans MS"/>
              </a:rPr>
              <a:t>foot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ball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5219640" y="907920"/>
            <a:ext cx="576360" cy="0"/>
          </a:xfrm>
          <a:prstGeom prst="line">
            <a:avLst/>
          </a:prstGeom>
          <a:ln w="76320">
            <a:solidFill>
              <a:srgbClr val="9ac2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2000" y="1484280"/>
            <a:ext cx="576000" cy="0"/>
          </a:xfrm>
          <a:prstGeom prst="line">
            <a:avLst/>
          </a:prstGeom>
          <a:ln w="76320">
            <a:solidFill>
              <a:srgbClr val="9ac2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3284640"/>
            <a:ext cx="863640" cy="0"/>
          </a:xfrm>
          <a:prstGeom prst="line">
            <a:avLst/>
          </a:prstGeom>
          <a:ln w="76320">
            <a:solidFill>
              <a:srgbClr val="9ac2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4437000"/>
            <a:ext cx="720720" cy="0"/>
          </a:xfrm>
          <a:prstGeom prst="line">
            <a:avLst/>
          </a:prstGeom>
          <a:ln w="76320">
            <a:solidFill>
              <a:srgbClr val="9ac2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cb4f"/>
                </a:solidFill>
                <a:latin typeface="Comic Sans MS"/>
              </a:rPr>
              <a:t>Сочинение</a:t>
            </a:r>
            <a:br>
              <a:rPr sz="3200"/>
            </a:br>
            <a:r>
              <a:rPr b="1" lang="ru-RU" sz="3200" spc="-1" strike="noStrike">
                <a:solidFill>
                  <a:srgbClr val="bfcb4f"/>
                </a:solidFill>
                <a:latin typeface="Comic Sans MS"/>
              </a:rPr>
              <a:t>«Как я провел лето» на </a:t>
            </a:r>
            <a:r>
              <a:rPr b="1" lang="en-US" sz="3200" spc="-1" strike="noStrike">
                <a:solidFill>
                  <a:srgbClr val="bfcb4f"/>
                </a:solidFill>
                <a:latin typeface="Comic Sans MS"/>
              </a:rPr>
              <a:t>sms-</a:t>
            </a:r>
            <a:r>
              <a:rPr b="1" lang="ru-RU" sz="3200" spc="-1" strike="noStrike">
                <a:solidFill>
                  <a:srgbClr val="bfcb4f"/>
                </a:solidFill>
                <a:latin typeface="Comic Sans MS"/>
              </a:rPr>
              <a:t>языке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smm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Verdana"/>
              </a:rPr>
              <a:t>hol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ac2c0"/>
                </a:solidFill>
                <a:latin typeface="Verdana"/>
              </a:rPr>
              <a:t>w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CWO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B4 we usd 2go2 NY 2C my bro, his GF&amp; thr 3 kds FTF. ILNY it’s a gr8 plc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umm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holidays </a:t>
            </a:r>
            <a:r>
              <a:rPr b="0" lang="en-US" sz="2400" spc="-1" strike="noStrike">
                <a:solidFill>
                  <a:srgbClr val="9ac2c0"/>
                </a:solidFill>
                <a:latin typeface="Verdana"/>
              </a:rPr>
              <a:t>w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omplete waste of tim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Before, we used to go to New York to see my brother, his girlfriend and their 3 kids face to face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I love New York, it’s a great plac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4 - before – [ bi:fo: ] (B[bi] 4[fo:]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2go2 –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go to (2 [tu:])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2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to see (2 [tu:], C [si:]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8 - great – [ greit ] gr8(eight)-[eit]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1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100"/>
                            </p:stCondLst>
                            <p:childTnLst>
                              <p:par>
                                <p:cTn id="3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100"/>
                            </p:stCondLst>
                            <p:childTnLst>
                              <p:par>
                                <p:cTn id="3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100"/>
                            </p:stCondLst>
                            <p:childTnLst>
                              <p:par>
                                <p:cTn id="4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100"/>
                            </p:stCondLst>
                            <p:childTnLst>
                              <p:par>
                                <p:cTn id="4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mic Sans MS"/>
              </a:rPr>
              <a:t>Sms-</a:t>
            </a: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язык в деловом общен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окращения в деловой документ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Abt – about; dols – dollar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Ltd - limi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окращения в деловой переписк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St – street; sq - squ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окращения в названиях фирм и корпорац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J&amp;S – Journey and Stu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SMS</a:t>
            </a:r>
            <a:r>
              <a:rPr b="1" lang="en-US" sz="4400" spc="-1" strike="noStrike">
                <a:solidFill>
                  <a:srgbClr val="ff5050"/>
                </a:solidFill>
                <a:latin typeface="Comic Sans MS"/>
              </a:rPr>
              <a:t> –</a:t>
            </a: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 язык</a:t>
            </a:r>
            <a:r>
              <a:rPr b="1" lang="en-US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 художественной литератур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Монолог Гамл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ыть или не быть? Вот в чем вопрос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2 b? Ntb? =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“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To be or not to b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That is a question 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100"/>
                            </p:stCondLst>
                            <p:childTnLst>
                              <p:par>
                                <p:cTn id="5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5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100"/>
                            </p:stCondLst>
                            <p:childTnLst>
                              <p:par>
                                <p:cTn id="5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100"/>
                            </p:stCondLst>
                            <p:childTnLst>
                              <p:par>
                                <p:cTn id="5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100"/>
                            </p:stCondLst>
                            <p:childTnLst>
                              <p:par>
                                <p:cTn id="5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Bernard MT Condensed"/>
              </a:rPr>
              <a:t>Sms-</a:t>
            </a:r>
            <a:r>
              <a:rPr b="0" lang="ru-RU" sz="5400" spc="-1" strike="noStrike">
                <a:solidFill>
                  <a:srgbClr val="99ff99"/>
                </a:solidFill>
                <a:latin typeface="Bernard MT Condensed"/>
              </a:rPr>
              <a:t>язык в Библии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Bernard MT Condensed"/>
              </a:rPr>
              <a:t>Молитва “Отче наш” (Lord’s Prayer)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Bernard MT Condensed"/>
              </a:rPr>
              <a:t>dad @ hvn.</a:t>
            </a:r>
            <a:r>
              <a:rPr b="1" lang="en-US" sz="36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ernard MT Condensed"/>
              </a:rPr>
              <a:t>Our Father, who art in heav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Bernard MT Condensed"/>
              </a:rPr>
              <a:t>Отче наш, сущий на небес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Bernard MT Condensed"/>
              </a:rPr>
              <a:t>4giv r sin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ernard MT Condensed"/>
              </a:rPr>
              <a:t>Forgive us our trespass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Bernard MT Condensed"/>
              </a:rPr>
              <a:t>Прости нам долги (грехи) наш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ff5050"/>
                </a:solidFill>
                <a:latin typeface="Verdana"/>
              </a:rPr>
              <a:t>@</a:t>
            </a:r>
            <a:endParaRPr b="0" lang="en-US" sz="3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усские называю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«собака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23640" y="1483920"/>
            <a:ext cx="3322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6600"/>
                </a:solidFill>
                <a:latin typeface="Verdana"/>
              </a:rPr>
              <a:t>@</a:t>
            </a:r>
            <a:endParaRPr b="0" lang="en-US" sz="2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796000" y="1268280"/>
            <a:ext cx="2948040" cy="2895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22176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Comic Sans MS"/>
              </a:rPr>
              <a:t>SMS</a:t>
            </a:r>
            <a:endParaRPr b="0" lang="en-US" sz="9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cb4f"/>
                </a:solidFill>
                <a:latin typeface="Comic Sans MS"/>
              </a:rPr>
              <a:t>Short  Message Servic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omic Sans MS"/>
              </a:rPr>
              <a:t>служба коротких сообщен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Поляки называют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«обезьянкой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509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ff99"/>
                </a:solidFill>
                <a:latin typeface="Verdana"/>
              </a:rPr>
              <a:t>@</a:t>
            </a:r>
            <a:endParaRPr b="0" lang="en-US" sz="2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3141360" cy="2428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9480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Тайваньцы называют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«мышкой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31640" y="1483920"/>
            <a:ext cx="23144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ccff"/>
                </a:solidFill>
                <a:latin typeface="Verdana"/>
              </a:rPr>
              <a:t>@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3457440" cy="26049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384360" cy="24242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95280" y="400356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99"/>
                </a:solidFill>
                <a:latin typeface="Comic Sans MS"/>
              </a:rPr>
              <a:t>Греки называют</a:t>
            </a:r>
            <a:r>
              <a:rPr b="1" lang="en-US" sz="4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ff99"/>
                </a:solidFill>
                <a:latin typeface="Comic Sans MS"/>
              </a:rPr>
              <a:t>«уточкой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66"/>
                </a:solidFill>
                <a:latin typeface="Verdana"/>
              </a:rPr>
              <a:t>@</a:t>
            </a:r>
            <a:endParaRPr b="0" lang="en-US" sz="2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502240" y="1600200"/>
            <a:ext cx="2328840" cy="2189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2006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Comic Sans MS"/>
              </a:rPr>
              <a:t>Итальянцы и корейцы называют</a:t>
            </a:r>
            <a:r>
              <a:rPr b="1" lang="en-US" sz="40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99ff"/>
                </a:solidFill>
                <a:latin typeface="Comic Sans MS"/>
              </a:rPr>
              <a:t>«улиткой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ffff"/>
                </a:solidFill>
                <a:latin typeface="Verdana"/>
              </a:rPr>
              <a:t>@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2825640" cy="21891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556000" y="2852640"/>
            <a:ext cx="2674800" cy="3456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749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Comic Sans MS"/>
              </a:rPr>
              <a:t>Венгры называют</a:t>
            </a:r>
            <a:r>
              <a:rPr b="0" lang="en-US" sz="4000" spc="-1" strike="noStrike">
                <a:solidFill>
                  <a:srgbClr val="00ff99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ff99"/>
                </a:solidFill>
                <a:latin typeface="Comic Sans MS"/>
              </a:rPr>
              <a:t>«червяком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02920" y="1341000"/>
            <a:ext cx="2746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c00ff"/>
                </a:solidFill>
                <a:latin typeface="Verdana"/>
              </a:rPr>
              <a:t>@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127320" cy="21891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2808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Шведы и датчане «слоновым хоботом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412640"/>
            <a:ext cx="2530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5050"/>
                </a:solidFill>
                <a:latin typeface="Verdana"/>
              </a:rPr>
              <a:t>@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2976840" cy="22226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664000" y="3141720"/>
            <a:ext cx="2158920" cy="3362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2667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Финны называют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«кошачьим хвостом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195280" y="1628640"/>
            <a:ext cx="1871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5050"/>
                </a:solidFill>
                <a:latin typeface="Verdana"/>
              </a:rPr>
              <a:t>@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284720" y="3675240"/>
            <a:ext cx="4297320" cy="24555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811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7800"/>
                            </p:stCondLst>
                            <p:childTnLst>
                              <p:par>
                                <p:cTn id="8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animClr clrSpc="rgb">
                                      <p:cBhvr>
                                        <p:cTn id="8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set>
                                      <p:cBhvr>
                                        <p:cTn id="8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bfcb4f"/>
                </a:solidFill>
                <a:uFillTx/>
                <a:latin typeface="Comic Sans MS"/>
              </a:rPr>
              <a:t>Ч – 4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fcb4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bfcb4f"/>
                </a:solidFill>
                <a:latin typeface="Comic Sans MS"/>
              </a:rPr>
              <a:t>(</a:t>
            </a:r>
            <a:r>
              <a:rPr b="1" lang="ru-RU" sz="6000" spc="-1" strike="noStrike">
                <a:solidFill>
                  <a:srgbClr val="ff5050"/>
                </a:solidFill>
                <a:latin typeface="Comic Sans MS"/>
              </a:rPr>
              <a:t>ч</a:t>
            </a:r>
            <a:r>
              <a:rPr b="1" lang="ru-RU" sz="6000" spc="-1" strike="noStrike">
                <a:solidFill>
                  <a:srgbClr val="bfcb4f"/>
                </a:solidFill>
                <a:latin typeface="Comic Sans MS"/>
              </a:rPr>
              <a:t>то – </a:t>
            </a:r>
            <a:r>
              <a:rPr b="1" lang="ru-RU" sz="6000" spc="-1" strike="noStrike">
                <a:solidFill>
                  <a:srgbClr val="ff5050"/>
                </a:solidFill>
                <a:latin typeface="Comic Sans MS"/>
              </a:rPr>
              <a:t>4</a:t>
            </a:r>
            <a:r>
              <a:rPr b="1" lang="en-US" sz="6000" spc="-1" strike="noStrike">
                <a:solidFill>
                  <a:srgbClr val="bfcb4f"/>
                </a:solidFill>
                <a:latin typeface="Comic Sans MS"/>
              </a:rPr>
              <a:t>to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bfcb4f"/>
                </a:solidFill>
                <a:uFillTx/>
                <a:latin typeface="Comic Sans MS"/>
              </a:rPr>
              <a:t>Ш – 6</a:t>
            </a:r>
            <a:r>
              <a:rPr b="1" lang="ru-RU" sz="6000" spc="-1" strike="noStrike">
                <a:solidFill>
                  <a:srgbClr val="bfcb4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fcb4f"/>
                </a:solidFill>
                <a:latin typeface="Comic Sans MS"/>
              </a:rPr>
              <a:t>(</a:t>
            </a:r>
            <a:r>
              <a:rPr b="1" lang="ru-RU" sz="6000" spc="-1" strike="noStrike">
                <a:solidFill>
                  <a:srgbClr val="ff5050"/>
                </a:solidFill>
                <a:latin typeface="Comic Sans MS"/>
              </a:rPr>
              <a:t>ш</a:t>
            </a:r>
            <a:r>
              <a:rPr b="1" lang="ru-RU" sz="6000" spc="-1" strike="noStrike">
                <a:solidFill>
                  <a:srgbClr val="bfcb4f"/>
                </a:solidFill>
                <a:latin typeface="Comic Sans MS"/>
              </a:rPr>
              <a:t>кола – </a:t>
            </a:r>
            <a:r>
              <a:rPr b="1" lang="ru-RU" sz="6000" spc="-1" strike="noStrike">
                <a:solidFill>
                  <a:srgbClr val="ff5050"/>
                </a:solidFill>
                <a:latin typeface="Comic Sans MS"/>
              </a:rPr>
              <a:t>6</a:t>
            </a:r>
            <a:r>
              <a:rPr b="1" lang="en-US" sz="6000" spc="-1" strike="noStrike">
                <a:solidFill>
                  <a:srgbClr val="bfcb4f"/>
                </a:solidFill>
                <a:latin typeface="Comic Sans MS"/>
              </a:rPr>
              <a:t>kola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5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9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Вну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три</a:t>
            </a: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 – вну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О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пять</a:t>
            </a: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 – о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1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set>
                                      <p:cBhvr>
                                        <p:cTn id="855" dur="1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4f45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99"/>
                </a:solidFill>
                <a:latin typeface="Comic Sans MS"/>
              </a:rPr>
              <a:t>Транслитерация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-T 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Comic Sans MS"/>
              </a:rPr>
              <a:t>-B 6kole, a 4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-DaBai vsTreTumc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Comic Sans MS"/>
              </a:rPr>
              <a:t>Ok. 3BoHu.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-</a:t>
            </a:r>
            <a:r>
              <a:rPr b="1" lang="ru-RU" sz="2800" spc="-1" strike="noStrike">
                <a:solidFill>
                  <a:srgbClr val="ff66ff"/>
                </a:solidFill>
                <a:latin typeface="Comic Sans MS"/>
              </a:rPr>
              <a:t>Ты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66ff"/>
                </a:solidFill>
                <a:latin typeface="Comic Sans MS"/>
              </a:rPr>
              <a:t>где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Comic Sans MS"/>
              </a:rPr>
              <a:t>-В школе, а что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omic Sans MS"/>
              </a:rPr>
              <a:t>-Давай встретимся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Comic Sans MS"/>
              </a:rPr>
              <a:t>- Зво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Оксфордский словарь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Oxford American dictionary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4530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685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3205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4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84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«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»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 -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 «Д»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«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R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»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 -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 «Я»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«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JI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»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 -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 «Л»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«</a:t>
            </a: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#</a:t>
            </a:r>
            <a:r>
              <a:rPr b="1" lang="ru-RU" sz="7200" spc="-1" strike="noStrike">
                <a:solidFill>
                  <a:srgbClr val="00ffff"/>
                </a:solidFill>
                <a:latin typeface="Comic Sans MS"/>
              </a:rPr>
              <a:t>» - «Ж»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5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3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4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1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сонце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(солнце),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мыца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(мыться) - орфография фонетическа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я тя лю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- не несущие смысла части слов отсекают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изза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(из-за)– опущение дефис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сдесь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(здесь) – взаимозаменяемость парных согласных (“с” получается при нажатии кнопки телефона три раза, а “з” - после пяти раз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харашо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(хорошо) – варьирование гласных (“а” - одно нажатие, “о” - три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отсутствие мягкого знака, удвоенной </a:t>
            </a:r>
            <a:r>
              <a:rPr b="1" lang="en-US" sz="2400" spc="-1" strike="noStrike">
                <a:solidFill>
                  <a:srgbClr val="c4c3aa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н</a:t>
            </a:r>
            <a:r>
              <a:rPr b="1" lang="en-US" sz="2400" spc="-1" strike="noStrike">
                <a:solidFill>
                  <a:srgbClr val="c4c3aa"/>
                </a:solidFill>
                <a:latin typeface="Comic Sans MS"/>
              </a:rPr>
              <a:t>”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и знаков препинания, которые активно используются для выражения эмоций: </a:t>
            </a:r>
            <a:r>
              <a:rPr b="1" lang="ru-RU" sz="2400" spc="-1" strike="noStrike">
                <a:solidFill>
                  <a:srgbClr val="00ff99"/>
                </a:solidFill>
                <a:latin typeface="Comic Sans MS"/>
              </a:rPr>
              <a:t>:-Р ;-) :’-( :-( :-?</a:t>
            </a:r>
            <a:r>
              <a:rPr b="1" lang="ru-RU" sz="2400" spc="-1" strike="noStrike">
                <a:solidFill>
                  <a:srgbClr val="c4c3aa"/>
                </a:solidFill>
                <a:latin typeface="Comic Sans MS"/>
              </a:rPr>
              <a:t> и т.п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Comic Sans MS"/>
              </a:rPr>
              <a:t>Good-bye!</a:t>
            </a:r>
            <a:endParaRPr b="0" lang="en-US" sz="10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3132000" y="2708280"/>
            <a:ext cx="3311640" cy="9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1" lang="ru-RU" sz="20000" spc="-1" strike="noStrike">
                <a:solidFill>
                  <a:srgbClr val="ffff00"/>
                </a:solidFill>
                <a:latin typeface="Verdana"/>
              </a:rPr>
              <a:t>           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034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ервыми при передаче сообщений  стали опускать гласные буквы в словах телеграфисты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«тчк» - точ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«зпт» - запят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«скб» - скоб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«квч» - кавыч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«двтч» - двоеточ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8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6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2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Беглость гласных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Msg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– messag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Pls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– pleas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dds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– addres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Bldg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- building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Азбука Морзе</a:t>
            </a:r>
            <a:endParaRPr b="0" lang="en-US" sz="66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796000" y="2997360"/>
            <a:ext cx="2340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Усечение финальной части исходного слова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ls – holi</a:t>
            </a:r>
            <a:r>
              <a:rPr b="0" lang="en-US" sz="6000" spc="-1" strike="noStrike">
                <a:solidFill>
                  <a:srgbClr val="cc00ff"/>
                </a:solidFill>
                <a:latin typeface="Comic Sans MS"/>
              </a:rPr>
              <a:t>da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echno – techno</a:t>
            </a:r>
            <a:r>
              <a:rPr b="0" lang="en-US" sz="6000" spc="-1" strike="noStrike">
                <a:solidFill>
                  <a:srgbClr val="cc00ff"/>
                </a:solidFill>
                <a:latin typeface="Comic Sans MS"/>
              </a:rPr>
              <a:t>log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oc – doc</a:t>
            </a:r>
            <a:r>
              <a:rPr b="0" lang="en-US" sz="6000" spc="-1" strike="noStrike">
                <a:solidFill>
                  <a:srgbClr val="cc00ff"/>
                </a:solidFill>
                <a:latin typeface="Comic Sans MS"/>
              </a:rPr>
              <a:t>tor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5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75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Усечение первого слога у исходного слова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Comic Sans MS"/>
              </a:rPr>
              <a:t>Tele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phone – phon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Comic Sans MS"/>
              </a:rPr>
              <a:t>De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ence - fence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64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Усечение обоих слогов  в начале и в конце слова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Fridge - </a:t>
            </a:r>
            <a:r>
              <a:rPr b="1" lang="en-US" sz="6600" spc="-1" strike="noStrike">
                <a:solidFill>
                  <a:srgbClr val="cc00ff"/>
                </a:solidFill>
                <a:latin typeface="Comic Sans MS"/>
              </a:rPr>
              <a:t>re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fridge</a:t>
            </a:r>
            <a:r>
              <a:rPr b="1" lang="en-US" sz="6600" spc="-1" strike="noStrike">
                <a:solidFill>
                  <a:srgbClr val="cc00ff"/>
                </a:solidFill>
                <a:latin typeface="Comic Sans MS"/>
              </a:rPr>
              <a:t>rator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75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8:04:29Z</dcterms:created>
  <dc:creator>Admin</dc:creator>
  <dc:description/>
  <dc:language>en-US</dc:language>
  <cp:lastModifiedBy>User</cp:lastModifiedBy>
  <dcterms:modified xsi:type="dcterms:W3CDTF">2010-12-11T05:54:17Z</dcterms:modified>
  <cp:revision>12</cp:revision>
  <dc:subject/>
  <dc:title>Тема мероприятия</dc:title>
</cp:coreProperties>
</file>