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8AAB-CACD-4087-9D41-FE6E3FB8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9785-19F3-4EBB-9E00-0D66CF80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33BF-FD83-446E-B93B-4FE1F1C9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BCD0-8822-4479-A387-A340BD50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0E37-0E14-4349-B299-7C25D982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6AB2-83FD-459D-A029-9BC79CA2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1768-93DF-4B40-B0F9-3A4A02F1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413A-C235-414D-9F63-EB1B70DC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CA27-1AB1-4A30-892F-1E3BA7E0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39D7-DF26-4871-8392-CC44425A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2980-6837-4A2E-812C-6D14FAD0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C581F-A10E-4B3F-9ED4-366E3C8C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3660-289E-4E10-A91E-62088084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3C28-A7EF-4D50-8665-BBAED3E2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63AC-E5EA-498C-A2AC-A437F847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39CF-298E-4B9C-983C-70DE62FC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5BE2-C292-4138-80D6-FFBAEAD0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D6CF-86D3-4BCE-A46A-44CC063D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41D3-7D24-4F4F-A1E3-B6911732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6640-1E42-45E6-8747-2C23AB05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41F9-BC39-43F8-940D-EE64DAA2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C49C-626D-4175-84E8-1A38A8CF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58AE-BD6E-4002-A3F9-85F586A9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E016-1BC6-4787-A169-2311C51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A40C-E822-4E0B-B642-626786BD29C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0304-54ED-4901-A0E0-8C5E0C4E35E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едьмое  апреля.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лассная работа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особление деепричастных оборотов и одиночных деепричастий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 выполнить задание В4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азеологизмы сложа руки, сломя голову, спустя рукава ,затаив дыхание не являются деепричастными оборотами(не обособляютс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 Он трудился не  покладая ру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Если одиночное деепричастие стоит в конце  простого предложения , то  оно не обособляется.Например: Он шел  по  улице  прихрамыв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 выполнить задание ОГЭ В4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8472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Задание: среди данных предложений найдите предложение с обособленным обстоятельством. Напишите номер этого предло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Вскоре  мы уже мчались с такой  быстротой, что у меня сладко захватило ду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Однообразный ,унылый в  бесцветье дня простор окружал пут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Улицы.расходясь, отслаивались, и переулки мелькали по обеим сторонам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ш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машнее задание :  Упражнение 322 , выполнить   пять заданий  В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асибо. До  свидания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ЦЕЛИ  УРОКА 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Продолжить формирование знаний правил обособления обстоятельств, выраженных деепричастиями и  деепричастными оборо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Продолжить формировать умение находить одиночные и распространенные обстоятельства в предложениях  и применять прави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вать мышление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Воспитывать  любовь к язы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e5e500"/>
                </a:solidFill>
                <a:latin typeface="Tahoma"/>
              </a:rPr>
              <a:t>Орфографическая разминка- тест.</a:t>
            </a:r>
            <a:br>
              <a:rPr sz="3800"/>
            </a:b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Задание</a:t>
            </a:r>
            <a:r>
              <a:rPr b="0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назовите строчку , все слова которой относятся одной части речи.</a:t>
            </a:r>
            <a:br>
              <a:rPr sz="2800"/>
            </a:b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К…сается, прил…гает,кр…сивее;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Соб…рает, к…снулся, с…весть;</a:t>
            </a:r>
            <a:br>
              <a:rPr sz="3800"/>
            </a:br>
            <a:br>
              <a:rPr sz="38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5840" y="1988640"/>
            <a:ext cx="86328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Пр…брежный, р….весник, печ…т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Соб…раясь,р..ссчитывая, н…блюда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558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Запишите предложение-клятву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4200" y="1356840"/>
            <a:ext cx="8715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«</a:t>
            </a:r>
            <a:r>
              <a:rPr b="0" i="1" lang="ru-RU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Записывая слова с орфограммам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я  буду  внимателен</a:t>
            </a:r>
            <a:r>
              <a:rPr b="0" i="1" lang="ru-RU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: В чем синтаксическая   особенность предлож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собленное- выделенное из  общего, занять изолированное  полож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собить- выделить из  общего, создав особое от других положение; интонационно (на письме   запятыми или тире) выделить какой – нибудь смысловой отрезок внутри  пред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900000" y="2492280"/>
            <a:ext cx="701064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85880" y="1785960"/>
            <a:ext cx="74898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Содержимое 3" descr=""/>
          <p:cNvPicPr/>
          <p:nvPr/>
        </p:nvPicPr>
        <p:blipFill>
          <a:blip r:embed="rId1"/>
          <a:stretch/>
        </p:blipFill>
        <p:spPr>
          <a:xfrm>
            <a:off x="433440" y="1127160"/>
            <a:ext cx="82724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помните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3840" y="1142640"/>
            <a:ext cx="8472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диночные деепричастия и деепричастные обороты всегда выделяются запятыми , в каком бы месте  предложения они   ни  стоя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друг, /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истощась и присмирев/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 Терек, ты прервал свой рев… (М.Лермонт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/Приближаясь к роще/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стоящей на рубеже отцовского владения ,Лиза пошла  ти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чально садилось солнце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,/освещая уже убранные поля/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авило 2 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обособляется стоящее после сказуемого в конце предложения одиночное деепричастие обычно несовершенного вида в  значении обстоятельства образа  дейст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пример : Враг отступил отстреливаясь, но : Отстреливаясь, враг  отступи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о 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одиночное обстоятельство не является обстоятельством образа действия ,хотя и стоит в конце предложения , оно обособляется: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н  не  погасил свет, уход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авило  3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гда  не обособляется одиночное деепричастие , которое уже перешло в  простое  наречие . Их следует запомнить: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ежа, сидя, стоя, молча, не  глядя, нехотя,  шут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пример : Татьяна любит не шут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ак отличить производный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едлог несмотря на от деепричастия с частицей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i="1" lang="ru-RU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 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мотря на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?</a:t>
            </a:r>
            <a:br>
              <a:rPr sz="54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деепричастие можно заменить синонимом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е  гляд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 предлог несмотря на –предлогом вопре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 Несмотря на обилие суеты в магазине и работы дома ,я словно засыпал в тяжелой ску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8:17:38Z</dcterms:created>
  <dc:creator>user</dc:creator>
  <dc:description/>
  <dc:language>en-US</dc:language>
  <cp:lastModifiedBy>User</cp:lastModifiedBy>
  <dcterms:modified xsi:type="dcterms:W3CDTF">2014-04-06T12:27:45Z</dcterms:modified>
  <cp:revision>45</cp:revision>
  <dc:subject/>
  <dc:title>Александр Сергеевич Пушкин</dc:title>
</cp:coreProperties>
</file>