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513-B663-4384-9527-8514A151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670-7CC4-466F-943F-4E964BB4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0FB-7F99-4B89-9FF2-E0B85EDE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783-4F9B-4BC6-B55C-9A96C39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D1D-D4AB-430D-BF7F-9E738F6D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630C-A8C2-48C0-9B6F-571D3E9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7C8-A608-45F3-8CF9-0E365479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1B4-6670-4ED7-AC05-D8BCEB3D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1508-C1D5-487D-BBA5-DF22BD3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5691-551F-40AE-ADC1-D0C48B2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DFB-B293-49B0-9FCC-E52A610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599-B434-448B-BED4-5F6E32CC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E4D-D0A0-4800-AAA0-F96D331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6C7-D33B-4F8C-BFB8-8F39F7D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CE44-9F5D-4E99-9D69-54392B6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9E3-C706-41A9-8907-31007F8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B2F-99B9-4B5F-9411-DB9D905A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7AF-9B67-49B6-91FE-50EC3064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3D0-D9CF-4BF6-8A62-99C0D1FF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994-3EAA-4B8F-8637-B3950C8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3B9-A49F-473D-ADCB-7FF69649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61B-8552-4004-A106-C99DD27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50F-E841-4834-9258-B110FC7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A2E-0711-469F-8A96-6E92253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306-319C-402A-8605-7DEA8B031FF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0FD-5456-4C29-9715-2878DD703C0D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EE95-8F1A-4FB3-B52B-3BC49FC145F4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609480" y="8380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0458c"/>
                </a:solidFill>
                <a:latin typeface="Tahoma"/>
              </a:rPr>
              <a:t>Вспомогательный алгоритм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447920" y="33526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458c"/>
                </a:solidFill>
                <a:latin typeface="Tahoma"/>
              </a:rPr>
              <a:t>Процедуры и функции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278-BA81-4389-9948-E761CE08845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09480" y="685800"/>
            <a:ext cx="7772400" cy="69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Program task</a:t>
            </a: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var   a,b,c:integer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procedure sum1(a,b:integer; var sum:integer )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var sum :integer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sum:=a+b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writeln(‘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Сумма равна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’,sum)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end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BEGIN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clrscr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write(‘</a:t>
            </a:r>
            <a:r>
              <a:rPr b="0" lang="ru-RU" sz="2600" spc="-1" strike="noStrike">
                <a:solidFill>
                  <a:srgbClr val="0e0c02"/>
                </a:solidFill>
                <a:latin typeface="Times New Roman"/>
              </a:rPr>
              <a:t>Введи слагаемые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’)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read(a,b)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cc3300"/>
                </a:solidFill>
                <a:latin typeface="Times New Roman"/>
              </a:rPr>
              <a:t>sum(a,b,c)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EN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04920" y="76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3da824"/>
                </a:solidFill>
                <a:uFillTx/>
                <a:latin typeface="Tahoma"/>
              </a:rPr>
              <a:t>Приме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743200" y="5241960"/>
            <a:ext cx="5029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0000"/>
                </a:solidFill>
                <a:latin typeface="Tahoma"/>
              </a:rPr>
              <a:t>Переменной </a:t>
            </a:r>
            <a:r>
              <a:rPr b="0" lang="ru-RU" sz="2400" spc="-1" strike="noStrike">
                <a:solidFill>
                  <a:srgbClr val="040000"/>
                </a:solidFill>
                <a:latin typeface="Tahoma"/>
              </a:rPr>
              <a:t>с </a:t>
            </a:r>
            <a:r>
              <a:rPr b="0" lang="ru-RU" sz="2000" spc="-1" strike="noStrike">
                <a:solidFill>
                  <a:srgbClr val="040000"/>
                </a:solidFill>
                <a:latin typeface="Tahoma"/>
              </a:rPr>
              <a:t>после работы вспомогательного  алгоритма будет присвоено значение переменной </a:t>
            </a:r>
            <a:r>
              <a:rPr b="0" lang="en-US" sz="2400" spc="-1" strike="noStrike">
                <a:solidFill>
                  <a:srgbClr val="0400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E7D-321D-4A7F-8C2C-0FBA83CF8FB4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09480" y="1351080"/>
            <a:ext cx="79250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Процедуры и функции могут использовать переменные, объявленные в заголовке основной программы. Такие переменные называ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глобальным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Переменные, описанные в заголовке вспомогательного алгоритма называ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локальными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 и работать с ними можно только в пределах этого алгоритм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823-1D65-417B-A5F6-9D6D2399E14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457200"/>
            <a:ext cx="82296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Program DROB1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Uses CRT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  var    A,B,C:integer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cedu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X,Y:integer; var D:integer)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begin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  while X&lt;&gt;Y do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X&gt;Y then X:=X-Y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se Y:=Y-X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D:=X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end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BEGIN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clrscr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textcolor(3); writeln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Сокращаем дроб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’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write 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Введи числитель 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и знаменател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B’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; readln(A,B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(A,B,D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A:=A div D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B:=B div D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writeln 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Сокращенная дроб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’ , A , ’ / ’ B);    readln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0492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3da824"/>
                </a:solidFill>
                <a:uFillTx/>
                <a:latin typeface="Tahoma"/>
              </a:rPr>
              <a:t>Задача.   </a:t>
            </a:r>
            <a:r>
              <a:rPr b="0" i="1" lang="ru-RU" sz="2800" spc="-1" strike="noStrike">
                <a:solidFill>
                  <a:srgbClr val="0e0c02"/>
                </a:solidFill>
                <a:latin typeface="Tahoma"/>
              </a:rPr>
              <a:t>Сократить дробь а</a:t>
            </a:r>
            <a:r>
              <a:rPr b="0" i="1" lang="en-US" sz="2800" spc="-1" strike="noStrike">
                <a:solidFill>
                  <a:srgbClr val="0e0c02"/>
                </a:solidFill>
                <a:latin typeface="Tahoma"/>
              </a:rPr>
              <a:t>/b</a:t>
            </a:r>
            <a:r>
              <a:rPr b="0" i="1" lang="ru-RU" sz="2800" spc="-1" strike="noStrike">
                <a:solidFill>
                  <a:srgbClr val="0e0c0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477120" y="228600"/>
            <a:ext cx="2314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оцедур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113C-2498-47D6-95E8-6F65B4D59E8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0880" y="230040"/>
            <a:ext cx="82296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Program DROB2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Uses CRT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  var    A,B,C:integer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ctio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X,Y:integer):integer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begin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  while X&lt;&gt;Y do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X&gt;Y then X:=X-Y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se Y:=Y-X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=X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end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BEGIN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clrscr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textcolor(3); writeln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Сокращаем дроб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’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write 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Введи числитель 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и знаменател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B’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; readln(A,B);        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A:=A div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 (A,B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  B:=B div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VCLID (A,B)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writeln (‘</a:t>
            </a:r>
            <a:r>
              <a:rPr b="0" lang="ru-RU" sz="2400" spc="-1" strike="noStrike">
                <a:solidFill>
                  <a:srgbClr val="0e0c02"/>
                </a:solidFill>
                <a:latin typeface="Times New Roman"/>
              </a:rPr>
              <a:t>Сокращенная дробь</a:t>
            </a: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 ’ , A , ’ / ’ B);    readln;</a:t>
            </a:r>
            <a:br>
              <a:rPr sz="2400"/>
            </a:br>
            <a:r>
              <a:rPr b="0" lang="en-US" sz="2400" spc="-1" strike="noStrike">
                <a:solidFill>
                  <a:srgbClr val="0e0c02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WordArt 3"/>
          <p:cNvSpPr txBox="1"/>
          <p:nvPr/>
        </p:nvSpPr>
        <p:spPr>
          <a:xfrm>
            <a:off x="6477120" y="228600"/>
            <a:ext cx="2314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Функц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DF7-6D0F-4585-B4D2-620B91ED6206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WordArt 2"/>
          <p:cNvSpPr txBox="1"/>
          <p:nvPr/>
        </p:nvSpPr>
        <p:spPr>
          <a:xfrm>
            <a:off x="990720" y="60948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омашнее задание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19320" y="220968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imes New Roman"/>
              </a:rPr>
              <a:t>Учить конспект, составить программы с использованием функции и процедуры для нахождения НОД 3 чисел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4038480" y="55627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Желаем удачи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72F-41DD-4A40-AC57-7AF0A7E9A34B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685800" y="990720"/>
            <a:ext cx="3733920" cy="2514600"/>
            <a:chOff x="685800" y="990720"/>
            <a:chExt cx="3733920" cy="2514600"/>
          </a:xfrm>
        </p:grpSpPr>
        <p:sp>
          <p:nvSpPr>
            <p:cNvPr id="215" name="Rectangle 3"/>
            <p:cNvSpPr/>
            <p:nvPr/>
          </p:nvSpPr>
          <p:spPr>
            <a:xfrm>
              <a:off x="685800" y="990720"/>
              <a:ext cx="3733920" cy="685800"/>
            </a:xfrm>
            <a:prstGeom prst="rect">
              <a:avLst/>
            </a:prstGeom>
            <a:solidFill>
              <a:srgbClr val="715f1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152360" y="1676520"/>
              <a:ext cx="2800440" cy="1828800"/>
              <a:chOff x="1152360" y="1676520"/>
              <a:chExt cx="2800440" cy="1828800"/>
            </a:xfrm>
          </p:grpSpPr>
          <p:sp>
            <p:nvSpPr>
              <p:cNvPr id="217" name="Rectangle 2"/>
              <p:cNvSpPr/>
              <p:nvPr/>
            </p:nvSpPr>
            <p:spPr>
              <a:xfrm>
                <a:off x="1152360" y="1676520"/>
                <a:ext cx="2800440" cy="1828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8" name="Rectangle 4"/>
              <p:cNvSpPr/>
              <p:nvPr/>
            </p:nvSpPr>
            <p:spPr>
              <a:xfrm>
                <a:off x="1677240" y="2247840"/>
                <a:ext cx="875160" cy="6858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9" name="Rectangle 5"/>
              <p:cNvSpPr/>
              <p:nvPr/>
            </p:nvSpPr>
            <p:spPr>
              <a:xfrm>
                <a:off x="3135960" y="2133360"/>
                <a:ext cx="699840" cy="131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20" name="Text Box 7"/>
          <p:cNvSpPr/>
          <p:nvPr/>
        </p:nvSpPr>
        <p:spPr>
          <a:xfrm>
            <a:off x="5715000" y="457200"/>
            <a:ext cx="3429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0000"/>
                </a:solidFill>
                <a:latin typeface="Times New Roman"/>
              </a:rPr>
              <a:t>АЛГОРИТМ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1 часть рисует дом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2 часть рисует крышу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3 часть рисует окно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4 часть рисует дверь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ahoma"/>
              </a:rPr>
              <a:t>(X0,Y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40384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ahoma"/>
              </a:rPr>
              <a:t>(X1,Y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28600" y="3657600"/>
            <a:ext cx="89154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0000"/>
                </a:solidFill>
                <a:latin typeface="Times New Roman"/>
              </a:rPr>
              <a:t>АЛГОРИТМ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1 часть задать координаты и цвет, выполнить алгоритм «прямоугольник»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2 часть задать координаты и цвет, выполнить алгоритм «прямоугольник»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3 ………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BBE-1A6B-4491-9668-384DB956D9F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517680" y="38088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Вспомогательным алгоритмом называется набор действий, выделяемый в качестве самостоятельного алгоритм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010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Для его вызова есть специальная команда. Таким образом, вспомогательный алгоритм – это часть программы, оформленная в виде отдельной синтаксической конструкции и снабженная именем.  Кроме задания последовательности действий, алгоритм может содержать описание констант, переменных, типов и т.д. Все это предназначено для организации действий только внутри данного вспомогательного алгоритма. </a:t>
            </a:r>
            <a:br>
              <a:rPr sz="2600"/>
            </a:b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Такая «настройка» алгоритма реализуется с помощью понятия 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параметров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1E7-F071-4944-9896-F197636C5626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609480" y="457200"/>
            <a:ext cx="82296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Переменные, которые являются аргументами, необходимыми для работы вспомогательного алгоритма называются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араметрами</a:t>
            </a:r>
            <a:r>
              <a:rPr b="0" i="1" lang="ru-RU" sz="2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При вызове вспомогательного алгоритма важен порядок передачи и приема параметров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057400" y="3048120"/>
            <a:ext cx="48006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000"/>
                </a:solidFill>
                <a:latin typeface="Tahoma"/>
              </a:rPr>
              <a:t>Вспомогательный алгоритм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4"/>
          <p:cNvSpPr/>
          <p:nvPr/>
        </p:nvSpPr>
        <p:spPr>
          <a:xfrm flipH="1">
            <a:off x="1752480" y="3581280"/>
            <a:ext cx="1981440" cy="381240"/>
          </a:xfrm>
          <a:prstGeom prst="line">
            <a:avLst/>
          </a:prstGeom>
          <a:ln w="19080">
            <a:solidFill>
              <a:srgbClr val="0e0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4800600" y="3581280"/>
            <a:ext cx="1981080" cy="381240"/>
          </a:xfrm>
          <a:prstGeom prst="line">
            <a:avLst/>
          </a:prstGeom>
          <a:ln w="19080">
            <a:solidFill>
              <a:srgbClr val="0e0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143000" y="38862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ahoma"/>
              </a:rPr>
              <a:t>Внешний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943600" y="38862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ahoma"/>
              </a:rPr>
              <a:t>Внутренний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762120" y="4419720"/>
            <a:ext cx="228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40000"/>
                </a:solidFill>
                <a:latin typeface="Times New Roman"/>
              </a:rPr>
              <a:t>Находится в теле данной программы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419720" y="4419720"/>
            <a:ext cx="4724280" cy="19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40000"/>
                </a:solidFill>
                <a:latin typeface="Times New Roman"/>
              </a:rPr>
              <a:t>Помещается в библиотеку, оформленную соответствующим образом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40000"/>
                </a:solidFill>
                <a:latin typeface="Times New Roman"/>
              </a:rPr>
              <a:t>Имя библиотеки указывается после служебного слова </a:t>
            </a:r>
            <a:r>
              <a:rPr b="0" i="1" lang="en-US" sz="2300" spc="-1" strike="noStrike">
                <a:solidFill>
                  <a:srgbClr val="040000"/>
                </a:solidFill>
                <a:latin typeface="Times New Roman"/>
              </a:rPr>
              <a:t>USES</a:t>
            </a:r>
            <a:r>
              <a:rPr b="0" i="1" lang="ru-RU" sz="2300" spc="-1" strike="noStrike">
                <a:solidFill>
                  <a:srgbClr val="04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7AA3-EE25-4081-8031-E2F58C2EC72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WordArt 2"/>
          <p:cNvSpPr txBox="1"/>
          <p:nvPr/>
        </p:nvSpPr>
        <p:spPr>
          <a:xfrm>
            <a:off x="609480" y="30492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оцедуры и функци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6320" y="1523880"/>
            <a:ext cx="419076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Procedure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имя (параметры)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var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объявление переменных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 ………………………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 ………………………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имя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:=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выражение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END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267080" y="1600200"/>
            <a:ext cx="480060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Function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имя (параметры</a:t>
            </a: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:</a:t>
            </a: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тип данных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var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объявление переменных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 ………………………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     ………………………</a:t>
            </a:r>
            <a:r>
              <a:rPr b="0" lang="en-US" sz="2600" spc="-1" strike="noStrike">
                <a:solidFill>
                  <a:srgbClr val="0e0c02"/>
                </a:solidFill>
                <a:latin typeface="Times New Roman"/>
              </a:rPr>
              <a:t>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0000"/>
                </a:solidFill>
                <a:latin typeface="Times New Roman"/>
              </a:rPr>
              <a:t>END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04920" y="5715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0000"/>
                </a:solidFill>
                <a:latin typeface="Tahoma"/>
              </a:rPr>
              <a:t>Основное различие между ними в том, что функция возвращает значение величины и может использоваться в выражения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FC5B-91F0-4AF0-9530-19F86CC3DD6F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WordArt 2"/>
          <p:cNvSpPr txBox="1"/>
          <p:nvPr/>
        </p:nvSpPr>
        <p:spPr>
          <a:xfrm>
            <a:off x="914400" y="380880"/>
            <a:ext cx="723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еханизм параметров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09480" y="914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3da824"/>
                </a:solidFill>
                <a:uFillTx/>
                <a:latin typeface="Tahoma"/>
              </a:rPr>
              <a:t>Пример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09480" y="15238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c02"/>
                </a:solidFill>
                <a:latin typeface="Tahoma"/>
              </a:rPr>
              <a:t>Function Smax (a, b: integer, s: char):integer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c02"/>
                </a:solidFill>
                <a:latin typeface="Tahoma"/>
              </a:rPr>
              <a:t>Procedure Sum (a,b: real; var c: real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09480" y="3203640"/>
            <a:ext cx="784872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способа задачи параметров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Параметры, перед которыми отсутствует служебное слово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VAR;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Параметры, перед которыми указано служебное слово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VAR</a:t>
            </a:r>
            <a:r>
              <a:rPr b="0" lang="ru-RU" sz="2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91C-644B-4315-960F-65475AA97522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Tahoma"/>
              </a:rPr>
              <a:t>Параметры-значения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61048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e0c02"/>
                </a:solidFill>
                <a:latin typeface="Times New Roman"/>
              </a:rPr>
              <a:t>	</a:t>
            </a:r>
            <a:r>
              <a:rPr b="0" lang="ru-RU" sz="2300" spc="-1" strike="noStrike">
                <a:solidFill>
                  <a:srgbClr val="0e0c02"/>
                </a:solidFill>
                <a:latin typeface="Times New Roman"/>
              </a:rPr>
              <a:t>В данном случае параметр считается обычной переменной, которая действует только в пределах данного вспомогательного алгоритма. По окончании алгоритма она буде уничтожена и ее значение будет потеряно. При вызове вспомогательного алгоритма этому параметру устанавливается начальное значение равное значению соответствующего фактического параметра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e0c02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e0c02"/>
                </a:solidFill>
                <a:latin typeface="Times New Roman"/>
              </a:rPr>
              <a:t>Внутри вспомогательного алгоритма возможны произвольные действия с данным формальным параметром, но любые изменения его значения никак не отражаются на значении переменных вне программ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e0c02"/>
                </a:solidFill>
                <a:latin typeface="Times New Roman"/>
              </a:rPr>
              <a:t>Все это объясняется тем, что каждая программа работает в специально отведенном участке памяти компьютера. Вспомогательному алгоритму отводится свой участок памяти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51C-73B8-43DD-AAFE-6DD5FDE4422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920" y="228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3da824"/>
                </a:solidFill>
                <a:uFillTx/>
                <a:latin typeface="Tahoma"/>
              </a:rPr>
              <a:t>Приме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914400"/>
            <a:ext cx="4191120" cy="66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40000"/>
                </a:solidFill>
                <a:latin typeface="Tahoma"/>
              </a:rPr>
              <a:t>Program task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40000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040000"/>
                </a:solidFill>
                <a:latin typeface="Tahoma"/>
              </a:rPr>
              <a:t>var   a,b,c:integer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procedure sum(a,b:integer)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var sum :integer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begi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sum:=a+b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writeln(‘</a:t>
            </a:r>
            <a:r>
              <a:rPr b="0" lang="ru-RU" sz="2300" spc="-1" strike="noStrike">
                <a:solidFill>
                  <a:srgbClr val="40458c"/>
                </a:solidFill>
                <a:latin typeface="Tahoma"/>
              </a:rPr>
              <a:t>Сумма равна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’,sum)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end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BEGIN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clrscr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  </a:t>
            </a: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write(‘</a:t>
            </a:r>
            <a:r>
              <a:rPr b="0" lang="ru-RU" sz="2300" spc="-1" strike="noStrike">
                <a:solidFill>
                  <a:srgbClr val="0e0c02"/>
                </a:solidFill>
                <a:latin typeface="Tahoma"/>
              </a:rPr>
              <a:t>Введи слагаемые</a:t>
            </a: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’)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   </a:t>
            </a: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read(a,b)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  </a:t>
            </a:r>
            <a:r>
              <a:rPr b="0" lang="en-US" sz="2300" spc="-1" strike="noStrike">
                <a:solidFill>
                  <a:srgbClr val="cc3300"/>
                </a:solidFill>
                <a:latin typeface="Tahoma"/>
              </a:rPr>
              <a:t>sum(a,b)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e0c02"/>
                </a:solidFill>
                <a:latin typeface="Tahoma"/>
              </a:rPr>
              <a:t>EN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191120" y="182520"/>
            <a:ext cx="480060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   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В начале работы программы в рабочем поле отведено место для хранения значений для переменных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a,b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.</a:t>
            </a:r>
            <a:br>
              <a:rPr sz="2100"/>
            </a:b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Вспомогательный алгоритм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Sum1 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после вызова будет активизирован на другом участке памяти. Там же будет отведено и место для переменных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a,b,sum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. В момент вызова переменным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a,b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 из процедуры будет присвоено значение указанное в скобках.  Переменные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a,b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 программы не имеют никакого отношения к переменным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a,b 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из программы. Результат работы процедуры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Sum 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мы увидим, а получить значение </a:t>
            </a:r>
            <a:r>
              <a:rPr b="0" lang="en-US" sz="2100" spc="-1" strike="noStrike">
                <a:solidFill>
                  <a:srgbClr val="040000"/>
                </a:solidFill>
                <a:latin typeface="Times New Roman"/>
              </a:rPr>
              <a:t>sum</a:t>
            </a:r>
            <a:r>
              <a:rPr b="0" lang="ru-RU" sz="2100" spc="-1" strike="noStrike">
                <a:solidFill>
                  <a:srgbClr val="040000"/>
                </a:solidFill>
                <a:latin typeface="Times New Roman"/>
              </a:rPr>
              <a:t> мы не сможем. После окончания работы участок памяти, где работала процедура, будет освобожден с потерей всех данных, созданных этой программой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МОУ СОШ №73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EE4-D002-44A1-9A86-3CAD6A385636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4572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Tahoma"/>
              </a:rPr>
              <a:t>Параметры-переменные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04920" y="1100160"/>
            <a:ext cx="8458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40000"/>
                </a:solidFill>
                <a:latin typeface="Times New Roman"/>
              </a:rPr>
              <a:t>Параметры, передаваемые по ссылке, указываются заданием служебного слова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AR</a:t>
            </a:r>
            <a:r>
              <a:rPr b="0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40000"/>
                </a:solidFill>
                <a:latin typeface="Times New Roman"/>
              </a:rPr>
              <a:t>перед их идентификатором в списке параметров. Этот способ используется тогда, когда необходимо вернуть из процедуры некоторое значение.</a:t>
            </a:r>
            <a:br>
              <a:rPr sz="2800"/>
            </a:br>
            <a:r>
              <a:rPr b="0" lang="en-US" sz="28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40000"/>
                </a:solidFill>
                <a:latin typeface="Times New Roman"/>
              </a:rPr>
              <a:t>Для того, чтобы изменение в теле процедуры значение формального параметра приводило к аналогичному изменению соответствующего фактического параметра, необходимо использовать передачу параметров по ссылк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16:01:20Z</dcterms:created>
  <dc:creator>Жабина Светлана Александровна</dc:creator>
  <dc:description/>
  <dc:language>en-US</dc:language>
  <cp:lastModifiedBy>Жабина Светлана</cp:lastModifiedBy>
  <dcterms:modified xsi:type="dcterms:W3CDTF">2014-10-25T14:51:28Z</dcterms:modified>
  <cp:revision>4</cp:revision>
  <dc:subject/>
  <dc:title>Презентация PowerPoint</dc:title>
</cp:coreProperties>
</file>