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5373-A92F-4CB0-BAAB-FDDD4FD99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9CF5-B980-4F61-B8BB-8C2256FD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FBF7-E915-4012-9EB0-DB4B387BD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AD09-DA80-46B8-84A1-367AE62C7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DC8E-C646-459F-8950-E0A9B7262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A4045-D9CF-486B-ADFF-61D1BF57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746D-F9DB-4D6F-AA6C-AD983A82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976B-DF39-404D-9E97-038C68F3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CF9B-8452-4AE2-BD85-6137FC9D0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173D-506B-4FA4-89C8-93311EF9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ACA5-C040-44AA-8F6B-0A47C842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0F6C-F62A-4820-BAF8-85B5D3C0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8F2E-D687-4F9B-A570-CDB50D33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565B-367A-4E72-9035-C4A900A3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47C1-9AAA-4DF8-A21B-B75F9EDD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E57D-53D1-4E0D-9C86-71473220F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D32E-8115-47FA-A1DB-9CEFB6859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34A8-583F-4C2B-A461-8379F29D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5F19-E741-4FCF-870D-8989B4BB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F435-F6B4-4DF5-B525-8918E468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A7E9-8F73-474B-9280-ED8FC73E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A5B7-321F-4EC8-978E-2CA18993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A0B7-09EC-4A7C-9DA4-130B4D02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E4E7-A291-43FF-9729-74DBAE07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9EA1-0E8D-4CE3-ADD0-A33DFC68B8A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2450-D38B-4842-ABDE-872811E9BED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78487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Введение в учебный план факультативного курса «Естествознания» как способ повышения качества знаний по химии и биологии в школе</a:t>
            </a:r>
            <a:br>
              <a:rPr sz="2400"/>
            </a:b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975280" y="2852640"/>
            <a:ext cx="3168720" cy="2376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68360" y="2924280"/>
            <a:ext cx="4967280" cy="32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ташин В.С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хим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Ш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. Невинномыс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ИСТ    ЭКСПЕРИМЕНТАТ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Ф.И.О.  учителя          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Таташин Вячеслав  Сергее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редмет 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Инфор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Класс, количество часов    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-11 классы, 24 ча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Тема эксперимента  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тановление творческой индивидуальности в процессе  формирования естественнонаучного мировоззрения учащих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Цель(отбор наиболее эффективных методик, позволяющ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учить     детей     быстро   и   эффективно    запоминать информаци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вивать умения подбирать ассоциации к малопонятным и трудно запоминаемым термина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вивать способность решения любой задачи или осмысления любого явления, нахождения широкого круга причин для решения поставленной пробле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ормировать способности классифицировать явления по их признакам, выделять в предметах разнообразные свойства, оперировать с каждым из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и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особствовать развитию умения быстро выделять существенные и несущественные признаки в предметах в поисках общег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центрировать мышление на одном предмете, явлении или свойстве, описывать его с различных сторон с помощью разных нау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ормировать умения делать выводы из тех суждений, которые предлагаются в качестве исходны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учить устанавливать связи между явлениями, кажущимися далёкими друг от друга, а также находить предметы, имеющие общие призна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Объект:  учебно-воспитательный процесс в класса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таршей ступени обучения, где проводится экспериментальный курс «Введение в естествознание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Предмет (содержание и методы обучения направлены н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интеграцию предметов школьного курса в рамках преподавания экспериментального предмета «Введение в естествознани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Гипотеза (ЕСЛИ разработать систему, позволяющую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роводить комплексную диагности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 можно добиться  </a:t>
            </a:r>
            <a:r>
              <a:rPr b="0" lang="ru-RU" sz="1300" spc="-1" strike="noStrike" u="sng">
                <a:solidFill>
                  <a:srgbClr val="000000"/>
                </a:solidFill>
                <a:uFillTx/>
                <a:latin typeface="Arial"/>
              </a:rPr>
              <a:t>развития  целого комплекса качеств творческой личности: умственной активности, быстрой обучаемости, смекалки и изобретательности, стремления добывать знания, необходимые для выполнения конкретной практической работы, самостоятельности в выборе решения задачи, трудолюбия, способности видеть общее, главное в различных и различное в сходных явлениях, самостоятельно создавать творческий продукт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Отчет по программе эксперимента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611280" y="981000"/>
            <a:ext cx="5616360" cy="5260680"/>
            <a:chOff x="611280" y="981000"/>
            <a:chExt cx="5616360" cy="5260680"/>
          </a:xfrm>
        </p:grpSpPr>
        <p:sp>
          <p:nvSpPr>
            <p:cNvPr id="155" name=""/>
            <p:cNvSpPr/>
            <p:nvPr/>
          </p:nvSpPr>
          <p:spPr>
            <a:xfrm>
              <a:off x="611280" y="981000"/>
              <a:ext cx="561636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еоретические концепции познавательных способностей учащихс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69560" y="1876320"/>
              <a:ext cx="4699440" cy="33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Личностно-деятельностный подхо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317960" y="2617200"/>
              <a:ext cx="4241160" cy="55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онцепции комплексного исследования способносте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069560" y="3555360"/>
              <a:ext cx="4699440" cy="33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Факторно-аналитические концеп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069560" y="4339080"/>
              <a:ext cx="4699440" cy="33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сихофизиологические концеп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069560" y="5122800"/>
              <a:ext cx="4699440" cy="33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огнитивные концеп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69560" y="5906160"/>
              <a:ext cx="4699440" cy="33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Имплицитные теории способносте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13160" y="1428480"/>
              <a:ext cx="0" cy="46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716760" y="1428480"/>
              <a:ext cx="8640" cy="46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25760" y="2042640"/>
              <a:ext cx="3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78720" y="2029320"/>
              <a:ext cx="3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5549400" y="2878200"/>
              <a:ext cx="57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725760" y="2883960"/>
              <a:ext cx="57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69000" y="3731040"/>
              <a:ext cx="3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88440" y="4495680"/>
              <a:ext cx="3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78720" y="5296320"/>
              <a:ext cx="3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774400" y="6081120"/>
              <a:ext cx="3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26480" y="4517640"/>
              <a:ext cx="3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36560" y="3727800"/>
              <a:ext cx="3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26480" y="5297040"/>
              <a:ext cx="3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35840" y="6079680"/>
              <a:ext cx="3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30280" y="1428480"/>
              <a:ext cx="2177640" cy="447480"/>
            </a:xfrm>
            <a:prstGeom prst="downArrow">
              <a:avLst>
                <a:gd name="adj1" fmla="val 27194"/>
                <a:gd name="adj2" fmla="val 41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409920" y="221580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 txBox="1"/>
          <p:nvPr/>
        </p:nvSpPr>
        <p:spPr>
          <a:xfrm>
            <a:off x="6227640" y="1700280"/>
            <a:ext cx="2376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нцеп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знавательны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пособност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56360" y="3322080"/>
            <a:ext cx="280836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реализации этой модели выделяю для себя три основных следств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спех вхождения индивида в деятельност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ровень конкретных индивидуальных достижен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едельно высокий уровень достижений группы в зависимости от достижений индиви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Отчет по программе эксперимента</a:t>
            </a:r>
            <a:br>
              <a:rPr sz="24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Работа с одарёнными детьми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39640" y="1557360"/>
            <a:ext cx="8136000" cy="5111280"/>
            <a:chOff x="539640" y="1557360"/>
            <a:chExt cx="8136000" cy="5111280"/>
          </a:xfrm>
        </p:grpSpPr>
        <p:sp>
          <p:nvSpPr>
            <p:cNvPr id="182" name=""/>
            <p:cNvSpPr/>
            <p:nvPr/>
          </p:nvSpPr>
          <p:spPr>
            <a:xfrm>
              <a:off x="2314800" y="1557360"/>
              <a:ext cx="4585680" cy="35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АНАЛИЗ ПОТРЕБНОСТЕ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04560" y="2389320"/>
              <a:ext cx="2071080" cy="47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Моделирова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45720" y="2389320"/>
              <a:ext cx="2066040" cy="47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ыдвижение гипотез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9640" y="2389320"/>
              <a:ext cx="2070720" cy="47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Определение объекта исслед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9640" y="5123520"/>
              <a:ext cx="2070720" cy="71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Анализ потребносте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314800" y="6312240"/>
              <a:ext cx="4585680" cy="35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РГАНИЗАЦИЯ ИССЛЕДОВ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9640" y="3578040"/>
              <a:ext cx="2070720" cy="59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ОЦИАЛЬНЫЙ ЗАКАЗ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04560" y="3578040"/>
              <a:ext cx="2071080" cy="59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НЕДР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45720" y="5123520"/>
              <a:ext cx="2071080" cy="71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роведение эксперимен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04560" y="5123520"/>
              <a:ext cx="2071080" cy="71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Определение применения каждого реш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98120" y="3340440"/>
              <a:ext cx="2366640" cy="118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Цели и задачи исследовательской деятельности учащихс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575000" y="1913760"/>
              <a:ext cx="3106440" cy="47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681440" y="1913760"/>
              <a:ext cx="0" cy="47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681440" y="1913760"/>
              <a:ext cx="3106080" cy="47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81440" y="2864880"/>
              <a:ext cx="0" cy="47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81440" y="2864880"/>
              <a:ext cx="2958480" cy="71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1427040" y="2864880"/>
              <a:ext cx="3254400" cy="71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681440" y="4172400"/>
              <a:ext cx="2958480" cy="95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27040" y="4172400"/>
              <a:ext cx="3254400" cy="95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681440" y="4529160"/>
              <a:ext cx="0" cy="59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4681440" y="5836680"/>
              <a:ext cx="0" cy="47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4681440" y="5836680"/>
              <a:ext cx="2958480" cy="47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27040" y="5836680"/>
              <a:ext cx="3254400" cy="47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865120" y="3816000"/>
              <a:ext cx="739440" cy="118440"/>
            </a:xfrm>
            <a:prstGeom prst="rightArrow">
              <a:avLst>
                <a:gd name="adj1" fmla="val 50000"/>
                <a:gd name="adj2" fmla="val 15607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0800000">
              <a:off x="2610000" y="3815640"/>
              <a:ext cx="887400" cy="118440"/>
            </a:xfrm>
            <a:prstGeom prst="rightArrow">
              <a:avLst>
                <a:gd name="adj1" fmla="val 50000"/>
                <a:gd name="adj2" fmla="val 18731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Комплексная диагностика результатов эксперимента 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95280" y="1125360"/>
            <a:ext cx="5400720" cy="5111640"/>
            <a:chOff x="395280" y="1125360"/>
            <a:chExt cx="5400720" cy="5111640"/>
          </a:xfrm>
        </p:grpSpPr>
        <p:sp>
          <p:nvSpPr>
            <p:cNvPr id="209" name=""/>
            <p:cNvSpPr/>
            <p:nvPr/>
          </p:nvSpPr>
          <p:spPr>
            <a:xfrm>
              <a:off x="395280" y="1125360"/>
              <a:ext cx="5400720" cy="434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Современная диагности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5920" y="1995480"/>
              <a:ext cx="4519080" cy="32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Тесты обучаем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74960" y="2715120"/>
              <a:ext cx="4078080" cy="65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недрение компьютерного тестирования и проверочные работы с использованием магнитных носителе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35920" y="3627000"/>
              <a:ext cx="4519080" cy="32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Использование малодифференцирован. метод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5920" y="4388400"/>
              <a:ext cx="4519080" cy="32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Критериально-ориентированное тестиров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35920" y="5149800"/>
              <a:ext cx="4519080" cy="32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Устный опрос, беседа, наблюд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5920" y="5910840"/>
              <a:ext cx="4519080" cy="32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исьменные  контрольные рабо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685840" y="1560240"/>
              <a:ext cx="0" cy="451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496440" y="1560240"/>
              <a:ext cx="8280" cy="45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05440" y="2156760"/>
              <a:ext cx="33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64360" y="2144160"/>
              <a:ext cx="33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5125320" y="3053880"/>
              <a:ext cx="55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496080" y="3068640"/>
              <a:ext cx="55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55000" y="3797280"/>
              <a:ext cx="33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73360" y="4540680"/>
              <a:ext cx="33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64360" y="5318280"/>
              <a:ext cx="33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360040" y="6080760"/>
              <a:ext cx="33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05800" y="4561920"/>
              <a:ext cx="33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15880" y="3794400"/>
              <a:ext cx="33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5800" y="5319000"/>
              <a:ext cx="33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15160" y="6079680"/>
              <a:ext cx="33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48400" y="1560240"/>
              <a:ext cx="2094120" cy="434880"/>
            </a:xfrm>
            <a:prstGeom prst="downArrow">
              <a:avLst>
                <a:gd name="adj1" fmla="val 27194"/>
                <a:gd name="adj2" fmla="val 41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086280" y="2325240"/>
              <a:ext cx="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156360" y="1916280"/>
            <a:ext cx="2725560" cy="17697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6156360" y="4292640"/>
            <a:ext cx="2685960" cy="1784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5:47:09Z</dcterms:created>
  <dc:creator>Алла Викторовна</dc:creator>
  <dc:description/>
  <dc:language>en-US</dc:language>
  <cp:lastModifiedBy>2</cp:lastModifiedBy>
  <dcterms:modified xsi:type="dcterms:W3CDTF">2014-10-25T07:54:15Z</dcterms:modified>
  <cp:revision>19</cp:revision>
  <dc:subject/>
  <dc:title>Таташин Вячеслав Сергеевич, учитель информатики и естествознания МОУ СОШ №2</dc:title>
</cp:coreProperties>
</file>