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9292-6DA5-4243-9C9C-097DA9BC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D83C-73E6-4F14-98ED-F1975AE9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7B1E-E6DA-4E13-A7FA-6D92F581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EFCC-0E45-400B-8731-9C5328D27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270F-B36E-4A73-96EA-D5837787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FC44-4C97-4CF9-8459-9686699B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5405-E9FB-4B4D-B638-FF3DBD65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4EC0-BD5D-40E0-825D-36F7DFF2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81C1-0BC0-4100-8B2E-DCAD4B75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BC8E-1D3E-4655-8E8E-8933BE28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7866-7407-402F-8920-D4750035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5B38-D614-4A30-B183-30FA5A07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208C-F9C8-4D57-B154-1D199A00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B1A7-5D8D-41DB-8F6C-4F9D2DF5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6D5B-40DB-42EA-AF28-93C4E6CF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503D-4A52-4AAB-BA17-0048F71C9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3429-B51C-48C2-B037-BB935255F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786E-C661-4212-914C-5ACD8098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5A41-0ADF-4A81-9215-07708378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CF32-594C-4AA1-9D7D-65C1E6BC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6F2B-E38F-47A7-A8BA-0122B342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4FA0-2248-4113-9FE3-A92CCD6B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1FA1-0356-4F2A-B56E-F482DAF6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2268-D4A4-44C2-A95B-92361865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034E-E415-4F5F-AFA2-8107BC0603D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311A-FC77-4A24-B04E-B21E5554802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17220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Как образовать отрицательное предложение с глаголом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must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6960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must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u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ustn’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u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трицательное предложение с глаголом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ust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и частицей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no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меет значение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строгого запрета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Работаем в парах.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Строгий запрет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You mustn’t ………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Ты не должен…….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Let’s help Doctor Must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escription   -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рецеп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Что нужно делать, чтобы быть здоровым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Comic Sans MS"/>
              </a:rPr>
              <a:t>??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-4748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5335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Sport is a life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You are what you eat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It’s time to move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743200" y="3048120"/>
            <a:ext cx="28576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Найди и исправь ошибк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For T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You must eat a lot of fru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You must sleep all d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You must do spor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You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mustn’t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sleep all day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You must ru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Work in groups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33520" y="1471680"/>
            <a:ext cx="724212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5335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№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For Pam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You must swi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You must eat a lot of swee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You must drink mil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ustn’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at a lot of sweets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-939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6091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№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For Joh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You must do spor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You must eat fast foo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You must play footbal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ustn’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at fast foo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-800280"/>
            <a:ext cx="6870960" cy="16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№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For Mar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You must eat fru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You must da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You must play computer games every d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ustn’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y computer games every d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5868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№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For An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You must wash your fa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You must go for a wal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You must eat a lot of cak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ustn’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at a lot of cak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Фонетическая размин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Давайте вспомним порядковые числительны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-939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№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For Nick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must eat pizza and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usag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st ru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must go for a wal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ustn’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at pizza and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usag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Let’s check your homework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48006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Обсудим результаты работы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Что узнали нового на урок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Что получилось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Что не получилось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Что нужно сделать, чтобы исправить недочёты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уровень: выучить правило с.23-2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уровень: упр. в р.т. 1,2 к уроку 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уровень: составить и выучить 5 полезных совет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7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А какой твой островок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7913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-24660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6091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Good bye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See you later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666880" y="3200400"/>
            <a:ext cx="38102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Who</a:t>
            </a: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is on duty toda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46479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Mr Doctor M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28479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Тема урока – Модальный глагол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MUS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b200"/>
                </a:solidFill>
                <a:uFillTx/>
                <a:latin typeface="Comic Sans MS"/>
              </a:rPr>
              <a:t>Задачи урока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мочь Доктору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U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знакомиться с правилом глагола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u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учиться строить предложения с глаголом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u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учиться употреблять глагол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ust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реч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учиться давать совет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спомнить глаголы движ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Давайте разгадаем секреты глагола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m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828440"/>
            <a:ext cx="76960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700"/>
              </a:spcBef>
              <a:buClr>
                <a:srgbClr val="703dff"/>
              </a:buClr>
              <a:buFont typeface="Eras Medium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Eras Medium ITC"/>
              </a:rPr>
              <a:t>Догадайтесь</a:t>
            </a:r>
            <a:r>
              <a:rPr b="1" lang="en-US" sz="2800" spc="-1" strike="noStrike">
                <a:solidFill>
                  <a:srgbClr val="703dff"/>
                </a:solidFill>
                <a:latin typeface="Eras Medium ITC"/>
              </a:rPr>
              <a:t> </a:t>
            </a:r>
            <a:r>
              <a:rPr b="1" lang="ru-RU" sz="2800" spc="-1" strike="noStrike">
                <a:solidFill>
                  <a:srgbClr val="703dff"/>
                </a:solidFill>
                <a:latin typeface="Eras Medium ITC"/>
              </a:rPr>
              <a:t>о значении глагола </a:t>
            </a:r>
            <a:r>
              <a:rPr b="1" lang="en-US" sz="2800" spc="-1" strike="noStrike">
                <a:solidFill>
                  <a:srgbClr val="703dff"/>
                </a:solidFill>
                <a:latin typeface="Eras Medium ITC"/>
              </a:rPr>
              <a:t>mu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us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help my moth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us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do your homewor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children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us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go to schoo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лагол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us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чень любит дисциплину и переводится на русский язык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«должен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43430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С какой частью речи работает глагол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mus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must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must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a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u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e must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lee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Глагол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ust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всегда работает с глаголом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С какими подлежащими работает глагол </a:t>
            </a: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must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ust g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ust g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ust g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h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ust g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ust g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ust g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st g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ust g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Глагол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ust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не капризничает и работает со всеми подлежащим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Работаем в парах.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Дай совет другу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dff"/>
                </a:solidFill>
                <a:latin typeface="Comic Sans MS"/>
              </a:rPr>
              <a:t>You must………….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dff"/>
                </a:solidFill>
                <a:latin typeface="Comic Sans MS"/>
              </a:rPr>
              <a:t>Ты должен……….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9T14:53:24Z</dcterms:created>
  <dc:creator>SERGEY</dc:creator>
  <dc:description/>
  <dc:language>en-US</dc:language>
  <cp:lastModifiedBy>SERGEY</cp:lastModifiedBy>
  <dcterms:modified xsi:type="dcterms:W3CDTF">2014-09-29T18:48:1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