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arrow.wav" ContentType="audio/x-wav"/>
  <Override PartName="/ppt/media/suction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voltag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63C-5512-4554-BAB8-A73A581F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A02-4A52-459E-BFE1-D8A00C7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D2C-D165-4FA2-9A34-663DA027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27A-6D08-4A33-A858-3A2498B4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10C-E5FF-43C4-BD36-5064CAB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9C0-29BC-4F3B-97F7-4A05BFE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8A2-F508-4670-B88C-A7F8285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178-A144-4E9D-9A37-BCBAD58A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F91-0F04-4B9D-A744-C522424A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B76-BC40-4696-B877-52908D6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6EE-5C08-4C76-B668-F8F6442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43F-815B-4BDD-9398-FE4B0B2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7C9C-D8CB-4D9D-AC82-13B843D42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428760" y="2071800"/>
            <a:ext cx="8143920" cy="1128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ff"/>
                </a:solidFill>
                <a:latin typeface="Calibri"/>
              </a:rPr>
              <a:t>Антиглобализм</a:t>
            </a:r>
            <a:br>
              <a:rPr sz="40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714840"/>
            <a:ext cx="6400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4f6228"/>
                </a:solidFill>
                <a:latin typeface="Calibri"/>
              </a:rPr>
              <a:t>- политическое движение, направленное против определённых аспектов процесса глобализации в её современной форме, в частности против доминирования глобальных транснациональных корпораций и торгово-правительственных организаций, таких как Всемирная торговая организация (ВТО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Демонстрации против саммита “большой восьмерки” в Ри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6" descr="g8-2_1438508i.jpg"/>
          <p:cNvPicPr/>
          <p:nvPr/>
        </p:nvPicPr>
        <p:blipFill>
          <a:blip r:embed="rId1"/>
          <a:stretch/>
        </p:blipFill>
        <p:spPr>
          <a:xfrm>
            <a:off x="857160" y="2023920"/>
            <a:ext cx="7143840" cy="397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Все последнее время самые важные политические встречи на международном уровне проходят при бурном участии антиглобалистов.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аммиты и международные форумы, разумеется, проходят при повышенных мерах безопасности. Италия, например, за несколько дней до начала встречи «восьмерки» из режима Шенгенских соглашений закрыла вокзалы и аэропорты для «случайных» иностранцев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Но антиглобалисты все равно туда просочились: делают они это, как правило, заранее, прикидываясебе журналистам российские последователи антиглобализма: «Российские антиглобалисты представлены в основном экологистами и леворадикальными организациями. Есть среди них и представители профсоюзов».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6" descr="foto.h59.jpg"/>
          <p:cNvPicPr/>
          <p:nvPr/>
        </p:nvPicPr>
        <p:blipFill>
          <a:blip r:embed="rId1"/>
          <a:stretch/>
        </p:blipFill>
        <p:spPr>
          <a:xfrm>
            <a:off x="1285920" y="2428920"/>
            <a:ext cx="707220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зработано учащимися 11 Б класса: Старцева А., Щегорцова Е.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од руководством учителя географии высшей категории Желудковой Т.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foto.h59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ые даты:</a:t>
            </a:r>
            <a:br>
              <a:rPr sz="40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1.Июнь 1999 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— в Кёльне состоялась первая манифестация антиглобалистов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. 2000 г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организована информационная сеть антиглобалистов IndyMedia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3. 2001 г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Генуя — сорвать встречу лидеров «Большой восьмерки» приехало 200 000 антиглобалистов. В результате столкновений между силами правопорядка и антиглобалистами погиб анархист Карло Джулиани и один полицейский, более 300 человек с обеих сторон получили ранения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4. Январь 2001 г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Всемирный социальный форум в бразильском городе Порту-Алегри. Всемирный социальный форум собрал в Порту-Алегри более 11 тысяч делегатов из 122 стран мира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5. Конец января 2006 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— Всемирный Социальный Форум в Каракасе.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  <p:sndAc>
      <p:stSnd>
        <p:snd r:embed="rId2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Движение антиглобалистов превратилось за последние годы в одну из самых мощных сил, действующих на мировой арен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350074_1085323667.jpeg"/>
          <p:cNvPicPr/>
          <p:nvPr/>
        </p:nvPicPr>
        <p:blipFill>
          <a:blip r:embed="rId1"/>
          <a:stretch/>
        </p:blipFill>
        <p:spPr>
          <a:xfrm>
            <a:off x="714240" y="1785960"/>
            <a:ext cx="7429680" cy="36432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зис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сновной тезис антиглобалистов — нынешняя модель глобализации сформирована под покровительством мирового капитала и ведёт за соб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856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астущий разрыв в доходах, уровне потребления, здоровья, образования в странах «золотого миллиарда» и «третьего мира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едопустимые условия для работников низкой квалификации транснациональных корпорац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Доминирование массовой поп-культуры, подавление свободного творчества, «стандартизация умов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Потребительское и хищническое отношение к природе, попытка «обхода» экологических проблем, вывоз грязных производств в страны «третьего мира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Господство идеологии неолиберализма в целях все большей экспансии капитала по всему миру, формирования из стран-неучастников «золотого миллиарда» сырьевых придатков т. н. «развитых стран» и т. д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  <p:sndAc>
      <p:stSnd>
        <p:snd r:embed="rId1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Движение антиглобалис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12" descr="foto.h40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вижение антиглобалистов является уникальным явлением современности, так как впервые часть человечества выступает не против каких-либо конкретных политических или экономических решений властей, а против направления развития цивилизации. Однако для борьбы с глобализацией, как отмечает Washington ProFile, антиглобалисты широко используют интернет, который считается одной из движущих сил глобализационных процес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Calibri"/>
              </a:rPr>
              <a:t>Антиглобалистское движение по определению открытое, это не орден меченосцев и не парламентская партия. Да, к движению примыкают самые различные люди, начиная радикалами и коммунистами и заканчивая представителями анархистских организаций, на которые очень косо смотрит ядро антиглобалистского движения : профсоюзы и зелё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9" descr="98_Global12.jpg"/>
          <p:cNvPicPr/>
          <p:nvPr/>
        </p:nvPicPr>
        <p:blipFill>
          <a:blip r:embed="rId1"/>
          <a:stretch/>
        </p:blipFill>
        <p:spPr>
          <a:xfrm>
            <a:off x="1214280" y="1973160"/>
            <a:ext cx="6500880" cy="3781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alibri"/>
              </a:rPr>
              <a:t>Антиглобалисты во время открытия второго Российского социального форума на стадионе им. Кирова в Санкт-Петербург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1" descr="1180363.jpg"/>
          <p:cNvPicPr/>
          <p:nvPr/>
        </p:nvPicPr>
        <p:blipFill>
          <a:blip r:embed="rId1"/>
          <a:stretch/>
        </p:blipFill>
        <p:spPr>
          <a:xfrm>
            <a:off x="1289160" y="1600200"/>
            <a:ext cx="65656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Система, созданная глобализационными процессами, имеет большое количество агентов для своей защиты и даже для продвижения идей (Всемирная Торговая Организация, Мировой Банк, Международный Валютный Фонд). Для защиты людей от последствий глобализации не существует никаких механизмов, кроме как апеллирование к Всеобщей Декларации Прав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10" descr="I-15-DELO-forum-f49_640.jpg"/>
          <p:cNvPicPr/>
          <p:nvPr/>
        </p:nvPicPr>
        <p:blipFill>
          <a:blip r:embed="rId1"/>
          <a:stretch/>
        </p:blipFill>
        <p:spPr>
          <a:xfrm>
            <a:off x="428760" y="2928960"/>
            <a:ext cx="4038480" cy="35402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2" descr="235592.jpg"/>
          <p:cNvPicPr/>
          <p:nvPr/>
        </p:nvPicPr>
        <p:blipFill>
          <a:blip r:embed="rId2"/>
          <a:stretch/>
        </p:blipFill>
        <p:spPr>
          <a:xfrm>
            <a:off x="4643280" y="2786040"/>
            <a:ext cx="40388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Демонстрации против саммита “большой восьмерки” в Ри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8" descr="g8-20_1438507i.jpg"/>
          <p:cNvPicPr/>
          <p:nvPr/>
        </p:nvPicPr>
        <p:blipFill>
          <a:blip r:embed="rId1"/>
          <a:stretch/>
        </p:blipFill>
        <p:spPr>
          <a:xfrm>
            <a:off x="3500280" y="214200"/>
            <a:ext cx="5112000" cy="328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Итальянская полиция пресекает первые  акции антиглобалистов. В Риме были задержаны 36 человек, итальянцы и иностранцы, 10 из них взяты под арест. С утра активисты движения “Нет “восьмерке” блокировали на четверть часа выезд из итальянской столицы на шоссе, ведущее в Аквилу, а также провели ряд локальных демонстра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1:35:43Z</dcterms:created>
  <dc:creator>adm</dc:creator>
  <dc:description/>
  <dc:language>en-US</dc:language>
  <cp:lastModifiedBy>Admin</cp:lastModifiedBy>
  <dcterms:modified xsi:type="dcterms:W3CDTF">2009-12-14T07:49:33Z</dcterms:modified>
  <cp:revision>16</cp:revision>
  <dc:subject/>
  <dc:title>Антиглобализм </dc:title>
</cp:coreProperties>
</file>