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31695-7047-4E1D-BAA2-E53F0AE0E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4001-A8F4-45A0-9042-26346BF0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43CE-6F5F-4005-95F3-C826F1B71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5CA7-2F12-4544-A629-AF065ED16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43800-1BB2-4995-B48C-9050CF9F1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03970-B354-46A6-8369-5D5A2C885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AD1B8-D40E-49E9-B01E-C0F6CDA38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D68E1-7967-42B5-85D8-E1F2204C5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5522E-97DB-4D3E-B585-921079942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B33AC-0516-4439-A31C-3782EBE84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59043-926D-4B43-BCEB-E7C389F1D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9BBE0-6616-4221-8568-CCB933A03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82127-4FF8-4E6E-BFC0-38B437DC8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C2C5C-F56C-4056-B44D-F995B5677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AAE11-209D-4B1E-AB62-26E527AE1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BC5B8-D7D3-4BC8-AD9D-A4712E63E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EA4DD-0937-446A-9E0C-90D506801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809FA-B137-4FF9-AA21-01A78E4DF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83CFD-5EF9-481E-8458-126497419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B41A-8E6A-4E1B-9C0F-E5E1A783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2EC3-5B31-4329-B3DF-5B4B7CB4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71B6-CA83-4528-A21A-4BA10B311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140D-196B-4D34-A83E-C36A437C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E85E-BFC4-44B3-83A3-1106AC3F9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0CF2-25DC-4A7E-BF6E-E4562B3CFE8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D:\фоны и шаблоны\e81ea92f2e2d.jpg"/>
          <p:cNvPicPr/>
          <p:nvPr/>
        </p:nvPicPr>
        <p:blipFill>
          <a:blip r:embed="rId3"/>
          <a:stretch/>
        </p:blipFill>
        <p:spPr>
          <a:xfrm>
            <a:off x="0" y="0"/>
            <a:ext cx="12254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D:\фоны и шаблоны\e81ea92f2e2d.jpg"/>
          <p:cNvPicPr/>
          <p:nvPr/>
        </p:nvPicPr>
        <p:blipFill>
          <a:blip r:embed="rId3"/>
          <a:stretch/>
        </p:blipFill>
        <p:spPr>
          <a:xfrm>
            <a:off x="0" y="0"/>
            <a:ext cx="122544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A2D2-F1CB-42AA-88FD-784FED27B92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060280"/>
            <a:ext cx="8458200" cy="15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The future of our planet</a:t>
            </a:r>
            <a:endParaRPr b="0" lang="en-US" sz="8000" spc="-1" strike="noStrike">
              <a:solidFill>
                <a:srgbClr val="000000"/>
              </a:solidFill>
              <a:latin typeface="Calibri"/>
            </a:endParaRPr>
          </a:p>
        </p:txBody>
      </p:sp>
      <p:sp>
        <p:nvSpPr>
          <p:cNvPr id="85" name="PlaceHolder 2"/>
          <p:cNvSpPr>
            <a:spLocks noGrp="1"/>
          </p:cNvSpPr>
          <p:nvPr>
            <p:ph type="subTitle"/>
          </p:nvPr>
        </p:nvSpPr>
        <p:spPr>
          <a:xfrm>
            <a:off x="1476360" y="4653000"/>
            <a:ext cx="6696000" cy="3672000"/>
          </a:xfrm>
          <a:prstGeom prst="rect">
            <a:avLst/>
          </a:prstGeom>
          <a:noFill/>
          <a:ln w="0">
            <a:noFill/>
          </a:ln>
        </p:spPr>
        <p:txBody>
          <a:bodyPr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2f2f2"/>
                </a:solidFill>
                <a:latin typeface="Calibri"/>
              </a:rPr>
              <a:t>Подготовил  ученик 8Б класса МБОУ СОШ № 76,  Олейнов  Даниил</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2f2f2"/>
                </a:solidFill>
                <a:latin typeface="Calibri"/>
              </a:rPr>
              <a:t>п. Гигант</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2f2f2"/>
                </a:solidFill>
                <a:latin typeface="Calibri"/>
              </a:rPr>
              <a:t>2014 го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1"/>
          <p:cNvSpPr/>
          <p:nvPr/>
        </p:nvSpPr>
        <p:spPr>
          <a:xfrm>
            <a:off x="1187280" y="0"/>
            <a:ext cx="795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about transport, I think that with such technological progress we will soon have flying cars and taxis, which will pick up the passengers from their own flats. Moreover, I think that vehicles will be computerized and self-operated, which will leave the drivers unemplo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воря о транспорте, я думаю, что с таким техническим прогрессом у нас скоро будут летающие автомобили и такси, которые будут забирать пассажиров из собственных квартир. Более того, я думаю, что транспортные средства будут компьютеризированы и самоуправляемы, что оставит водителей без работы.</a:t>
            </a:r>
            <a:endParaRPr b="0" lang="en-US" sz="1800" spc="-1" strike="noStrike">
              <a:solidFill>
                <a:srgbClr val="000000"/>
              </a:solidFill>
              <a:latin typeface="Arial"/>
            </a:endParaRPr>
          </a:p>
        </p:txBody>
      </p:sp>
      <p:pic>
        <p:nvPicPr>
          <p:cNvPr id="99" name="Picture 3" descr="C:\Users\Админ\Desktop\mota_ru_2100115-1600x1200.jpg"/>
          <p:cNvPicPr/>
          <p:nvPr/>
        </p:nvPicPr>
        <p:blipFill>
          <a:blip r:embed="rId1"/>
          <a:stretch/>
        </p:blipFill>
        <p:spPr>
          <a:xfrm>
            <a:off x="1187280" y="2565360"/>
            <a:ext cx="7956720" cy="42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Users\Админ\Desktop\Taihoo_concept_2046_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Админ\Desktop\YEE-Concept-Flying-Car-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Users\Админ\Desktop\2010-Nissan-iV-Concept-Design-Duo-2560x1600.jpg"/>
          <p:cNvPicPr/>
          <p:nvPr/>
        </p:nvPicPr>
        <p:blipFill>
          <a:blip r:embed="rId1"/>
          <a:stretch/>
        </p:blipFill>
        <p:spPr>
          <a:xfrm>
            <a:off x="0" y="-603360"/>
            <a:ext cx="9144000" cy="799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187280" y="0"/>
          <a:ext cx="7956720" cy="2276640"/>
        </p:xfrm>
        <a:graphic>
          <a:graphicData uri="http://schemas.openxmlformats.org/drawingml/2006/table">
            <a:tbl>
              <a:tblPr/>
              <a:tblGrid>
                <a:gridCol w="7956720"/>
              </a:tblGrid>
              <a:tr h="2276640">
                <a:tc>
                  <a:txBody>
                    <a:bodyPr lIns="9360" rIns="9360" tIns="9360" bIns="9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will be lots of new professions in the future, for example, a telesurgeon, a robot counselor, a space tourist guide, a cloning regulator etc. It sounds bizarre, but this can be our nearest future, and we should think about it today.</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В будущем будет много новых профессий, таких как удаленный хирург, советник по роботам, космический гид, регулятор клонирование и т.д. Возможно, это звучит странно, но это может быть наше ближайшее будущее, и мы должны подумать об этом сегодня.</a:t>
                      </a:r>
                      <a:endParaRPr b="0" lang="en-US" sz="1800" spc="-1" strike="noStrike">
                        <a:solidFill>
                          <a:srgbClr val="000000"/>
                        </a:solidFill>
                        <a:latin typeface="Arial"/>
                      </a:endParaRPr>
                    </a:p>
                  </a:txBody>
                  <a:tcPr anchor="t" marL="9360" marR="9360">
                    <a:lnL>
                      <a:noFill/>
                    </a:lnL>
                    <a:lnR>
                      <a:noFill/>
                    </a:lnR>
                    <a:lnT>
                      <a:noFill/>
                    </a:lnT>
                    <a:lnB>
                      <a:noFill/>
                    </a:lnB>
                    <a:noFill/>
                  </a:tcPr>
                </a:tc>
              </a:tr>
            </a:tbl>
          </a:graphicData>
        </a:graphic>
      </p:graphicFrame>
      <p:pic>
        <p:nvPicPr>
          <p:cNvPr id="104" name="Picture 2" descr="C:\Users\Админ\Desktop\KMO_085444_04277_1_t210.jpg"/>
          <p:cNvPicPr/>
          <p:nvPr/>
        </p:nvPicPr>
        <p:blipFill>
          <a:blip r:embed="rId1"/>
          <a:stretch/>
        </p:blipFill>
        <p:spPr>
          <a:xfrm>
            <a:off x="2050920" y="2205000"/>
            <a:ext cx="4176720" cy="465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резентацию подготовил Олейнов Даниил,</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8б класс МБОУ СОШ № 76, п. Гигант, 2014 го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1187280" y="0"/>
            <a:ext cx="795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of our planet is vague. At the same there are many down-to-earth predictions, which seem to work. At the moment we live in the new era - the 21st century. Many centuries before people have lived in harmony with nature and its rich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ущее нашей планеты немного расплывчато. В то же время есть много реалистичных прогнозов, которые сбываются. На данный момент мы живем в новой эре - 21-м веке. Много веков назад люди жили в гармонии с природой и ее богатствами.</a:t>
            </a:r>
            <a:endParaRPr b="0" lang="en-US" sz="1800" spc="-1" strike="noStrike">
              <a:solidFill>
                <a:srgbClr val="000000"/>
              </a:solidFill>
              <a:latin typeface="Arial"/>
            </a:endParaRPr>
          </a:p>
        </p:txBody>
      </p:sp>
      <p:pic>
        <p:nvPicPr>
          <p:cNvPr id="87" name="Picture 1" descr="C:\Users\Админ\Desktop\9bd17cf422f7549298ecb0511c.jpg"/>
          <p:cNvPicPr/>
          <p:nvPr/>
        </p:nvPicPr>
        <p:blipFill>
          <a:blip r:embed="rId1"/>
          <a:stretch/>
        </p:blipFill>
        <p:spPr>
          <a:xfrm>
            <a:off x="1187280" y="2276640"/>
            <a:ext cx="795672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1187280" y="0"/>
            <a:ext cx="795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we are facing lots of global problems, which should be approached seriously. Otherwise, our planet can turn into an uninhabited space. Most of these problems are the result of technological progress and rapid scientific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мы сталкиваемся со многими глобальными проблемами, к которым нужно подходить серьезно. В противном случае, наша планета может превратиться в необитаемое пространство. Большинство из этих проблем являются результатом технического прогресса и быстрого развития науки. </a:t>
            </a:r>
            <a:endParaRPr b="0" lang="en-US" sz="1800" spc="-1" strike="noStrike">
              <a:solidFill>
                <a:srgbClr val="000000"/>
              </a:solidFill>
              <a:latin typeface="Arial"/>
            </a:endParaRPr>
          </a:p>
        </p:txBody>
      </p:sp>
      <p:pic>
        <p:nvPicPr>
          <p:cNvPr id="89" name="Picture 1" descr="C:\Users\Админ\Desktop\PolnieUr_geogr10_4.1-9.jpg"/>
          <p:cNvPicPr/>
          <p:nvPr/>
        </p:nvPicPr>
        <p:blipFill>
          <a:blip r:embed="rId1"/>
          <a:stretch/>
        </p:blipFill>
        <p:spPr>
          <a:xfrm>
            <a:off x="1187280" y="2492280"/>
            <a:ext cx="7956720" cy="436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1187280" y="0"/>
            <a:ext cx="795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to launch and maintain all these machines, we need lots of natural resources. Besides, the growing number of plants is extremely harmful for the surrounding nature. As I see the future of our planet, we’ll have an over-polluted environment. That’s why we’ll have to spend most of the time locked in our flats and ho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одной стороны, современные достижения, такие как новейшие компьютеры, домашние роботы и офисная оргтехника, это хорошо. С другой стороны, для создания и поддержания всех этих машин требуется много природных ресурсов. Помимо этого, возрастающее число заводов чрезвычайно вредно для окружающей природы. Я вижу, что в будущем наша планета станет загрязненной. Вот почему мы будем проводить большую часть времени в своих квартирах и дом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 descr="C:\Users\Админ\Desktop\ffeff85d1cf0b38d7e6c3097f4a.jpg"/>
          <p:cNvPicPr/>
          <p:nvPr/>
        </p:nvPicPr>
        <p:blipFill>
          <a:blip r:embed="rId1"/>
          <a:stretch/>
        </p:blipFill>
        <p:spPr>
          <a:xfrm>
            <a:off x="1187280" y="3429000"/>
            <a:ext cx="79567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Админ\Desktop\1354176395_kurt-1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Админ\Desktop\20120509093552N_6d78ef1c-0463-482f-b6ea-004ea076c3ca.jpg"/>
          <p:cNvPicPr/>
          <p:nvPr/>
        </p:nvPicPr>
        <p:blipFill>
          <a:blip r:embed="rId1"/>
          <a:stretch/>
        </p:blipFill>
        <p:spPr>
          <a:xfrm>
            <a:off x="0" y="-347760"/>
            <a:ext cx="9072720" cy="720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Админ\Desktop\anc152_Future-City-Final.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Админ\Desktop\bg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1187280" y="0"/>
            <a:ext cx="7956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my personal speculations, which might be right or wrong. I see lots of mighty skyscrapers in the future. They will be equipped with all the necessary facilities, for example, with grocery stores, kindergartens and schools, fitness centers and hairdressing saloons. They will remind a city of full value in one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мои личные догадки, которые могут быть правильными или нет. Я вижу в будущем множество могучих небоскребов. Они будут оснащены всеми необходимыми удобствами, например, продуктовыми магазинами, детскими садами и школами, фитнес-центрами и парикмахерскими. Они будут напоминать полноценный город в одном здании.</a:t>
            </a:r>
            <a:endParaRPr b="0" lang="en-US" sz="1800" spc="-1" strike="noStrike">
              <a:solidFill>
                <a:srgbClr val="000000"/>
              </a:solidFill>
              <a:latin typeface="Arial"/>
            </a:endParaRPr>
          </a:p>
        </p:txBody>
      </p:sp>
      <p:pic>
        <p:nvPicPr>
          <p:cNvPr id="97" name="Picture 2" descr="C:\Users\Админ\Desktop\Zeitgeist Movement Pic 111.jpg"/>
          <p:cNvPicPr/>
          <p:nvPr/>
        </p:nvPicPr>
        <p:blipFill>
          <a:blip r:embed="rId1"/>
          <a:stretch/>
        </p:blipFill>
        <p:spPr>
          <a:xfrm>
            <a:off x="1187280" y="3068640"/>
            <a:ext cx="7956720" cy="378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8T16:40:25Z</dcterms:created>
  <dc:creator>Helen</dc:creator>
  <dc:description/>
  <dc:language>en-US</dc:language>
  <cp:lastModifiedBy>rekom</cp:lastModifiedBy>
  <dcterms:modified xsi:type="dcterms:W3CDTF">2014-10-25T15:59:19Z</dcterms:modified>
  <cp:revision>10</cp:revision>
  <dc:subject/>
  <dc:title>Слайд 1</dc:title>
</cp:coreProperties>
</file>