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856-E792-4370-BA51-9158CDD3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1C7-F7C8-4BAF-8FE4-47D07CA9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CAC-261C-4A63-B46E-DC512A25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774-072D-4FEB-8EC6-51D5B8FB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7DB-97E4-493A-8679-21BAEAD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3F6-8AEB-4A31-B4E1-3BA788E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39D-E2FA-4B46-9D18-ECDD5E2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4BC-DFDF-4D46-8B8D-FA735D5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D87-D67E-436C-A0AE-E9B10D9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B47-FF94-4EEB-AE97-0C2C970C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F65-3AD0-445C-86F4-58C94DD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5B0-0C5F-4AF4-B29A-E882ED6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68F-7AFE-4006-9C02-1EA44047F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analt@mail.ru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02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786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этого необходим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357200"/>
            <a:ext cx="8858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детей использованию различных изобразительных средст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практических умен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навыков сотрудничества и взаимодействия с другими участниками в процессе создания мультфил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J:\ФОТО ФЕСТ РАЗБ ОБР\Новая папка (2)\JPEG\IMG_0742.jpg"/>
          <p:cNvPicPr/>
          <p:nvPr/>
        </p:nvPicPr>
        <p:blipFill>
          <a:blip r:embed="rId1"/>
          <a:stretch/>
        </p:blipFill>
        <p:spPr>
          <a:xfrm rot="299400">
            <a:off x="4970520" y="4368960"/>
            <a:ext cx="28573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J:\ФОТО ФЕСТ РАЗБ ОБР\Новая папка (2)\JPEG\IMG_0779.jpg"/>
          <p:cNvPicPr/>
          <p:nvPr/>
        </p:nvPicPr>
        <p:blipFill>
          <a:blip r:embed="rId2"/>
          <a:stretch/>
        </p:blipFill>
        <p:spPr>
          <a:xfrm rot="21356400">
            <a:off x="1646280" y="4347720"/>
            <a:ext cx="29732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мероприятия програм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71424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, направленные на организацию материально-технического и методического обеспечения проекта (оборудование помещения для мультстудии; разработка программ; мастер-классы, семинары-практикумы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, направленные на создание мультфильмов (индивидуальные и коллективные занятия, работа по монтажу, озвучанию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, направленные на обобщение опыта работы (представление созданных мультфильмов на выставках и фестивалях, размещение в интернет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56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3975120" y="334800"/>
            <a:ext cx="119376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715000" y="357120"/>
            <a:ext cx="3000240" cy="64296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 ст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5643720" y="2643120"/>
            <a:ext cx="3071520" cy="92880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Рукотворное чу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85840" y="2643120"/>
            <a:ext cx="3000240" cy="85716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Ориг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57120" y="357120"/>
            <a:ext cx="3143160" cy="64296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Кукольный теа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57120" y="1357200"/>
            <a:ext cx="3143160" cy="100008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тературное чт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5715000" y="1357200"/>
            <a:ext cx="3071880" cy="100008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я декоративно -прикладн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11"/>
          <p:cNvCxnSpPr/>
          <p:nvPr/>
        </p:nvCxnSpPr>
        <p:spPr>
          <a:xfrm>
            <a:off x="3500280" y="64296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" name="Прямая со стрелкой 12"/>
          <p:cNvCxnSpPr>
            <a:endCxn id="74" idx="1"/>
          </p:cNvCxnSpPr>
          <p:nvPr/>
        </p:nvCxnSpPr>
        <p:spPr>
          <a:xfrm>
            <a:off x="5143320" y="642600"/>
            <a:ext cx="572040" cy="3708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" name="Прямая со стрелкой 14"/>
          <p:cNvCxnSpPr/>
          <p:nvPr/>
        </p:nvCxnSpPr>
        <p:spPr>
          <a:xfrm>
            <a:off x="5072040" y="285768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3" name="Прямая со стрелкой 19"/>
          <p:cNvCxnSpPr/>
          <p:nvPr/>
        </p:nvCxnSpPr>
        <p:spPr>
          <a:xfrm>
            <a:off x="3500280" y="2999880"/>
            <a:ext cx="643320" cy="252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Прямая со стрелкой 20"/>
          <p:cNvCxnSpPr/>
          <p:nvPr/>
        </p:nvCxnSpPr>
        <p:spPr>
          <a:xfrm>
            <a:off x="5072040" y="1856880"/>
            <a:ext cx="643320" cy="252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5" name="Прямая со стрелкой 21"/>
          <p:cNvCxnSpPr/>
          <p:nvPr/>
        </p:nvCxnSpPr>
        <p:spPr>
          <a:xfrm>
            <a:off x="3429000" y="1856880"/>
            <a:ext cx="643320" cy="252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86" name="Правая фигурная скобка 32"/>
          <p:cNvSpPr/>
          <p:nvPr/>
        </p:nvSpPr>
        <p:spPr>
          <a:xfrm rot="5400000">
            <a:off x="4428720" y="1999800"/>
            <a:ext cx="500040" cy="7072200"/>
          </a:xfrm>
          <a:custGeom>
            <a:avLst/>
            <a:gdLst>
              <a:gd name="textAreaLeft" fmla="*/ 0 w 500040"/>
              <a:gd name="textAreaRight" fmla="*/ 180360 w 500040"/>
              <a:gd name="textAreaTop" fmla="*/ 40680 h 7072200"/>
              <a:gd name="textAreaBottom" fmla="*/ 7031520 h 707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7"/>
                </a:cubicBezTo>
                <a:lnTo>
                  <a:pt x="10800" y="10029"/>
                </a:lnTo>
                <a:cubicBezTo>
                  <a:pt x="10800" y="10228"/>
                  <a:pt x="16200" y="10426"/>
                  <a:pt x="21600" y="10426"/>
                </a:cubicBezTo>
                <a:cubicBezTo>
                  <a:pt x="16200" y="10426"/>
                  <a:pt x="10800" y="10625"/>
                  <a:pt x="10800" y="10823"/>
                </a:cubicBezTo>
                <a:lnTo>
                  <a:pt x="10800" y="21203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3"/>
          <p:cNvSpPr/>
          <p:nvPr/>
        </p:nvSpPr>
        <p:spPr>
          <a:xfrm>
            <a:off x="928800" y="5857920"/>
            <a:ext cx="7500960" cy="64296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гает созданию мультипликационного филь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18"/>
          <p:cNvCxnSpPr/>
          <p:nvPr/>
        </p:nvCxnSpPr>
        <p:spPr>
          <a:xfrm>
            <a:off x="5072040" y="285768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9" name="Прямая со стрелкой 22"/>
          <p:cNvCxnSpPr/>
          <p:nvPr/>
        </p:nvCxnSpPr>
        <p:spPr>
          <a:xfrm>
            <a:off x="3500280" y="2999880"/>
            <a:ext cx="643320" cy="252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0" name="Прямая со стрелкой 23"/>
          <p:cNvCxnSpPr/>
          <p:nvPr/>
        </p:nvCxnSpPr>
        <p:spPr>
          <a:xfrm>
            <a:off x="3429000" y="392904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1" name="Прямая со стрелкой 24"/>
          <p:cNvCxnSpPr/>
          <p:nvPr/>
        </p:nvCxnSpPr>
        <p:spPr>
          <a:xfrm>
            <a:off x="3429000" y="457200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2" name="Прямая со стрелкой 25"/>
          <p:cNvCxnSpPr/>
          <p:nvPr/>
        </p:nvCxnSpPr>
        <p:spPr>
          <a:xfrm>
            <a:off x="3429000" y="521496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3" name="Прямая со стрелкой 26"/>
          <p:cNvCxnSpPr/>
          <p:nvPr/>
        </p:nvCxnSpPr>
        <p:spPr>
          <a:xfrm>
            <a:off x="5072040" y="3785760"/>
            <a:ext cx="643320" cy="252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4" name="Прямая со стрелкой 27"/>
          <p:cNvCxnSpPr/>
          <p:nvPr/>
        </p:nvCxnSpPr>
        <p:spPr>
          <a:xfrm>
            <a:off x="5072040" y="435780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5" name="Прямая со стрелкой 28"/>
          <p:cNvCxnSpPr/>
          <p:nvPr/>
        </p:nvCxnSpPr>
        <p:spPr>
          <a:xfrm>
            <a:off x="5072040" y="5000760"/>
            <a:ext cx="643320" cy="2160"/>
          </a:xfrm>
          <a:prstGeom prst="straightConnector1">
            <a:avLst/>
          </a:prstGeom>
          <a:ln w="507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Прямоугольник 29"/>
          <p:cNvSpPr/>
          <p:nvPr/>
        </p:nvSpPr>
        <p:spPr>
          <a:xfrm>
            <a:off x="5715000" y="4000680"/>
            <a:ext cx="3000240" cy="64260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я звуко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1"/>
          <p:cNvSpPr/>
          <p:nvPr/>
        </p:nvSpPr>
        <p:spPr>
          <a:xfrm>
            <a:off x="357120" y="4214880"/>
            <a:ext cx="3071880" cy="642960"/>
          </a:xfrm>
          <a:prstGeom prst="rect">
            <a:avLst/>
          </a:prstGeom>
          <a:solidFill>
            <a:srgbClr val="ffffff"/>
          </a:soli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ая ст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9680" y="1356840"/>
            <a:ext cx="86439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ие навыков, знаний и повышение мастерства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своего авторского мультфиль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 мультфил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выставки персонажей мультфиль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диска с детскими авторскими мультфильм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. Улучшение психологического и физического здоровья детей, психолого-педагогическая коррекция эмоционально-волевой сф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. Повышение  коммуникатив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. Коррекция  стрессовых   и    постстрессовых   ситуаций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. Повышение  адекватной  эмоциональной  активности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0. Коррекция  нравственных  позиций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. Снижение  агрессивности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. Формирование  адекватной  самооценки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. Моделирование    положительных  эмо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164360" cy="33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зентацию подготовила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 – мультипликатор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 клуба аниматоров «МультСоздайка»</a:t>
            </a:r>
            <a:br>
              <a:rPr sz="3200"/>
            </a:b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кимчук  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дежда Авраамовна</a:t>
            </a:r>
            <a:br>
              <a:rPr sz="40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ы: сот.89817843909, 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Yanalt@mail.ru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I:\КА МС\КА тека\фототека\фото разное разбор\мой портрет для титров\порт1 прозр.png"/>
          <p:cNvPicPr/>
          <p:nvPr/>
        </p:nvPicPr>
        <p:blipFill>
          <a:blip r:embed="rId2"/>
          <a:stretch/>
        </p:blipFill>
        <p:spPr>
          <a:xfrm>
            <a:off x="6923160" y="326880"/>
            <a:ext cx="2220840" cy="271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-4680" y="3044880"/>
            <a:ext cx="2981160" cy="3127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 rot="414000">
            <a:off x="0" y="2492280"/>
            <a:ext cx="11701440" cy="4606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3567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ульттерапия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 это  метод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билитации  детей  через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тво и рад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J:\диск д 18042014\фестиваль орган\фото фестиваль\исх\подгот пер\ШГД мал\100_8658.jpg"/>
          <p:cNvPicPr/>
          <p:nvPr/>
        </p:nvPicPr>
        <p:blipFill>
          <a:blip r:embed="rId1"/>
          <a:stretch/>
        </p:blipFill>
        <p:spPr>
          <a:xfrm>
            <a:off x="2484360" y="2565360"/>
            <a:ext cx="397692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56760" y="1142640"/>
            <a:ext cx="74725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ид киноискусства, произведения которого создаются методом покадровой съёмки рисованных или объёмных объектов.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скусст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ультипликации заним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792504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4250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9284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выбора мультипликации в качестве социально-реабилитирующей и терапевтической метод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Анимация включает в себя больше возможностей для реабилитации, чем любой другой вид твор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Мультипликационное творчество позволяет развивать способности детей, что  позитивным образом сказывается на их реабилитации и соци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Важной организационно-психологической ценностью мульттерапии является работа в коман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Это процесс освоения новых технолог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J:\диск д 18042014\фестиваль орган\фото фестиваль\исх\подгот пер\ШГД мал\100_8661.jpg"/>
          <p:cNvPicPr/>
          <p:nvPr/>
        </p:nvPicPr>
        <p:blipFill>
          <a:blip r:embed="rId1"/>
          <a:stretch/>
        </p:blipFill>
        <p:spPr>
          <a:xfrm rot="367200">
            <a:off x="4358880" y="4119480"/>
            <a:ext cx="3251160" cy="244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400" y="213840"/>
            <a:ext cx="7786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льттерапия позволя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Облегчить кризисные состоя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 Преодолеть глубинные страх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 Наполнить творчеством и радостью д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Преодолеть последствия заболеваний, как психологические, так и физическ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о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остстрессовым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ротичес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тройств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соматичес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трой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03280" y="285840"/>
            <a:ext cx="8640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нятия по данной программе  помогут  ребёнку  задуматься о нравстве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безнравственных поступках, отличать хорошее от  плохого,   почувствовать  на  себе высокомер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 доброт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бкий  ребёнок,  может  быть  впервые, попробует быть смелым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рессивный –добрым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обранный -  аккуратны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3567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имация непосредственно связана с трудовым обучени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J:\диск д 18042014\фестиваль орган\фото фестиваль\глух млад игр\DSCN1230.JPG"/>
          <p:cNvPicPr/>
          <p:nvPr/>
        </p:nvPicPr>
        <p:blipFill>
          <a:blip r:embed="rId1"/>
          <a:stretch/>
        </p:blipFill>
        <p:spPr>
          <a:xfrm rot="20882400">
            <a:off x="3101760" y="187272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:\диск д 18042014\фестиваль орган\фото фестиваль\глух млад игр\DSCN1226.JPG"/>
          <p:cNvPicPr/>
          <p:nvPr/>
        </p:nvPicPr>
        <p:blipFill>
          <a:blip r:embed="rId2"/>
          <a:stretch/>
        </p:blipFill>
        <p:spPr>
          <a:xfrm rot="20236800">
            <a:off x="566280" y="3103200"/>
            <a:ext cx="2371680" cy="177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:\диск д 18042014\фестиваль орган\фото фестиваль\глух млад игр\DSCN1227.JPG"/>
          <p:cNvPicPr/>
          <p:nvPr/>
        </p:nvPicPr>
        <p:blipFill>
          <a:blip r:embed="rId3"/>
          <a:stretch/>
        </p:blipFill>
        <p:spPr>
          <a:xfrm>
            <a:off x="6435720" y="1717560"/>
            <a:ext cx="2220840" cy="16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:\диск д 18042014\фестиваль орган\фото фестиваль\глух млад игр\DSCN1234.JPG"/>
          <p:cNvPicPr/>
          <p:nvPr/>
        </p:nvPicPr>
        <p:blipFill>
          <a:blip r:embed="rId4"/>
          <a:stretch/>
        </p:blipFill>
        <p:spPr>
          <a:xfrm rot="556200">
            <a:off x="4185720" y="3875040"/>
            <a:ext cx="294192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льттерап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107136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ает качество  реабилитации и творческой социализации детей в процессе коллективной деятельности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  мульттерапии: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формировать  отрицательное  отношение  к  проявлению  негативных  черт  характера,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ить  находить  пути  их  преодоления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способствовать  формированию  положительных  черт  характера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:\Users\мама\Desktop\загот цттиит\8.jpg"/>
          <p:cNvPicPr/>
          <p:nvPr/>
        </p:nvPicPr>
        <p:blipFill>
          <a:blip r:embed="rId1"/>
          <a:stretch/>
        </p:blipFill>
        <p:spPr>
          <a:xfrm rot="21196200">
            <a:off x="647280" y="3760560"/>
            <a:ext cx="3024360" cy="201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:\Users\мама\Desktop\IMG_0730.jpg"/>
          <p:cNvPicPr/>
          <p:nvPr/>
        </p:nvPicPr>
        <p:blipFill>
          <a:blip r:embed="rId2"/>
          <a:stretch/>
        </p:blipFill>
        <p:spPr>
          <a:xfrm rot="346200">
            <a:off x="4473360" y="3591000"/>
            <a:ext cx="3801960" cy="2351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6429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вать  эмпатию,  а  именно: понимание,  сочувствие  и  содействие  другим  людям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пособствовать   полноценному   развитию   личности  человека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3:36:04Z</dcterms:created>
  <dc:creator>USER</dc:creator>
  <dc:description/>
  <dc:language>en-US</dc:language>
  <cp:lastModifiedBy>Надежда</cp:lastModifiedBy>
  <dcterms:modified xsi:type="dcterms:W3CDTF">2014-10-26T18:04:56Z</dcterms:modified>
  <cp:revision>242</cp:revision>
  <dc:subject/>
  <dc:title>Слайд 1</dc:title>
</cp:coreProperties>
</file>