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6.png" ContentType="image/png"/>
  <Override PartName="/ppt/media/image10.wmf" ContentType="image/x-wmf"/>
  <Override PartName="/ppt/media/image1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CC8-BF1C-4626-8C68-40E6F98A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0BD-B7C2-4888-A068-40D6DB0C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30C-6E7C-4AC2-A0C5-A3E85342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04B-51F8-4D61-9456-0FD77E96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4FD6-F944-43E5-ABA1-D7679B0A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1CE9-DE66-4381-9EF1-AAC3FECA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F058-FCA4-410F-817A-8370D827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7518-EDF1-4AEB-B56E-BABA2E12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E198-3A2C-409C-B277-C6750788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51AD-0285-4B29-A25F-4E00D2D5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6679-9C2C-447E-BBB9-04C57FD9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4D2-D99F-4CF8-8105-BC1C7778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502C-5976-4E02-8FC9-970769C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BBC7-51B8-46CE-8071-850D8A42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73C-4774-4405-BD18-1CD5EB03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7523-FD1E-44D4-B90E-D479567E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8CF7-F440-4DE0-B3AD-C6A92626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042-3160-46CE-806C-5E919470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E0E-B34C-424A-B0F1-F9DF26F1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32A-8E36-41E3-B74F-67B86B8A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064-5B3C-47A5-AAC4-7D4041E5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E92-68F7-4A5C-8D16-E4064E5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8B4-5CA9-41B3-90B5-686833E1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679-6B34-4E6D-B376-F995E985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b81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D7A3-7AA8-4DD8-9577-EB62DE5727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b81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FC6A-5B3C-4B9A-90AD-C0F98E7C3F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642960" y="684360"/>
            <a:ext cx="621504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Ну-ка, проверь дру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Ты готов начать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Всё ль на мес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Всё ль в поряд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Ручка, книжка и тетрад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Все ли правильно сид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Все ль внимательно гляд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Каждый хочет полу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Толька лишь оценку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6072120" y="1370160"/>
            <a:ext cx="26719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авило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лимое  равно произведению  делителя и неполного частного, сложенному с остат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   =     b      c   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-  дел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- де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-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полное 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-  ост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3851280" y="35002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Устн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ти делимое, ес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е частное равно 7, остаток равен 3, а делитель – 6;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е частное равно 11, остаток равен 1, а делитель – 9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е частное равно 20, остаток равен 13, а делитель – 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33"/>
                </a:solidFill>
                <a:latin typeface="Garamond"/>
              </a:rPr>
              <a:t>Сделайте вывод: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ли остаток быть больше делите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ли остаток быть равен делител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найти делимое по неполному частному, делителю и остат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Рисунок15.jpg"/>
          <p:cNvPicPr/>
          <p:nvPr/>
        </p:nvPicPr>
        <p:blipFill>
          <a:blip r:embed="rId1"/>
          <a:stretch/>
        </p:blipFill>
        <p:spPr>
          <a:xfrm>
            <a:off x="3714840" y="3786120"/>
            <a:ext cx="3357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Реши задачи. 1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ачке 500 листов бумаги. За неделю в офисе расходуется 800 листов бумаги . Какое наименьшее количество пачек бумаги нужно купить в офис на 3 нед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ис находится в квартире №82 пятиэтажного дома. В каждом подъезде на каждом этаже  3 квартиры . В каком подъезде и на каком этаже находится офи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ши задачу и сделай доставку.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упермаркете проходит рекламная акция: Заплатив за 2 шоколадки , покупатель получает 3 шоколадки ( одна шоколадка в подарок). Шоколад стоит 35 рублей. Какое наибольшее количество шоколадок можно купить на 200 рубле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 доме , в котором живет Петя , один подъезд. На каждом этаже находится  по 5 квартир. Петя живет в квартире № 37. На каком этаже живет Пет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5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еши задачи и сделай доставку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кет молока стоит 48 рублей , какое наибольшее количество пакетов  молока можно купить  на 200 рубле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бушка Аня живет  в квартире № 68 в пятиэтажном доме. В каждом подъезде на каждом этаже  3 квартиры . В каком подъезде и на каком этаже живет бабушка А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амостоятельная рабо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полни деление с остат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0: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4: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5: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: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е есть трехместные туристические палатки. Какое наименьшее число палаток нужно взять в поход , в котором участвуют 25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ве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0:9=5 (остаток 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84:9=9( остаток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5:8=5 (остаток 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8:7=6 (остаток 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5:3=8 (остаток 1)  ответ: 9 палаток надо взя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3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152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ение решать задачи - такое же практическое искусство, как умение плавать или бегать на лыжах. Ему можно научиться только путём подражания или упражнения. (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. Пой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. 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54; 55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292112"/>
          <p:cNvPicPr/>
          <p:nvPr/>
        </p:nvPicPr>
        <p:blipFill>
          <a:blip r:embed="rId1"/>
          <a:stretch/>
        </p:blipFill>
        <p:spPr>
          <a:xfrm>
            <a:off x="6516720" y="620640"/>
            <a:ext cx="18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j0292134"/>
          <p:cNvPicPr/>
          <p:nvPr/>
        </p:nvPicPr>
        <p:blipFill>
          <a:blip r:embed="rId2"/>
          <a:stretch/>
        </p:blipFill>
        <p:spPr>
          <a:xfrm>
            <a:off x="6327720" y="2997360"/>
            <a:ext cx="2341440" cy="2974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j0292122"/>
          <p:cNvPicPr/>
          <p:nvPr/>
        </p:nvPicPr>
        <p:blipFill>
          <a:blip r:embed="rId3"/>
          <a:stretch/>
        </p:blipFill>
        <p:spPr>
          <a:xfrm>
            <a:off x="324000" y="3284640"/>
            <a:ext cx="2879640" cy="2523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971640" y="2786040"/>
            <a:ext cx="6624720" cy="22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бята !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Garamond"/>
              </a:rPr>
              <a:t>Решив примеры и заполнив таблицу, вы сумеете прочитать тему урок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428920" y="2214720"/>
          <a:ext cx="3857760" cy="4214520"/>
        </p:xfrm>
        <a:graphic>
          <a:graphicData uri="http://schemas.openxmlformats.org/drawingml/2006/table">
            <a:tbl>
              <a:tblPr/>
              <a:tblGrid>
                <a:gridCol w="2571840"/>
                <a:gridCol w="1285920"/>
              </a:tblGrid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×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×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: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×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3: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6: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: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×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642960"/>
          <a:ext cx="8329680" cy="115884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  <a:gridCol w="1041480"/>
                <a:gridCol w="1039680"/>
                <a:gridCol w="1041480"/>
                <a:gridCol w="1041480"/>
                <a:gridCol w="10414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00040" y="2286000"/>
          <a:ext cx="8286840" cy="1143000"/>
        </p:xfrm>
        <a:graphic>
          <a:graphicData uri="http://schemas.openxmlformats.org/drawingml/2006/table">
            <a:tbl>
              <a:tblPr/>
              <a:tblGrid>
                <a:gridCol w="1036800"/>
                <a:gridCol w="1035000"/>
                <a:gridCol w="1036440"/>
                <a:gridCol w="1035000"/>
                <a:gridCol w="1036800"/>
                <a:gridCol w="1035000"/>
                <a:gridCol w="1036800"/>
                <a:gridCol w="10350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Деление с остатком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4" descr="j0205402"/>
          <p:cNvPicPr/>
          <p:nvPr/>
        </p:nvPicPr>
        <p:blipFill>
          <a:blip r:embed="rId1"/>
          <a:stretch/>
        </p:blipFill>
        <p:spPr>
          <a:xfrm>
            <a:off x="6084720" y="4365720"/>
            <a:ext cx="2808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j0292136"/>
          <p:cNvPicPr/>
          <p:nvPr/>
        </p:nvPicPr>
        <p:blipFill>
          <a:blip r:embed="rId2"/>
          <a:stretch/>
        </p:blipFill>
        <p:spPr>
          <a:xfrm>
            <a:off x="250920" y="333360"/>
            <a:ext cx="150660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088956"/>
          <p:cNvPicPr/>
          <p:nvPr/>
        </p:nvPicPr>
        <p:blipFill>
          <a:blip r:embed="rId3"/>
          <a:stretch/>
        </p:blipFill>
        <p:spPr>
          <a:xfrm>
            <a:off x="468360" y="4365720"/>
            <a:ext cx="2952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Цель уро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ить деление с остатко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читься решать задачи на деление с остатко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спитывать чувство товарищества и умение выслушать товарищ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Устн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полнить деление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5 : 9 ;             0 : 67;         234 : 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67 : 567;        34 :17;             а:а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:0;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;        0:а;         с:1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3 :2;            24 : 5;         26 : 7.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3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еление с остатко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гости к бабушке пришли 4 внука. Бабушка решила угостить внуков конфетами. В вазочке было 23 конфеты. Сколько конфет достанется каждому внуку, если бабушка предложит поделить конфеты поровн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3 : 4 = 5 (3 остато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ая запись указывает, что в делимом  23 содержится  4 раза по 5 да еще 3 единицы, то 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3      =     4         5     +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11280" y="47242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916360" y="472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427640" y="47242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л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012000" y="472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8:27:41Z</dcterms:created>
  <dc:creator>Светлана</dc:creator>
  <dc:description/>
  <dc:language>en-US</dc:language>
  <cp:lastModifiedBy>1</cp:lastModifiedBy>
  <dcterms:modified xsi:type="dcterms:W3CDTF">2014-10-26T07:26:46Z</dcterms:modified>
  <cp:revision>49</cp:revision>
  <dc:subject/>
  <dc:title>Деление с остатком</dc:title>
</cp:coreProperties>
</file>