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331-7DDC-4ADA-A34F-95FFF52B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944-5DB0-44DE-8B98-9CF1A374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FD0-A414-467A-8C6A-7AD99B11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34F-21ED-4170-9B25-D70FDA90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91EF-2D7C-4D75-A032-F0D7BC6D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4DAE-18C7-4BDD-AF4C-7027B7F9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649C-C997-414F-9F53-2DEF9D67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5541-E963-4200-9786-8CB403CC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6FE4-F131-44A1-9143-535D50C3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950F-2922-45A1-BC1E-1EC81FEE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9A6C-04D8-4C0E-B308-798E0647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FE3-69BA-42E2-9EA6-1ABDD2F6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2D96-5017-46B2-9C77-CE1F2FA1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37D6-8EBF-4DB3-94DD-AD81886C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8781-1F61-42CF-8440-D715185A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BC57-E62B-4DA4-BAD5-75098A78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847F-5193-4A05-B9C4-234F940C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627-7EF1-4FE7-B9F0-32F80E11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C35-E4B4-43BA-96D8-93111B4B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5BF-ADCA-42D5-8D12-0952AD41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C7C-FE03-453A-84ED-D87212B5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0EC-91B8-4E2E-BC2B-67BC1A58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545-70B0-41BB-B10C-4AC85310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8EF-5656-42F6-A6DA-4CBD0CC3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AA4854-5603-43F2-B5A9-6AC28AFEABB8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65B4DD-74CB-4778-BEA3-8E7634BED89F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32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 cap="all">
                <a:solidFill>
                  <a:srgbClr val="4e3b30"/>
                </a:solidFill>
                <a:latin typeface="Franklin Gothic Medium"/>
              </a:rPr>
              <a:t>Формирование толерантного сознания учащихся</a:t>
            </a:r>
            <a:endParaRPr b="0" lang="ru-RU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5000760"/>
            <a:ext cx="785448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4342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822924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ru-RU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ru-RU" sz="2500" spc="-1" strike="noStrike">
                <a:solidFill>
                  <a:srgbClr val="00b050"/>
                </a:solidFill>
                <a:latin typeface="Franklin Gothic Book"/>
              </a:rPr>
              <a:t>Разработать:</a:t>
            </a:r>
            <a:endParaRPr b="0" lang="ru-RU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ru-RU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Программу факультативного курса «Конфликты и их разрешение»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Систему мероприятий по развитию толерантных качеств личности учащихся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8229240" cy="54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Franklin Gothic Book"/>
              </a:rPr>
              <a:t>Создать: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истему мониторинга для выявления толерантных качеств образовательной среды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Эффективную модель взаимодействия школы и общества в аспекте толерантности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Уголок национальных культур в школе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000080"/>
            <a:ext cx="8229240" cy="53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ru-RU" sz="3300" spc="-1" strike="noStrike">
                <a:solidFill>
                  <a:srgbClr val="00b050"/>
                </a:solidFill>
                <a:latin typeface="Franklin Gothic Book"/>
              </a:rPr>
              <a:t>Провести:</a:t>
            </a:r>
            <a:endParaRPr b="0" lang="ru-RU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endParaRPr b="0" lang="ru-RU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оррекцию образовательных программ  по отбору  содержания образования с позиции толерантности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еминар педагогов  по правовому воспитанию для обмена опытом по проекту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71800"/>
            <a:ext cx="8229240" cy="24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7200" spc="-1" strike="noStrike" cap="all">
                <a:solidFill>
                  <a:srgbClr val="00b050"/>
                </a:solidFill>
                <a:latin typeface="Franklin Gothic Medium"/>
              </a:rPr>
              <a:t>ЭТАПЫ РЕАЛИЗАЦИИ ПРОЕКТА</a:t>
            </a:r>
            <a:br>
              <a:rPr sz="3600"/>
            </a:b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24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b050"/>
                </a:solidFill>
                <a:latin typeface="Franklin Gothic Medium"/>
              </a:rPr>
              <a:t>Организационно-методический (1 этап)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2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5000"/>
          </a:bodyPr>
          <a:p>
            <a:pPr marL="318240" indent="-318240">
              <a:lnSpc>
                <a:spcPct val="100000"/>
              </a:lnSpc>
              <a:spcBef>
                <a:spcPts val="62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100" spc="-1" strike="noStrike">
                <a:solidFill>
                  <a:srgbClr val="4e3b30"/>
                </a:solidFill>
                <a:latin typeface="Franklin Gothic Book"/>
              </a:rPr>
              <a:t>Разработка плана реализации проекта, определение списка необходимых мероприятий. </a:t>
            </a:r>
            <a:endParaRPr b="0" lang="ru-RU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2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100" spc="-1" strike="noStrike">
                <a:solidFill>
                  <a:srgbClr val="4e3b30"/>
                </a:solidFill>
                <a:latin typeface="Franklin Gothic Book"/>
              </a:rPr>
              <a:t>Создание «центров толерантности» по направлениям деятельности проекта, определение целей, задач и планируемого результата работы каждого центра. </a:t>
            </a:r>
            <a:endParaRPr b="0" lang="ru-RU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2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100" spc="-1" strike="noStrike">
                <a:solidFill>
                  <a:srgbClr val="4e3b30"/>
                </a:solidFill>
                <a:latin typeface="Franklin Gothic Book"/>
              </a:rPr>
              <a:t>Коррекция образовательных программ с учетом «компонента толерантности». </a:t>
            </a:r>
            <a:endParaRPr b="0" lang="ru-RU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2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100" spc="-1" strike="noStrike">
                <a:solidFill>
                  <a:srgbClr val="4e3b30"/>
                </a:solidFill>
                <a:latin typeface="Franklin Gothic Book"/>
              </a:rPr>
              <a:t>Проведение научно-практической конференции «Толерантность – дорога к будущему». </a:t>
            </a:r>
            <a:endParaRPr b="0" lang="ru-RU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2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100" spc="-1" strike="noStrike">
                <a:solidFill>
                  <a:srgbClr val="4e3b30"/>
                </a:solidFill>
                <a:latin typeface="Franklin Gothic Book"/>
              </a:rPr>
              <a:t>Комплексное социологическое исследование состояния образовательной среды в аспекте толерантности. </a:t>
            </a:r>
            <a:endParaRPr b="0" lang="ru-RU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2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1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3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000"/>
                            </p:stCondLst>
                            <p:childTnLst>
                              <p:par>
                                <p:cTn id="1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 cap="all">
                <a:solidFill>
                  <a:srgbClr val="00b050"/>
                </a:solidFill>
                <a:latin typeface="Franklin Gothic Medium"/>
              </a:rPr>
              <a:t>Практический</a:t>
            </a:r>
            <a:br>
              <a:rPr sz="6000"/>
            </a:br>
            <a:r>
              <a:rPr b="0" lang="ru-RU" sz="3600" spc="-1" strike="noStrike" cap="all">
                <a:solidFill>
                  <a:srgbClr val="00b050"/>
                </a:solidFill>
                <a:latin typeface="Franklin Gothic Medium"/>
              </a:rPr>
              <a:t> (2 этап)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24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5000"/>
          </a:bodyPr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становление взаимоотношений между субъектами образовательного пространства с учетом уровня толерантности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ведение развивающих семинаров и тренингов для педагогов и родителей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имулирование исследовательской и социальной активности школьников через участие в научно-практических конференциях, публикациях, выступлениях.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ведение «круглого стола» с руководителями школьных методических объединений по результатам работы над коррекцией образовательных программ в аспекте толерантности.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ведение научно-практической конференции «Конфликты современного общества и проблема толерантности»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ониторинг происходящих изменений при помощи качественных социологических замеров.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201" dur="1" fill="hold"/>
                                        <p:tgtEl>
                                          <p:spTgt spid="111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 cap="all">
                <a:solidFill>
                  <a:srgbClr val="00b050"/>
                </a:solidFill>
                <a:latin typeface="Franklin Gothic Medium"/>
              </a:rPr>
              <a:t>Аналитический </a:t>
            </a:r>
            <a:br>
              <a:rPr sz="6000"/>
            </a:br>
            <a:r>
              <a:rPr b="0" lang="ru-RU" sz="3600" spc="-1" strike="noStrike" cap="all">
                <a:solidFill>
                  <a:srgbClr val="00b050"/>
                </a:solidFill>
                <a:latin typeface="Franklin Gothic Medium"/>
              </a:rPr>
              <a:t>(3 этап)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240" cy="47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5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азработка и проведение серии классных часов и открытых уроков (1-9 класс) по проблеме толерантности в современном обществе.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омплексное социологическое исследование изменений толерантных качеств среды, соотнесение реального положения вещей с планируемым результатом.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мен опытом с педагогами города посредством проведения городского семинара заместителей директоров по правовому воспитанию и воспитательной работе на тему «Формирование толерантного сознания учащихся».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дведение итогов и анализ результатов деятельности «Центров толерантности».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500"/>
                            </p:stCondLst>
                            <p:childTnLst>
                              <p:par>
                                <p:cTn id="2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500"/>
                            </p:stCondLst>
                            <p:childTnLst>
                              <p:par>
                                <p:cTn id="2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240" cy="44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7200" spc="-1" strike="noStrike" cap="all">
                <a:solidFill>
                  <a:srgbClr val="00b050"/>
                </a:solidFill>
                <a:latin typeface="Franklin Gothic Medium"/>
              </a:rPr>
              <a:t>ПРЕДЛОЖЕНИЯ ПО РАСПРОСТРАНЕНИЮ ИНИЦИАТИВЫ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8229240" cy="54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" charset="2"/>
              <a:buChar char=""/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истема мероприятий по развитию толерантных качеств личности поможет повысить исследовательскую и творческую активность учащихся, уровень их воспитанности, а также будет способствовать решению межличностных,  психологических и социальных конфликтов в школе, семье, между сверстниками 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822924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296640" indent="-29664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" charset="2"/>
              <a:buChar char=""/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истема мониторинга толерантных качеств образовательной среды (комплекс социологических исследований) поможет руководителю образовательного учреждения адекватно и своевременно получать информацию о характере изменений в пространстве школы, обеспечить субъектов образовательного процесса необходимыми ресурсами для решения возникающих проблем во взаимоотношениях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b050"/>
                </a:solidFill>
                <a:latin typeface="Franklin Gothic Medium"/>
              </a:rPr>
              <a:t>Результаты социологического исследования в МКОУ Курежской ООШ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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школе обучаются дети 3 национальностей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с разными культурами, мировоззрением, религией)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уществует напряженность во взаимоотношениях между обеспеченными и малообеспеченными детьми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онфликты между детьми с девиантным поведением и обычными школьниками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822924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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истема развивающих тренингов и семинаров для учащихся по проблеме толерантности поможет им установить дружеские и доверительные отношения между собой, будет мотивировать их к сотрудничеству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250" autoRev="1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822924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" charset="2"/>
              <a:buChar char=""/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Коррекция образовательных программ по отбору содержания образования с позиции толерантности обеспечит переход на новый качественный уровень в  преподавании школьных дисциплин, будет способствовать адекватному пониманию учащимися процессов в современном обществе и культуре 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250" autoRev="1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24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 cap="all">
                <a:solidFill>
                  <a:srgbClr val="00b050"/>
                </a:solidFill>
                <a:latin typeface="Franklin Gothic Medium"/>
              </a:rPr>
              <a:t>Объект проекта – </a:t>
            </a:r>
            <a:r>
              <a:rPr b="0" lang="ru-RU" sz="4400" spc="-1" strike="noStrike" cap="all">
                <a:solidFill>
                  <a:srgbClr val="000000"/>
                </a:solidFill>
                <a:latin typeface="Franklin Gothic Medium"/>
              </a:rPr>
              <a:t>образовательная среда МКОУ Курежская ООШ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7120" y="3500280"/>
            <a:ext cx="8229240" cy="28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Franklin Gothic Medium"/>
              </a:rPr>
              <a:t>Предмет проекта – 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4e3b30"/>
                </a:solidFill>
                <a:latin typeface="Franklin Gothic Medium"/>
              </a:rPr>
              <a:t>толерантные качества личности выпускника МКОУ Курежской ООШ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 cap="all">
                <a:solidFill>
                  <a:srgbClr val="00b050"/>
                </a:solidFill>
                <a:latin typeface="Franklin Gothic Medium"/>
              </a:rPr>
              <a:t>Гипотеза проекта: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24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Создание благоприятных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(с позиции толерантности) условий образовательной среды приведет к формированию толерантных качеств личности выпускника школы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b050"/>
                </a:solidFill>
                <a:latin typeface="Franklin Gothic Medium"/>
              </a:rPr>
              <a:t>Социальные компетентности выпускника </a:t>
            </a:r>
            <a:r>
              <a:rPr b="0" lang="ru-RU" sz="3300" spc="-1" strike="noStrike" cap="all">
                <a:solidFill>
                  <a:srgbClr val="00b050"/>
                </a:solidFill>
                <a:latin typeface="Franklin Gothic Medium"/>
              </a:rPr>
              <a:t>(с позиции толерантности)</a:t>
            </a:r>
            <a:endParaRPr b="0" lang="ru-RU" sz="33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" charset="2"/>
              <a:buChar char=""/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истема общечеловеческих ценностей и толерантное мышление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" charset="2"/>
              <a:buChar char=""/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Широта взглядов на мир в целом (мировоззренческие горизонты), на другие культуры и традиции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" charset="2"/>
              <a:buChar char=""/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пособность принимать решения, нести ответственность за них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071720"/>
            <a:ext cx="8229240" cy="52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" charset="2"/>
              <a:buChar char=""/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Принятие идеи сообщества, принципов сотрудничества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" charset="2"/>
              <a:buChar char=""/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Развитие чувства принадлежности и причастности к значимым явлениям современного общества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" charset="2"/>
              <a:buChar char=""/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пособность признавать права и свободы других людей, уважение человеческого достоинства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b050"/>
                </a:solidFill>
                <a:latin typeface="Franklin Gothic Medium"/>
              </a:rPr>
              <a:t>Цель проекта: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9052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создание педагогических условий для развития толерантных качеств личности учащегося, которые помогают ценить культурное и социальное различие между людьми, воспитывают терпимое отношение к окружающим и самому себе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b050"/>
                </a:solidFill>
                <a:latin typeface="Franklin Gothic Medium"/>
              </a:rPr>
              <a:t>Задачи проект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240" cy="49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Courier New"/>
              <a:buChar char="o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зучить теорию и педагогическую практику по проблеме толерантности в системе образования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Courier New"/>
              <a:buChar char="o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сследовать «уровень толерантности»  образовательного пространства школы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Courier New"/>
              <a:buChar char="o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ыявить «очаги нетерпимости» (элементы негативного отношения участников образовательного процесса к социальным явлениям)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Courier New"/>
              <a:buChar char="o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оздать «центры толерантности» (объединения педагогов и учащихся по сферам реализации проекта) для более эффективного управления проектом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2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7200" spc="-1" strike="noStrike" cap="all">
                <a:solidFill>
                  <a:srgbClr val="00b050"/>
                </a:solidFill>
                <a:latin typeface="Franklin Gothic Medium"/>
              </a:rPr>
              <a:t>ПЛАНИРУЕМЫЕ РЕЗУЛЬТАТЫ ПРОЕКТА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801</TotalTime>
  <Application>LibreOffice/7.4.7.2$Linux_X86_64 LibreOffice_project/40$Build-2</Application>
  <AppVersion>15.0000</AppVersion>
  <Words>659</Words>
  <Paragraphs>67</Paragraphs>
  <Company>МОУ СОШ № 71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8:07:13Z</dcterms:created>
  <dc:creator>Манучарян Иван Андреевич</dc:creator>
  <dc:description/>
  <dc:language>en-US</dc:language>
  <cp:lastModifiedBy>Ольга</cp:lastModifiedBy>
  <dcterms:modified xsi:type="dcterms:W3CDTF">2014-10-26T15:33:39Z</dcterms:modified>
  <cp:revision>83</cp:revision>
  <dc:subject/>
  <dc:title>Формирование толерантных качеств образовательной  сре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