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EBE4-EC7A-4017-A6D9-668A7A7A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C93-7383-4855-B822-5A7B87B9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E79-50E7-4043-A2FB-2E011B45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0803-7C7A-49F9-A122-C48FEE9A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AEA9-8F9A-4E3C-B156-ED1F0CB1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7866-0081-4ED3-83A3-AC6A1A1C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1782-FB05-4897-B642-1D1F6473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4D38-2098-4285-B3BF-896327B0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7942-B245-4B39-940D-85F24BEB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4607-E0E7-4F30-8EC2-6D562356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6F4C-502E-49AA-AF43-54BA7FA6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329-8898-463A-A640-366D02FC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BD8B-87E6-451B-A3AA-D8754F3D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9A41-3636-41CF-9E55-D66EA76E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0A9D-24BB-46D3-A00A-F8E76CC1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7894-9992-4502-8429-DDC618DA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AFDC-889F-4F0A-9CA0-1819E53D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86C-7B21-48B0-8AA0-7AA4BC32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F7D-EBC6-42D9-AE7D-A827A0E2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1E50-9593-4B23-8439-18C162A8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9C3-DF09-432C-96E7-BC604ECB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06E-E0BC-48B9-848F-AE38CE07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D1A-60F2-4C90-A523-67B02BCD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A91F-0E8E-4F32-864B-E9E70026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4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F97D-6DF4-48D6-AD6E-81F2F9D84C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3480"/>
                  <a:gd name="textAreaBottom" fmla="*/ 843480 h 8434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8800"/>
                  <a:gd name="textAreaBottom" fmla="*/ 3269520 h 32688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A564-88CB-4276-817D-2D315FC93BC4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50160" cy="306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0066"/>
                </a:solidFill>
                <a:latin typeface="Verdana"/>
              </a:rPr>
              <a:t>Литературное</a:t>
            </a:r>
            <a:br>
              <a:rPr sz="5200"/>
            </a:br>
            <a:r>
              <a:rPr b="1" lang="ru-RU" sz="5200" spc="-1" strike="noStrike">
                <a:solidFill>
                  <a:srgbClr val="ff0066"/>
                </a:solidFill>
                <a:latin typeface="Verdana"/>
              </a:rPr>
              <a:t>чтение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556000" y="508464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2 клас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4" descr="1"/>
          <p:cNvPicPr/>
          <p:nvPr/>
        </p:nvPicPr>
        <p:blipFill>
          <a:blip r:embed="rId1"/>
          <a:stretch/>
        </p:blipFill>
        <p:spPr>
          <a:xfrm>
            <a:off x="250920" y="3200400"/>
            <a:ext cx="33843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Кроссворд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197000"/>
          <a:ext cx="8229600" cy="5381640"/>
        </p:xfrm>
        <a:graphic>
          <a:graphicData uri="http://schemas.openxmlformats.org/drawingml/2006/table">
            <a:tbl>
              <a:tblPr/>
              <a:tblGrid>
                <a:gridCol w="631800"/>
                <a:gridCol w="635040"/>
                <a:gridCol w="631800"/>
                <a:gridCol w="635040"/>
                <a:gridCol w="631800"/>
                <a:gridCol w="631800"/>
                <a:gridCol w="635040"/>
                <a:gridCol w="631800"/>
                <a:gridCol w="631800"/>
                <a:gridCol w="635040"/>
                <a:gridCol w="631800"/>
                <a:gridCol w="635040"/>
                <a:gridCol w="6318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ж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ы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ш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я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-324000" y="1125360"/>
            <a:ext cx="810108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Тема: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Борис Житков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«Храбрый утёнок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Цель: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Познакомиться с произведением и    биографией Бориса Степановича Житков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Развивать умение составлять план и предложен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Воспитывать чувства справедливости, умение постоять за себя и товарищ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Содержание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Проверка домашнего задан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Знакомство с биографией    писателя и его  произведения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Чтение сказки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Составление план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Закреплени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Проверка домашнего зад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моги установить порядок в сказк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зови цифры в том порядке, как эти герои встречаются в сказк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4" descr="3"/>
          <p:cNvPicPr/>
          <p:nvPr/>
        </p:nvPicPr>
        <p:blipFill>
          <a:blip r:embed="rId1"/>
          <a:stretch/>
        </p:blipFill>
        <p:spPr>
          <a:xfrm>
            <a:off x="0" y="3933720"/>
            <a:ext cx="8642520" cy="26114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84360" y="400536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916360" y="4005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219640" y="407664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3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7451640" y="4005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604360" cy="17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«Нам нужны книги обо всем на свете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00360" y="1773360"/>
            <a:ext cx="4470120" cy="4240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33cc"/>
                </a:solidFill>
                <a:latin typeface="Verdana"/>
              </a:rPr>
              <a:t>Борис Степанович          Житков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(1882 – 1938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оряк, зоолог, инженер, химик, художник, человек  с огромным жизненным опыт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6" descr="5"/>
          <p:cNvPicPr/>
          <p:nvPr/>
        </p:nvPicPr>
        <p:blipFill>
          <a:blip r:embed="rId1"/>
          <a:stretch/>
        </p:blipFill>
        <p:spPr>
          <a:xfrm>
            <a:off x="250920" y="1268280"/>
            <a:ext cx="36115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Книги Бориса Житков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5" name="Picture 4" descr="6"/>
          <p:cNvPicPr/>
          <p:nvPr/>
        </p:nvPicPr>
        <p:blipFill>
          <a:blip r:embed="rId1"/>
          <a:stretch/>
        </p:blipFill>
        <p:spPr>
          <a:xfrm>
            <a:off x="6084720" y="2997360"/>
            <a:ext cx="2627640" cy="3120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4"/>
          <p:cNvPicPr/>
          <p:nvPr/>
        </p:nvPicPr>
        <p:blipFill>
          <a:blip r:embed="rId2"/>
          <a:stretch/>
        </p:blipFill>
        <p:spPr>
          <a:xfrm>
            <a:off x="324000" y="2852640"/>
            <a:ext cx="2234880" cy="2889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7"/>
          <p:cNvPicPr/>
          <p:nvPr/>
        </p:nvPicPr>
        <p:blipFill>
          <a:blip r:embed="rId3"/>
          <a:stretch/>
        </p:blipFill>
        <p:spPr>
          <a:xfrm>
            <a:off x="3132000" y="1484280"/>
            <a:ext cx="24606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40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Verdana"/>
              </a:rPr>
              <a:t>Рассказы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557360"/>
            <a:ext cx="2592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О мор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«Злое море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«Морские истории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916000" y="1557000"/>
            <a:ext cx="3168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О животны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«Мангуста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«Беспризорная кошка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«Про обезьянку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«Про слона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«Про волка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96000" y="1557000"/>
            <a:ext cx="3348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О техник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«Как устроен телеграф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«Как сделать электрический звонок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8244000" y="6021360"/>
            <a:ext cx="900000" cy="576360"/>
          </a:xfrm>
          <a:custGeom>
            <a:avLst/>
            <a:gdLst>
              <a:gd name="textAreaLeft" fmla="*/ 37080 w 900000"/>
              <a:gd name="textAreaRight" fmla="*/ 862920 w 900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3721" h="21600">
                <a:moveTo>
                  <a:pt x="0" y="0"/>
                </a:moveTo>
                <a:lnTo>
                  <a:pt x="33721" y="0"/>
                </a:lnTo>
                <a:lnTo>
                  <a:pt x="33721" y="21600"/>
                </a:lnTo>
                <a:lnTo>
                  <a:pt x="0" y="21600"/>
                </a:lnTo>
                <a:close/>
              </a:path>
              <a:path fill="lightenLess" w="33721" h="21600">
                <a:moveTo>
                  <a:pt x="0" y="0"/>
                </a:moveTo>
                <a:lnTo>
                  <a:pt x="33721" y="0"/>
                </a:lnTo>
                <a:lnTo>
                  <a:pt x="32321" y="1400"/>
                </a:lnTo>
                <a:lnTo>
                  <a:pt x="1400" y="1400"/>
                </a:lnTo>
                <a:close/>
              </a:path>
              <a:path fill="darken" w="33721" h="21600">
                <a:moveTo>
                  <a:pt x="33721" y="0"/>
                </a:moveTo>
                <a:lnTo>
                  <a:pt x="33721" y="21600"/>
                </a:lnTo>
                <a:lnTo>
                  <a:pt x="32321" y="20200"/>
                </a:lnTo>
                <a:lnTo>
                  <a:pt x="32321" y="1400"/>
                </a:lnTo>
                <a:close/>
              </a:path>
              <a:path fill="darkenLess" w="33721" h="21600">
                <a:moveTo>
                  <a:pt x="33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21" y="20200"/>
                </a:lnTo>
                <a:close/>
              </a:path>
              <a:path fill="lighten" w="33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21" h="21600">
                <a:moveTo>
                  <a:pt x="16861" y="3837"/>
                </a:moveTo>
                <a:lnTo>
                  <a:pt x="19437" y="6448"/>
                </a:lnTo>
                <a:lnTo>
                  <a:pt x="19437" y="4707"/>
                </a:lnTo>
                <a:lnTo>
                  <a:pt x="21213" y="4707"/>
                </a:lnTo>
                <a:lnTo>
                  <a:pt x="21213" y="8224"/>
                </a:lnTo>
                <a:lnTo>
                  <a:pt x="23824" y="10800"/>
                </a:lnTo>
                <a:lnTo>
                  <a:pt x="22170" y="10800"/>
                </a:lnTo>
                <a:lnTo>
                  <a:pt x="22170" y="17989"/>
                </a:lnTo>
                <a:lnTo>
                  <a:pt x="11551" y="17989"/>
                </a:lnTo>
                <a:lnTo>
                  <a:pt x="11551" y="10800"/>
                </a:lnTo>
                <a:lnTo>
                  <a:pt x="9898" y="10800"/>
                </a:lnTo>
                <a:close/>
              </a:path>
              <a:path fill="darkenLess" w="33721" h="21600">
                <a:moveTo>
                  <a:pt x="19437" y="6448"/>
                </a:moveTo>
                <a:lnTo>
                  <a:pt x="19437" y="4707"/>
                </a:lnTo>
                <a:lnTo>
                  <a:pt x="21213" y="4707"/>
                </a:lnTo>
                <a:lnTo>
                  <a:pt x="21213" y="8224"/>
                </a:lnTo>
                <a:close/>
              </a:path>
              <a:path fill="darkenLess" w="33721" h="21600">
                <a:moveTo>
                  <a:pt x="15938" y="14299"/>
                </a:moveTo>
                <a:lnTo>
                  <a:pt x="17783" y="14299"/>
                </a:lnTo>
                <a:lnTo>
                  <a:pt x="17783" y="17989"/>
                </a:lnTo>
                <a:lnTo>
                  <a:pt x="22170" y="17989"/>
                </a:lnTo>
                <a:lnTo>
                  <a:pt x="22170" y="10800"/>
                </a:lnTo>
                <a:lnTo>
                  <a:pt x="11551" y="10800"/>
                </a:lnTo>
                <a:lnTo>
                  <a:pt x="11551" y="17989"/>
                </a:lnTo>
                <a:lnTo>
                  <a:pt x="15938" y="17989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Составление план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бери из трех заглавий одно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Хвастливый утёнок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тёнок Алёш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Храбрый утёнок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. Раздели текст на част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3. Найди и прочитай ту часть текста, которая подходит к рисунку (стр. 83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4. Озаглавь каждую част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244000" y="602136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  <a:path fill="darken" w="21600" h="28836">
                <a:moveTo>
                  <a:pt x="10800" y="7455"/>
                </a:moveTo>
                <a:lnTo>
                  <a:pt x="13376" y="10066"/>
                </a:lnTo>
                <a:lnTo>
                  <a:pt x="13376" y="8325"/>
                </a:lnTo>
                <a:lnTo>
                  <a:pt x="15152" y="8325"/>
                </a:lnTo>
                <a:lnTo>
                  <a:pt x="15152" y="11842"/>
                </a:lnTo>
                <a:lnTo>
                  <a:pt x="17763" y="14418"/>
                </a:lnTo>
                <a:lnTo>
                  <a:pt x="16109" y="14418"/>
                </a:lnTo>
                <a:lnTo>
                  <a:pt x="16109" y="21607"/>
                </a:lnTo>
                <a:lnTo>
                  <a:pt x="5491" y="21607"/>
                </a:lnTo>
                <a:lnTo>
                  <a:pt x="5491" y="14418"/>
                </a:lnTo>
                <a:lnTo>
                  <a:pt x="3837" y="14418"/>
                </a:lnTo>
                <a:close/>
              </a:path>
              <a:path fill="darkenLess" w="21600" h="28836">
                <a:moveTo>
                  <a:pt x="13376" y="10066"/>
                </a:moveTo>
                <a:lnTo>
                  <a:pt x="13376" y="8325"/>
                </a:lnTo>
                <a:lnTo>
                  <a:pt x="15152" y="8325"/>
                </a:lnTo>
                <a:lnTo>
                  <a:pt x="15152" y="11842"/>
                </a:lnTo>
                <a:close/>
              </a:path>
              <a:path fill="darkenLess" w="21600" h="28836">
                <a:moveTo>
                  <a:pt x="9877" y="17917"/>
                </a:moveTo>
                <a:lnTo>
                  <a:pt x="11723" y="17917"/>
                </a:lnTo>
                <a:lnTo>
                  <a:pt x="11723" y="21607"/>
                </a:lnTo>
                <a:lnTo>
                  <a:pt x="16109" y="21607"/>
                </a:lnTo>
                <a:lnTo>
                  <a:pt x="16109" y="14418"/>
                </a:lnTo>
                <a:lnTo>
                  <a:pt x="5491" y="14418"/>
                </a:lnTo>
                <a:lnTo>
                  <a:pt x="5491" y="21607"/>
                </a:lnTo>
                <a:lnTo>
                  <a:pt x="9877" y="21607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Кроссворд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197000"/>
          <a:ext cx="8229600" cy="5346720"/>
        </p:xfrm>
        <a:graphic>
          <a:graphicData uri="http://schemas.openxmlformats.org/drawingml/2006/table">
            <a:tbl>
              <a:tblPr/>
              <a:tblGrid>
                <a:gridCol w="730080"/>
                <a:gridCol w="536760"/>
                <a:gridCol w="631800"/>
                <a:gridCol w="560520"/>
                <a:gridCol w="706320"/>
                <a:gridCol w="588960"/>
                <a:gridCol w="792000"/>
                <a:gridCol w="517680"/>
                <a:gridCol w="631800"/>
                <a:gridCol w="506520"/>
                <a:gridCol w="760320"/>
                <a:gridCol w="635040"/>
                <a:gridCol w="631800"/>
              </a:tblGrid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Text Box 258"/>
          <p:cNvSpPr/>
          <p:nvPr/>
        </p:nvSpPr>
        <p:spPr>
          <a:xfrm>
            <a:off x="3564000" y="2637000"/>
            <a:ext cx="576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 Box 259"/>
          <p:cNvSpPr/>
          <p:nvPr/>
        </p:nvSpPr>
        <p:spPr>
          <a:xfrm>
            <a:off x="3635280" y="1197000"/>
            <a:ext cx="719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262"/>
          <p:cNvSpPr/>
          <p:nvPr/>
        </p:nvSpPr>
        <p:spPr>
          <a:xfrm>
            <a:off x="1187280" y="170028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и т  к      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Text Box 263"/>
          <p:cNvSpPr/>
          <p:nvPr/>
        </p:nvSpPr>
        <p:spPr>
          <a:xfrm>
            <a:off x="611280" y="3573360"/>
            <a:ext cx="482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264"/>
          <p:cNvSpPr/>
          <p:nvPr/>
        </p:nvSpPr>
        <p:spPr>
          <a:xfrm>
            <a:off x="395280" y="3716280"/>
            <a:ext cx="529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с     р е  к  о  з  а      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 Box 267"/>
          <p:cNvSpPr/>
          <p:nvPr/>
        </p:nvSpPr>
        <p:spPr>
          <a:xfrm>
            <a:off x="4284720" y="4869000"/>
            <a:ext cx="48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Т    х н  и  к  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Text Box 270"/>
          <p:cNvSpPr/>
          <p:nvPr/>
        </p:nvSpPr>
        <p:spPr>
          <a:xfrm>
            <a:off x="2411280" y="595008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У  т  я  т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Text Box 271"/>
          <p:cNvSpPr/>
          <p:nvPr/>
        </p:nvSpPr>
        <p:spPr>
          <a:xfrm>
            <a:off x="1258920" y="692280"/>
            <a:ext cx="57636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животны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Text Box 272"/>
          <p:cNvSpPr/>
          <p:nvPr/>
        </p:nvSpPr>
        <p:spPr>
          <a:xfrm>
            <a:off x="4932360" y="4292640"/>
            <a:ext cx="5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лёш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2:51:51Z</dcterms:created>
  <dc:creator>ONik</dc:creator>
  <dc:description/>
  <dc:language>en-US</dc:language>
  <cp:lastModifiedBy>1</cp:lastModifiedBy>
  <dcterms:modified xsi:type="dcterms:W3CDTF">2014-09-05T08:29:10Z</dcterms:modified>
  <cp:revision>9</cp:revision>
  <dc:subject/>
  <dc:title>Слайд 1</dc:title>
</cp:coreProperties>
</file>