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806-7640-43AB-A4D0-B3957CCD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FCE-B501-47A4-B29C-50D60B0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383-78B9-451D-9C63-FB12B6A7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402-6C13-4E47-9BD0-A9DFF131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A04-0EA2-4059-865B-80CEDF6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FB7-33F2-411B-86BA-76D8D65A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CFB-FCE5-4AD5-8BAA-93DC3D3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B02-B54F-4307-9F76-169A985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4AB-7432-4D08-A275-C768CA87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E16-E4AB-43DF-A430-BE94A564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0E7-134D-4E6B-A6D5-73CC3D11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8DC-82DD-435C-960B-0018F55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F6F4-D99A-453D-887B-47D1A868F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280" y="2707920"/>
            <a:ext cx="6045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РЫЛАТОВ ЕВГЕНИЙ ПАВЛОВИ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23" descr="http://im1-tub-ru.yandex.net/i?id=ba8dfb438e5f74dce6cfc658d684590e-142-144&amp;n=21"/>
          <p:cNvPicPr/>
          <p:nvPr/>
        </p:nvPicPr>
        <p:blipFill>
          <a:blip r:embed="rId1"/>
          <a:stretch/>
        </p:blipFill>
        <p:spPr>
          <a:xfrm>
            <a:off x="324000" y="260280"/>
            <a:ext cx="1665000" cy="2374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17" descr="Крылатов Евгений Павлович"/>
          <p:cNvPicPr/>
          <p:nvPr/>
        </p:nvPicPr>
        <p:blipFill>
          <a:blip r:embed="rId2"/>
          <a:stretch/>
        </p:blipFill>
        <p:spPr>
          <a:xfrm>
            <a:off x="6659640" y="333360"/>
            <a:ext cx="2265120" cy="226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5813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ылатов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лен Союза Композиторов, член Союза Кинематографистов, член Союза Театральных Деятелей, народный артист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39640" y="2707920"/>
            <a:ext cx="4546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логия - Простоквашино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Фото товара Пазлы Простоквашино 160 элементов"/>
          <p:cNvPicPr/>
          <p:nvPr/>
        </p:nvPicPr>
        <p:blipFill>
          <a:blip r:embed="rId1"/>
          <a:stretch/>
        </p:blipFill>
        <p:spPr>
          <a:xfrm>
            <a:off x="468360" y="189000"/>
            <a:ext cx="3330360" cy="245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Ролики из категории &quot;Детские песни&quot; - Мультляндия - видео для детей"/>
          <p:cNvPicPr/>
          <p:nvPr/>
        </p:nvPicPr>
        <p:blipFill>
          <a:blip r:embed="rId2"/>
          <a:stretch/>
        </p:blipFill>
        <p:spPr>
          <a:xfrm>
            <a:off x="539640" y="4165560"/>
            <a:ext cx="3311640" cy="248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к нарисовать скаску простоквашина Сайт о рисовании"/>
          <p:cNvPicPr/>
          <p:nvPr/>
        </p:nvPicPr>
        <p:blipFill>
          <a:blip r:embed="rId3"/>
          <a:stretch/>
        </p:blipFill>
        <p:spPr>
          <a:xfrm>
            <a:off x="5435640" y="4149720"/>
            <a:ext cx="3124080" cy="252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Ролики из категории &quot;Деревня&quot; - Сельский портал"/>
          <p:cNvPicPr/>
          <p:nvPr/>
        </p:nvPicPr>
        <p:blipFill>
          <a:blip r:embed="rId4"/>
          <a:stretch/>
        </p:blipFill>
        <p:spPr>
          <a:xfrm>
            <a:off x="5364000" y="189000"/>
            <a:ext cx="325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2565360"/>
            <a:ext cx="414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«Ум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41" descr="http://im0-tub-ru.yandex.net/i?id=f2dc849ecaa20752c263761961154056-114-144&amp;n=21"/>
          <p:cNvPicPr/>
          <p:nvPr/>
        </p:nvPicPr>
        <p:blipFill>
          <a:blip r:embed="rId1"/>
          <a:stretch/>
        </p:blipFill>
        <p:spPr>
          <a:xfrm>
            <a:off x="611280" y="404640"/>
            <a:ext cx="2160360" cy="21607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52" name="Рисунок 195" descr="http://im3-tub-ru.yandex.net/i?id=6c7bde67bd79040636872f3206e583d6-44-144&amp;n=21"/>
          <p:cNvPicPr/>
          <p:nvPr/>
        </p:nvPicPr>
        <p:blipFill>
          <a:blip r:embed="rId2"/>
          <a:stretch/>
        </p:blipFill>
        <p:spPr>
          <a:xfrm>
            <a:off x="6659640" y="404640"/>
            <a:ext cx="1633320" cy="20894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53" name="Рисунок 192" descr="http://im0-tub-ru.yandex.net/i?id=0222116e144c66bb9d1979a893b37956-18-144&amp;n=21"/>
          <p:cNvPicPr/>
          <p:nvPr/>
        </p:nvPicPr>
        <p:blipFill>
          <a:blip r:embed="rId3"/>
          <a:stretch/>
        </p:blipFill>
        <p:spPr>
          <a:xfrm>
            <a:off x="468360" y="4149720"/>
            <a:ext cx="2736720" cy="20541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54" name="Рисунок 198" descr="http://im3-tub-ru.yandex.net/i?id=df465415f0104dfddd2dd042ff410e6e-112-144&amp;n=21"/>
          <p:cNvPicPr/>
          <p:nvPr/>
        </p:nvPicPr>
        <p:blipFill>
          <a:blip r:embed="rId4"/>
          <a:stretch/>
        </p:blipFill>
        <p:spPr>
          <a:xfrm>
            <a:off x="5724360" y="4164120"/>
            <a:ext cx="2808360" cy="2109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700360" y="2420640"/>
            <a:ext cx="3672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"Гостья из будущего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83" descr="http://im2-tub-ru.yandex.net/i?id=3bd7afffdbe5ad3945ab35ac384c1a96-91-144&amp;n=21"/>
          <p:cNvPicPr/>
          <p:nvPr/>
        </p:nvPicPr>
        <p:blipFill>
          <a:blip r:embed="rId1"/>
          <a:stretch/>
        </p:blipFill>
        <p:spPr>
          <a:xfrm>
            <a:off x="5724360" y="189000"/>
            <a:ext cx="2988000" cy="223020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pic>
        <p:nvPicPr>
          <p:cNvPr id="57" name="Рисунок 189" descr="http://im1-tub-ru.yandex.net/i?id=02f8a6b955253d238337d1abd00d8d6a-02-144&amp;n=21"/>
          <p:cNvPicPr/>
          <p:nvPr/>
        </p:nvPicPr>
        <p:blipFill>
          <a:blip r:embed="rId2"/>
          <a:stretch/>
        </p:blipFill>
        <p:spPr>
          <a:xfrm>
            <a:off x="611280" y="189000"/>
            <a:ext cx="3108240" cy="22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Рисунок 177" descr="http://im1-tub-ru.yandex.net/i?id=461562b21caaae748ee02e103c895870-12-144&amp;n=21"/>
          <p:cNvPicPr/>
          <p:nvPr/>
        </p:nvPicPr>
        <p:blipFill>
          <a:blip r:embed="rId3"/>
          <a:stretch/>
        </p:blipFill>
        <p:spPr>
          <a:xfrm>
            <a:off x="5796000" y="4165560"/>
            <a:ext cx="2879640" cy="226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Рисунок 186" descr="http://im2-tub-ru.yandex.net/i?id=04b4cc5160614d83ae803b13bbda3156-36-144&amp;n=21"/>
          <p:cNvPicPr/>
          <p:nvPr/>
        </p:nvPicPr>
        <p:blipFill>
          <a:blip r:embed="rId4"/>
          <a:stretch/>
        </p:blipFill>
        <p:spPr>
          <a:xfrm>
            <a:off x="611280" y="4149720"/>
            <a:ext cx="3024000" cy="22366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5329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Лесной олень"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сня из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инофильма «Ох, уж эта Нас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56" descr="http://im1-tub-ru.yandex.net/i?id=61eb76df5ac876e1e532d1087205472d-97-144&amp;n=21"/>
          <p:cNvPicPr/>
          <p:nvPr/>
        </p:nvPicPr>
        <p:blipFill>
          <a:blip r:embed="rId1"/>
          <a:stretch/>
        </p:blipFill>
        <p:spPr>
          <a:xfrm>
            <a:off x="6012000" y="1341360"/>
            <a:ext cx="2736720" cy="27370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640" y="2637000"/>
            <a:ext cx="50515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"Приключения Электроника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59" descr="http://im0-tub-ru.yandex.net/i?id=51398b927e54198e827efd7152f23e35-02-144&amp;n=21"/>
          <p:cNvPicPr/>
          <p:nvPr/>
        </p:nvPicPr>
        <p:blipFill>
          <a:blip r:embed="rId1"/>
          <a:stretch/>
        </p:blipFill>
        <p:spPr>
          <a:xfrm>
            <a:off x="2987640" y="4437000"/>
            <a:ext cx="2665440" cy="212904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pic>
        <p:nvPicPr>
          <p:cNvPr id="64" name="Рисунок 162" descr="http://im1-tub-ru.yandex.net/i?id=debea6e8b9ceaa2f021542ffa2928867-03-144&amp;n=21"/>
          <p:cNvPicPr/>
          <p:nvPr/>
        </p:nvPicPr>
        <p:blipFill>
          <a:blip r:embed="rId2"/>
          <a:stretch/>
        </p:blipFill>
        <p:spPr>
          <a:xfrm>
            <a:off x="5219640" y="476280"/>
            <a:ext cx="3079800" cy="208116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pic>
        <p:nvPicPr>
          <p:cNvPr id="65" name="Рисунок 150" descr="http://im1-tub-ru.yandex.net/i?id=518d135238bdac71c19af92dccb4b67f-81-144&amp;n=21"/>
          <p:cNvPicPr/>
          <p:nvPr/>
        </p:nvPicPr>
        <p:blipFill>
          <a:blip r:embed="rId3"/>
          <a:stretch/>
        </p:blipFill>
        <p:spPr>
          <a:xfrm>
            <a:off x="395280" y="476280"/>
            <a:ext cx="3672000" cy="208908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6:38:18Z</dcterms:created>
  <dc:creator>Татьяна</dc:creator>
  <dc:description/>
  <dc:language>en-US</dc:language>
  <cp:lastModifiedBy>Татьяна</cp:lastModifiedBy>
  <dcterms:modified xsi:type="dcterms:W3CDTF">2014-10-19T14:36:36Z</dcterms:modified>
  <cp:revision>5</cp:revision>
  <dc:subject/>
  <dc:title>КРЫЛАТОВ ЕВГЕНИЙ ПАВЛОВИЧ </dc:title>
</cp:coreProperties>
</file>