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096-20D1-402D-8D82-ED15453E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315-AA3E-4860-8B94-9CCA6127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A7B-DF94-4FA2-A958-65E3E848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B1B-CC3B-42F3-B27D-374BD1FB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FD60-C703-427A-A413-C8B71CFD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6E46-EE97-49B0-914D-8F192775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E4E6-AA51-456F-B4F3-6F47DAC7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8338-C390-471B-AF22-5F724FBD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9C8D-FC5B-4B53-9B50-027A417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2073-190C-4205-A230-1EE13F96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EF68-9B28-4CFE-ABEA-AF3417F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E59-833F-4692-B7D5-E3D25E94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B36D-F8F0-4D8A-B79F-17E4D1ED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E3FD-DE76-413E-9922-17C5067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3F32-2F67-4F33-B7CB-A102015F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70C0-FB70-485D-BC55-B00FCDD0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91A3-BC70-4742-BA13-BE02AE9B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9E1-31BC-477F-B14B-812D216A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B79-5539-4B24-8420-69C96773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78E-9C6F-4C46-9DC1-97F57826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43B-7BFD-4A9D-A587-C24F498C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C99-F552-4C6E-A696-7C7E6E1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9A3-E0A1-476E-9031-AAC9009F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E4C-18FA-4033-963A-0FC4E9B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58AF-A2B0-4FA3-B44A-DFADCE3778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E611-26E4-4EB0-8CF4-4845C0188A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Урок математ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56000" y="2492280"/>
            <a:ext cx="6397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5300640"/>
            <a:ext cx="639720" cy="719280"/>
          </a:xfrm>
          <a:prstGeom prst="ellipse">
            <a:avLst/>
          </a:prstGeom>
          <a:solidFill>
            <a:srgbClr val="f29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89720"/>
            <a:ext cx="640080" cy="71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349360"/>
            <a:ext cx="63972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3932280"/>
            <a:ext cx="639720" cy="71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4148280"/>
            <a:ext cx="639720" cy="718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3860640"/>
            <a:ext cx="639720" cy="719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2563920"/>
            <a:ext cx="63972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73360"/>
            <a:ext cx="639720" cy="71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1773360"/>
            <a:ext cx="640080" cy="718920"/>
          </a:xfrm>
          <a:prstGeom prst="ellipse">
            <a:avLst/>
          </a:prstGeom>
          <a:solidFill>
            <a:srgbClr val="f29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37000" y="1773360"/>
            <a:ext cx="639720" cy="71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773360"/>
            <a:ext cx="639720" cy="718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1773360"/>
            <a:ext cx="640080" cy="718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3000" y="1773360"/>
            <a:ext cx="639720" cy="71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45360" y="1773360"/>
            <a:ext cx="639720" cy="71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25000" y="1773360"/>
            <a:ext cx="63972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2133720"/>
            <a:ext cx="50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213372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13372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51640" y="2133720"/>
            <a:ext cx="433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213372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85080" y="2133720"/>
            <a:ext cx="43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5607E-007 L -0.23958 -0.10451 E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4335E-006 L -0.43664 -0.51353 E">
                                      <p:cBhvr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6185E-006 L -0.05851 -0.55561 E">
                                      <p:cBhvr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8.67052E-007 L -0.05868 -0.0837 E">
                                      <p:cBhvr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81503E-006 L -0.16076 -0.34567 E">
                                      <p:cBhvr>
                                        <p:cTn id="4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09827E-006 L 0.20139 -0.31422 E">
                                      <p:cBhvr>
                                        <p:cTn id="5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52601E-006 L 0.57153 -0.30382 E">
                                      <p:cBhvr>
                                        <p:cTn id="6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8.78613E-006 L 0.25191 -0.11514 E">
                                      <p:cBhvr>
                                        <p:cTn id="7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620640"/>
            <a:ext cx="3024000" cy="201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270080"/>
            <a:ext cx="23763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917720"/>
            <a:ext cx="16574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119844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3440" y="119844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1052640"/>
            <a:ext cx="2376360" cy="433440"/>
          </a:xfrm>
          <a:prstGeom prst="blockArc">
            <a:avLst>
              <a:gd name="adj1" fmla="val 11013395"/>
              <a:gd name="adj2" fmla="val 21386605"/>
              <a:gd name="adj3" fmla="val 0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2773080" y="1054080"/>
            <a:ext cx="718920" cy="432000"/>
          </a:xfrm>
          <a:prstGeom prst="blockArc">
            <a:avLst>
              <a:gd name="adj1" fmla="val 11013395"/>
              <a:gd name="adj2" fmla="val 21386605"/>
              <a:gd name="adj3" fmla="val 0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1116000" y="1701720"/>
            <a:ext cx="1657440" cy="432000"/>
          </a:xfrm>
          <a:prstGeom prst="blockArc">
            <a:avLst>
              <a:gd name="adj1" fmla="val 11013395"/>
              <a:gd name="adj2" fmla="val 21386605"/>
              <a:gd name="adj3" fmla="val 0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119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7080" y="1011240"/>
            <a:ext cx="28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65888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62064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141300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06064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620640"/>
            <a:ext cx="3024000" cy="201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270080"/>
            <a:ext cx="2376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917720"/>
            <a:ext cx="16574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119844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119844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052640"/>
            <a:ext cx="2376720" cy="433440"/>
          </a:xfrm>
          <a:prstGeom prst="blockArc">
            <a:avLst>
              <a:gd name="adj1" fmla="val 11013395"/>
              <a:gd name="adj2" fmla="val 21386605"/>
              <a:gd name="adj3" fmla="val 0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7524720" y="1054080"/>
            <a:ext cx="719280" cy="432000"/>
          </a:xfrm>
          <a:prstGeom prst="blockArc">
            <a:avLst>
              <a:gd name="adj1" fmla="val 11013395"/>
              <a:gd name="adj2" fmla="val 21386605"/>
              <a:gd name="adj3" fmla="val 0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5867280" y="1701720"/>
            <a:ext cx="1657440" cy="432000"/>
          </a:xfrm>
          <a:prstGeom prst="blockArc">
            <a:avLst>
              <a:gd name="adj1" fmla="val 11013395"/>
              <a:gd name="adj2" fmla="val 21386605"/>
              <a:gd name="adj3" fmla="val 0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44000" y="119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1011240"/>
            <a:ext cx="28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35640" y="165888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75640" y="62064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38920" y="141300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16720" y="206064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3716280"/>
            <a:ext cx="3024360" cy="201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4365720"/>
            <a:ext cx="23763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5013360"/>
            <a:ext cx="16570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429408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429408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4148280"/>
            <a:ext cx="2376360" cy="433080"/>
          </a:xfrm>
          <a:prstGeom prst="blockArc">
            <a:avLst>
              <a:gd name="adj1" fmla="val 11013395"/>
              <a:gd name="adj2" fmla="val 21386605"/>
              <a:gd name="adj3" fmla="val 0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5076720" y="4149360"/>
            <a:ext cx="719280" cy="431640"/>
          </a:xfrm>
          <a:prstGeom prst="blockArc">
            <a:avLst>
              <a:gd name="adj1" fmla="val 11013395"/>
              <a:gd name="adj2" fmla="val 21386605"/>
              <a:gd name="adj3" fmla="val 0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3419280" y="4797360"/>
            <a:ext cx="1657080" cy="432000"/>
          </a:xfrm>
          <a:prstGeom prst="blockArc">
            <a:avLst>
              <a:gd name="adj1" fmla="val 11013395"/>
              <a:gd name="adj2" fmla="val 21386605"/>
              <a:gd name="adj3" fmla="val 0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6000" y="429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0720" y="4106880"/>
            <a:ext cx="28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475452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371628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91280" y="450864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8720" y="515628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3080" y="2781360"/>
            <a:ext cx="244800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9 – 3 = 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22920" y="2781360"/>
            <a:ext cx="244800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6 + 3 = 9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5875200"/>
            <a:ext cx="244800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9 – 6 = 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1d1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1d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8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9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1d1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1d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0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0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9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1d1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1d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4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0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1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1d1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1d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41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42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468360" y="1268280"/>
            <a:ext cx="3745080" cy="3745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3745080" cy="3745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56360" y="1268280"/>
            <a:ext cx="3744720" cy="374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1280" y="765000"/>
            <a:ext cx="433440" cy="505080"/>
          </a:xfrm>
          <a:prstGeom prst="rect">
            <a:avLst/>
          </a:prstGeom>
          <a:solidFill>
            <a:srgbClr val="ed1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765000"/>
            <a:ext cx="43344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765000"/>
            <a:ext cx="433440" cy="505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765000"/>
            <a:ext cx="433440" cy="505080"/>
          </a:xfrm>
          <a:prstGeom prst="rect">
            <a:avLst/>
          </a:prstGeom>
          <a:solidFill>
            <a:srgbClr val="ed1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765000"/>
            <a:ext cx="43344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765000"/>
            <a:ext cx="433440" cy="505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6000" y="765000"/>
            <a:ext cx="433080" cy="505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12000" y="765000"/>
            <a:ext cx="4334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8360" y="765000"/>
            <a:ext cx="43344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177336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227664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2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2852640"/>
            <a:ext cx="720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+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99736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6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350208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8-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400536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2-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400536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5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1480" y="177336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1+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0360" y="2492280"/>
            <a:ext cx="720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9-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306864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+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328464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4+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16360" y="3860640"/>
            <a:ext cx="720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8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62200" y="400536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7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66200" y="177336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5+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3280" y="227664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8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26560" y="2852640"/>
            <a:ext cx="720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+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278136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4+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54920" y="342900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2+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15280" y="400536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9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2720" y="4221000"/>
            <a:ext cx="720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8+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1773360"/>
            <a:ext cx="72072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2276640"/>
            <a:ext cx="720720" cy="431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2+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2852640"/>
            <a:ext cx="720720" cy="432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+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997360"/>
            <a:ext cx="720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6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502080"/>
            <a:ext cx="72072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8-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2360" y="4005360"/>
            <a:ext cx="720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2-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4005360"/>
            <a:ext cx="72072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5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81480" y="1773360"/>
            <a:ext cx="72072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1+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492280"/>
            <a:ext cx="72072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9-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16360" y="3068640"/>
            <a:ext cx="720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+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3284640"/>
            <a:ext cx="720720" cy="431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4+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16360" y="3860640"/>
            <a:ext cx="7207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7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62200" y="4005360"/>
            <a:ext cx="720720" cy="431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8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3716280"/>
            <a:ext cx="720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+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77080" y="3284640"/>
            <a:ext cx="720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1+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66200" y="1773360"/>
            <a:ext cx="72072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5+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3280" y="2276640"/>
            <a:ext cx="720720" cy="431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8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026560" y="2852640"/>
            <a:ext cx="720720" cy="432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+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6000" y="2781360"/>
            <a:ext cx="72072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4+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54920" y="3429000"/>
            <a:ext cx="720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2+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15280" y="4005360"/>
            <a:ext cx="72072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9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4221000"/>
            <a:ext cx="7207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8+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716280"/>
            <a:ext cx="7207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+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77080" y="3284640"/>
            <a:ext cx="720720" cy="431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1+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1d1d"/>
                </a:solidFill>
                <a:latin typeface="Arial"/>
              </a:rPr>
              <a:t>М</a:t>
            </a:r>
            <a:r>
              <a:rPr b="1" i="1" lang="en-US" sz="6000" spc="-1" strike="noStrike">
                <a:solidFill>
                  <a:srgbClr val="ff00ff"/>
                </a:solidFill>
                <a:latin typeface="Arial"/>
              </a:rPr>
              <a:t>О</a:t>
            </a: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Л</a:t>
            </a:r>
            <a:r>
              <a:rPr b="1" i="1" lang="en-US" sz="6000" spc="-1" strike="noStrike">
                <a:solidFill>
                  <a:srgbClr val="6767ff"/>
                </a:solidFill>
                <a:latin typeface="Arial"/>
              </a:rPr>
              <a:t>О</a:t>
            </a:r>
            <a:r>
              <a:rPr b="1" i="1" lang="en-US" sz="6000" spc="-1" strike="noStrike">
                <a:solidFill>
                  <a:srgbClr val="ed1d1d"/>
                </a:solidFill>
                <a:latin typeface="Arial"/>
              </a:rPr>
              <a:t>Д</a:t>
            </a:r>
            <a:r>
              <a:rPr b="1" i="1" lang="en-US" sz="6000" spc="-1" strike="noStrike">
                <a:solidFill>
                  <a:srgbClr val="66ff33"/>
                </a:solidFill>
                <a:latin typeface="Arial"/>
              </a:rPr>
              <a:t>Ц</a:t>
            </a:r>
            <a:r>
              <a:rPr b="1" i="1" lang="en-US" sz="6000" spc="-1" strike="noStrike">
                <a:solidFill>
                  <a:srgbClr val="9933ff"/>
                </a:solidFill>
                <a:latin typeface="Arial"/>
              </a:rPr>
              <a:t>Ы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ed1d1d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40:07Z</dcterms:created>
  <dc:creator>Дима</dc:creator>
  <dc:description/>
  <dc:language>en-US</dc:language>
  <cp:lastModifiedBy>1</cp:lastModifiedBy>
  <dcterms:modified xsi:type="dcterms:W3CDTF">2009-02-11T09:17:42Z</dcterms:modified>
  <cp:revision>4</cp:revision>
  <dc:subject/>
  <dc:title>Слайд 1</dc:title>
</cp:coreProperties>
</file>