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E39-2540-4DD5-A929-280593BF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311-9546-41DA-8D1B-FF86943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A27-EBEE-4ADB-8564-82771C2E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AF0-2628-49E5-9F8B-E3BADE01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396-6235-4852-8F62-3D3184B4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1E0-01E3-45F7-9B78-31373B01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C32-EDF2-4D5E-AB5F-3CC7589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A9F-5146-466F-932A-1A50A70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D4E-BA8C-4EBC-9718-1354985D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76F-3BCF-46C8-8950-4E0F479A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28F-7D74-48DB-844D-4276F74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AD2-0A15-4CEF-A5E5-284EA4A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080-86FE-4241-8D9D-A45872E6E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ическая разработка по чтению для учеников 3 класс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ЛЕВ НИКОЛАЕВИЧ ТОЛСТОЙ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ла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Крючкова Надежд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95280" y="43657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енью 1856 году вышел в отставку («Военная карьера – не моя…», – пишет он в дневнике) и возвращается в Ясную Поляну. Он изучает педагогику и в 1859 г. Открывает в Ясной Поляне школу для крестьянских детей, затем помогает открыть ещё более 20 школ в окрестных деревн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67200" cy="38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яснополянской школе дети сидели, кто где хотел, кто сколько хотел и кто как хотел. Определённой программы преподавания не было. Единственная задача учителя заключалась в том, чтобы заинтересовать класс. Занятия шли успешно. Их вёл сам Толстой при помощи нескольких постоянных учителей. Он же сам пишет «Азбуку» для обучения детей чт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308320" cy="338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42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348000" y="3844800"/>
            <a:ext cx="57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62 году жизнь Толстого, его быт упорядочиваются на долгие годы: он женится на дочери московского врача Софье Андреевне Берс и ведет патриархальную жизнь в своем имении как глава все увеличивающейся семьи. Толстые воспитали девятер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3114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1120" cy="372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1332000" y="189000"/>
            <a:ext cx="4678200" cy="289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780000" y="270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ругу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516720" y="2602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внучкой Т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79280" y="6165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 Софьей Андреевно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32240" cy="3024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24000" y="5373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925880" cy="3311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0" y="4575240"/>
            <a:ext cx="93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вскоре, Лев Николаевич утратил всякий интерес к жизни, ему надоело наслаждаться достигнутым благосостоянием. Он старается быть ближе к народу: занимается физическим трудом, пашет, шьет сапоги, переходит на вегетарианскую пищу. Он  отдаёт семье всё своё состояние, отказывается от прав литератур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213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79280" y="479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(23) ноября 1910 года был похоронен в Ясной Поляне, на краю оврага в лесу, где в детстве он вместе с братом искал «зелёную палочку», хранившую секрет, как сделать всех людей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333360"/>
            <a:ext cx="63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узей в Ясной поляне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5958000" cy="4464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узей основан в 1921г .                                                Привычный Толстому облик усадьбы, во многом сохранился до наш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140360" y="6237360"/>
            <a:ext cx="5003640" cy="620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ната под сводами, где были созд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главы «Войны и м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50920" y="3213000"/>
            <a:ext cx="3889440" cy="54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й стол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932360" y="620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м доме Л.Толстой  прожил более 50 лет и написал большинство свои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2303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7"/>
          <p:cNvGrpSpPr/>
          <p:nvPr/>
        </p:nvGrpSpPr>
        <p:grpSpPr>
          <a:xfrm>
            <a:off x="0" y="0"/>
            <a:ext cx="5003640" cy="3316320"/>
            <a:chOff x="0" y="0"/>
            <a:chExt cx="5003640" cy="331632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5"/>
            <p:cNvSpPr/>
            <p:nvPr/>
          </p:nvSpPr>
          <p:spPr>
            <a:xfrm>
              <a:off x="179280" y="2924280"/>
              <a:ext cx="4681800" cy="36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ната С.А. Толсто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0" y="3422520"/>
            <a:ext cx="5003640" cy="3435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971640" y="6524640"/>
            <a:ext cx="266364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8000" y="4365720"/>
            <a:ext cx="435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ая скамья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4572000" y="404172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067280" y="18900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олстой Лев Николаевич (1828 – 1910), прозаик, драматург, публицист. Родился 9 сентября (по старому стилю 28 августа) в имении Ясная Поляна Тульской губернии. По происхождению принадлежал к древнейшим аристократическим фамилиям России. Получил домашнее образование и 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327640" cy="3808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156360" y="40464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с брат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920" y="4653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ыл четвёртым ребёнком в семье; у него было три старших брата: Николай (1823—1860), Сергей (1826—1904) и Дмитрий (1827—1856). В 1830 году родилась сестра Мария . Его мать умерла с рождением последней дочери, когда ему не было ещё 2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111640" cy="347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79280" y="364500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спитанием осиротевших детей занялась дальняя родственница Т. Ергольская. В 1837 году семья переехала в Москву, поселившись на Плющихе, потому что старшему сыну надо было готовиться к поступлению в университет. Но вскоре внезапно умер отец, и трое младших детей снова поселились в Ясной Поляне под наблюдением Ергольской и тётки по отцу графини А.М. Остен-Сак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732720" y="476280"/>
            <a:ext cx="208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4797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начальное образование он получил дома, как принято было тогда в дворянских семьях. Затем Лев Николаевич переехал в Казань вместе с братьями и сестрой.  Живя в Казани Толстой 2,5 года готовился к поступлению в университет, в 17 лет он поступает туд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64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4940280"/>
            <a:ext cx="849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ев Николаевич уже в то время знал 16 языков, много читал и изучал философию, но, несмотря на это, в 19 лет он покидает университет и уезжает в Ясную Поляну - имение, доставшееся ему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9280" y="501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десь в Ясной Поляне Толстой пытается найти применение своим силам, берется за изучение многих наук, серьезно занимается музы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44840" cy="45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11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51 году поступил на военную службу на Кавказе. В 1854 году Толстой участвовал в обороне Севастополя. Награждается орденом св. Анны с надписью «За храбрость» и медалями «За защиту Севастополя». В «Севастопольских рассказах» нарисует беспощадно достоверную картину войны, что произведет огромное впечатление на русское общ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82888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2938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4581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 же время всерьез начинает заниматься литературным творчеством, пишет повесть «Детство», которая получает одобрение Некрасова и печатается в журнале «Современник». Позже там будут напечатаны повести «Отрочество» и «Ю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 rot="20944800">
            <a:off x="395280" y="549000"/>
            <a:ext cx="2333520" cy="36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 rot="772800">
            <a:off x="6372360" y="549000"/>
            <a:ext cx="2288880" cy="36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3276720" y="476280"/>
            <a:ext cx="2474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1:15Z</dcterms:created>
  <dc:creator>ALLA</dc:creator>
  <dc:description/>
  <dc:language>en-US</dc:language>
  <cp:lastModifiedBy>1</cp:lastModifiedBy>
  <dcterms:modified xsi:type="dcterms:W3CDTF">2014-10-26T18:00:58Z</dcterms:modified>
  <cp:revision>26</cp:revision>
  <dc:subject/>
  <dc:title>Слайд 1</dc:title>
</cp:coreProperties>
</file>