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6858000" cy="9144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2014560" y="747720"/>
            <a:ext cx="280656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DDD0-EC73-44AC-AE33-7D3FA82C77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70BF-E163-4F83-B3E2-7B8AA6B534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014560" y="747720"/>
            <a:ext cx="2806560" cy="3743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D01F-A54B-4D52-8D46-11DDB031A8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014560" y="747720"/>
            <a:ext cx="2806560" cy="3743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8263-E2E2-486A-A1D8-292C29CC20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014560" y="747720"/>
            <a:ext cx="2806560" cy="3743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1D8A-75A5-4E2B-906C-7D6562413C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014560" y="747720"/>
            <a:ext cx="2806560" cy="3743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5031-0286-4AC2-B311-21F918F676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014560" y="747720"/>
            <a:ext cx="2806560" cy="3743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03AD-C5D1-45F0-A331-70BDCB4E9E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014560" y="747720"/>
            <a:ext cx="2806560" cy="3743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A8C6-7B2D-45DA-9C9A-0ED0BFB2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7B83-E716-413D-B088-50D24B75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E53D-C031-435D-949B-D4B4E01E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6299-F3C3-48F4-B9F1-A86467DA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1637-E696-49B8-8D5A-30FE980A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3FB-889C-4D37-8BC7-A78AD2C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5C47-F75E-4442-9C09-E273BF5F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30B3-E9D9-438B-A31C-B5EAD161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E623-3BEB-4C58-AA2F-1BC320B1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FE5F-5A4E-49D4-AA73-64C63CF0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BB78-D0BE-45A2-A8E6-89BCC32F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3931-B54F-434D-8C89-4E0E767E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7861-F629-4A7C-B44D-15789C66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231C-F440-4EAE-8D8A-C6E8427D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CFF1-63A6-4BEC-AFB8-86190A97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830F-C54D-43EF-8F0B-45607436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8D8B-EBA3-4A72-8360-25B450D5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D858-A123-4124-A9D9-8B6E6275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3DCC-B309-47F6-9DCF-674B7A3E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3272-B81F-499C-BD92-CEEC9715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1DBA-5B62-4BC6-9DAD-CB514076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ECE6-1719-42E8-8814-DA9205E2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CA19-A8D9-43D7-920D-898AA11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ECBC-BF02-4564-8382-5A7A38B2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1" name="Rectangle 3"/>
            <p:cNvSpPr/>
            <p:nvPr/>
          </p:nvSpPr>
          <p:spPr>
            <a:xfrm>
              <a:off x="622872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54292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48568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5199840" y="0"/>
              <a:ext cx="2858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080" y="8201880"/>
              <a:ext cx="685764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824F-51B2-48FE-B5B9-98D40618C30B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64" name="Rectangle 3"/>
            <p:cNvSpPr/>
            <p:nvPr/>
          </p:nvSpPr>
          <p:spPr>
            <a:xfrm>
              <a:off x="622872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554292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548568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5199840" y="0"/>
              <a:ext cx="2858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080" y="8201880"/>
              <a:ext cx="685764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7AEB-FDE6-432E-BA01-CFEB32DA9383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89000" y="250920"/>
            <a:ext cx="6265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Моя семь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и: Содействовать формированию представлений о семейной жизни, осознанию воспитанниками ценности семьи и развитию бережного отношения к своей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Способствовать развитию рефлек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лжение формирования и сплочения семьи, закрепление коммуникативных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дготовила: Елизарова Надежда Борис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347760"/>
            <a:ext cx="6172200" cy="15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2280" y="1883880"/>
            <a:ext cx="6102360" cy="60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к уже было, сказано, занятия проводимые воспитателями, на которых дети получали теоретические знания, у них также формировались и практические навыки. И самое главное – создавалась и создается атмосфера семьи, семейной жизни, весь стиль которой приближен к естественной семье. Дети живут, думают, учатся, работают в семье, они волей – неволей принимают семейные устои, традиции, испытывают реальные чувства заботы, защищенности, внимания, вместе радуются, переживают и переносят неприятности. Успех во многом зависит от четко поставленных целей, разработанного содержания и технологий его реализаций, а также от усилий моих коллег, которые с желанием работают в нашей сем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42720" y="250560"/>
            <a:ext cx="6172200" cy="792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емья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это то, что мы делим на все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м понемножку: и слез и смех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лет падение, радость, печаль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ружбу и ссоры, молчанья печать.                                    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Семь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это то, что с тобою всег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усть мчатся секунды, недели, 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далеко твой родной отчий дом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рдце навеки останется в нем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ль семьи в жизни человека очень велика. И  педагоги,  психологи, и социологи утверждают, что именно семья стоит у истоков формирование личности. «Именно в ней дети просто и естественно приобщаются к жизни, учатся чувствовать, думать, переживать».(А.М. Прихожан и Н.Н. Толстых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еобходимо растить будущих отцов и матерей, мужчин и женщин, - заключает  В. А. Сухомлинский, утвердивший в своей школе культ матери, - потому что они – то и становятся подлинными гражданами, тружениками, гордостью и нравственной опорой нац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ети, лишенные воспитательного воздействия кровной семьи, оказывается неспособными создать свою семью, воспитать своих детей, которые затем повторяют их судьбу и пополняют детские до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ходя из вышеуказанного, в результате многолетних поисков и была разработана программа «Воспитание семьянина в условиях детского дома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8280" y="634680"/>
            <a:ext cx="6156360" cy="80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этом году и мы стали работать по этой программ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ли и задачи для всех одинаковы , но каждый воспитатель вносит, что-то  свое,  адаптируя к личностным особенностям своих де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годня расскажу, какую  работу я провела по первому блоку: «Семья и ее функци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дачи ставились следующ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 u="sng">
                <a:solidFill>
                  <a:srgbClr val="00cc00"/>
                </a:solidFill>
                <a:uFillTx/>
                <a:latin typeface="Times New Roman"/>
              </a:rPr>
              <a:t>Расширять знания, формировать у детей представление о семье, ее функциях и значении в жизни каждого  человека. « Что такое семья?, Функции семьи. Любовь и брак»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, кто работал с первого дня внедрения программы, помнят, что начинали практически с нуля: не было ни методической, ни специальной, ни художественной литературы по семейному воспитанию, поэтому на первоначальном этапе было трудно. И каждый опирался на свой опыт работы, находили материалы в библиотек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одились беседы, дискуссии, прогулки, детьми выполнялись рисунки своей семьи, которые помогли мне больше узнать о н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стояние относительно других характеристик. Дети активно участвовали, предлагаемые ситуации показали, что на данном этапе дети понимает смысл: семья, взаимопомощь в семье, значении детей в сем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емью влились новые дети, коллектив на данном этапе сплоченный. Дети старались и завершили обучение с хорошей успеваемостью. Сто процентное посещение кружки и секции. Дети любят заниматься спортом, творчеством, конструирование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динственное затруднение вызвал Султанов Дани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42720" y="539280"/>
            <a:ext cx="6172200" cy="763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лтанов Даниил не имеет желания к учебе, систематически пропускал занятия, хотя на семейном совете приняли решение закончить четверть с наименьшим количеством троек. С Даниилом проведена дополнительная работа. Ребенок стал посещать занят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005_2"/>
          <p:cNvPicPr/>
          <p:nvPr/>
        </p:nvPicPr>
        <p:blipFill>
          <a:blip r:embed="rId1"/>
          <a:stretch/>
        </p:blipFill>
        <p:spPr>
          <a:xfrm>
            <a:off x="1376280" y="4140360"/>
            <a:ext cx="3997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ото семь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10" descr="IMG0062A"/>
          <p:cNvPicPr/>
          <p:nvPr/>
        </p:nvPicPr>
        <p:blipFill>
          <a:blip r:embed="rId1"/>
          <a:stretch/>
        </p:blipFill>
        <p:spPr>
          <a:xfrm rot="20886600">
            <a:off x="411120" y="2841120"/>
            <a:ext cx="1459080" cy="172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IMG0063A"/>
          <p:cNvPicPr/>
          <p:nvPr/>
        </p:nvPicPr>
        <p:blipFill>
          <a:blip r:embed="rId2"/>
          <a:stretch/>
        </p:blipFill>
        <p:spPr>
          <a:xfrm>
            <a:off x="2060640" y="2771640"/>
            <a:ext cx="140472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IMG0064A"/>
          <p:cNvPicPr/>
          <p:nvPr/>
        </p:nvPicPr>
        <p:blipFill>
          <a:blip r:embed="rId3"/>
          <a:stretch/>
        </p:blipFill>
        <p:spPr>
          <a:xfrm>
            <a:off x="3573360" y="2843280"/>
            <a:ext cx="1405080" cy="151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MG0067A"/>
          <p:cNvPicPr/>
          <p:nvPr/>
        </p:nvPicPr>
        <p:blipFill>
          <a:blip r:embed="rId4"/>
          <a:stretch/>
        </p:blipFill>
        <p:spPr>
          <a:xfrm rot="1000200">
            <a:off x="5217840" y="2985840"/>
            <a:ext cx="1403280" cy="1631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IMG0068A"/>
          <p:cNvPicPr/>
          <p:nvPr/>
        </p:nvPicPr>
        <p:blipFill>
          <a:blip r:embed="rId5"/>
          <a:stretch/>
        </p:blipFill>
        <p:spPr>
          <a:xfrm>
            <a:off x="2025720" y="637236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IMG0069A"/>
          <p:cNvPicPr/>
          <p:nvPr/>
        </p:nvPicPr>
        <p:blipFill>
          <a:blip r:embed="rId6"/>
          <a:stretch/>
        </p:blipFill>
        <p:spPr>
          <a:xfrm>
            <a:off x="3573360" y="6372360"/>
            <a:ext cx="1403280" cy="15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IMG0070A"/>
          <p:cNvPicPr/>
          <p:nvPr/>
        </p:nvPicPr>
        <p:blipFill>
          <a:blip r:embed="rId7"/>
          <a:stretch/>
        </p:blipFill>
        <p:spPr>
          <a:xfrm rot="1342200">
            <a:off x="260280" y="6012000"/>
            <a:ext cx="1513080" cy="170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IMG0072A"/>
          <p:cNvPicPr/>
          <p:nvPr/>
        </p:nvPicPr>
        <p:blipFill>
          <a:blip r:embed="rId8"/>
          <a:stretch/>
        </p:blipFill>
        <p:spPr>
          <a:xfrm rot="20450400">
            <a:off x="5250960" y="6151320"/>
            <a:ext cx="1403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42640" y="731520"/>
            <a:ext cx="61722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улка, сплочение семь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кая работа: «Моя семья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3860640" y="1908000"/>
            <a:ext cx="2430720" cy="25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620640" y="5076720"/>
            <a:ext cx="2430360" cy="280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3"/>
          <a:stretch/>
        </p:blipFill>
        <p:spPr>
          <a:xfrm>
            <a:off x="3914640" y="5219640"/>
            <a:ext cx="2430720" cy="273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4"/>
          <a:stretch/>
        </p:blipFill>
        <p:spPr>
          <a:xfrm>
            <a:off x="620640" y="1979640"/>
            <a:ext cx="243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42720" y="539280"/>
            <a:ext cx="6172200" cy="763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ружающий мир (комнатные цвет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акое дружба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ое занят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и нашли между собой общий  язык, у них сформировались навыки семейной дипломатии.  Научились воспитанники вырабатывать собственную тактику принятия конкретных решений в различных ситуа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DSC00045"/>
          <p:cNvPicPr/>
          <p:nvPr/>
        </p:nvPicPr>
        <p:blipFill>
          <a:blip r:embed="rId1"/>
          <a:stretch/>
        </p:blipFill>
        <p:spPr>
          <a:xfrm>
            <a:off x="3500280" y="2195640"/>
            <a:ext cx="238788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DSC00046"/>
          <p:cNvPicPr/>
          <p:nvPr/>
        </p:nvPicPr>
        <p:blipFill>
          <a:blip r:embed="rId2"/>
          <a:stretch/>
        </p:blipFill>
        <p:spPr>
          <a:xfrm>
            <a:off x="620640" y="2195640"/>
            <a:ext cx="237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чество знаний воспитанников семьи №3 за 2013 – 2014 уч. год.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1 четверть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7" name="Object 7"/>
          <p:cNvGraphicFramePr/>
          <p:nvPr/>
        </p:nvGraphicFramePr>
        <p:xfrm>
          <a:off x="620640" y="2076480"/>
          <a:ext cx="5616720" cy="60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2076480"/>
                    <a:ext cx="5616720" cy="60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9920" y="2195280"/>
            <a:ext cx="61722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улка в са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пределение обязанностей в семь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Что такое семь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ворческая работа «Рисунок семь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актическая работа: «Стирка белья» 2ч., «Совместный труд по созданию уюта в дом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Вредные привычки (кроссворды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Под крышей дома свое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Зачем люди создают семью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Значение вещей в жизни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Прояви внимание к пожилым людя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 :Вся семья вместе, так душа на мес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Я и моя семь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Кто есть кто в семь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Пища, ее значение для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: Витамины и их роль в сохранение здоровья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а и творческая работа:  Найди друга (комнатные цветы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россворды по ЗОЖ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гра «Слабое звено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икторина «5 секунд на размышлени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782640" y="539640"/>
            <a:ext cx="513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еды проведенные по первому бло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6:04:48Z</dcterms:created>
  <dc:creator>Admin</dc:creator>
  <dc:description/>
  <dc:language>en-US</dc:language>
  <cp:lastModifiedBy>Admin</cp:lastModifiedBy>
  <dcterms:modified xsi:type="dcterms:W3CDTF">2014-10-26T18:10:14Z</dcterms:modified>
  <cp:revision>24</cp:revision>
  <dc:subject/>
  <dc:title>Доклад о ходе рабо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