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F35-6B6A-494D-98DF-E65696E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F07-EFFF-48BC-BFEB-886CEDE3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85D-9158-4173-8EA8-2046D139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E23-69A4-4695-92C4-512A22F2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C73-6C48-4F3D-A4CF-D166E3A3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B4C-3354-4F72-8CDF-E64D86F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413-93D8-467A-8CDE-858A421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1B8-3E17-4120-AAD7-2B276DD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F78-C170-4C8A-919E-661B28E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16F-C3A5-4BC7-A727-955545E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1B5-DBE4-4336-9673-6C1A24C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CAE-34C1-435C-8955-AB9C355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09B-4D18-4AD8-A92A-5F05FC758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тепановой Евы Ованес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БДОУ детский сад общеразвивающего вида №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haveirr"/>
          <p:cNvPicPr/>
          <p:nvPr/>
        </p:nvPicPr>
        <p:blipFill>
          <a:blip r:embed="rId1"/>
          <a:stretch/>
        </p:blipFill>
        <p:spPr>
          <a:xfrm>
            <a:off x="0" y="0"/>
            <a:ext cx="961920" cy="2019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ПОРТФОЛИ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800600" y="1264320"/>
            <a:ext cx="4114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Степанова Ева Ованесов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1.11.1974 года рождения.                                     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Имею высшее образование по специальности:                                                               психолог-педагог.                                              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            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Работаю воспитателем в старшей группе МБДОУ детский сад общеразвивающего вида № 21 п. Октябрьский, Туапсинского района, Краснодарского края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Стаж педагогической работы - 3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Стаж работы в должности воспитателя - 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5" descr="image.jpg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кументы об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P_20141026_1001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МОЙ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тся у тех, кого люб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DSCN8324ь.jpg"/>
          <p:cNvPicPr/>
          <p:nvPr/>
        </p:nvPicPr>
        <p:blipFill>
          <a:blip r:embed="rId1"/>
          <a:stretch/>
        </p:blipFill>
        <p:spPr>
          <a:xfrm>
            <a:off x="762120" y="299880"/>
            <a:ext cx="76197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20140520_114548_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урс чт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7" descr="IMG_20140618_093746.jpg"/>
          <p:cNvPicPr/>
          <p:nvPr/>
        </p:nvPicPr>
        <p:blipFill>
          <a:blip r:embed="rId1"/>
          <a:stretch/>
        </p:blipFill>
        <p:spPr>
          <a:xfrm>
            <a:off x="228600" y="685800"/>
            <a:ext cx="3394080" cy="4449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IMG_20140725_092223.jpg"/>
          <p:cNvPicPr/>
          <p:nvPr/>
        </p:nvPicPr>
        <p:blipFill>
          <a:blip r:embed="rId2"/>
          <a:stretch/>
        </p:blipFill>
        <p:spPr>
          <a:xfrm>
            <a:off x="4572000" y="685800"/>
            <a:ext cx="3828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а</cp:lastModifiedBy>
  <dcterms:modified xsi:type="dcterms:W3CDTF">2014-10-26T08:03:18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