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EE7-E0DC-4070-A27D-F989F48B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BD7-B2C5-45AD-A1DF-ED463A7E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66F-5634-42E0-9CBE-51BB36FB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881-A532-4A64-A942-9CDB04EA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8AF6-12A0-4F1E-9ED0-1AD3AC84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EA53-95C4-474F-B245-437DD13C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3630-4BB5-4020-830D-4A8213F5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5CC0-50D4-4627-ABC3-8C377E90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B2BF-CA05-4CC0-9E7B-10C69E9E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2C1D-5A76-4E08-A338-6CCC31F2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08AE-573A-43D8-BC6B-456996B0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41D-DFB3-4200-A2E5-5A8A6BB7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BE3A-1148-45B6-90BA-3812B786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10FC-1719-47EC-A87B-22DACE55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D0E2-9F19-4EBA-9F2D-BB724214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639B-2675-4D4A-AEEA-12C3F7C6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6B43-3320-4D10-BAE9-259EA147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F9C-79A9-4B42-9051-94B61C14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101-8BA1-4A70-9700-0328AC42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5BD-4477-4ED6-B67C-967275C5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1D0-28AD-4C08-A285-3E311E64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DC1-C122-49CA-BFB3-A94F21AB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40F-387F-433B-B51F-A1D8C6C4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E14-D6A9-4C86-AE66-D608B6F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F3FC-A38B-4DBA-9613-CA5DB2380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1D4A-37D3-482F-B818-187E8EB38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авила поведения в школ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5229360"/>
            <a:ext cx="40384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ходи в школу чистым и причёсан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2920" y="5445000"/>
            <a:ext cx="40388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ладывай вещи в портфель аккурат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029040" cy="396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50676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3789000"/>
            <a:ext cx="40384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опаздывай на уроки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491920"/>
            <a:ext cx="403848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входе в школу вытирайте ног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437000" cy="3216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41068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" y="345960"/>
            <a:ext cx="40384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здоровайся сначала с учителем, потом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84360" cy="322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88000" y="4005360"/>
            <a:ext cx="403848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сли опоздал, спроси разрешения вой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42498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2520" y="402840"/>
            <a:ext cx="40384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сли в класс вошёл взрослый, нужно дружно вст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238640" cy="2368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8000" y="1916280"/>
            <a:ext cx="40384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ними руку, если хочешь о чём-то спрос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35640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переменах нельзя бегать и кричаить. Лучше поигр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4365360"/>
            <a:ext cx="40384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льзя рисовать на партах и портить их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4303440" cy="3165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95928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БЕРЕГИ ШКОЛУ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16000" y="3789360"/>
            <a:ext cx="381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мусори 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865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19:41:09Z</dcterms:created>
  <dc:creator>Света</dc:creator>
  <dc:description/>
  <dc:language>en-US</dc:language>
  <cp:lastModifiedBy>Света</cp:lastModifiedBy>
  <dcterms:modified xsi:type="dcterms:W3CDTF">2014-10-07T20:14:55Z</dcterms:modified>
  <cp:revision>2</cp:revision>
  <dc:subject/>
  <dc:title>Правила поведения в школе</dc:title>
</cp:coreProperties>
</file>