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jpeg" ContentType="image/jpeg"/>
  <Override PartName="/ppt/media/image11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9.png" ContentType="image/png"/>
  <Override PartName="/ppt/media/image4.jpeg" ContentType="image/jpeg"/>
  <Override PartName="/ppt/media/image25.png" ContentType="image/png"/>
  <Override PartName="/ppt/media/image27.jpeg" ContentType="image/jpeg"/>
  <Override PartName="/ppt/media/image17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3CF6AFD-C011-4848-A4BE-5D7A3AA0C970}" type="doc">
      <dgm:prSet loTypeId="urn:microsoft.com/office/officeart/2005/8/layout/bProcess4" loCatId="process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709C3355-FF74-4444-9743-E74ED3A4260B}">
      <dgm:prSet phldrT="[Текст]" custT="1"/>
      <dgm:spPr>
        <a:solidFill>
          <a:srgbClr val="66FFFF"/>
        </a:solidFill>
      </dgm:spPr>
      <dgm:t>
        <a:bodyPr/>
        <a:lstStyle/>
        <a:p>
          <a:r>
            <a:rPr lang="ru-RU" sz="2000" b="1" i="1" dirty="0" smtClean="0">
              <a:solidFill>
                <a:srgbClr val="000000"/>
              </a:solidFill>
              <a:latin typeface="Constantia" pitchFamily="18" charset="0"/>
            </a:rPr>
            <a:t>1. Знакомство  с  дет.садом на совместных прогулках. </a:t>
          </a:r>
          <a:endParaRPr lang="ru-RU" sz="2000" b="1" i="1" dirty="0">
            <a:solidFill>
              <a:srgbClr val="000000"/>
            </a:solidFill>
            <a:latin typeface="Constantia" pitchFamily="18" charset="0"/>
          </a:endParaRPr>
        </a:p>
      </dgm:t>
    </dgm:pt>
    <dgm:pt modelId="{D88BE06D-E9DC-4D4D-B18D-C33C3BF44DBA}" type="parTrans" cxnId="{77CB134D-932F-4F36-BD04-48B0742C8B99}">
      <dgm:prSet/>
      <dgm:spPr/>
      <dgm:t>
        <a:bodyPr/>
        <a:lstStyle/>
        <a:p>
          <a:endParaRPr lang="ru-RU"/>
        </a:p>
      </dgm:t>
    </dgm:pt>
    <dgm:pt modelId="{46DDBF67-5599-42DC-95F1-8A4133BA5E11}" type="sibTrans" cxnId="{77CB134D-932F-4F36-BD04-48B0742C8B99}">
      <dgm:prSet/>
      <dgm:spPr>
        <a:solidFill>
          <a:srgbClr val="66FFFF"/>
        </a:solidFill>
      </dgm:spPr>
      <dgm:t>
        <a:bodyPr/>
        <a:lstStyle/>
        <a:p>
          <a:endParaRPr lang="ru-RU"/>
        </a:p>
      </dgm:t>
    </dgm:pt>
    <dgm:pt modelId="{175FD513-4FA4-47D6-865F-1750B5145428}">
      <dgm:prSet phldrT="[Текст]" custT="1"/>
      <dgm:spPr>
        <a:solidFill>
          <a:srgbClr val="66FF33"/>
        </a:solidFill>
      </dgm:spPr>
      <dgm:t>
        <a:bodyPr/>
        <a:lstStyle/>
        <a:p>
          <a:r>
            <a:rPr lang="ru-RU" sz="2000" b="1" i="1" dirty="0" smtClean="0">
              <a:solidFill>
                <a:srgbClr val="000000"/>
              </a:solidFill>
              <a:latin typeface="Constantia" pitchFamily="18" charset="0"/>
            </a:rPr>
            <a:t>2. Постепенный переход в группу с ограничением (2-3 часа). </a:t>
          </a:r>
          <a:endParaRPr lang="ru-RU" sz="2000" b="1" i="1" dirty="0">
            <a:solidFill>
              <a:srgbClr val="000000"/>
            </a:solidFill>
            <a:latin typeface="Constantia" pitchFamily="18" charset="0"/>
          </a:endParaRPr>
        </a:p>
      </dgm:t>
    </dgm:pt>
    <dgm:pt modelId="{8B89C01C-6EE0-4DEF-9A24-1B6E1CEEB271}" type="parTrans" cxnId="{3C3B0861-BEA1-4071-92F1-57EDDFA87C3B}">
      <dgm:prSet/>
      <dgm:spPr/>
      <dgm:t>
        <a:bodyPr/>
        <a:lstStyle/>
        <a:p>
          <a:endParaRPr lang="ru-RU"/>
        </a:p>
      </dgm:t>
    </dgm:pt>
    <dgm:pt modelId="{B4E302B2-3CFC-4966-A529-B653CD920111}" type="sibTrans" cxnId="{3C3B0861-BEA1-4071-92F1-57EDDFA87C3B}">
      <dgm:prSet/>
      <dgm:spPr>
        <a:solidFill>
          <a:srgbClr val="66FF33"/>
        </a:solidFill>
      </dgm:spPr>
      <dgm:t>
        <a:bodyPr/>
        <a:lstStyle/>
        <a:p>
          <a:endParaRPr lang="ru-RU"/>
        </a:p>
      </dgm:t>
    </dgm:pt>
    <dgm:pt modelId="{DDEBD675-70B1-4B52-92CF-0293D3A32780}">
      <dgm:prSet phldrT="[Текст]" custT="1"/>
      <dgm:spPr>
        <a:solidFill>
          <a:srgbClr val="00B050"/>
        </a:solidFill>
      </dgm:spPr>
      <dgm:t>
        <a:bodyPr/>
        <a:lstStyle/>
        <a:p>
          <a:r>
            <a:rPr lang="ru-RU" sz="2000" b="1" i="1" dirty="0" smtClean="0">
              <a:solidFill>
                <a:srgbClr val="000000"/>
              </a:solidFill>
              <a:latin typeface="Constantia" pitchFamily="18" charset="0"/>
            </a:rPr>
            <a:t>3. Важно, чтобы ребенок чувствовал Ваш голос.</a:t>
          </a:r>
          <a:endParaRPr lang="ru-RU" sz="2000" b="1" i="1" dirty="0">
            <a:solidFill>
              <a:srgbClr val="000000"/>
            </a:solidFill>
            <a:latin typeface="Constantia" pitchFamily="18" charset="0"/>
          </a:endParaRPr>
        </a:p>
      </dgm:t>
    </dgm:pt>
    <dgm:pt modelId="{FF1073CF-A192-4651-94CE-74952B2FAF68}" type="parTrans" cxnId="{F3FC7F80-8AEC-422A-B81E-2D445C722CA7}">
      <dgm:prSet/>
      <dgm:spPr/>
      <dgm:t>
        <a:bodyPr/>
        <a:lstStyle/>
        <a:p>
          <a:endParaRPr lang="ru-RU"/>
        </a:p>
      </dgm:t>
    </dgm:pt>
    <dgm:pt modelId="{45DDC08E-8697-47D8-95E1-6A70B444BFED}" type="sibTrans" cxnId="{F3FC7F80-8AEC-422A-B81E-2D445C722CA7}">
      <dgm:prSet/>
      <dgm:spPr>
        <a:solidFill>
          <a:srgbClr val="00B050"/>
        </a:solidFill>
      </dgm:spPr>
      <dgm:t>
        <a:bodyPr/>
        <a:lstStyle/>
        <a:p>
          <a:endParaRPr lang="ru-RU"/>
        </a:p>
      </dgm:t>
    </dgm:pt>
    <dgm:pt modelId="{B3BE4617-3804-4941-A031-66BDE9E10B6B}">
      <dgm:prSet phldrT="[Текст]" custT="1"/>
      <dgm:spPr>
        <a:solidFill>
          <a:srgbClr val="008000"/>
        </a:solidFill>
      </dgm:spPr>
      <dgm:t>
        <a:bodyPr/>
        <a:lstStyle/>
        <a:p>
          <a:r>
            <a:rPr lang="ru-RU" sz="2000" b="1" i="1" dirty="0" smtClean="0">
              <a:solidFill>
                <a:srgbClr val="000000"/>
              </a:solidFill>
              <a:latin typeface="Constantia" pitchFamily="18" charset="0"/>
            </a:rPr>
            <a:t>6. В помощь – папа или дедушка.</a:t>
          </a:r>
          <a:endParaRPr lang="ru-RU" sz="2000" b="1" i="1" dirty="0">
            <a:solidFill>
              <a:srgbClr val="000000"/>
            </a:solidFill>
            <a:latin typeface="Constantia" pitchFamily="18" charset="0"/>
          </a:endParaRPr>
        </a:p>
      </dgm:t>
    </dgm:pt>
    <dgm:pt modelId="{E168BEC4-A1F0-4803-89BF-FED08ED1FB4F}" type="parTrans" cxnId="{9EA87771-3C77-482D-A358-7CB2335F1AF5}">
      <dgm:prSet/>
      <dgm:spPr/>
      <dgm:t>
        <a:bodyPr/>
        <a:lstStyle/>
        <a:p>
          <a:endParaRPr lang="ru-RU"/>
        </a:p>
      </dgm:t>
    </dgm:pt>
    <dgm:pt modelId="{3AEF5EEB-04C3-4797-9AC4-E4DDC7EFDE8E}" type="sibTrans" cxnId="{9EA87771-3C77-482D-A358-7CB2335F1AF5}">
      <dgm:prSet/>
      <dgm:spPr>
        <a:solidFill>
          <a:srgbClr val="008000"/>
        </a:solidFill>
      </dgm:spPr>
      <dgm:t>
        <a:bodyPr/>
        <a:lstStyle/>
        <a:p>
          <a:endParaRPr lang="ru-RU"/>
        </a:p>
      </dgm:t>
    </dgm:pt>
    <dgm:pt modelId="{161C99C7-1376-4E20-9B65-603D91268D42}">
      <dgm:prSet phldrT="[Текст]" custT="1"/>
      <dgm:spPr>
        <a:solidFill>
          <a:srgbClr val="00B0F0"/>
        </a:solidFill>
      </dgm:spPr>
      <dgm:t>
        <a:bodyPr/>
        <a:lstStyle/>
        <a:p>
          <a:r>
            <a:rPr lang="ru-RU" sz="2000" b="1" i="1" dirty="0" smtClean="0">
              <a:solidFill>
                <a:srgbClr val="000000"/>
              </a:solidFill>
              <a:latin typeface="Constantia" pitchFamily="18" charset="0"/>
            </a:rPr>
            <a:t>5. На 9-ый день останьтесь дома.</a:t>
          </a:r>
          <a:endParaRPr lang="ru-RU" sz="2000" b="1" i="1" dirty="0">
            <a:solidFill>
              <a:srgbClr val="000000"/>
            </a:solidFill>
            <a:latin typeface="Constantia" pitchFamily="18" charset="0"/>
          </a:endParaRPr>
        </a:p>
      </dgm:t>
    </dgm:pt>
    <dgm:pt modelId="{0C7CD68F-CA8D-4922-B8B5-DB54B626AFCA}" type="parTrans" cxnId="{65E2247B-0E20-4FD1-AFF6-0ED72D7EE556}">
      <dgm:prSet/>
      <dgm:spPr/>
      <dgm:t>
        <a:bodyPr/>
        <a:lstStyle/>
        <a:p>
          <a:endParaRPr lang="ru-RU"/>
        </a:p>
      </dgm:t>
    </dgm:pt>
    <dgm:pt modelId="{3F2F04A9-7226-4615-90FF-489A4C4FD8DB}" type="sibTrans" cxnId="{65E2247B-0E20-4FD1-AFF6-0ED72D7EE556}">
      <dgm:prSet/>
      <dgm:spPr>
        <a:solidFill>
          <a:srgbClr val="00B0F0"/>
        </a:solidFill>
      </dgm:spPr>
      <dgm:t>
        <a:bodyPr/>
        <a:lstStyle/>
        <a:p>
          <a:endParaRPr lang="ru-RU"/>
        </a:p>
      </dgm:t>
    </dgm:pt>
    <dgm:pt modelId="{E130ECFA-7037-454A-86F4-F067EC344A0D}">
      <dgm:prSet phldrT="[Текст]" custT="1"/>
      <dgm:spPr>
        <a:solidFill>
          <a:srgbClr val="0070C0"/>
        </a:solidFill>
      </dgm:spPr>
      <dgm:t>
        <a:bodyPr/>
        <a:lstStyle/>
        <a:p>
          <a:r>
            <a:rPr lang="ru-RU" sz="2000" b="1" i="1" dirty="0" smtClean="0">
              <a:solidFill>
                <a:srgbClr val="000000"/>
              </a:solidFill>
              <a:latin typeface="Constantia" pitchFamily="18" charset="0"/>
            </a:rPr>
            <a:t>4. На 6-ой день желательно оставить на дневной сон.</a:t>
          </a:r>
          <a:endParaRPr lang="ru-RU" sz="2000" b="1" i="1" dirty="0">
            <a:solidFill>
              <a:srgbClr val="000000"/>
            </a:solidFill>
            <a:latin typeface="Constantia" pitchFamily="18" charset="0"/>
          </a:endParaRPr>
        </a:p>
      </dgm:t>
    </dgm:pt>
    <dgm:pt modelId="{38843823-B348-4379-89ED-C3EC0AF4B0FE}" type="parTrans" cxnId="{A89EAEF6-109B-45A5-80D7-510DDA124DF1}">
      <dgm:prSet/>
      <dgm:spPr/>
      <dgm:t>
        <a:bodyPr/>
        <a:lstStyle/>
        <a:p>
          <a:endParaRPr lang="ru-RU"/>
        </a:p>
      </dgm:t>
    </dgm:pt>
    <dgm:pt modelId="{3BD0123A-4D54-4A46-852D-5565B1CEA331}" type="sibTrans" cxnId="{A89EAEF6-109B-45A5-80D7-510DDA124DF1}">
      <dgm:prSet/>
      <dgm:spPr>
        <a:solidFill>
          <a:srgbClr val="0070C0"/>
        </a:solidFill>
      </dgm:spPr>
      <dgm:t>
        <a:bodyPr/>
        <a:lstStyle/>
        <a:p>
          <a:endParaRPr lang="ru-RU"/>
        </a:p>
      </dgm:t>
    </dgm:pt>
    <dgm:pt modelId="{F154614F-C0D7-4AD9-AC9E-9D6C464D0157}">
      <dgm:prSet phldrT="[Текст]" custT="1"/>
      <dgm:spPr>
        <a:solidFill>
          <a:srgbClr val="9999FF"/>
        </a:solidFill>
      </dgm:spPr>
      <dgm:t>
        <a:bodyPr/>
        <a:lstStyle/>
        <a:p>
          <a:r>
            <a:rPr lang="ru-RU" sz="2000" b="1" i="1" dirty="0" smtClean="0">
              <a:solidFill>
                <a:srgbClr val="000000"/>
              </a:solidFill>
              <a:latin typeface="Constantia" pitchFamily="18" charset="0"/>
            </a:rPr>
            <a:t>7. Плач, капризы, страхи – это нормально!</a:t>
          </a:r>
          <a:endParaRPr lang="ru-RU" sz="2000" b="1" i="1" dirty="0">
            <a:solidFill>
              <a:srgbClr val="000000"/>
            </a:solidFill>
            <a:latin typeface="Constantia" pitchFamily="18" charset="0"/>
          </a:endParaRPr>
        </a:p>
      </dgm:t>
    </dgm:pt>
    <dgm:pt modelId="{C6EED94D-6022-4AFB-9AC7-42C9B2BA03C8}" type="parTrans" cxnId="{169FD402-F4FD-40AD-9ACB-3C9F66E61772}">
      <dgm:prSet/>
      <dgm:spPr/>
      <dgm:t>
        <a:bodyPr/>
        <a:lstStyle/>
        <a:p>
          <a:endParaRPr lang="ru-RU"/>
        </a:p>
      </dgm:t>
    </dgm:pt>
    <dgm:pt modelId="{61B929A5-A00A-4200-8075-8DAF18A431C1}" type="sibTrans" cxnId="{169FD402-F4FD-40AD-9ACB-3C9F66E61772}">
      <dgm:prSet/>
      <dgm:spPr>
        <a:solidFill>
          <a:srgbClr val="9999FF"/>
        </a:solidFill>
      </dgm:spPr>
      <dgm:t>
        <a:bodyPr/>
        <a:lstStyle/>
        <a:p>
          <a:endParaRPr lang="ru-RU"/>
        </a:p>
      </dgm:t>
    </dgm:pt>
    <dgm:pt modelId="{DF5DD986-1F9E-4FB0-AD2E-75ABFF3B1B24}">
      <dgm:prSet phldrT="[Текст]" custT="1"/>
      <dgm:spPr>
        <a:solidFill>
          <a:srgbClr val="CC00CC"/>
        </a:solidFill>
      </dgm:spPr>
      <dgm:t>
        <a:bodyPr/>
        <a:lstStyle/>
        <a:p>
          <a:r>
            <a:rPr lang="ru-RU" sz="2000" b="1" i="1" dirty="0" smtClean="0">
              <a:solidFill>
                <a:srgbClr val="000000"/>
              </a:solidFill>
              <a:latin typeface="Constantia" pitchFamily="18" charset="0"/>
            </a:rPr>
            <a:t>8. Не ломайте «вредные привычки» ребенка.</a:t>
          </a:r>
          <a:endParaRPr lang="ru-RU" sz="2000" b="1" i="1" dirty="0">
            <a:solidFill>
              <a:srgbClr val="000000"/>
            </a:solidFill>
            <a:latin typeface="Constantia" pitchFamily="18" charset="0"/>
          </a:endParaRPr>
        </a:p>
      </dgm:t>
    </dgm:pt>
    <dgm:pt modelId="{70FC0D72-F602-4E95-9701-2F9F62593196}" type="parTrans" cxnId="{DD054565-2C30-4AD2-912F-36BE69D7F4A7}">
      <dgm:prSet/>
      <dgm:spPr/>
      <dgm:t>
        <a:bodyPr/>
        <a:lstStyle/>
        <a:p>
          <a:endParaRPr lang="ru-RU"/>
        </a:p>
      </dgm:t>
    </dgm:pt>
    <dgm:pt modelId="{57141769-8CB2-4E42-852C-30FC3A87DE42}" type="sibTrans" cxnId="{DD054565-2C30-4AD2-912F-36BE69D7F4A7}">
      <dgm:prSet/>
      <dgm:spPr>
        <a:solidFill>
          <a:srgbClr val="CC00CC"/>
        </a:solidFill>
      </dgm:spPr>
      <dgm:t>
        <a:bodyPr/>
        <a:lstStyle/>
        <a:p>
          <a:endParaRPr lang="ru-RU"/>
        </a:p>
      </dgm:t>
    </dgm:pt>
    <dgm:pt modelId="{FC8E507A-6ED9-40A6-8CDE-4EB2E932844E}">
      <dgm:prSet phldrT="[Текст]" custT="1"/>
      <dgm:spPr>
        <a:solidFill>
          <a:srgbClr val="993366"/>
        </a:solidFill>
      </dgm:spPr>
      <dgm:t>
        <a:bodyPr/>
        <a:lstStyle/>
        <a:p>
          <a:r>
            <a:rPr lang="ru-RU" sz="2000" b="1" i="1" dirty="0" smtClean="0">
              <a:solidFill>
                <a:srgbClr val="000000"/>
              </a:solidFill>
              <a:latin typeface="Constantia" pitchFamily="18" charset="0"/>
            </a:rPr>
            <a:t>9. </a:t>
          </a:r>
          <a:r>
            <a:rPr lang="ru-RU" sz="2000" b="1" i="1" dirty="0" err="1" smtClean="0">
              <a:solidFill>
                <a:srgbClr val="000000"/>
              </a:solidFill>
              <a:latin typeface="Constantia" pitchFamily="18" charset="0"/>
            </a:rPr>
            <a:t>Успокоитель-ные</a:t>
          </a:r>
          <a:r>
            <a:rPr lang="ru-RU" sz="2000" b="1" i="1" dirty="0" smtClean="0">
              <a:solidFill>
                <a:srgbClr val="000000"/>
              </a:solidFill>
              <a:latin typeface="Constantia" pitchFamily="18" charset="0"/>
            </a:rPr>
            <a:t> травяные и </a:t>
          </a:r>
          <a:r>
            <a:rPr lang="ru-RU" sz="2000" b="1" i="1" dirty="0" err="1" smtClean="0">
              <a:solidFill>
                <a:srgbClr val="000000"/>
              </a:solidFill>
              <a:latin typeface="Constantia" pitchFamily="18" charset="0"/>
            </a:rPr>
            <a:t>общеукрепля-ющие</a:t>
          </a:r>
          <a:r>
            <a:rPr lang="ru-RU" sz="2000" b="1" i="1" dirty="0" smtClean="0">
              <a:solidFill>
                <a:srgbClr val="000000"/>
              </a:solidFill>
              <a:latin typeface="Constantia" pitchFamily="18" charset="0"/>
            </a:rPr>
            <a:t> сборы</a:t>
          </a:r>
          <a:endParaRPr lang="ru-RU" sz="2000" b="1" i="1" dirty="0">
            <a:solidFill>
              <a:srgbClr val="000000"/>
            </a:solidFill>
            <a:latin typeface="Constantia" pitchFamily="18" charset="0"/>
          </a:endParaRPr>
        </a:p>
      </dgm:t>
    </dgm:pt>
    <dgm:pt modelId="{53C5A790-7CF1-42BA-85BD-CE4FAA3D98BA}" type="parTrans" cxnId="{F681E255-C2A2-45F7-887A-62F842701994}">
      <dgm:prSet/>
      <dgm:spPr/>
      <dgm:t>
        <a:bodyPr/>
        <a:lstStyle/>
        <a:p>
          <a:endParaRPr lang="ru-RU"/>
        </a:p>
      </dgm:t>
    </dgm:pt>
    <dgm:pt modelId="{FC408FDB-1DEB-47BE-B054-5F602479B355}" type="sibTrans" cxnId="{F681E255-C2A2-45F7-887A-62F842701994}">
      <dgm:prSet/>
      <dgm:spPr/>
      <dgm:t>
        <a:bodyPr/>
        <a:lstStyle/>
        <a:p>
          <a:endParaRPr lang="ru-RU"/>
        </a:p>
      </dgm:t>
    </dgm:pt>
    <dgm:pt modelId="{0D5DCB26-493E-4BC4-AA48-125BEA120F1D}" type="pres">
      <dgm:prSet presAssocID="{83CF6AFD-C011-4848-A4BE-5D7A3AA0C970}" presName="Name0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261D0A95-3D2E-4A5F-83C8-F99E32A62D47}" type="pres">
      <dgm:prSet presAssocID="{709C3355-FF74-4444-9743-E74ED3A4260B}" presName="compNode" presStyleCnt="0"/>
      <dgm:spPr/>
    </dgm:pt>
    <dgm:pt modelId="{0484E77E-4A09-4CA5-B51F-5DD2EC3CA3EC}" type="pres">
      <dgm:prSet presAssocID="{709C3355-FF74-4444-9743-E74ED3A4260B}" presName="dummyConnPt" presStyleCnt="0"/>
      <dgm:spPr/>
    </dgm:pt>
    <dgm:pt modelId="{3DEFE5AA-9407-40B8-A97E-E849765F3283}" type="pres">
      <dgm:prSet presAssocID="{709C3355-FF74-4444-9743-E74ED3A4260B}" presName="node" presStyleLbl="node1" presStyleIdx="0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40E9C1D-E9E9-4651-91B9-96CBC59BD5A5}" type="pres">
      <dgm:prSet presAssocID="{46DDBF67-5599-42DC-95F1-8A4133BA5E11}" presName="sibTrans" presStyleLbl="bgSibTrans2D1" presStyleIdx="0" presStyleCnt="8"/>
      <dgm:spPr/>
      <dgm:t>
        <a:bodyPr/>
        <a:lstStyle/>
        <a:p>
          <a:endParaRPr lang="ru-RU"/>
        </a:p>
      </dgm:t>
    </dgm:pt>
    <dgm:pt modelId="{B4085D54-5A2F-473A-99EA-6B48C9505C7A}" type="pres">
      <dgm:prSet presAssocID="{175FD513-4FA4-47D6-865F-1750B5145428}" presName="compNode" presStyleCnt="0"/>
      <dgm:spPr/>
    </dgm:pt>
    <dgm:pt modelId="{D05817CA-79FF-4193-A902-500B678574B3}" type="pres">
      <dgm:prSet presAssocID="{175FD513-4FA4-47D6-865F-1750B5145428}" presName="dummyConnPt" presStyleCnt="0"/>
      <dgm:spPr/>
    </dgm:pt>
    <dgm:pt modelId="{EB66A396-4D5C-4104-9470-8020D36C1CB8}" type="pres">
      <dgm:prSet presAssocID="{175FD513-4FA4-47D6-865F-1750B5145428}" presName="node" presStyleLbl="node1" presStyleIdx="1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25A8406-FD67-4750-8BA4-AE969E0E44F7}" type="pres">
      <dgm:prSet presAssocID="{B4E302B2-3CFC-4966-A529-B653CD920111}" presName="sibTrans" presStyleLbl="bgSibTrans2D1" presStyleIdx="1" presStyleCnt="8"/>
      <dgm:spPr/>
      <dgm:t>
        <a:bodyPr/>
        <a:lstStyle/>
        <a:p>
          <a:endParaRPr lang="ru-RU"/>
        </a:p>
      </dgm:t>
    </dgm:pt>
    <dgm:pt modelId="{80AF7DCD-4250-436D-AD7C-3D77FBE257C7}" type="pres">
      <dgm:prSet presAssocID="{DDEBD675-70B1-4B52-92CF-0293D3A32780}" presName="compNode" presStyleCnt="0"/>
      <dgm:spPr/>
    </dgm:pt>
    <dgm:pt modelId="{F75F3B55-0BBB-4F74-BE90-7A6A2E6A858F}" type="pres">
      <dgm:prSet presAssocID="{DDEBD675-70B1-4B52-92CF-0293D3A32780}" presName="dummyConnPt" presStyleCnt="0"/>
      <dgm:spPr/>
    </dgm:pt>
    <dgm:pt modelId="{DC62F9E3-3DD2-4B3C-BA5F-D3EFE9F87DBE}" type="pres">
      <dgm:prSet presAssocID="{DDEBD675-70B1-4B52-92CF-0293D3A32780}" presName="node" presStyleLbl="node1" presStyleIdx="2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0010983-65AC-4532-AC65-5086BB982E41}" type="pres">
      <dgm:prSet presAssocID="{45DDC08E-8697-47D8-95E1-6A70B444BFED}" presName="sibTrans" presStyleLbl="bgSibTrans2D1" presStyleIdx="2" presStyleCnt="8"/>
      <dgm:spPr/>
      <dgm:t>
        <a:bodyPr/>
        <a:lstStyle/>
        <a:p>
          <a:endParaRPr lang="ru-RU"/>
        </a:p>
      </dgm:t>
    </dgm:pt>
    <dgm:pt modelId="{89EF3471-E7E1-469F-A7D9-9A231104D488}" type="pres">
      <dgm:prSet presAssocID="{B3BE4617-3804-4941-A031-66BDE9E10B6B}" presName="compNode" presStyleCnt="0"/>
      <dgm:spPr/>
    </dgm:pt>
    <dgm:pt modelId="{D866C45F-01C4-4552-83D6-FAFED594A6CC}" type="pres">
      <dgm:prSet presAssocID="{B3BE4617-3804-4941-A031-66BDE9E10B6B}" presName="dummyConnPt" presStyleCnt="0"/>
      <dgm:spPr/>
    </dgm:pt>
    <dgm:pt modelId="{2C169E14-A7F8-4150-9CF5-38095A05B47D}" type="pres">
      <dgm:prSet presAssocID="{B3BE4617-3804-4941-A031-66BDE9E10B6B}" presName="node" presStyleLbl="node1" presStyleIdx="3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F62FEC9-7F0C-4EF2-812E-5C3CCFA4E84F}" type="pres">
      <dgm:prSet presAssocID="{3AEF5EEB-04C3-4797-9AC4-E4DDC7EFDE8E}" presName="sibTrans" presStyleLbl="bgSibTrans2D1" presStyleIdx="3" presStyleCnt="8"/>
      <dgm:spPr/>
      <dgm:t>
        <a:bodyPr/>
        <a:lstStyle/>
        <a:p>
          <a:endParaRPr lang="ru-RU"/>
        </a:p>
      </dgm:t>
    </dgm:pt>
    <dgm:pt modelId="{1D277533-160B-4F69-AA49-B86BEA8DADA9}" type="pres">
      <dgm:prSet presAssocID="{161C99C7-1376-4E20-9B65-603D91268D42}" presName="compNode" presStyleCnt="0"/>
      <dgm:spPr/>
    </dgm:pt>
    <dgm:pt modelId="{494142A4-03F8-4C50-BCC6-03EB096E8300}" type="pres">
      <dgm:prSet presAssocID="{161C99C7-1376-4E20-9B65-603D91268D42}" presName="dummyConnPt" presStyleCnt="0"/>
      <dgm:spPr/>
    </dgm:pt>
    <dgm:pt modelId="{C044A406-39D3-4B64-B6DB-DD9CFE7CDEEC}" type="pres">
      <dgm:prSet presAssocID="{161C99C7-1376-4E20-9B65-603D91268D42}" presName="node" presStyleLbl="node1" presStyleIdx="4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685B3E0-0488-4BBB-B232-A2741DC6A46B}" type="pres">
      <dgm:prSet presAssocID="{3F2F04A9-7226-4615-90FF-489A4C4FD8DB}" presName="sibTrans" presStyleLbl="bgSibTrans2D1" presStyleIdx="4" presStyleCnt="8"/>
      <dgm:spPr/>
      <dgm:t>
        <a:bodyPr/>
        <a:lstStyle/>
        <a:p>
          <a:endParaRPr lang="ru-RU"/>
        </a:p>
      </dgm:t>
    </dgm:pt>
    <dgm:pt modelId="{3806B7F4-A3B4-443C-93D2-0D01500DB51C}" type="pres">
      <dgm:prSet presAssocID="{E130ECFA-7037-454A-86F4-F067EC344A0D}" presName="compNode" presStyleCnt="0"/>
      <dgm:spPr/>
    </dgm:pt>
    <dgm:pt modelId="{4B9C8449-D6E1-48FA-A94B-90A35C9320BB}" type="pres">
      <dgm:prSet presAssocID="{E130ECFA-7037-454A-86F4-F067EC344A0D}" presName="dummyConnPt" presStyleCnt="0"/>
      <dgm:spPr/>
    </dgm:pt>
    <dgm:pt modelId="{21CFCB7C-AABD-4DD5-9565-748BEC9F735F}" type="pres">
      <dgm:prSet presAssocID="{E130ECFA-7037-454A-86F4-F067EC344A0D}" presName="node" presStyleLbl="node1" presStyleIdx="5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F919D91-6283-4699-8530-CDC7953790D6}" type="pres">
      <dgm:prSet presAssocID="{3BD0123A-4D54-4A46-852D-5565B1CEA331}" presName="sibTrans" presStyleLbl="bgSibTrans2D1" presStyleIdx="5" presStyleCnt="8"/>
      <dgm:spPr/>
      <dgm:t>
        <a:bodyPr/>
        <a:lstStyle/>
        <a:p>
          <a:endParaRPr lang="ru-RU"/>
        </a:p>
      </dgm:t>
    </dgm:pt>
    <dgm:pt modelId="{B4E92907-2E52-4E6B-BA0D-1EEBF4E6E0A2}" type="pres">
      <dgm:prSet presAssocID="{F154614F-C0D7-4AD9-AC9E-9D6C464D0157}" presName="compNode" presStyleCnt="0"/>
      <dgm:spPr/>
    </dgm:pt>
    <dgm:pt modelId="{AA204D47-785E-4C8C-81D3-069CB289F57D}" type="pres">
      <dgm:prSet presAssocID="{F154614F-C0D7-4AD9-AC9E-9D6C464D0157}" presName="dummyConnPt" presStyleCnt="0"/>
      <dgm:spPr/>
    </dgm:pt>
    <dgm:pt modelId="{3B7B2F91-B101-492D-8701-621F5D816869}" type="pres">
      <dgm:prSet presAssocID="{F154614F-C0D7-4AD9-AC9E-9D6C464D0157}" presName="node" presStyleLbl="node1" presStyleIdx="6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48BE081-152B-4C10-8573-76AEEE8963F3}" type="pres">
      <dgm:prSet presAssocID="{61B929A5-A00A-4200-8075-8DAF18A431C1}" presName="sibTrans" presStyleLbl="bgSibTrans2D1" presStyleIdx="6" presStyleCnt="8"/>
      <dgm:spPr/>
      <dgm:t>
        <a:bodyPr/>
        <a:lstStyle/>
        <a:p>
          <a:endParaRPr lang="ru-RU"/>
        </a:p>
      </dgm:t>
    </dgm:pt>
    <dgm:pt modelId="{E84D94FB-E363-45BD-9F7F-DEFB330B52FA}" type="pres">
      <dgm:prSet presAssocID="{DF5DD986-1F9E-4FB0-AD2E-75ABFF3B1B24}" presName="compNode" presStyleCnt="0"/>
      <dgm:spPr/>
    </dgm:pt>
    <dgm:pt modelId="{7656137F-E808-43DE-9502-E5A0E2E8C9B4}" type="pres">
      <dgm:prSet presAssocID="{DF5DD986-1F9E-4FB0-AD2E-75ABFF3B1B24}" presName="dummyConnPt" presStyleCnt="0"/>
      <dgm:spPr/>
    </dgm:pt>
    <dgm:pt modelId="{DAE1A7F9-5A50-4DFA-8BC5-33D93500AB05}" type="pres">
      <dgm:prSet presAssocID="{DF5DD986-1F9E-4FB0-AD2E-75ABFF3B1B24}" presName="node" presStyleLbl="node1" presStyleIdx="7" presStyleCnt="9" custLinFactNeighborX="-774" custLinFactNeighborY="-48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0A3C37C-6D07-425B-840D-7F3A782D2391}" type="pres">
      <dgm:prSet presAssocID="{57141769-8CB2-4E42-852C-30FC3A87DE42}" presName="sibTrans" presStyleLbl="bgSibTrans2D1" presStyleIdx="7" presStyleCnt="8"/>
      <dgm:spPr/>
      <dgm:t>
        <a:bodyPr/>
        <a:lstStyle/>
        <a:p>
          <a:endParaRPr lang="ru-RU"/>
        </a:p>
      </dgm:t>
    </dgm:pt>
    <dgm:pt modelId="{3BCA782C-134B-43DD-AE5E-CC7C4E1BC530}" type="pres">
      <dgm:prSet presAssocID="{FC8E507A-6ED9-40A6-8CDE-4EB2E932844E}" presName="compNode" presStyleCnt="0"/>
      <dgm:spPr/>
    </dgm:pt>
    <dgm:pt modelId="{4A4B8034-759E-4618-8640-1F1201F67D82}" type="pres">
      <dgm:prSet presAssocID="{FC8E507A-6ED9-40A6-8CDE-4EB2E932844E}" presName="dummyConnPt" presStyleCnt="0"/>
      <dgm:spPr/>
    </dgm:pt>
    <dgm:pt modelId="{21A74CD8-A243-4209-9D84-8B2FF85BF7FA}" type="pres">
      <dgm:prSet presAssocID="{FC8E507A-6ED9-40A6-8CDE-4EB2E932844E}" presName="node" presStyleLbl="node1" presStyleIdx="8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89EAEF6-109B-45A5-80D7-510DDA124DF1}" srcId="{83CF6AFD-C011-4848-A4BE-5D7A3AA0C970}" destId="{E130ECFA-7037-454A-86F4-F067EC344A0D}" srcOrd="5" destOrd="0" parTransId="{38843823-B348-4379-89ED-C3EC0AF4B0FE}" sibTransId="{3BD0123A-4D54-4A46-852D-5565B1CEA331}"/>
    <dgm:cxn modelId="{4FE99C27-F8BD-466D-BD0B-8F79132E7F7D}" type="presOf" srcId="{709C3355-FF74-4444-9743-E74ED3A4260B}" destId="{3DEFE5AA-9407-40B8-A97E-E849765F3283}" srcOrd="0" destOrd="0" presId="urn:microsoft.com/office/officeart/2005/8/layout/bProcess4"/>
    <dgm:cxn modelId="{073F04CB-DC6E-4C73-A432-5C1F065CB70E}" type="presOf" srcId="{FC8E507A-6ED9-40A6-8CDE-4EB2E932844E}" destId="{21A74CD8-A243-4209-9D84-8B2FF85BF7FA}" srcOrd="0" destOrd="0" presId="urn:microsoft.com/office/officeart/2005/8/layout/bProcess4"/>
    <dgm:cxn modelId="{DD054565-2C30-4AD2-912F-36BE69D7F4A7}" srcId="{83CF6AFD-C011-4848-A4BE-5D7A3AA0C970}" destId="{DF5DD986-1F9E-4FB0-AD2E-75ABFF3B1B24}" srcOrd="7" destOrd="0" parTransId="{70FC0D72-F602-4E95-9701-2F9F62593196}" sibTransId="{57141769-8CB2-4E42-852C-30FC3A87DE42}"/>
    <dgm:cxn modelId="{262A45D6-2CE9-4E37-88AB-D5E252BFF04D}" type="presOf" srcId="{45DDC08E-8697-47D8-95E1-6A70B444BFED}" destId="{A0010983-65AC-4532-AC65-5086BB982E41}" srcOrd="0" destOrd="0" presId="urn:microsoft.com/office/officeart/2005/8/layout/bProcess4"/>
    <dgm:cxn modelId="{AD53BFBF-3995-47D2-9A8A-C1746DE38F02}" type="presOf" srcId="{175FD513-4FA4-47D6-865F-1750B5145428}" destId="{EB66A396-4D5C-4104-9470-8020D36C1CB8}" srcOrd="0" destOrd="0" presId="urn:microsoft.com/office/officeart/2005/8/layout/bProcess4"/>
    <dgm:cxn modelId="{F71FA68B-AE45-4DE7-BFB2-EFE5874CAF9E}" type="presOf" srcId="{161C99C7-1376-4E20-9B65-603D91268D42}" destId="{C044A406-39D3-4B64-B6DB-DD9CFE7CDEEC}" srcOrd="0" destOrd="0" presId="urn:microsoft.com/office/officeart/2005/8/layout/bProcess4"/>
    <dgm:cxn modelId="{DE4D49A8-FD42-4D5A-BE3E-853677A59A69}" type="presOf" srcId="{3AEF5EEB-04C3-4797-9AC4-E4DDC7EFDE8E}" destId="{FF62FEC9-7F0C-4EF2-812E-5C3CCFA4E84F}" srcOrd="0" destOrd="0" presId="urn:microsoft.com/office/officeart/2005/8/layout/bProcess4"/>
    <dgm:cxn modelId="{D466F452-BCED-490F-A928-FD479C814D22}" type="presOf" srcId="{E130ECFA-7037-454A-86F4-F067EC344A0D}" destId="{21CFCB7C-AABD-4DD5-9565-748BEC9F735F}" srcOrd="0" destOrd="0" presId="urn:microsoft.com/office/officeart/2005/8/layout/bProcess4"/>
    <dgm:cxn modelId="{8C7F9C1B-2766-4944-823A-F34FEFB411BD}" type="presOf" srcId="{83CF6AFD-C011-4848-A4BE-5D7A3AA0C970}" destId="{0D5DCB26-493E-4BC4-AA48-125BEA120F1D}" srcOrd="0" destOrd="0" presId="urn:microsoft.com/office/officeart/2005/8/layout/bProcess4"/>
    <dgm:cxn modelId="{B6E1EF76-022B-44B1-BAC6-15E72128B144}" type="presOf" srcId="{DF5DD986-1F9E-4FB0-AD2E-75ABFF3B1B24}" destId="{DAE1A7F9-5A50-4DFA-8BC5-33D93500AB05}" srcOrd="0" destOrd="0" presId="urn:microsoft.com/office/officeart/2005/8/layout/bProcess4"/>
    <dgm:cxn modelId="{65E2247B-0E20-4FD1-AFF6-0ED72D7EE556}" srcId="{83CF6AFD-C011-4848-A4BE-5D7A3AA0C970}" destId="{161C99C7-1376-4E20-9B65-603D91268D42}" srcOrd="4" destOrd="0" parTransId="{0C7CD68F-CA8D-4922-B8B5-DB54B626AFCA}" sibTransId="{3F2F04A9-7226-4615-90FF-489A4C4FD8DB}"/>
    <dgm:cxn modelId="{58F24330-278E-4EE0-9916-6AF64D02E76B}" type="presOf" srcId="{57141769-8CB2-4E42-852C-30FC3A87DE42}" destId="{A0A3C37C-6D07-425B-840D-7F3A782D2391}" srcOrd="0" destOrd="0" presId="urn:microsoft.com/office/officeart/2005/8/layout/bProcess4"/>
    <dgm:cxn modelId="{F681E255-C2A2-45F7-887A-62F842701994}" srcId="{83CF6AFD-C011-4848-A4BE-5D7A3AA0C970}" destId="{FC8E507A-6ED9-40A6-8CDE-4EB2E932844E}" srcOrd="8" destOrd="0" parTransId="{53C5A790-7CF1-42BA-85BD-CE4FAA3D98BA}" sibTransId="{FC408FDB-1DEB-47BE-B054-5F602479B355}"/>
    <dgm:cxn modelId="{5290607D-07C0-4E35-86F2-D1F4943713BD}" type="presOf" srcId="{F154614F-C0D7-4AD9-AC9E-9D6C464D0157}" destId="{3B7B2F91-B101-492D-8701-621F5D816869}" srcOrd="0" destOrd="0" presId="urn:microsoft.com/office/officeart/2005/8/layout/bProcess4"/>
    <dgm:cxn modelId="{77CB134D-932F-4F36-BD04-48B0742C8B99}" srcId="{83CF6AFD-C011-4848-A4BE-5D7A3AA0C970}" destId="{709C3355-FF74-4444-9743-E74ED3A4260B}" srcOrd="0" destOrd="0" parTransId="{D88BE06D-E9DC-4D4D-B18D-C33C3BF44DBA}" sibTransId="{46DDBF67-5599-42DC-95F1-8A4133BA5E11}"/>
    <dgm:cxn modelId="{BFA4FF80-09AA-4F1D-B463-B8256371CE86}" type="presOf" srcId="{46DDBF67-5599-42DC-95F1-8A4133BA5E11}" destId="{440E9C1D-E9E9-4651-91B9-96CBC59BD5A5}" srcOrd="0" destOrd="0" presId="urn:microsoft.com/office/officeart/2005/8/layout/bProcess4"/>
    <dgm:cxn modelId="{AE16C100-A37B-4353-9844-B29FD2A2A0B7}" type="presOf" srcId="{3BD0123A-4D54-4A46-852D-5565B1CEA331}" destId="{DF919D91-6283-4699-8530-CDC7953790D6}" srcOrd="0" destOrd="0" presId="urn:microsoft.com/office/officeart/2005/8/layout/bProcess4"/>
    <dgm:cxn modelId="{24537D16-1C85-479F-A11E-1BB34F8D1533}" type="presOf" srcId="{61B929A5-A00A-4200-8075-8DAF18A431C1}" destId="{E48BE081-152B-4C10-8573-76AEEE8963F3}" srcOrd="0" destOrd="0" presId="urn:microsoft.com/office/officeart/2005/8/layout/bProcess4"/>
    <dgm:cxn modelId="{F3FC7F80-8AEC-422A-B81E-2D445C722CA7}" srcId="{83CF6AFD-C011-4848-A4BE-5D7A3AA0C970}" destId="{DDEBD675-70B1-4B52-92CF-0293D3A32780}" srcOrd="2" destOrd="0" parTransId="{FF1073CF-A192-4651-94CE-74952B2FAF68}" sibTransId="{45DDC08E-8697-47D8-95E1-6A70B444BFED}"/>
    <dgm:cxn modelId="{0132AB13-6D5D-463D-9C85-16B54FD3FBDE}" type="presOf" srcId="{3F2F04A9-7226-4615-90FF-489A4C4FD8DB}" destId="{D685B3E0-0488-4BBB-B232-A2741DC6A46B}" srcOrd="0" destOrd="0" presId="urn:microsoft.com/office/officeart/2005/8/layout/bProcess4"/>
    <dgm:cxn modelId="{A7AA3C36-F560-4F19-9C89-713C36564600}" type="presOf" srcId="{B4E302B2-3CFC-4966-A529-B653CD920111}" destId="{325A8406-FD67-4750-8BA4-AE969E0E44F7}" srcOrd="0" destOrd="0" presId="urn:microsoft.com/office/officeart/2005/8/layout/bProcess4"/>
    <dgm:cxn modelId="{D35AD88A-C200-4E2E-B10C-17E33CBA771E}" type="presOf" srcId="{DDEBD675-70B1-4B52-92CF-0293D3A32780}" destId="{DC62F9E3-3DD2-4B3C-BA5F-D3EFE9F87DBE}" srcOrd="0" destOrd="0" presId="urn:microsoft.com/office/officeart/2005/8/layout/bProcess4"/>
    <dgm:cxn modelId="{169FD402-F4FD-40AD-9ACB-3C9F66E61772}" srcId="{83CF6AFD-C011-4848-A4BE-5D7A3AA0C970}" destId="{F154614F-C0D7-4AD9-AC9E-9D6C464D0157}" srcOrd="6" destOrd="0" parTransId="{C6EED94D-6022-4AFB-9AC7-42C9B2BA03C8}" sibTransId="{61B929A5-A00A-4200-8075-8DAF18A431C1}"/>
    <dgm:cxn modelId="{68EB0B88-4A71-4EDE-8C1F-352ECFD1054E}" type="presOf" srcId="{B3BE4617-3804-4941-A031-66BDE9E10B6B}" destId="{2C169E14-A7F8-4150-9CF5-38095A05B47D}" srcOrd="0" destOrd="0" presId="urn:microsoft.com/office/officeart/2005/8/layout/bProcess4"/>
    <dgm:cxn modelId="{3C3B0861-BEA1-4071-92F1-57EDDFA87C3B}" srcId="{83CF6AFD-C011-4848-A4BE-5D7A3AA0C970}" destId="{175FD513-4FA4-47D6-865F-1750B5145428}" srcOrd="1" destOrd="0" parTransId="{8B89C01C-6EE0-4DEF-9A24-1B6E1CEEB271}" sibTransId="{B4E302B2-3CFC-4966-A529-B653CD920111}"/>
    <dgm:cxn modelId="{9EA87771-3C77-482D-A358-7CB2335F1AF5}" srcId="{83CF6AFD-C011-4848-A4BE-5D7A3AA0C970}" destId="{B3BE4617-3804-4941-A031-66BDE9E10B6B}" srcOrd="3" destOrd="0" parTransId="{E168BEC4-A1F0-4803-89BF-FED08ED1FB4F}" sibTransId="{3AEF5EEB-04C3-4797-9AC4-E4DDC7EFDE8E}"/>
    <dgm:cxn modelId="{E6E72D9C-1E69-4E33-AC64-C9E84DACDE41}" type="presParOf" srcId="{0D5DCB26-493E-4BC4-AA48-125BEA120F1D}" destId="{261D0A95-3D2E-4A5F-83C8-F99E32A62D47}" srcOrd="0" destOrd="0" presId="urn:microsoft.com/office/officeart/2005/8/layout/bProcess4"/>
    <dgm:cxn modelId="{FD08A019-0A85-4CDA-B3A4-F52939AA51F2}" type="presParOf" srcId="{261D0A95-3D2E-4A5F-83C8-F99E32A62D47}" destId="{0484E77E-4A09-4CA5-B51F-5DD2EC3CA3EC}" srcOrd="0" destOrd="0" presId="urn:microsoft.com/office/officeart/2005/8/layout/bProcess4"/>
    <dgm:cxn modelId="{E8A5FBFD-5633-466C-8E2D-1F6D32480915}" type="presParOf" srcId="{261D0A95-3D2E-4A5F-83C8-F99E32A62D47}" destId="{3DEFE5AA-9407-40B8-A97E-E849765F3283}" srcOrd="1" destOrd="0" presId="urn:microsoft.com/office/officeart/2005/8/layout/bProcess4"/>
    <dgm:cxn modelId="{BE568F1B-D97E-4F64-ACB1-6018538FD4DA}" type="presParOf" srcId="{0D5DCB26-493E-4BC4-AA48-125BEA120F1D}" destId="{440E9C1D-E9E9-4651-91B9-96CBC59BD5A5}" srcOrd="1" destOrd="0" presId="urn:microsoft.com/office/officeart/2005/8/layout/bProcess4"/>
    <dgm:cxn modelId="{51247792-D5BA-4B64-8AE0-0B7ED697BDC4}" type="presParOf" srcId="{0D5DCB26-493E-4BC4-AA48-125BEA120F1D}" destId="{B4085D54-5A2F-473A-99EA-6B48C9505C7A}" srcOrd="2" destOrd="0" presId="urn:microsoft.com/office/officeart/2005/8/layout/bProcess4"/>
    <dgm:cxn modelId="{EEF4D976-7588-497F-961A-89CC36E73DB0}" type="presParOf" srcId="{B4085D54-5A2F-473A-99EA-6B48C9505C7A}" destId="{D05817CA-79FF-4193-A902-500B678574B3}" srcOrd="0" destOrd="0" presId="urn:microsoft.com/office/officeart/2005/8/layout/bProcess4"/>
    <dgm:cxn modelId="{1FA7145F-0E2C-4945-B599-D3752ADC6FFF}" type="presParOf" srcId="{B4085D54-5A2F-473A-99EA-6B48C9505C7A}" destId="{EB66A396-4D5C-4104-9470-8020D36C1CB8}" srcOrd="1" destOrd="0" presId="urn:microsoft.com/office/officeart/2005/8/layout/bProcess4"/>
    <dgm:cxn modelId="{06D953E1-28C4-41CE-BD38-3ADF3FB4A286}" type="presParOf" srcId="{0D5DCB26-493E-4BC4-AA48-125BEA120F1D}" destId="{325A8406-FD67-4750-8BA4-AE969E0E44F7}" srcOrd="3" destOrd="0" presId="urn:microsoft.com/office/officeart/2005/8/layout/bProcess4"/>
    <dgm:cxn modelId="{EEF2E993-F6EC-4640-B559-4D5B66E4ECC4}" type="presParOf" srcId="{0D5DCB26-493E-4BC4-AA48-125BEA120F1D}" destId="{80AF7DCD-4250-436D-AD7C-3D77FBE257C7}" srcOrd="4" destOrd="0" presId="urn:microsoft.com/office/officeart/2005/8/layout/bProcess4"/>
    <dgm:cxn modelId="{2E8DB692-5EEA-4778-A6EF-BD7BAD8F6AFB}" type="presParOf" srcId="{80AF7DCD-4250-436D-AD7C-3D77FBE257C7}" destId="{F75F3B55-0BBB-4F74-BE90-7A6A2E6A858F}" srcOrd="0" destOrd="0" presId="urn:microsoft.com/office/officeart/2005/8/layout/bProcess4"/>
    <dgm:cxn modelId="{1EDFE2D9-B870-4EA3-89FE-3766B404F82A}" type="presParOf" srcId="{80AF7DCD-4250-436D-AD7C-3D77FBE257C7}" destId="{DC62F9E3-3DD2-4B3C-BA5F-D3EFE9F87DBE}" srcOrd="1" destOrd="0" presId="urn:microsoft.com/office/officeart/2005/8/layout/bProcess4"/>
    <dgm:cxn modelId="{293A0AAE-6A4E-4888-AB31-CBD01687C6F6}" type="presParOf" srcId="{0D5DCB26-493E-4BC4-AA48-125BEA120F1D}" destId="{A0010983-65AC-4532-AC65-5086BB982E41}" srcOrd="5" destOrd="0" presId="urn:microsoft.com/office/officeart/2005/8/layout/bProcess4"/>
    <dgm:cxn modelId="{EBCFD1CE-F62D-450A-B621-80EE6BF290CE}" type="presParOf" srcId="{0D5DCB26-493E-4BC4-AA48-125BEA120F1D}" destId="{89EF3471-E7E1-469F-A7D9-9A231104D488}" srcOrd="6" destOrd="0" presId="urn:microsoft.com/office/officeart/2005/8/layout/bProcess4"/>
    <dgm:cxn modelId="{00598CBD-FDE8-43FC-8026-1756479153A4}" type="presParOf" srcId="{89EF3471-E7E1-469F-A7D9-9A231104D488}" destId="{D866C45F-01C4-4552-83D6-FAFED594A6CC}" srcOrd="0" destOrd="0" presId="urn:microsoft.com/office/officeart/2005/8/layout/bProcess4"/>
    <dgm:cxn modelId="{081B0B2D-8245-4418-824F-AA35A61E3C95}" type="presParOf" srcId="{89EF3471-E7E1-469F-A7D9-9A231104D488}" destId="{2C169E14-A7F8-4150-9CF5-38095A05B47D}" srcOrd="1" destOrd="0" presId="urn:microsoft.com/office/officeart/2005/8/layout/bProcess4"/>
    <dgm:cxn modelId="{B8932B28-1CA6-4604-8C37-36FA5B590DB8}" type="presParOf" srcId="{0D5DCB26-493E-4BC4-AA48-125BEA120F1D}" destId="{FF62FEC9-7F0C-4EF2-812E-5C3CCFA4E84F}" srcOrd="7" destOrd="0" presId="urn:microsoft.com/office/officeart/2005/8/layout/bProcess4"/>
    <dgm:cxn modelId="{8574E251-C218-4BCA-B9E3-AA41469BCB9B}" type="presParOf" srcId="{0D5DCB26-493E-4BC4-AA48-125BEA120F1D}" destId="{1D277533-160B-4F69-AA49-B86BEA8DADA9}" srcOrd="8" destOrd="0" presId="urn:microsoft.com/office/officeart/2005/8/layout/bProcess4"/>
    <dgm:cxn modelId="{EAF2A468-AED0-48E9-B585-356F7492785E}" type="presParOf" srcId="{1D277533-160B-4F69-AA49-B86BEA8DADA9}" destId="{494142A4-03F8-4C50-BCC6-03EB096E8300}" srcOrd="0" destOrd="0" presId="urn:microsoft.com/office/officeart/2005/8/layout/bProcess4"/>
    <dgm:cxn modelId="{3F4D64F3-8FB4-41EC-9C67-5199096E22F4}" type="presParOf" srcId="{1D277533-160B-4F69-AA49-B86BEA8DADA9}" destId="{C044A406-39D3-4B64-B6DB-DD9CFE7CDEEC}" srcOrd="1" destOrd="0" presId="urn:microsoft.com/office/officeart/2005/8/layout/bProcess4"/>
    <dgm:cxn modelId="{6E331596-4AC4-49CF-9EDD-86790431A301}" type="presParOf" srcId="{0D5DCB26-493E-4BC4-AA48-125BEA120F1D}" destId="{D685B3E0-0488-4BBB-B232-A2741DC6A46B}" srcOrd="9" destOrd="0" presId="urn:microsoft.com/office/officeart/2005/8/layout/bProcess4"/>
    <dgm:cxn modelId="{8ACA9A15-E4EF-47C8-9032-9D5A959F5384}" type="presParOf" srcId="{0D5DCB26-493E-4BC4-AA48-125BEA120F1D}" destId="{3806B7F4-A3B4-443C-93D2-0D01500DB51C}" srcOrd="10" destOrd="0" presId="urn:microsoft.com/office/officeart/2005/8/layout/bProcess4"/>
    <dgm:cxn modelId="{5FEE4A4A-C36F-4EE2-9FEA-E8BB48AA93FF}" type="presParOf" srcId="{3806B7F4-A3B4-443C-93D2-0D01500DB51C}" destId="{4B9C8449-D6E1-48FA-A94B-90A35C9320BB}" srcOrd="0" destOrd="0" presId="urn:microsoft.com/office/officeart/2005/8/layout/bProcess4"/>
    <dgm:cxn modelId="{551059C0-20D1-4767-A4AA-F819246184A4}" type="presParOf" srcId="{3806B7F4-A3B4-443C-93D2-0D01500DB51C}" destId="{21CFCB7C-AABD-4DD5-9565-748BEC9F735F}" srcOrd="1" destOrd="0" presId="urn:microsoft.com/office/officeart/2005/8/layout/bProcess4"/>
    <dgm:cxn modelId="{AE11B549-D3BF-46DA-B6B5-3151D72BA736}" type="presParOf" srcId="{0D5DCB26-493E-4BC4-AA48-125BEA120F1D}" destId="{DF919D91-6283-4699-8530-CDC7953790D6}" srcOrd="11" destOrd="0" presId="urn:microsoft.com/office/officeart/2005/8/layout/bProcess4"/>
    <dgm:cxn modelId="{46CA3760-BAE8-468E-B803-80F82D3D609B}" type="presParOf" srcId="{0D5DCB26-493E-4BC4-AA48-125BEA120F1D}" destId="{B4E92907-2E52-4E6B-BA0D-1EEBF4E6E0A2}" srcOrd="12" destOrd="0" presId="urn:microsoft.com/office/officeart/2005/8/layout/bProcess4"/>
    <dgm:cxn modelId="{D0F5E0E3-29F8-42A1-AC9C-85B2891336D6}" type="presParOf" srcId="{B4E92907-2E52-4E6B-BA0D-1EEBF4E6E0A2}" destId="{AA204D47-785E-4C8C-81D3-069CB289F57D}" srcOrd="0" destOrd="0" presId="urn:microsoft.com/office/officeart/2005/8/layout/bProcess4"/>
    <dgm:cxn modelId="{730667EC-1265-4E3E-B427-8DE494FC82F2}" type="presParOf" srcId="{B4E92907-2E52-4E6B-BA0D-1EEBF4E6E0A2}" destId="{3B7B2F91-B101-492D-8701-621F5D816869}" srcOrd="1" destOrd="0" presId="urn:microsoft.com/office/officeart/2005/8/layout/bProcess4"/>
    <dgm:cxn modelId="{ABDD9208-6BBF-4C21-99CD-D26213EDAAEC}" type="presParOf" srcId="{0D5DCB26-493E-4BC4-AA48-125BEA120F1D}" destId="{E48BE081-152B-4C10-8573-76AEEE8963F3}" srcOrd="13" destOrd="0" presId="urn:microsoft.com/office/officeart/2005/8/layout/bProcess4"/>
    <dgm:cxn modelId="{ECB22C5E-0267-4414-A537-E5E5F3CC5611}" type="presParOf" srcId="{0D5DCB26-493E-4BC4-AA48-125BEA120F1D}" destId="{E84D94FB-E363-45BD-9F7F-DEFB330B52FA}" srcOrd="14" destOrd="0" presId="urn:microsoft.com/office/officeart/2005/8/layout/bProcess4"/>
    <dgm:cxn modelId="{6CFD776C-D5B7-44BC-B82A-7B56A5E3E352}" type="presParOf" srcId="{E84D94FB-E363-45BD-9F7F-DEFB330B52FA}" destId="{7656137F-E808-43DE-9502-E5A0E2E8C9B4}" srcOrd="0" destOrd="0" presId="urn:microsoft.com/office/officeart/2005/8/layout/bProcess4"/>
    <dgm:cxn modelId="{2E523810-C2CE-4B8C-8055-719C8637CA6E}" type="presParOf" srcId="{E84D94FB-E363-45BD-9F7F-DEFB330B52FA}" destId="{DAE1A7F9-5A50-4DFA-8BC5-33D93500AB05}" srcOrd="1" destOrd="0" presId="urn:microsoft.com/office/officeart/2005/8/layout/bProcess4"/>
    <dgm:cxn modelId="{7B2ADD69-79D7-44AA-865B-BCD8469367D8}" type="presParOf" srcId="{0D5DCB26-493E-4BC4-AA48-125BEA120F1D}" destId="{A0A3C37C-6D07-425B-840D-7F3A782D2391}" srcOrd="15" destOrd="0" presId="urn:microsoft.com/office/officeart/2005/8/layout/bProcess4"/>
    <dgm:cxn modelId="{8B72C33A-6AB5-4626-8429-89DC5638D621}" type="presParOf" srcId="{0D5DCB26-493E-4BC4-AA48-125BEA120F1D}" destId="{3BCA782C-134B-43DD-AE5E-CC7C4E1BC530}" srcOrd="16" destOrd="0" presId="urn:microsoft.com/office/officeart/2005/8/layout/bProcess4"/>
    <dgm:cxn modelId="{42ECCB86-A496-4383-BE56-9D416E2EA8F7}" type="presParOf" srcId="{3BCA782C-134B-43DD-AE5E-CC7C4E1BC530}" destId="{4A4B8034-759E-4618-8640-1F1201F67D82}" srcOrd="0" destOrd="0" presId="urn:microsoft.com/office/officeart/2005/8/layout/bProcess4"/>
    <dgm:cxn modelId="{E4A62AA5-77AB-46D1-98D1-44192051B14A}" type="presParOf" srcId="{3BCA782C-134B-43DD-AE5E-CC7C4E1BC530}" destId="{21A74CD8-A243-4209-9D84-8B2FF85BF7FA}" srcOrd="1" destOrd="0" presId="urn:microsoft.com/office/officeart/2005/8/layout/bProcess4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440E9C1D-E9E9-4651-91B9-96CBC59BD5A5}">
      <dsp:nvSpPr>
        <dsp:cNvPr id="0" name=""/>
        <dsp:cNvSpPr/>
      </dsp:nvSpPr>
      <dsp:spPr>
        <a:xfrm rot="5400000">
          <a:off x="153588" y="1122567"/>
          <a:ext cx="1755253" cy="211675"/>
        </a:xfrm>
        <a:prstGeom prst="rect">
          <a:avLst/>
        </a:prstGeom>
        <a:solidFill>
          <a:srgbClr val="66FFFF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3DEFE5AA-9407-40B8-A97E-E849765F3283}">
      <dsp:nvSpPr>
        <dsp:cNvPr id="0" name=""/>
        <dsp:cNvSpPr/>
      </dsp:nvSpPr>
      <dsp:spPr>
        <a:xfrm>
          <a:off x="556470" y="1035"/>
          <a:ext cx="2351950" cy="1411170"/>
        </a:xfrm>
        <a:prstGeom prst="roundRect">
          <a:avLst>
            <a:gd name="adj" fmla="val 10000"/>
          </a:avLst>
        </a:prstGeom>
        <a:solidFill>
          <a:srgbClr val="66FFFF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solidFill>
                <a:srgbClr val="000000"/>
              </a:solidFill>
              <a:latin typeface="Constantia" pitchFamily="18" charset="0"/>
            </a:rPr>
            <a:t>1. Знакомство  с  дет.садом на совместных прогулках. </a:t>
          </a:r>
          <a:endParaRPr lang="ru-RU" sz="2000" b="1" i="1" kern="1200" dirty="0">
            <a:solidFill>
              <a:srgbClr val="000000"/>
            </a:solidFill>
            <a:latin typeface="Constantia" pitchFamily="18" charset="0"/>
          </a:endParaRPr>
        </a:p>
      </dsp:txBody>
      <dsp:txXfrm>
        <a:off x="556470" y="1035"/>
        <a:ext cx="2351950" cy="1411170"/>
      </dsp:txXfrm>
    </dsp:sp>
    <dsp:sp modelId="{325A8406-FD67-4750-8BA4-AE969E0E44F7}">
      <dsp:nvSpPr>
        <dsp:cNvPr id="0" name=""/>
        <dsp:cNvSpPr/>
      </dsp:nvSpPr>
      <dsp:spPr>
        <a:xfrm rot="5400000">
          <a:off x="153588" y="2886530"/>
          <a:ext cx="1755253" cy="211675"/>
        </a:xfrm>
        <a:prstGeom prst="rect">
          <a:avLst/>
        </a:prstGeom>
        <a:solidFill>
          <a:srgbClr val="66FF33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EB66A396-4D5C-4104-9470-8020D36C1CB8}">
      <dsp:nvSpPr>
        <dsp:cNvPr id="0" name=""/>
        <dsp:cNvSpPr/>
      </dsp:nvSpPr>
      <dsp:spPr>
        <a:xfrm>
          <a:off x="556470" y="1764998"/>
          <a:ext cx="2351950" cy="1411170"/>
        </a:xfrm>
        <a:prstGeom prst="roundRect">
          <a:avLst>
            <a:gd name="adj" fmla="val 10000"/>
          </a:avLst>
        </a:prstGeom>
        <a:solidFill>
          <a:srgbClr val="66FF33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solidFill>
                <a:srgbClr val="000000"/>
              </a:solidFill>
              <a:latin typeface="Constantia" pitchFamily="18" charset="0"/>
            </a:rPr>
            <a:t>2. Постепенный переход в группу с ограничением (2-3 часа). </a:t>
          </a:r>
          <a:endParaRPr lang="ru-RU" sz="2000" b="1" i="1" kern="1200" dirty="0">
            <a:solidFill>
              <a:srgbClr val="000000"/>
            </a:solidFill>
            <a:latin typeface="Constantia" pitchFamily="18" charset="0"/>
          </a:endParaRPr>
        </a:p>
      </dsp:txBody>
      <dsp:txXfrm>
        <a:off x="556470" y="1764998"/>
        <a:ext cx="2351950" cy="1411170"/>
      </dsp:txXfrm>
    </dsp:sp>
    <dsp:sp modelId="{A0010983-65AC-4532-AC65-5086BB982E41}">
      <dsp:nvSpPr>
        <dsp:cNvPr id="0" name=""/>
        <dsp:cNvSpPr/>
      </dsp:nvSpPr>
      <dsp:spPr>
        <a:xfrm>
          <a:off x="1035570" y="3768511"/>
          <a:ext cx="3119384" cy="211675"/>
        </a:xfrm>
        <a:prstGeom prst="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DC62F9E3-3DD2-4B3C-BA5F-D3EFE9F87DBE}">
      <dsp:nvSpPr>
        <dsp:cNvPr id="0" name=""/>
        <dsp:cNvSpPr/>
      </dsp:nvSpPr>
      <dsp:spPr>
        <a:xfrm>
          <a:off x="556470" y="3528961"/>
          <a:ext cx="2351950" cy="1411170"/>
        </a:xfrm>
        <a:prstGeom prst="roundRect">
          <a:avLst>
            <a:gd name="adj" fmla="val 10000"/>
          </a:avLst>
        </a:prstGeom>
        <a:solidFill>
          <a:srgbClr val="00B05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solidFill>
                <a:srgbClr val="000000"/>
              </a:solidFill>
              <a:latin typeface="Constantia" pitchFamily="18" charset="0"/>
            </a:rPr>
            <a:t>3. Важно, чтобы ребенок чувствовал Ваш голос.</a:t>
          </a:r>
          <a:endParaRPr lang="ru-RU" sz="2000" b="1" i="1" kern="1200" dirty="0">
            <a:solidFill>
              <a:srgbClr val="000000"/>
            </a:solidFill>
            <a:latin typeface="Constantia" pitchFamily="18" charset="0"/>
          </a:endParaRPr>
        </a:p>
      </dsp:txBody>
      <dsp:txXfrm>
        <a:off x="556470" y="3528961"/>
        <a:ext cx="2351950" cy="1411170"/>
      </dsp:txXfrm>
    </dsp:sp>
    <dsp:sp modelId="{FF62FEC9-7F0C-4EF2-812E-5C3CCFA4E84F}">
      <dsp:nvSpPr>
        <dsp:cNvPr id="0" name=""/>
        <dsp:cNvSpPr/>
      </dsp:nvSpPr>
      <dsp:spPr>
        <a:xfrm rot="16200000">
          <a:off x="3281683" y="2886530"/>
          <a:ext cx="1755253" cy="211675"/>
        </a:xfrm>
        <a:prstGeom prst="rect">
          <a:avLst/>
        </a:prstGeom>
        <a:solidFill>
          <a:srgbClr val="008000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2C169E14-A7F8-4150-9CF5-38095A05B47D}">
      <dsp:nvSpPr>
        <dsp:cNvPr id="0" name=""/>
        <dsp:cNvSpPr/>
      </dsp:nvSpPr>
      <dsp:spPr>
        <a:xfrm>
          <a:off x="3684564" y="3528961"/>
          <a:ext cx="2351950" cy="1411170"/>
        </a:xfrm>
        <a:prstGeom prst="roundRect">
          <a:avLst>
            <a:gd name="adj" fmla="val 10000"/>
          </a:avLst>
        </a:prstGeom>
        <a:solidFill>
          <a:srgbClr val="00800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solidFill>
                <a:srgbClr val="000000"/>
              </a:solidFill>
              <a:latin typeface="Constantia" pitchFamily="18" charset="0"/>
            </a:rPr>
            <a:t>6. В помощь – папа или дедушка.</a:t>
          </a:r>
          <a:endParaRPr lang="ru-RU" sz="2000" b="1" i="1" kern="1200" dirty="0">
            <a:solidFill>
              <a:srgbClr val="000000"/>
            </a:solidFill>
            <a:latin typeface="Constantia" pitchFamily="18" charset="0"/>
          </a:endParaRPr>
        </a:p>
      </dsp:txBody>
      <dsp:txXfrm>
        <a:off x="3684564" y="3528961"/>
        <a:ext cx="2351950" cy="1411170"/>
      </dsp:txXfrm>
    </dsp:sp>
    <dsp:sp modelId="{D685B3E0-0488-4BBB-B232-A2741DC6A46B}">
      <dsp:nvSpPr>
        <dsp:cNvPr id="0" name=""/>
        <dsp:cNvSpPr/>
      </dsp:nvSpPr>
      <dsp:spPr>
        <a:xfrm rot="16200000">
          <a:off x="3281683" y="1122567"/>
          <a:ext cx="1755253" cy="211675"/>
        </a:xfrm>
        <a:prstGeom prst="rect">
          <a:avLst/>
        </a:prstGeom>
        <a:solidFill>
          <a:srgbClr val="00B0F0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C044A406-39D3-4B64-B6DB-DD9CFE7CDEEC}">
      <dsp:nvSpPr>
        <dsp:cNvPr id="0" name=""/>
        <dsp:cNvSpPr/>
      </dsp:nvSpPr>
      <dsp:spPr>
        <a:xfrm>
          <a:off x="3684564" y="1764998"/>
          <a:ext cx="2351950" cy="1411170"/>
        </a:xfrm>
        <a:prstGeom prst="roundRect">
          <a:avLst>
            <a:gd name="adj" fmla="val 10000"/>
          </a:avLst>
        </a:prstGeom>
        <a:solidFill>
          <a:srgbClr val="00B0F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solidFill>
                <a:srgbClr val="000000"/>
              </a:solidFill>
              <a:latin typeface="Constantia" pitchFamily="18" charset="0"/>
            </a:rPr>
            <a:t>5. На 9-ый день останьтесь дома.</a:t>
          </a:r>
          <a:endParaRPr lang="ru-RU" sz="2000" b="1" i="1" kern="1200" dirty="0">
            <a:solidFill>
              <a:srgbClr val="000000"/>
            </a:solidFill>
            <a:latin typeface="Constantia" pitchFamily="18" charset="0"/>
          </a:endParaRPr>
        </a:p>
      </dsp:txBody>
      <dsp:txXfrm>
        <a:off x="3684564" y="1764998"/>
        <a:ext cx="2351950" cy="1411170"/>
      </dsp:txXfrm>
    </dsp:sp>
    <dsp:sp modelId="{DF919D91-6283-4699-8530-CDC7953790D6}">
      <dsp:nvSpPr>
        <dsp:cNvPr id="0" name=""/>
        <dsp:cNvSpPr/>
      </dsp:nvSpPr>
      <dsp:spPr>
        <a:xfrm>
          <a:off x="4163664" y="240585"/>
          <a:ext cx="3119384" cy="211675"/>
        </a:xfrm>
        <a:prstGeom prst="rect">
          <a:avLst/>
        </a:prstGeom>
        <a:solidFill>
          <a:srgbClr val="0070C0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21CFCB7C-AABD-4DD5-9565-748BEC9F735F}">
      <dsp:nvSpPr>
        <dsp:cNvPr id="0" name=""/>
        <dsp:cNvSpPr/>
      </dsp:nvSpPr>
      <dsp:spPr>
        <a:xfrm>
          <a:off x="3684564" y="1035"/>
          <a:ext cx="2351950" cy="1411170"/>
        </a:xfrm>
        <a:prstGeom prst="roundRect">
          <a:avLst>
            <a:gd name="adj" fmla="val 10000"/>
          </a:avLst>
        </a:prstGeom>
        <a:solidFill>
          <a:srgbClr val="0070C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solidFill>
                <a:srgbClr val="000000"/>
              </a:solidFill>
              <a:latin typeface="Constantia" pitchFamily="18" charset="0"/>
            </a:rPr>
            <a:t>4. На 6-ой день желательно оставить на дневной сон.</a:t>
          </a:r>
          <a:endParaRPr lang="ru-RU" sz="2000" b="1" i="1" kern="1200" dirty="0">
            <a:solidFill>
              <a:srgbClr val="000000"/>
            </a:solidFill>
            <a:latin typeface="Constantia" pitchFamily="18" charset="0"/>
          </a:endParaRPr>
        </a:p>
      </dsp:txBody>
      <dsp:txXfrm>
        <a:off x="3684564" y="1035"/>
        <a:ext cx="2351950" cy="1411170"/>
      </dsp:txXfrm>
    </dsp:sp>
    <dsp:sp modelId="{E48BE081-152B-4C10-8573-76AEEE8963F3}">
      <dsp:nvSpPr>
        <dsp:cNvPr id="0" name=""/>
        <dsp:cNvSpPr/>
      </dsp:nvSpPr>
      <dsp:spPr>
        <a:xfrm rot="5435793">
          <a:off x="6404078" y="1119116"/>
          <a:ext cx="1748447" cy="211675"/>
        </a:xfrm>
        <a:prstGeom prst="rect">
          <a:avLst/>
        </a:prstGeom>
        <a:solidFill>
          <a:srgbClr val="9999FF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3B7B2F91-B101-492D-8701-621F5D816869}">
      <dsp:nvSpPr>
        <dsp:cNvPr id="0" name=""/>
        <dsp:cNvSpPr/>
      </dsp:nvSpPr>
      <dsp:spPr>
        <a:xfrm>
          <a:off x="6812659" y="1035"/>
          <a:ext cx="2351950" cy="1411170"/>
        </a:xfrm>
        <a:prstGeom prst="roundRect">
          <a:avLst>
            <a:gd name="adj" fmla="val 10000"/>
          </a:avLst>
        </a:prstGeom>
        <a:solidFill>
          <a:srgbClr val="9999FF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solidFill>
                <a:srgbClr val="000000"/>
              </a:solidFill>
              <a:latin typeface="Constantia" pitchFamily="18" charset="0"/>
            </a:rPr>
            <a:t>7. Плач, капризы, страхи – это нормально!</a:t>
          </a:r>
          <a:endParaRPr lang="ru-RU" sz="2000" b="1" i="1" kern="1200" dirty="0">
            <a:solidFill>
              <a:srgbClr val="000000"/>
            </a:solidFill>
            <a:latin typeface="Constantia" pitchFamily="18" charset="0"/>
          </a:endParaRPr>
        </a:p>
      </dsp:txBody>
      <dsp:txXfrm>
        <a:off x="6812659" y="1035"/>
        <a:ext cx="2351950" cy="1411170"/>
      </dsp:txXfrm>
    </dsp:sp>
    <dsp:sp modelId="{A0A3C37C-6D07-425B-840D-7F3A782D2391}">
      <dsp:nvSpPr>
        <dsp:cNvPr id="0" name=""/>
        <dsp:cNvSpPr/>
      </dsp:nvSpPr>
      <dsp:spPr>
        <a:xfrm rot="5373049">
          <a:off x="6392843" y="2885257"/>
          <a:ext cx="1766562" cy="211675"/>
        </a:xfrm>
        <a:prstGeom prst="rect">
          <a:avLst/>
        </a:prstGeom>
        <a:solidFill>
          <a:srgbClr val="CC00CC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DAE1A7F9-5A50-4DFA-8BC5-33D93500AB05}">
      <dsp:nvSpPr>
        <dsp:cNvPr id="0" name=""/>
        <dsp:cNvSpPr/>
      </dsp:nvSpPr>
      <dsp:spPr>
        <a:xfrm>
          <a:off x="6794455" y="1758098"/>
          <a:ext cx="2351950" cy="1411170"/>
        </a:xfrm>
        <a:prstGeom prst="roundRect">
          <a:avLst>
            <a:gd name="adj" fmla="val 10000"/>
          </a:avLst>
        </a:prstGeom>
        <a:solidFill>
          <a:srgbClr val="CC00CC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solidFill>
                <a:srgbClr val="000000"/>
              </a:solidFill>
              <a:latin typeface="Constantia" pitchFamily="18" charset="0"/>
            </a:rPr>
            <a:t>8. Не ломайте «вредные привычки» ребенка.</a:t>
          </a:r>
          <a:endParaRPr lang="ru-RU" sz="2000" b="1" i="1" kern="1200" dirty="0">
            <a:solidFill>
              <a:srgbClr val="000000"/>
            </a:solidFill>
            <a:latin typeface="Constantia" pitchFamily="18" charset="0"/>
          </a:endParaRPr>
        </a:p>
      </dsp:txBody>
      <dsp:txXfrm>
        <a:off x="6794455" y="1758098"/>
        <a:ext cx="2351950" cy="1411170"/>
      </dsp:txXfrm>
    </dsp:sp>
    <dsp:sp modelId="{21A74CD8-A243-4209-9D84-8B2FF85BF7FA}">
      <dsp:nvSpPr>
        <dsp:cNvPr id="0" name=""/>
        <dsp:cNvSpPr/>
      </dsp:nvSpPr>
      <dsp:spPr>
        <a:xfrm>
          <a:off x="6812659" y="3528961"/>
          <a:ext cx="2351950" cy="1411170"/>
        </a:xfrm>
        <a:prstGeom prst="roundRect">
          <a:avLst>
            <a:gd name="adj" fmla="val 10000"/>
          </a:avLst>
        </a:prstGeom>
        <a:solidFill>
          <a:srgbClr val="993366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solidFill>
                <a:srgbClr val="000000"/>
              </a:solidFill>
              <a:latin typeface="Constantia" pitchFamily="18" charset="0"/>
            </a:rPr>
            <a:t>9. </a:t>
          </a:r>
          <a:r>
            <a:rPr lang="ru-RU" sz="2000" b="1" i="1" kern="1200" dirty="0" err="1" smtClean="0">
              <a:solidFill>
                <a:srgbClr val="000000"/>
              </a:solidFill>
              <a:latin typeface="Constantia" pitchFamily="18" charset="0"/>
            </a:rPr>
            <a:t>Успокоитель-ные</a:t>
          </a:r>
          <a:r>
            <a:rPr lang="ru-RU" sz="2000" b="1" i="1" kern="1200" dirty="0" smtClean="0">
              <a:solidFill>
                <a:srgbClr val="000000"/>
              </a:solidFill>
              <a:latin typeface="Constantia" pitchFamily="18" charset="0"/>
            </a:rPr>
            <a:t> травяные и </a:t>
          </a:r>
          <a:r>
            <a:rPr lang="ru-RU" sz="2000" b="1" i="1" kern="1200" dirty="0" err="1" smtClean="0">
              <a:solidFill>
                <a:srgbClr val="000000"/>
              </a:solidFill>
              <a:latin typeface="Constantia" pitchFamily="18" charset="0"/>
            </a:rPr>
            <a:t>общеукрепля-ющие</a:t>
          </a:r>
          <a:r>
            <a:rPr lang="ru-RU" sz="2000" b="1" i="1" kern="1200" dirty="0" smtClean="0">
              <a:solidFill>
                <a:srgbClr val="000000"/>
              </a:solidFill>
              <a:latin typeface="Constantia" pitchFamily="18" charset="0"/>
            </a:rPr>
            <a:t> сборы</a:t>
          </a:r>
          <a:endParaRPr lang="ru-RU" sz="2000" b="1" i="1" kern="1200" dirty="0">
            <a:solidFill>
              <a:srgbClr val="000000"/>
            </a:solidFill>
            <a:latin typeface="Constantia" pitchFamily="18" charset="0"/>
          </a:endParaRPr>
        </a:p>
      </dsp:txBody>
      <dsp:txXfrm>
        <a:off x="6812659" y="3528961"/>
        <a:ext cx="2351950" cy="1411170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bProcess4">
  <dgm:title val=""/>
  <dgm:desc val=""/>
  <dgm:catLst>
    <dgm:cat type="process" pri="19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  <dgm:pt modelId="6">
          <dgm:prSet phldr="1"/>
        </dgm:pt>
        <dgm:pt modelId="7">
          <dgm:prSet phldr="1"/>
        </dgm:pt>
        <dgm:pt modelId="8">
          <dgm:prSet phldr="1"/>
        </dgm:pt>
        <dgm:pt modelId="9">
          <dgm:prSet phldr="1"/>
        </dgm:pt>
      </dgm:ptLst>
      <dgm:cxnLst>
        <dgm:cxn modelId="10" srcId="0" destId="1" srcOrd="0" destOrd="0"/>
        <dgm:cxn modelId="11" srcId="0" destId="2" srcOrd="1" destOrd="0"/>
        <dgm:cxn modelId="12" srcId="0" destId="3" srcOrd="2" destOrd="0"/>
        <dgm:cxn modelId="13" srcId="0" destId="4" srcOrd="3" destOrd="0"/>
        <dgm:cxn modelId="14" srcId="0" destId="5" srcOrd="4" destOrd="0"/>
        <dgm:cxn modelId="15" srcId="0" destId="6" srcOrd="5" destOrd="0"/>
        <dgm:cxn modelId="16" srcId="0" destId="7" srcOrd="6" destOrd="0"/>
        <dgm:cxn modelId="17" srcId="0" destId="8" srcOrd="7" destOrd="0"/>
        <dgm:cxn modelId="18" srcId="0" destId="9" srcOrd="8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Name0">
    <dgm:varLst>
      <dgm:dir/>
      <dgm:resizeHandles/>
    </dgm:varLst>
    <dgm:choose name="Name1">
      <dgm:if name="Name2" func="var" arg="dir" op="equ" val="norm">
        <dgm:alg type="snake">
          <dgm:param type="grDir" val="tL"/>
          <dgm:param type="flowDir" val="col"/>
          <dgm:param type="contDir" val="revDir"/>
          <dgm:param type="bkpt" val="bal"/>
        </dgm:alg>
      </dgm:if>
      <dgm:else name="Name3">
        <dgm:alg type="snake">
          <dgm:param type="grDir" val="tR"/>
          <dgm:param type="flowDir" val="col"/>
          <dgm:param type="contDir" val="revDir"/>
          <dgm:param type="bkpt" val="bal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ompNode" refType="w"/>
      <dgm:constr type="h" for="ch" forName="compNode" refType="w" fact="0.6"/>
      <dgm:constr type="h" for="ch" forName="sibTrans" refType="h" refFor="ch" refForName="compNode" op="equ" fact="0.25"/>
      <dgm:constr type="sp" refType="w" fact="0.33"/>
      <dgm:constr type="primFontSz" for="des" forName="node" op="equ" val="65"/>
    </dgm:constrLst>
    <dgm:ruleLst/>
    <dgm:forEach name="nodesForEach" axis="ch" ptType="node">
      <dgm:layoutNode name="compNode">
        <dgm:alg type="composite"/>
        <dgm:shape xmlns:r="http://schemas.openxmlformats.org/officeDocument/2006/relationships" r:blip="">
          <dgm:adjLst/>
        </dgm:shape>
        <dgm:presOf/>
        <dgm:choose name="Name4">
          <dgm:if name="Name5" axis="self" func="var" arg="dir" op="equ" val="norm">
            <dgm:constrLst>
              <dgm:constr type="l" for="ch" forName="dummyConnPt" refType="w" fact="0.2"/>
              <dgm:constr type="t" for="ch" forName="dummyConnPt" refType="w" fact="0.145"/>
              <dgm:constr type="l" for="ch" forName="node"/>
              <dgm:constr type="t" for="ch" forName="node"/>
              <dgm:constr type="h" for="ch" forName="node" refType="h"/>
              <dgm:constr type="w" for="ch" forName="node" refType="w"/>
            </dgm:constrLst>
          </dgm:if>
          <dgm:else name="Name6">
            <dgm:constrLst>
              <dgm:constr type="l" for="ch" forName="dummyConnPt" refType="w" fact="0.8"/>
              <dgm:constr type="t" for="ch" forName="dummyConnPt" refType="w" fact="0.145"/>
              <dgm:constr type="l" for="ch" forName="node"/>
              <dgm:constr type="t" for="ch" forName="node"/>
              <dgm:constr type="h" for="ch" forName="node" refType="h"/>
              <dgm:constr type="w" for="ch" forName="node" refType="w"/>
            </dgm:constrLst>
          </dgm:else>
        </dgm:choose>
        <dgm:ruleLst/>
        <dgm:layoutNode name="dummyConnPt" styleLbl="node1" moveWith="node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node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desOrSelf" ptType="node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  <dgm:constr type="primFontSz" val="65"/>
          </dgm:constrLst>
          <dgm:ruleLst>
            <dgm:rule type="primFontSz" val="5" fact="NaN" max="NaN"/>
          </dgm:ruleLst>
        </dgm:layoutNode>
      </dgm:layoutNode>
      <dgm:forEach name="sibTransForEach" axis="followSib" cnt="1">
        <dgm:layoutNode name="sibTrans" styleLbl="bgSibTrans2D1">
          <dgm:choose name="Name7">
            <dgm:if name="Name8" axis="self" func="var" arg="dir" op="equ" val="norm">
              <dgm:alg type="conn">
                <dgm:param type="srcNode" val="dummyConnPt"/>
                <dgm:param type="dstNode" val="dummyConnPt"/>
                <dgm:param type="begPts" val="bCtr, midR, tCtr"/>
                <dgm:param type="endPts" val="tCtr, midL, bCtr"/>
                <dgm:param type="begSty" val="noArr"/>
                <dgm:param type="endSty" val="noArr"/>
              </dgm:alg>
            </dgm:if>
            <dgm:else name="Name9">
              <dgm:alg type="conn">
                <dgm:param type="srcNode" val="dummyConnPt"/>
                <dgm:param type="dstNode" val="dummyConnPt"/>
                <dgm:param type="begPts" val="bCtr, midL, tCtr"/>
                <dgm:param type="endPts" val="tCtr, midR, bCtr"/>
                <dgm:param type="begSty" val="noArr"/>
                <dgm:param type="endSty" val="noArr"/>
              </dgm:alg>
            </dgm:else>
          </dgm:choose>
          <dgm:shape xmlns:r="http://schemas.openxmlformats.org/officeDocument/2006/relationships" type="conn" r:blip="" zOrderOff="-2">
            <dgm:adjLst/>
          </dgm:shape>
          <dgm:presOf axis="self"/>
          <dgm:constrLst>
            <dgm:constr type="begPad"/>
            <dgm:constr type="endPad"/>
          </dgm:constrLst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113B1E-1147-410A-93F5-CF233C950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9DDA24-496E-4635-BF58-08C1C3E8D07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38A-88CB-462B-AA3B-750F3008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A37-0F3C-462E-872D-271A7453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7BBB-343B-4568-8B2C-55B8FF10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2CF-9E3E-42C0-9E02-4BD69D24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8EE9-78BE-4487-8FCD-E19FE953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34CC-52EE-4286-941F-D9DF1EE3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841E-ECA1-4363-ABB7-55EA65EA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9B74-896D-4127-9970-6CEA0DDA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671D-81D9-4D65-ADA3-A3E2C4C1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F8DF-B65A-40E3-9E37-78691C42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2D25-8242-4157-A22A-310ADA56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719-6EAE-4450-A6E6-01B9048E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71F0-F3B0-4FDB-99AB-0218DCDB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251E-EF8B-455D-A7D6-009D3C7F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1998-911A-441D-BB91-7ADEDCAF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C7B5-1D7B-4617-BF9A-F6EFB55E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4728-5019-4E32-BBB3-26328710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DC5A-8195-4EA3-8841-E8C80A40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E26-5FA0-4C51-8B5B-F8E259B0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CF6-0852-41C8-BD21-BC8C869A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D26-C326-4E30-9E98-473EE492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C63-73D2-4498-93E0-6087B8A1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3606-683A-423B-A92E-39D50D09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21C-7CBE-4219-9DBF-6E4F68B4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6">
            <a:lumMod val="40000"/>
            <a:lumOff val="6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f3f2dc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f3f2dc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f1eda7">
                  <a:alpha val="60000"/>
                </a:srgbClr>
              </a:gs>
              <a:gs pos="100000">
                <a:srgbClr val="fffff7">
                  <a:alpha val="70196"/>
                </a:srgbClr>
              </a:gs>
            </a:gsLst>
            <a:lin ang="13500000"/>
          </a:gradFill>
          <a:ln cap="rnd" w="7350">
            <a:solidFill>
              <a:srgbClr val="f3f2dc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e84325"/>
                </a:solidFill>
                <a:latin typeface="Arial"/>
              </a:rPr>
              <a:t>Образец заголовка</a:t>
            </a:r>
            <a:endParaRPr b="0" lang="ru-RU" sz="43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9a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cbc9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AFEEDFA-CC8D-49BF-97E4-15BAB076DC0C}" type="slidenum">
              <a:rPr b="0" lang="ru-RU" sz="1200" spc="-1" strike="noStrike">
                <a:solidFill>
                  <a:srgbClr val="bcbc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6">
            <a:lumMod val="40000"/>
            <a:lumOff val="6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f3f2dc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f3f2dc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8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f1eda7">
                  <a:alpha val="60000"/>
                </a:srgbClr>
              </a:gs>
              <a:gs pos="100000">
                <a:srgbClr val="fffff7">
                  <a:alpha val="70196"/>
                </a:srgbClr>
              </a:gs>
            </a:gsLst>
            <a:lin ang="13500000"/>
          </a:gradFill>
          <a:ln cap="rnd" w="7350">
            <a:solidFill>
              <a:srgbClr val="f3f2dc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014840" y="0"/>
            <a:ext cx="81288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9a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cbc9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2DD192D-806E-4262-BF9D-8AEEF9750ECE}" type="slidenum">
              <a:rPr b="0" lang="ru-RU" sz="1200" spc="-1" strike="noStrike">
                <a:solidFill>
                  <a:srgbClr val="bcbc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292934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microsoft.com/office/2007/relationships/diagramDrawing" Target="../diagrams/drawing1.xml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5680" y="0"/>
            <a:ext cx="74977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c00000"/>
                </a:solidFill>
                <a:latin typeface="Constantia"/>
              </a:rPr>
              <a:t>Что такое адаптация?</a:t>
            </a:r>
            <a:endParaRPr b="0" lang="ru-RU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Рисунок 67"/>
          <p:cNvSpPr/>
          <p:nvPr/>
        </p:nvSpPr>
        <p:spPr>
          <a:xfrm>
            <a:off x="3492000" y="3933000"/>
            <a:ext cx="3408120" cy="20448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0"/>
          <p:cNvSpPr/>
          <p:nvPr/>
        </p:nvSpPr>
        <p:spPr>
          <a:xfrm>
            <a:off x="1259640" y="908640"/>
            <a:ext cx="7416360" cy="1918440"/>
          </a:xfrm>
          <a:prstGeom prst="rect">
            <a:avLst/>
          </a:prstGeom>
          <a:solidFill>
            <a:srgbClr val="d2533c"/>
          </a:solidFill>
          <a:ln w="28575">
            <a:solidFill>
              <a:srgbClr val="79463d">
                <a:lumMod val="75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  <a:scene3d>
            <a:camera fov="0" prst="orthographicFront">
              <a:rot lat="0" lon="0" rev="0"/>
            </a:camera>
            <a:lightRig dir="tl" rig="brightRoom">
              <a:rot lat="0" lon="0" rev="8700000"/>
            </a:lightRig>
          </a:scene3d>
          <a:sp3d contourW="12700">
            <a:bevelT prst="artDeco" w="114300"/>
            <a:contourClr>
              <a:schemeClr val="accent5"/>
            </a:contourClr>
          </a:sp3d>
        </p:spPr>
        <p:style>
          <a:lnRef idx="1">
            <a:schemeClr val="accent5"/>
          </a:lnRef>
          <a:fillRef idx="1001">
            <a:schemeClr val="dk2"/>
          </a:fillRef>
          <a:effectRef idx="2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2060"/>
                </a:solidFill>
                <a:latin typeface="Constantia"/>
                <a:ea typeface="Calibri"/>
              </a:rPr>
              <a:t>Адаптация</a:t>
            </a:r>
            <a:r>
              <a:rPr b="1" i="1" lang="ru-RU" sz="2400" spc="-1" strike="noStrike">
                <a:solidFill>
                  <a:srgbClr val="ff0000"/>
                </a:solidFill>
                <a:latin typeface="Constantia"/>
                <a:ea typeface="Calibri"/>
              </a:rPr>
              <a:t> </a:t>
            </a:r>
            <a:r>
              <a:rPr b="1" i="1" lang="ru-RU" sz="2400" spc="-1" strike="noStrike">
                <a:solidFill>
                  <a:schemeClr val="lt1"/>
                </a:solidFill>
                <a:latin typeface="Constantia"/>
                <a:ea typeface="Calibri"/>
              </a:rPr>
              <a:t>– процесс вхождения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lt1"/>
                </a:solidFill>
                <a:latin typeface="Constantia"/>
                <a:ea typeface="Calibri"/>
              </a:rPr>
              <a:t>в новую для него среду и приспособ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lt1"/>
                </a:solidFill>
                <a:latin typeface="Constantia"/>
                <a:ea typeface="Calibri"/>
              </a:rPr>
              <a:t>к ее условиям, который происходит на разных уровнях: физиологическом, психологиче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11"/>
          <p:cNvSpPr/>
          <p:nvPr/>
        </p:nvSpPr>
        <p:spPr>
          <a:xfrm>
            <a:off x="3420000" y="2637000"/>
            <a:ext cx="3528000" cy="791640"/>
          </a:xfrm>
          <a:prstGeom prst="roundRect">
            <a:avLst>
              <a:gd name="adj" fmla="val 16667"/>
            </a:avLst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cc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2060"/>
                </a:solidFill>
                <a:latin typeface="Constantia"/>
              </a:rPr>
              <a:t>УРОВНИ АДАП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2"/>
          <p:cNvSpPr/>
          <p:nvPr/>
        </p:nvSpPr>
        <p:spPr>
          <a:xfrm>
            <a:off x="1907640" y="3357000"/>
            <a:ext cx="698040" cy="3312000"/>
          </a:xfrm>
          <a:prstGeom prst="rect">
            <a:avLst/>
          </a:prstGeom>
          <a:gradFill rotWithShape="0">
            <a:gsLst>
              <a:gs pos="0">
                <a:srgbClr val="e1d0d0"/>
              </a:gs>
              <a:gs pos="100000">
                <a:srgbClr val="ceadab"/>
              </a:gs>
            </a:gsLst>
            <a:path path="circle">
              <a:fillToRect l="50000" t="50000" r="50000" b="50000"/>
            </a:path>
          </a:gradFill>
          <a:ln w="28575">
            <a:solidFill>
              <a:srgbClr val="cc6600"/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2060"/>
                </a:solidFill>
                <a:latin typeface="Constantia"/>
              </a:rPr>
              <a:t>физиолог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3"/>
          <p:cNvSpPr/>
          <p:nvPr/>
        </p:nvSpPr>
        <p:spPr>
          <a:xfrm>
            <a:off x="7812360" y="3501000"/>
            <a:ext cx="698040" cy="3096000"/>
          </a:xfrm>
          <a:prstGeom prst="rect">
            <a:avLst/>
          </a:prstGeom>
          <a:gradFill rotWithShape="0">
            <a:gsLst>
              <a:gs pos="0">
                <a:srgbClr val="e1d0d0"/>
              </a:gs>
              <a:gs pos="100000">
                <a:srgbClr val="ceadab"/>
              </a:gs>
            </a:gsLst>
            <a:path path="circle">
              <a:fillToRect l="50000" t="50000" r="50000" b="50000"/>
            </a:path>
          </a:gradFill>
          <a:ln w="28575">
            <a:solidFill>
              <a:srgbClr val="cc6600"/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dk1"/>
                </a:solidFill>
                <a:latin typeface="Constantia"/>
              </a:rPr>
              <a:t>психолог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Прямая со стрелкой 15"/>
          <p:cNvCxnSpPr>
            <a:stCxn id="103" idx="3"/>
          </p:cNvCxnSpPr>
          <p:nvPr/>
        </p:nvCxnSpPr>
        <p:spPr>
          <a:xfrm>
            <a:off x="6948000" y="3032640"/>
            <a:ext cx="792360" cy="1044720"/>
          </a:xfrm>
          <a:prstGeom prst="straightConnector1">
            <a:avLst/>
          </a:prstGeom>
          <a:ln w="28575">
            <a:solidFill>
              <a:srgbClr val="cc6600"/>
            </a:solidFill>
            <a:round/>
            <a:tailEnd len="med" type="arrow" w="med"/>
          </a:ln>
        </p:spPr>
      </p:cxnSp>
      <p:cxnSp>
        <p:nvCxnSpPr>
          <p:cNvPr id="107" name="Прямая со стрелкой 19"/>
          <p:cNvCxnSpPr>
            <a:stCxn id="103" idx="1"/>
          </p:cNvCxnSpPr>
          <p:nvPr/>
        </p:nvCxnSpPr>
        <p:spPr>
          <a:xfrm flipH="1">
            <a:off x="2627640" y="3032640"/>
            <a:ext cx="792720" cy="1044720"/>
          </a:xfrm>
          <a:prstGeom prst="straightConnector1">
            <a:avLst/>
          </a:prstGeom>
          <a:ln w="28575">
            <a:solidFill>
              <a:srgbClr val="cc66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5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5680" y="0"/>
            <a:ext cx="7497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c00000"/>
                </a:solidFill>
                <a:latin typeface="Constantia"/>
              </a:rPr>
              <a:t>Техника расставания</a:t>
            </a:r>
            <a:endParaRPr b="0" lang="ru-RU" sz="4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Рисунок 238"/>
          <p:cNvSpPr/>
          <p:nvPr/>
        </p:nvSpPr>
        <p:spPr>
          <a:xfrm>
            <a:off x="1284120" y="1052640"/>
            <a:ext cx="2927520" cy="21996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  <a:softEdge rad="6336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Рисунок 394"/>
          <p:cNvSpPr/>
          <p:nvPr/>
        </p:nvSpPr>
        <p:spPr>
          <a:xfrm>
            <a:off x="6300360" y="3532680"/>
            <a:ext cx="2242800" cy="297684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  <a:softEdge rad="6336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Рисунок 421"/>
          <p:cNvSpPr/>
          <p:nvPr/>
        </p:nvSpPr>
        <p:spPr>
          <a:xfrm>
            <a:off x="2195640" y="3429000"/>
            <a:ext cx="2592000" cy="319032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  <a:softEdge rad="6336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Рисунок 106"/>
          <p:cNvSpPr/>
          <p:nvPr/>
        </p:nvSpPr>
        <p:spPr>
          <a:xfrm>
            <a:off x="5436000" y="1124640"/>
            <a:ext cx="3343680" cy="2241000"/>
          </a:xfrm>
          <a:prstGeom prst="roundRect">
            <a:avLst>
              <a:gd name="adj" fmla="val 8594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  <a:softEdge rad="6336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EE8-A494-48DA-8A03-86448745278C}" type="slidenum">
              <a:t>10</a:t>
            </a:fld>
          </a:p>
        </p:txBody>
      </p:sp>
    </p:spTree>
  </p:cSld>
  <mc:AlternateContent>
    <mc:Choice Requires="p14">
      <p:transition spd="slow" p14:dur="25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92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c00000"/>
                </a:solidFill>
                <a:latin typeface="Constantia"/>
              </a:rPr>
              <a:t>Никакой  дополнительной нагрузки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63" name="Picture 8" descr="K:\Конс. ад\e53.jpg"/>
          <p:cNvPicPr/>
          <p:nvPr/>
        </p:nvPicPr>
        <p:blipFill>
          <a:blip r:embed="rId1"/>
          <a:srcRect l="21425" t="23575" r="10000" b="14287"/>
          <a:stretch/>
        </p:blipFill>
        <p:spPr>
          <a:xfrm>
            <a:off x="1547640" y="1628640"/>
            <a:ext cx="2562120" cy="2322000"/>
          </a:xfrm>
          <a:prstGeom prst="rect">
            <a:avLst/>
          </a:prstGeom>
          <a:ln cap="sq" w="190500">
            <a:solidFill>
              <a:srgbClr val="c8c6bd"/>
            </a:solidFill>
            <a:miter/>
          </a:ln>
          <a:effectLst>
            <a:outerShdw algn="bl" blurRad="254160" rotWithShape="0">
              <a:srgbClr val="000000">
                <a:alpha val="43000"/>
              </a:srgbClr>
            </a:outerShdw>
          </a:effectLst>
          <a:scene3d>
            <a:camera fov="5400000" prst="perspectiveFront"/>
            <a:lightRig dir="t" rig="threePt">
              <a:rot lat="0" lon="0" rev="21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</p:pic>
      <p:pic>
        <p:nvPicPr>
          <p:cNvPr id="164" name="Рисунок 6" descr=""/>
          <p:cNvPicPr/>
          <p:nvPr/>
        </p:nvPicPr>
        <p:blipFill>
          <a:blip r:embed="rId2"/>
          <a:stretch/>
        </p:blipFill>
        <p:spPr>
          <a:xfrm>
            <a:off x="3780000" y="4365000"/>
            <a:ext cx="3168000" cy="2008440"/>
          </a:xfrm>
          <a:prstGeom prst="rect">
            <a:avLst/>
          </a:prstGeom>
          <a:ln cap="sq" w="190500">
            <a:solidFill>
              <a:srgbClr val="c8c6bd"/>
            </a:solidFill>
            <a:miter/>
          </a:ln>
          <a:effectLst>
            <a:outerShdw algn="bl" blurRad="254160" rotWithShape="0">
              <a:srgbClr val="000000">
                <a:alpha val="43000"/>
              </a:srgbClr>
            </a:outerShdw>
          </a:effectLst>
          <a:scene3d>
            <a:camera fov="5400000" prst="perspectiveFront"/>
            <a:lightRig dir="t" rig="threePt">
              <a:rot lat="0" lon="0" rev="21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</p:pic>
      <p:pic>
        <p:nvPicPr>
          <p:cNvPr id="165" name="Рисунок 280" descr=""/>
          <p:cNvPicPr/>
          <p:nvPr/>
        </p:nvPicPr>
        <p:blipFill>
          <a:blip r:embed="rId3"/>
          <a:stretch/>
        </p:blipFill>
        <p:spPr>
          <a:xfrm>
            <a:off x="5508000" y="1700640"/>
            <a:ext cx="2024640" cy="2024640"/>
          </a:xfrm>
          <a:prstGeom prst="rect">
            <a:avLst/>
          </a:prstGeom>
          <a:ln cap="sq" w="190500">
            <a:solidFill>
              <a:srgbClr val="c8c6bd"/>
            </a:solidFill>
            <a:miter/>
          </a:ln>
          <a:effectLst>
            <a:outerShdw algn="bl" blurRad="254160" rotWithShape="0">
              <a:srgbClr val="000000">
                <a:alpha val="43000"/>
              </a:srgbClr>
            </a:outerShdw>
          </a:effectLst>
          <a:scene3d>
            <a:camera fov="5400000" prst="perspectiveFront"/>
            <a:lightRig dir="t" rig="threePt">
              <a:rot lat="0" lon="0" rev="21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4886-21A8-440E-BFA2-5D8C3DE7BAAE}" type="slidenum">
              <a:t>11</a:t>
            </a:fld>
          </a:p>
        </p:txBody>
      </p:sp>
    </p:spTree>
  </p:cSld>
  <mc:AlternateContent>
    <mc:Choice Requires="p14">
      <p:transition spd="slow" p14:dur="25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925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925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92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92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Выноска-облако 9"/>
          <p:cNvSpPr/>
          <p:nvPr/>
        </p:nvSpPr>
        <p:spPr>
          <a:xfrm>
            <a:off x="5615640" y="1412640"/>
            <a:ext cx="3528000" cy="2204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>
            <a:solidFill>
              <a:srgbClr val="00206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i="1" lang="ru-RU" sz="54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67" name="Выноска-облако 11"/>
          <p:cNvSpPr/>
          <p:nvPr/>
        </p:nvSpPr>
        <p:spPr>
          <a:xfrm>
            <a:off x="2988000" y="152280"/>
            <a:ext cx="3888000" cy="1908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66ffff"/>
          </a:solidFill>
          <a:ln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5400" spc="-1" strike="noStrike">
                <a:solidFill>
                  <a:srgbClr val="c00000"/>
                </a:solidFill>
                <a:latin typeface="Constantia"/>
              </a:rPr>
              <a:t>Семья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247" descr=""/>
          <p:cNvPicPr/>
          <p:nvPr/>
        </p:nvPicPr>
        <p:blipFill>
          <a:blip r:embed="rId1"/>
          <a:stretch/>
        </p:blipFill>
        <p:spPr>
          <a:xfrm>
            <a:off x="6156000" y="1628640"/>
            <a:ext cx="2358720" cy="1572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69" name="Выноска-облако 13"/>
          <p:cNvSpPr/>
          <p:nvPr/>
        </p:nvSpPr>
        <p:spPr>
          <a:xfrm>
            <a:off x="971640" y="4221000"/>
            <a:ext cx="3528000" cy="2204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999ff"/>
          </a:solidFill>
          <a:ln>
            <a:solidFill>
              <a:srgbClr val="00206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i="1" lang="ru-RU" sz="54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70" name="Выноска-облако 14"/>
          <p:cNvSpPr/>
          <p:nvPr/>
        </p:nvSpPr>
        <p:spPr>
          <a:xfrm>
            <a:off x="4932000" y="4077000"/>
            <a:ext cx="3528000" cy="2204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66ff33"/>
          </a:solidFill>
          <a:ln>
            <a:solidFill>
              <a:srgbClr val="00206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i="1" lang="ru-RU" sz="54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71" name="Выноска-облако 16"/>
          <p:cNvSpPr/>
          <p:nvPr/>
        </p:nvSpPr>
        <p:spPr>
          <a:xfrm>
            <a:off x="395640" y="1845000"/>
            <a:ext cx="3528000" cy="2204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33cc"/>
          </a:solidFill>
          <a:ln>
            <a:solidFill>
              <a:srgbClr val="00206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i="1" lang="ru-RU" sz="5400" spc="-1" strike="noStrike">
              <a:solidFill>
                <a:srgbClr val="c00000"/>
              </a:solidFill>
              <a:latin typeface="Constantia"/>
            </a:endParaRPr>
          </a:p>
        </p:txBody>
      </p:sp>
      <p:pic>
        <p:nvPicPr>
          <p:cNvPr id="172" name="Рисунок 61" descr=""/>
          <p:cNvPicPr/>
          <p:nvPr/>
        </p:nvPicPr>
        <p:blipFill>
          <a:blip r:embed="rId2"/>
          <a:stretch/>
        </p:blipFill>
        <p:spPr>
          <a:xfrm>
            <a:off x="899640" y="2061000"/>
            <a:ext cx="2592000" cy="1584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73" name="Рисунок 217" descr=""/>
          <p:cNvPicPr/>
          <p:nvPr/>
        </p:nvPicPr>
        <p:blipFill>
          <a:blip r:embed="rId3"/>
          <a:stretch/>
        </p:blipFill>
        <p:spPr>
          <a:xfrm>
            <a:off x="5652000" y="4437000"/>
            <a:ext cx="2305080" cy="1473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74" name="Рисунок 64" descr=""/>
          <p:cNvPicPr/>
          <p:nvPr/>
        </p:nvPicPr>
        <p:blipFill>
          <a:blip r:embed="rId4"/>
          <a:stretch/>
        </p:blipFill>
        <p:spPr>
          <a:xfrm>
            <a:off x="1979640" y="4437000"/>
            <a:ext cx="1728000" cy="1800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8176-1185-4392-B6A1-7FA962A61C29}" type="slidenum">
              <a:t>12</a:t>
            </a:fld>
          </a:p>
        </p:txBody>
      </p:sp>
    </p:spTree>
  </p:cSld>
  <mc:AlternateContent>
    <mc:Choice Requires="p14">
      <p:transition spd="slow" p14:dur="25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1" descr="K:\Конс. ад\Image-27.jpg"/>
          <p:cNvPicPr/>
          <p:nvPr/>
        </p:nvPicPr>
        <p:blipFill>
          <a:blip r:embed="rId1"/>
          <a:stretch/>
        </p:blipFill>
        <p:spPr>
          <a:xfrm>
            <a:off x="6228360" y="4005000"/>
            <a:ext cx="2304000" cy="2441880"/>
          </a:xfrm>
          <a:prstGeom prst="rect">
            <a:avLst/>
          </a:prstGeom>
          <a:ln w="0">
            <a:noFill/>
          </a:ln>
          <a:effectLst>
            <a:glow rad="139680">
              <a:srgbClr val="8f3626">
                <a:alpha val="40000"/>
              </a:srgbClr>
            </a:glow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76" name="Прямоугольник 5"/>
          <p:cNvSpPr/>
          <p:nvPr/>
        </p:nvSpPr>
        <p:spPr>
          <a:xfrm>
            <a:off x="179640" y="1989000"/>
            <a:ext cx="5688360" cy="4021560"/>
          </a:xfrm>
          <a:prstGeom prst="rect">
            <a:avLst/>
          </a:prstGeom>
          <a:solidFill>
            <a:srgbClr val="9999ff"/>
          </a:solidFill>
          <a:ln>
            <a:solidFill>
              <a:srgbClr val="002060"/>
            </a:solidFill>
            <a:round/>
          </a:ln>
          <a:effectLst>
            <a:glow rad="101520">
              <a:srgbClr val="8f3626">
                <a:alpha val="40000"/>
              </a:srgbClr>
            </a:glow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2060"/>
                </a:solidFill>
                <a:latin typeface="Constantia"/>
              </a:rPr>
              <a:t>Детский сад — это не рай и не ад для ребенка, это такой же этап в его жизни, как школа, институт, и от умения выстраивать правильно отношения с людьми, работающими с Вашими детьми, зависит во многом то, как будет складываться их жизнь в детском саду.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"/>
          <p:cNvSpPr/>
          <p:nvPr/>
        </p:nvSpPr>
        <p:spPr>
          <a:xfrm>
            <a:off x="2555640" y="332640"/>
            <a:ext cx="4824000" cy="155196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 w="28575">
            <a:solidFill>
              <a:srgbClr val="d2533c">
                <a:lumMod val="75000"/>
              </a:srgbClr>
            </a:solidFill>
            <a:round/>
          </a:ln>
          <a:effectLst>
            <a:glow rad="101520">
              <a:srgbClr val="8f3626">
                <a:alpha val="40000"/>
              </a:srgbClr>
            </a:glow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292934"/>
                </a:solidFill>
                <a:latin typeface="Constantia"/>
              </a:rPr>
              <a:t>Уважаемые родит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ПОМНИТ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553E-1BC2-4A0D-B190-82C3C1A00335}" type="slidenum">
              <a:t>13</a:t>
            </a:fld>
          </a:p>
        </p:txBody>
      </p:sp>
    </p:spTree>
  </p:cSld>
  <mc:AlternateContent>
    <mc:Choice Requires="p14">
      <p:transition spd="slow" p14:dur="25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2440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c00000"/>
                </a:solidFill>
                <a:latin typeface="Constantia"/>
              </a:rPr>
              <a:t>Степени  тяжести адаптации</a:t>
            </a:r>
            <a:endParaRPr b="0" lang="ru-RU" sz="4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09" name="Рисунок 103" descr="http://www.izhtime.ru/supermarket/spec487/foto/spec_pict/20140224-487.jpg"/>
          <p:cNvPicPr/>
          <p:nvPr/>
        </p:nvPicPr>
        <p:blipFill>
          <a:blip r:embed="rId1"/>
          <a:stretch/>
        </p:blipFill>
        <p:spPr>
          <a:xfrm>
            <a:off x="3204000" y="2637000"/>
            <a:ext cx="3419280" cy="23378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10" name="Пятиугольник 5"/>
          <p:cNvSpPr/>
          <p:nvPr/>
        </p:nvSpPr>
        <p:spPr>
          <a:xfrm>
            <a:off x="1115640" y="980640"/>
            <a:ext cx="3168000" cy="1511640"/>
          </a:xfrm>
          <a:prstGeom prst="homePlate">
            <a:avLst>
              <a:gd name="adj" fmla="val 50000"/>
            </a:avLst>
          </a:prstGeom>
          <a:gradFill rotWithShape="0">
            <a:gsLst>
              <a:gs pos="0">
                <a:srgbClr val="e1d0d0"/>
              </a:gs>
              <a:gs pos="100000">
                <a:srgbClr val="ceadab"/>
              </a:gs>
            </a:gsLst>
            <a:path path="circle">
              <a:fillToRect l="50000" t="50000" r="50000" b="50000"/>
            </a:path>
          </a:gradFill>
          <a:ln>
            <a:solidFill>
              <a:srgbClr val="79463d"/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Средня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(от 20 до 40 дн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ятиугольник 6"/>
          <p:cNvSpPr/>
          <p:nvPr/>
        </p:nvSpPr>
        <p:spPr>
          <a:xfrm>
            <a:off x="1043640" y="4941000"/>
            <a:ext cx="3168000" cy="1511640"/>
          </a:xfrm>
          <a:prstGeom prst="homePlate">
            <a:avLst>
              <a:gd name="adj" fmla="val 50000"/>
            </a:avLst>
          </a:prstGeom>
          <a:gradFill rotWithShape="0">
            <a:gsLst>
              <a:gs pos="0">
                <a:srgbClr val="e1d0d0"/>
              </a:gs>
              <a:gs pos="100000">
                <a:srgbClr val="ceadab"/>
              </a:gs>
            </a:gsLst>
            <a:path path="circle">
              <a:fillToRect l="50000" t="50000" r="50000" b="50000"/>
            </a:path>
          </a:gradFill>
          <a:ln>
            <a:solidFill>
              <a:srgbClr val="79463d"/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292934"/>
                </a:solidFill>
                <a:latin typeface="Constantia"/>
              </a:rPr>
              <a:t>Легк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(от 7 до 20 дн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ятиугольник 7"/>
          <p:cNvSpPr/>
          <p:nvPr/>
        </p:nvSpPr>
        <p:spPr>
          <a:xfrm>
            <a:off x="5724000" y="5013000"/>
            <a:ext cx="3168000" cy="1511640"/>
          </a:xfrm>
          <a:prstGeom prst="homePlate">
            <a:avLst>
              <a:gd name="adj" fmla="val 50000"/>
            </a:avLst>
          </a:prstGeom>
          <a:gradFill rotWithShape="0">
            <a:gsLst>
              <a:gs pos="0">
                <a:srgbClr val="e1d0d0"/>
              </a:gs>
              <a:gs pos="100000">
                <a:srgbClr val="ceadab"/>
              </a:gs>
            </a:gsLst>
            <a:path path="circle">
              <a:fillToRect l="50000" t="50000" r="50000" b="50000"/>
            </a:path>
          </a:gradFill>
          <a:ln>
            <a:solidFill>
              <a:srgbClr val="79463d"/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292934"/>
                </a:solidFill>
                <a:latin typeface="Constantia"/>
              </a:rPr>
              <a:t>Очень тяжел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(около полу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и бол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ятиугольник 8"/>
          <p:cNvSpPr/>
          <p:nvPr/>
        </p:nvSpPr>
        <p:spPr>
          <a:xfrm>
            <a:off x="5796000" y="908640"/>
            <a:ext cx="3168000" cy="1511640"/>
          </a:xfrm>
          <a:prstGeom prst="homePlate">
            <a:avLst>
              <a:gd name="adj" fmla="val 50000"/>
            </a:avLst>
          </a:prstGeom>
          <a:gradFill rotWithShape="0">
            <a:gsLst>
              <a:gs pos="0">
                <a:srgbClr val="e1d0d0"/>
              </a:gs>
              <a:gs pos="100000">
                <a:srgbClr val="ceadab"/>
              </a:gs>
            </a:gsLst>
            <a:path path="circle">
              <a:fillToRect l="50000" t="50000" r="50000" b="50000"/>
            </a:path>
          </a:gradFill>
          <a:ln>
            <a:solidFill>
              <a:srgbClr val="79463d"/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Тяжел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(от 2 до 6 месяц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верх 11"/>
          <p:cNvSpPr/>
          <p:nvPr/>
        </p:nvSpPr>
        <p:spPr>
          <a:xfrm>
            <a:off x="2051640" y="2637000"/>
            <a:ext cx="143640" cy="2232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3a299"/>
          </a:solidFill>
          <a:ln>
            <a:solidFill>
              <a:srgbClr val="6c77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5" name="Стрелка вправо 13"/>
          <p:cNvSpPr/>
          <p:nvPr/>
        </p:nvSpPr>
        <p:spPr>
          <a:xfrm>
            <a:off x="4140000" y="1917000"/>
            <a:ext cx="1626120" cy="143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3a299"/>
          </a:solidFill>
          <a:ln>
            <a:solidFill>
              <a:srgbClr val="6c77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6" name="Стрелка вниз 14"/>
          <p:cNvSpPr/>
          <p:nvPr/>
        </p:nvSpPr>
        <p:spPr>
          <a:xfrm>
            <a:off x="7812360" y="2565000"/>
            <a:ext cx="143640" cy="237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3a299"/>
          </a:solidFill>
          <a:ln>
            <a:solidFill>
              <a:srgbClr val="6c77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BE8-0EB1-4A1C-8AFE-153B26AE06E2}" type="slidenum">
              <a:t>2</a:t>
            </a:fld>
          </a:p>
        </p:txBody>
      </p:sp>
    </p:spTree>
  </p:cSld>
  <mc:AlternateContent>
    <mc:Choice Requires="p14">
      <p:transition spd="slow" p14:dur="25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3640" y="274320"/>
            <a:ext cx="78897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c00000"/>
                </a:solidFill>
                <a:latin typeface="Constantia"/>
              </a:rPr>
              <a:t>Факторы, от которых зависит течение адаптации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ru-RU" sz="4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18" name="Рисунок 97" descr="http://cs304410.vk.me/u6289235/147881339/x_bd9de6f4.jpg"/>
          <p:cNvPicPr/>
          <p:nvPr/>
        </p:nvPicPr>
        <p:blipFill>
          <a:blip r:embed="rId1"/>
          <a:stretch/>
        </p:blipFill>
        <p:spPr>
          <a:xfrm>
            <a:off x="3429720" y="3861000"/>
            <a:ext cx="2366280" cy="2304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  <a:scene3d>
            <a:camera prst="orthographicFront"/>
            <a:lightRig dir="t" rig="threePt"/>
          </a:scene3d>
          <a:sp3d>
            <a:bevelT prst="slope"/>
          </a:sp3d>
        </p:spPr>
      </p:pic>
      <p:sp>
        <p:nvSpPr>
          <p:cNvPr id="119" name="Облако 5"/>
          <p:cNvSpPr/>
          <p:nvPr/>
        </p:nvSpPr>
        <p:spPr>
          <a:xfrm>
            <a:off x="0" y="2781000"/>
            <a:ext cx="4104000" cy="1872000"/>
          </a:xfrm>
          <a:prstGeom prst="cloud">
            <a:avLst/>
          </a:prstGeom>
          <a:solidFill>
            <a:srgbClr val="66ff33"/>
          </a:solidFill>
          <a:ln>
            <a:solidFill>
              <a:srgbClr val="6c77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Сформированность предметной и игровой деят-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блако 7"/>
          <p:cNvSpPr/>
          <p:nvPr/>
        </p:nvSpPr>
        <p:spPr>
          <a:xfrm>
            <a:off x="395640" y="4725000"/>
            <a:ext cx="2664000" cy="1656000"/>
          </a:xfrm>
          <a:prstGeom prst="cloud">
            <a:avLst/>
          </a:prstGeom>
          <a:solidFill>
            <a:srgbClr val="ffff66"/>
          </a:solidFill>
          <a:ln>
            <a:solidFill>
              <a:srgbClr val="6c77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Возраст ребенка и уровень его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блако 8"/>
          <p:cNvSpPr/>
          <p:nvPr/>
        </p:nvSpPr>
        <p:spPr>
          <a:xfrm>
            <a:off x="1691640" y="1340640"/>
            <a:ext cx="3672000" cy="1800000"/>
          </a:xfrm>
          <a:prstGeom prst="cloud">
            <a:avLst/>
          </a:prstGeom>
          <a:solidFill>
            <a:srgbClr val="ff3399"/>
          </a:solidFill>
          <a:ln>
            <a:solidFill>
              <a:srgbClr val="6c77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Приближенность дом. режима к режиму Д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блако 9"/>
          <p:cNvSpPr/>
          <p:nvPr/>
        </p:nvSpPr>
        <p:spPr>
          <a:xfrm>
            <a:off x="5364000" y="1484640"/>
            <a:ext cx="3096000" cy="1800000"/>
          </a:xfrm>
          <a:prstGeom prst="cloud">
            <a:avLst/>
          </a:prstGeom>
          <a:solidFill>
            <a:srgbClr val="00b0f0"/>
          </a:solidFill>
          <a:ln>
            <a:solidFill>
              <a:srgbClr val="6c77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Отсутствие навыка общения с незнакомыми люд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блако 10"/>
          <p:cNvSpPr/>
          <p:nvPr/>
        </p:nvSpPr>
        <p:spPr>
          <a:xfrm>
            <a:off x="5940000" y="3141000"/>
            <a:ext cx="3203640" cy="1656000"/>
          </a:xfrm>
          <a:prstGeom prst="cloud">
            <a:avLst/>
          </a:prstGeom>
          <a:solidFill>
            <a:srgbClr val="ff5050"/>
          </a:solidFill>
          <a:ln>
            <a:solidFill>
              <a:srgbClr val="6c77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Отсутствие элементарных КГ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блако 11"/>
          <p:cNvSpPr/>
          <p:nvPr/>
        </p:nvSpPr>
        <p:spPr>
          <a:xfrm>
            <a:off x="5868000" y="4941000"/>
            <a:ext cx="3096000" cy="1728000"/>
          </a:xfrm>
          <a:prstGeom prst="cloud">
            <a:avLst/>
          </a:prstGeom>
          <a:solidFill>
            <a:srgbClr val="93a299"/>
          </a:solidFill>
          <a:ln>
            <a:solidFill>
              <a:srgbClr val="6c77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Наличие у ребенка своеобразныхпривы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BFE3-AA39-4B37-8B1F-C6D6A62FD969}" type="slidenum">
              <a:t>3</a:t>
            </a:fld>
          </a:p>
        </p:txBody>
      </p:sp>
    </p:spTree>
  </p:cSld>
  <mc:AlternateContent>
    <mc:Choice Requires="p14">
      <p:transition spd="slow" p14:dur="25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5680" y="0"/>
            <a:ext cx="74977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c00000"/>
                </a:solidFill>
                <a:latin typeface="Constantia"/>
              </a:rPr>
              <a:t>Частые ошибки родителей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26" name="Рисунок 88" descr="http://im.haberturk.com/galeri/2013/05/22/427908/7804ce0acff0456870d35406a771c13e_k.jpg?1369235741"/>
          <p:cNvPicPr/>
          <p:nvPr/>
        </p:nvPicPr>
        <p:blipFill>
          <a:blip r:embed="rId1"/>
          <a:stretch/>
        </p:blipFill>
        <p:spPr>
          <a:xfrm>
            <a:off x="755640" y="4797000"/>
            <a:ext cx="2880000" cy="1890000"/>
          </a:xfrm>
          <a:prstGeom prst="rect">
            <a:avLst/>
          </a:prstGeom>
          <a:ln w="9525">
            <a:noFill/>
          </a:ln>
        </p:spPr>
      </p:pic>
      <p:sp>
        <p:nvSpPr>
          <p:cNvPr id="127" name="Горизонтальный свиток 7"/>
          <p:cNvSpPr/>
          <p:nvPr/>
        </p:nvSpPr>
        <p:spPr>
          <a:xfrm>
            <a:off x="2627640" y="764640"/>
            <a:ext cx="2736000" cy="1583640"/>
          </a:xfrm>
          <a:prstGeom prst="horizontalScroll">
            <a:avLst>
              <a:gd name="adj" fmla="val 12500"/>
            </a:avLst>
          </a:prstGeom>
          <a:solidFill>
            <a:srgbClr val="66ff33"/>
          </a:solidFill>
          <a:ln>
            <a:solidFill>
              <a:srgbClr val="d2533c">
                <a:lumMod val="75000"/>
              </a:srgbClr>
            </a:solidFill>
            <a:round/>
          </a:ln>
          <a:effectLst>
            <a:innerShdw blurRad="63500" dir="135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292934"/>
                </a:solidFill>
                <a:latin typeface="Constantia"/>
              </a:rPr>
              <a:t>Нельзя пугать детским садо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Горизонтальный свиток 8"/>
          <p:cNvSpPr/>
          <p:nvPr/>
        </p:nvSpPr>
        <p:spPr>
          <a:xfrm>
            <a:off x="179640" y="2421000"/>
            <a:ext cx="2736000" cy="158364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>
            <a:solidFill>
              <a:srgbClr val="d2533c">
                <a:lumMod val="75000"/>
              </a:srgbClr>
            </a:solidFill>
            <a:round/>
          </a:ln>
          <a:effectLst>
            <a:innerShdw blurRad="63500" dir="135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292934"/>
                </a:solidFill>
                <a:latin typeface="Constantia"/>
              </a:rPr>
              <a:t>Нельзя наказывать и сердиться  за то, что малыш плач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Горизонтальный свиток 9"/>
          <p:cNvSpPr/>
          <p:nvPr/>
        </p:nvSpPr>
        <p:spPr>
          <a:xfrm>
            <a:off x="3204000" y="2565000"/>
            <a:ext cx="2736000" cy="1583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>
            <a:solidFill>
              <a:srgbClr val="d2533c">
                <a:lumMod val="75000"/>
              </a:srgbClr>
            </a:solidFill>
            <a:round/>
          </a:ln>
          <a:effectLst>
            <a:innerShdw blurRad="63500" dir="135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292934"/>
                </a:solidFill>
                <a:latin typeface="Constantia"/>
              </a:rPr>
              <a:t>Нельзя плохо отзываться о воспитателях и саде при ребенк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Горизонтальный свиток 10"/>
          <p:cNvSpPr/>
          <p:nvPr/>
        </p:nvSpPr>
        <p:spPr>
          <a:xfrm>
            <a:off x="5868000" y="908640"/>
            <a:ext cx="2952000" cy="1583640"/>
          </a:xfrm>
          <a:prstGeom prst="horizontalScroll">
            <a:avLst>
              <a:gd name="adj" fmla="val 12500"/>
            </a:avLst>
          </a:prstGeom>
          <a:solidFill>
            <a:srgbClr val="ff5050"/>
          </a:solidFill>
          <a:ln>
            <a:solidFill>
              <a:srgbClr val="d2533c">
                <a:lumMod val="75000"/>
              </a:srgbClr>
            </a:solidFill>
            <a:round/>
          </a:ln>
          <a:effectLst>
            <a:innerShdw blurRad="63500" dir="135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292934"/>
                </a:solidFill>
                <a:latin typeface="Constantia"/>
              </a:rPr>
              <a:t>Не обманывайте, говоря, что вы придете очень скоро, если это не та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Горизонтальный свиток 11"/>
          <p:cNvSpPr/>
          <p:nvPr/>
        </p:nvSpPr>
        <p:spPr>
          <a:xfrm>
            <a:off x="6156000" y="3069000"/>
            <a:ext cx="2736000" cy="158364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>
            <a:solidFill>
              <a:srgbClr val="d2533c">
                <a:lumMod val="75000"/>
              </a:srgbClr>
            </a:solidFill>
            <a:round/>
          </a:ln>
          <a:effectLst>
            <a:innerShdw blurRad="63500" dir="135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292934"/>
                </a:solidFill>
                <a:latin typeface="Constantia"/>
              </a:rPr>
              <a:t>Пониженное внимание к ребенк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Горизонтальный свиток 12"/>
          <p:cNvSpPr/>
          <p:nvPr/>
        </p:nvSpPr>
        <p:spPr>
          <a:xfrm>
            <a:off x="3132000" y="4365000"/>
            <a:ext cx="2736000" cy="158364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>
            <a:solidFill>
              <a:srgbClr val="d2533c">
                <a:lumMod val="75000"/>
              </a:srgbClr>
            </a:solidFill>
            <a:round/>
          </a:ln>
          <a:effectLst>
            <a:innerShdw blurRad="63500" dir="135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292934"/>
                </a:solidFill>
                <a:latin typeface="Constantia"/>
              </a:rPr>
              <a:t>Ваше состояние тревожности передается ребенк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Горизонтальный свиток 13"/>
          <p:cNvSpPr/>
          <p:nvPr/>
        </p:nvSpPr>
        <p:spPr>
          <a:xfrm>
            <a:off x="6156000" y="5085360"/>
            <a:ext cx="2736000" cy="1583640"/>
          </a:xfrm>
          <a:prstGeom prst="horizontalScroll">
            <a:avLst>
              <a:gd name="adj" fmla="val 12500"/>
            </a:avLst>
          </a:prstGeom>
          <a:solidFill>
            <a:srgbClr val="66ffff"/>
          </a:solidFill>
          <a:ln>
            <a:solidFill>
              <a:srgbClr val="d2533c">
                <a:lumMod val="75000"/>
              </a:srgbClr>
            </a:solidFill>
            <a:round/>
          </a:ln>
          <a:effectLst>
            <a:innerShdw blurRad="63500" dir="135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292934"/>
                </a:solidFill>
                <a:latin typeface="Constantia"/>
              </a:rPr>
              <a:t>Не меняйте режим дня в выходны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E298-5BC0-4DB4-8A5D-B10EE50F915B}" type="slidenum">
              <a:t>4</a:t>
            </a:fld>
          </a:p>
        </p:txBody>
      </p:sp>
    </p:spTree>
  </p:cSld>
  <mc:AlternateContent>
    <mc:Choice Requires="p14">
      <p:transition spd="slow" p14:dur="25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23640" y="692640"/>
            <a:ext cx="7020000" cy="11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800" spc="-1" strike="noStrike">
                <a:solidFill>
                  <a:srgbClr val="c00000"/>
                </a:solidFill>
                <a:latin typeface="Constantia"/>
              </a:rPr>
              <a:t>Для поддержки малыша </a:t>
            </a:r>
            <a:br>
              <a:rPr sz="3800"/>
            </a:br>
            <a:r>
              <a:rPr b="1" i="1" lang="ru-RU" sz="3800" spc="-1" strike="noStrike">
                <a:solidFill>
                  <a:srgbClr val="c00000"/>
                </a:solidFill>
                <a:latin typeface="Constantia"/>
              </a:rPr>
              <a:t>в адаптационный период </a:t>
            </a:r>
            <a:r>
              <a:rPr b="1" i="1" lang="ru-RU" sz="3600" spc="-1" strike="noStrike">
                <a:solidFill>
                  <a:srgbClr val="c00000"/>
                </a:solidFill>
                <a:latin typeface="Constantia"/>
              </a:rPr>
              <a:t>НЕОБХОДИМО:</a:t>
            </a:r>
            <a:br>
              <a:rPr sz="4000"/>
            </a:br>
            <a:endParaRPr b="0" lang="ru-RU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35" name="Рисунок 25" descr="http://www.stihi.ru/pics/2012/07/04/8728.gif"/>
          <p:cNvPicPr/>
          <p:nvPr/>
        </p:nvPicPr>
        <p:blipFill>
          <a:blip r:embed="rId1"/>
          <a:stretch/>
        </p:blipFill>
        <p:spPr>
          <a:xfrm>
            <a:off x="467640" y="260640"/>
            <a:ext cx="1872000" cy="1449000"/>
          </a:xfrm>
          <a:prstGeom prst="rect">
            <a:avLst/>
          </a:prstGeom>
          <a:ln cap="sq" w="190500">
            <a:solidFill>
              <a:srgbClr val="c8c6bd"/>
            </a:solidFill>
            <a:miter/>
          </a:ln>
          <a:effectLst>
            <a:outerShdw algn="bl" blurRad="254160" rotWithShape="0">
              <a:srgbClr val="000000">
                <a:alpha val="43000"/>
              </a:srgbClr>
            </a:outerShdw>
          </a:effectLst>
          <a:scene3d>
            <a:camera fov="5400000" prst="perspectiveFront"/>
            <a:lightRig dir="t" rig="threePt">
              <a:rot lat="0" lon="0" rev="2100000"/>
            </a:lightRig>
          </a:scene3d>
          <a:sp3d extrusionH="25400">
            <a:bevelT prst="relaxedInset" w="304800" h="152400"/>
            <a:extrusionClr>
              <a:srgbClr val="000000"/>
            </a:extrusionClr>
          </a:sp3d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656822949"/>
              </p:ext>
            </p:extLst>
          </p:nvPr>
        </p:nvGraphicFramePr>
        <p:xfrm>
          <a:off x="-252360" y="1917000"/>
          <a:ext cx="9720720" cy="4940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880-B3AC-4509-94E0-91E5FBACBB76}" type="slidenum">
              <a:t>5</a:t>
            </a:fld>
          </a:p>
        </p:txBody>
      </p:sp>
    </p:spTree>
  </p:cSld>
  <mc:AlternateContent>
    <mc:Choice Requires="p14">
      <p:transition spd="slow" p14:dur="25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80337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c00000"/>
                </a:solidFill>
                <a:latin typeface="Constantia"/>
              </a:rPr>
              <a:t>От родителей зависит эмоциональный настрой ребенка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Прямоугольник 8"/>
          <p:cNvSpPr/>
          <p:nvPr/>
        </p:nvSpPr>
        <p:spPr>
          <a:xfrm>
            <a:off x="1115640" y="1917000"/>
            <a:ext cx="734436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chemeClr val="accent4">
                    <a:lumMod val="50000"/>
                  </a:schemeClr>
                </a:solidFill>
                <a:latin typeface="Constantia"/>
              </a:rPr>
              <a:t>    </a:t>
            </a: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В период адаптации будьте терпимы к изменившемуся поведению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Вы же взрослый человек и понимаете, что он капризничает не потому что «плохой», а из-за того, что ему очень трудно привыкнуть к новому помещени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детя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воспитател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режи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442" descr=""/>
          <p:cNvPicPr/>
          <p:nvPr/>
        </p:nvPicPr>
        <p:blipFill>
          <a:blip r:embed="rId1"/>
          <a:stretch/>
        </p:blipFill>
        <p:spPr>
          <a:xfrm>
            <a:off x="6660360" y="4797000"/>
            <a:ext cx="2110320" cy="180000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410-9448-430A-8132-94ABB40459F1}" type="slidenum">
              <a:t>6</a:t>
            </a:fld>
          </a:p>
        </p:txBody>
      </p:sp>
    </p:spTree>
  </p:cSld>
  <mc:AlternateContent>
    <mc:Choice Requires="p14">
      <p:transition spd="slow" p14:dur="25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5680" y="0"/>
            <a:ext cx="74977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c00000"/>
                </a:solidFill>
                <a:latin typeface="Constantia"/>
              </a:rPr>
              <a:t>Как подготовить малыша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onstantia"/>
              </a:rPr>
              <a:t>к детскому саду 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40" name="Рисунок 13" descr=""/>
          <p:cNvPicPr/>
          <p:nvPr/>
        </p:nvPicPr>
        <p:blipFill>
          <a:blip r:embed="rId1"/>
          <a:stretch/>
        </p:blipFill>
        <p:spPr>
          <a:xfrm>
            <a:off x="6085440" y="4365000"/>
            <a:ext cx="2806920" cy="2088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  <a:scene3d>
            <a:camera prst="orthographicFront"/>
            <a:lightRig dir="t" rig="threePt"/>
          </a:scene3d>
          <a:sp3d/>
        </p:spPr>
      </p:pic>
      <p:pic>
        <p:nvPicPr>
          <p:cNvPr id="141" name="Рисунок 226" descr=""/>
          <p:cNvPicPr/>
          <p:nvPr/>
        </p:nvPicPr>
        <p:blipFill>
          <a:blip r:embed="rId2"/>
          <a:stretch/>
        </p:blipFill>
        <p:spPr>
          <a:xfrm>
            <a:off x="1403640" y="1124640"/>
            <a:ext cx="2520000" cy="19098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42" name="Рисунок 34" descr=""/>
          <p:cNvPicPr/>
          <p:nvPr/>
        </p:nvPicPr>
        <p:blipFill>
          <a:blip r:embed="rId3"/>
          <a:stretch/>
        </p:blipFill>
        <p:spPr>
          <a:xfrm>
            <a:off x="4716000" y="1412640"/>
            <a:ext cx="2421360" cy="2311920"/>
          </a:xfrm>
          <a:prstGeom prst="rect">
            <a:avLst/>
          </a:prstGeom>
          <a:ln w="0">
            <a:noFill/>
          </a:ln>
          <a:effectLst>
            <a:glow rad="228600">
              <a:srgbClr val="8f3626">
                <a:alpha val="40000"/>
              </a:srgbClr>
            </a:glow>
            <a:softEdge rad="112680"/>
          </a:effectLst>
        </p:spPr>
      </p:pic>
      <p:sp>
        <p:nvSpPr>
          <p:cNvPr id="143" name="Прямоугольник 24"/>
          <p:cNvSpPr/>
          <p:nvPr/>
        </p:nvSpPr>
        <p:spPr>
          <a:xfrm>
            <a:off x="1043640" y="3357000"/>
            <a:ext cx="2592000" cy="50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Готов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25"/>
          <p:cNvSpPr/>
          <p:nvPr/>
        </p:nvSpPr>
        <p:spPr>
          <a:xfrm>
            <a:off x="1115640" y="3285000"/>
            <a:ext cx="2520000" cy="50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Готов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7"/>
          <p:cNvSpPr/>
          <p:nvPr/>
        </p:nvSpPr>
        <p:spPr>
          <a:xfrm>
            <a:off x="6372360" y="3717000"/>
            <a:ext cx="2448000" cy="50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роди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76" descr="http://cs313720.vk.me/v313720508/26d1/p4skukI9e9I.jpg"/>
          <p:cNvPicPr/>
          <p:nvPr/>
        </p:nvPicPr>
        <p:blipFill>
          <a:blip r:embed="rId4"/>
          <a:stretch/>
        </p:blipFill>
        <p:spPr>
          <a:xfrm>
            <a:off x="1811520" y="4005000"/>
            <a:ext cx="2976120" cy="2232000"/>
          </a:xfrm>
          <a:prstGeom prst="rect">
            <a:avLst/>
          </a:prstGeom>
          <a:ln w="0">
            <a:noFill/>
          </a:ln>
          <a:effectLst>
            <a:glow rad="139680">
              <a:srgbClr val="8f3626">
                <a:alpha val="40000"/>
              </a:srgbClr>
            </a:glow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C3A-E3A7-4188-9FA5-6078CBD5C82B}" type="slidenum">
              <a:t>7</a:t>
            </a:fld>
          </a:p>
        </p:txBody>
      </p:sp>
    </p:spTree>
  </p:cSld>
  <mc:AlternateContent>
    <mc:Choice Requires="p14">
      <p:transition spd="slow" p14:dur="25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37" descr="http://photo.pravdapskov.ru/upload/news/2012-05-16_09-44-51_2404691353.jpg"/>
          <p:cNvPicPr/>
          <p:nvPr/>
        </p:nvPicPr>
        <p:blipFill>
          <a:blip r:embed="rId1"/>
          <a:stretch/>
        </p:blipFill>
        <p:spPr>
          <a:xfrm>
            <a:off x="755640" y="4293000"/>
            <a:ext cx="2680560" cy="1977120"/>
          </a:xfrm>
          <a:prstGeom prst="rect">
            <a:avLst/>
          </a:prstGeom>
          <a:ln w="0">
            <a:noFill/>
          </a:ln>
          <a:effectLst>
            <a:glow rad="139680">
              <a:srgbClr val="8f3626">
                <a:alpha val="40000"/>
              </a:srgbClr>
            </a:glow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48" name="Рисунок 100" descr="http://www.j100.ru/upload/iblock/4f8/4f8a96e05690a9712fd0d474537531a9.jpg"/>
          <p:cNvPicPr/>
          <p:nvPr/>
        </p:nvPicPr>
        <p:blipFill>
          <a:blip r:embed="rId2"/>
          <a:stretch/>
        </p:blipFill>
        <p:spPr>
          <a:xfrm>
            <a:off x="5940000" y="188640"/>
            <a:ext cx="2927880" cy="2196000"/>
          </a:xfrm>
          <a:prstGeom prst="rect">
            <a:avLst/>
          </a:prstGeom>
          <a:ln w="0">
            <a:noFill/>
          </a:ln>
          <a:effectLst>
            <a:glow rad="139680">
              <a:srgbClr val="8f3626">
                <a:alpha val="40000"/>
              </a:srgbClr>
            </a:glow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49" name="Рисунок 55" descr="http://gazetazp.ru/arhiv/2012/65/pic/7-1.jpg"/>
          <p:cNvPicPr/>
          <p:nvPr/>
        </p:nvPicPr>
        <p:blipFill>
          <a:blip r:embed="rId3"/>
          <a:stretch/>
        </p:blipFill>
        <p:spPr>
          <a:xfrm>
            <a:off x="1043640" y="1484640"/>
            <a:ext cx="2808000" cy="1872000"/>
          </a:xfrm>
          <a:prstGeom prst="rect">
            <a:avLst/>
          </a:prstGeom>
          <a:ln w="0">
            <a:noFill/>
          </a:ln>
          <a:effectLst>
            <a:glow rad="139680">
              <a:srgbClr val="8f3626">
                <a:alpha val="40000"/>
              </a:srgbClr>
            </a:glow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50" name="Прямоугольник 14"/>
          <p:cNvSpPr/>
          <p:nvPr/>
        </p:nvSpPr>
        <p:spPr>
          <a:xfrm>
            <a:off x="1187640" y="476640"/>
            <a:ext cx="4032000" cy="791640"/>
          </a:xfrm>
          <a:prstGeom prst="rect">
            <a:avLst/>
          </a:prstGeom>
          <a:gradFill rotWithShape="0">
            <a:gsLst>
              <a:gs pos="0">
                <a:srgbClr val="e1d0d0"/>
              </a:gs>
              <a:gs pos="100000">
                <a:srgbClr val="ceadab"/>
              </a:gs>
            </a:gsLst>
            <a:path path="circle">
              <a:fillToRect l="50000" t="50000" r="50000" b="50000"/>
            </a:path>
          </a:gradFill>
          <a:ln>
            <a:solidFill>
              <a:srgbClr val="79463d"/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Соблюда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5"/>
          <p:cNvSpPr/>
          <p:nvPr/>
        </p:nvSpPr>
        <p:spPr>
          <a:xfrm>
            <a:off x="6516360" y="3429000"/>
            <a:ext cx="2376000" cy="791640"/>
          </a:xfrm>
          <a:prstGeom prst="rect">
            <a:avLst/>
          </a:prstGeom>
          <a:gradFill rotWithShape="0">
            <a:gsLst>
              <a:gs pos="0">
                <a:srgbClr val="e1d0d0"/>
              </a:gs>
              <a:gs pos="100000">
                <a:srgbClr val="ceadab"/>
              </a:gs>
            </a:gsLst>
            <a:path path="circle">
              <a:fillToRect l="50000" t="50000" r="50000" b="50000"/>
            </a:path>
          </a:gradFill>
          <a:ln>
            <a:solidFill>
              <a:srgbClr val="79463d"/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граф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4068000" y="5517360"/>
            <a:ext cx="4032000" cy="791640"/>
          </a:xfrm>
          <a:prstGeom prst="rect">
            <a:avLst/>
          </a:prstGeom>
          <a:gradFill rotWithShape="0">
            <a:gsLst>
              <a:gs pos="0">
                <a:srgbClr val="e1d0d0"/>
              </a:gs>
              <a:gs pos="100000">
                <a:srgbClr val="ceadab"/>
              </a:gs>
            </a:gsLst>
            <a:path path="circle">
              <a:fillToRect l="50000" t="50000" r="50000" b="50000"/>
            </a:path>
          </a:gradFill>
          <a:ln>
            <a:solidFill>
              <a:srgbClr val="79463d"/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адап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124" descr="http://puzyaka.ru/articles/wp-content/uploads/2013/04/konstruktor.jpg"/>
          <p:cNvPicPr/>
          <p:nvPr/>
        </p:nvPicPr>
        <p:blipFill>
          <a:blip r:embed="rId4"/>
          <a:stretch/>
        </p:blipFill>
        <p:spPr>
          <a:xfrm>
            <a:off x="3569760" y="2637000"/>
            <a:ext cx="2749320" cy="2088000"/>
          </a:xfrm>
          <a:prstGeom prst="rect">
            <a:avLst/>
          </a:prstGeom>
          <a:ln w="0">
            <a:noFill/>
          </a:ln>
          <a:effectLst>
            <a:glow rad="139680">
              <a:srgbClr val="8f3626">
                <a:alpha val="40000"/>
              </a:srgbClr>
            </a:glow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2064-3578-4AF5-B566-50A6A05A71A6}" type="slidenum">
              <a:t>8</a:t>
            </a:fld>
          </a:p>
        </p:txBody>
      </p:sp>
    </p:spTree>
  </p:cSld>
  <mc:AlternateContent>
    <mc:Choice Requires="p14">
      <p:transition spd="slow" p14:dur="25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64000" y="188640"/>
            <a:ext cx="5328360" cy="1367640"/>
          </a:xfrm>
          <a:prstGeom prst="rect">
            <a:avLst/>
          </a:prstGeom>
          <a:solidFill>
            <a:srgbClr val="66ffff"/>
          </a:solidFill>
          <a:ln w="28440">
            <a:solidFill>
              <a:srgbClr val="0070c0"/>
            </a:solidFill>
            <a:round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002060"/>
                </a:solidFill>
                <a:latin typeface="Constantia"/>
              </a:rPr>
              <a:t>Воспитатель – Ваш помощник!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icture 2"/>
          <p:cNvSpPr/>
          <p:nvPr/>
        </p:nvSpPr>
        <p:spPr>
          <a:xfrm>
            <a:off x="1691640" y="1772640"/>
            <a:ext cx="6480360" cy="3960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Заголовок 5"/>
          <p:cNvSpPr/>
          <p:nvPr/>
        </p:nvSpPr>
        <p:spPr>
          <a:xfrm>
            <a:off x="467640" y="5490000"/>
            <a:ext cx="5328360" cy="1367640"/>
          </a:xfrm>
          <a:prstGeom prst="rect">
            <a:avLst/>
          </a:prstGeom>
          <a:solidFill>
            <a:srgbClr val="66ffff"/>
          </a:solidFill>
          <a:ln w="28575">
            <a:solidFill>
              <a:srgbClr val="0070c0"/>
            </a:solidFill>
            <a:round/>
          </a:ln>
          <a:effectLst>
            <a:glow rad="139680">
              <a:srgbClr val="8da898">
                <a:alpha val="40000"/>
              </a:srgbClr>
            </a:glow>
          </a:effectLst>
          <a:scene3d>
            <a:camera prst="perspectiveRelaxedModerately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nstantia"/>
              </a:rPr>
              <a:t>Есть контак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5A60-8A62-4AF9-B85E-3938A9653F0C}" type="slidenum">
              <a:t>9</a:t>
            </a:fld>
          </a:p>
        </p:txBody>
      </p:sp>
    </p:spTree>
  </p:cSld>
  <mc:AlternateContent>
    <mc:Choice Requires="p14">
      <p:transition spd="slow" p14:dur="25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Другая 44">
      <a:dk1>
        <a:srgbClr val="292934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56531d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Другая 44">
      <a:dk1>
        <a:srgbClr val="292934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56531d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56531d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197</TotalTime>
  <Application>LibreOffice/7.4.7.2$Linux_X86_64 LibreOffice_project/40$Build-2</Application>
  <AppVersion>15.0000</AppVersion>
  <Words>364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08:42:48Z</dcterms:created>
  <dc:creator>uzer</dc:creator>
  <dc:description/>
  <dc:language>en-US</dc:language>
  <cp:lastModifiedBy>Home</cp:lastModifiedBy>
  <dcterms:modified xsi:type="dcterms:W3CDTF">2014-10-26T16:05:23Z</dcterms:modified>
  <cp:revision>42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3</vt:r8>
  </property>
</Properties>
</file>