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2E659-5EB8-41F5-836C-853BD2E2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64809-65D4-4473-B287-7B18C4E9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3CD47-F3D6-42FA-BA92-72730285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DF7ED-174D-4CBE-AACB-F35D7D44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34981-5CD5-4F1E-B6DC-3F74B071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DCEF7-84F6-4879-8700-8EC1F59E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47D10-8B7A-46E2-8FD5-55807F26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8F014-BACA-49CF-A903-B48CDBFF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95B6B-03D3-45CB-BF0D-C1A8C9AD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D5B1F-4866-4161-AAAC-E7A4B538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D4A9F-E223-445E-9A19-F9AC4AF1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4B435-D00B-49EA-8CAF-44FABB10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6A936-83BB-4B75-A3DF-4B6AE71C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08F6A-EB5B-47D5-BCF9-5D8A0FF8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71E54-4310-4C22-AFB4-03FCB19E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40DD0-30C8-47A8-9238-26246834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3883B-8EFD-44E5-A259-633355A5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5A3D9-177C-47C3-B2B6-DE51467F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04B48-0174-42DE-BEC4-0B8E67F5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C2A9E-D59A-4B40-A007-9144EDE2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C073D-1C8D-4DB6-B2A4-98AEEFEE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25053-766A-4B03-9DCF-E49DDA12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C8300-E318-4E6F-AB49-D0547D55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6DC9D-DE70-44FA-92E6-3CDE3F36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A8BC0-3504-48F3-8407-E43FE88E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E244A-59CF-4847-B099-0ED2FF07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D9BAD-23F8-4A28-8F46-FD2BF2B3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A5E98-153A-42F4-9827-1C17BB3B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312A7-973A-4956-B22B-22018F14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14E2C-A07A-476E-926C-2CC7292F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9339F-B84E-491B-880B-73F22712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82369-7FB7-4230-ADF5-B63D8A00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763A2-1B5B-40C7-A637-3E4CB092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EBF39-636F-4590-96B4-10ED8059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222EB-D0AF-4976-B296-181DB5B4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13A62-0CCE-479F-BFF6-A305ABAA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713A7-9987-4BCA-B3CA-C77B5204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8C758-2A23-4256-BDA4-29F74D7E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9025E-A3CD-4C51-B5AF-4C9180C8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5011C-8BB0-46EB-B5E0-0127A025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E554A-A667-41A4-A5EF-762ECF09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0FA09-043F-44C8-87F5-D2C43192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6B25B-5500-4633-A9EB-1655D6E6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3A8D8-FCD7-42B5-A84C-D9491487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9C9C4-C5FE-4EB3-B963-338C3850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7C0C8-4C1B-4793-8A23-2C777D20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DFC44-FA2E-4FE1-A6A1-27F8A2E7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43579-4BDE-4B21-9C6A-043EF473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99E11-10D8-4276-8FFE-6F39AB26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7D4C9-A879-412B-9629-F92C084D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30E06-5334-4168-AF49-69F15A55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F69C4-CAA0-4C7F-84D2-15480BFB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0CABD-62C5-4CEC-8893-CD9B63E6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E901D-B1E6-48F6-9471-81D44876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E6CC4-9882-445D-A5F1-8EC864B9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09AF3-682B-4858-855F-5B97DC26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0E80B-DA5B-482D-83C3-708D7DB3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32CC2-4916-4674-8467-5880D43F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B7FC8-DA92-42EB-9F2C-50819AB7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5F5DC-D333-44D0-9C54-A62E75A5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1E305-896C-452B-9583-3C5B7BEC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09592-1268-46FD-ABF7-D67987F9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7E0E4-F66B-4A0A-9920-C2BA0054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B0A10-0F2C-458F-8E70-72F7058F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1D959-C0CE-4F1E-AF92-2B96601E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84E72-BD32-471E-9CF1-852C08A8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EF10F-BDB5-4048-9187-32C64846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72661-A589-406F-A72D-40D6E7A2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5FA93-D0FC-4EC1-A7CD-17F63305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968B8-5FA5-476B-97A7-6D515E85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A491C-457E-4C39-A91A-79CB1246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78B78-CB35-437E-BBF6-72042E04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CEB3C-EF2D-4F8D-8604-7BD63010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575EA-B3EC-4CD2-95D9-C98B8B62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40AB7-5CE3-4406-8961-67BF46CC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6AF77-7E7F-4001-8A61-D4E72245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986ED-1C61-44F8-812C-D884535C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48CC1-C479-491A-94B6-1CF126F3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38B7B-688C-474A-AE12-C0240912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F2204-B773-4F6B-AFA4-C6652C57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E0E09-768F-4372-B99A-27EB99DD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E8F10-22F8-436B-A56F-D2AB410C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DF441-60EA-41DC-A832-B91D3D36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818BD-1B9F-43FA-9F27-3F62960F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893FA-D640-4159-9952-70FDD5F2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15295-C287-4686-BDA5-5437241E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60D55-1EC3-4D76-81AA-FF01668B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FFC0E-C938-40A2-81FD-5E7E19A4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C0D3C-D7C3-402B-9DD2-042CC216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5CF01-2641-47EA-9447-B435C67A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93EC4-C783-4CA1-A6E7-AE609B7C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66112-BAF0-423A-B4D9-95E76CEB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44C53-7E32-4A7F-94C0-A05A096F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68B0D-1DD9-4DBF-8FDB-7AA077FA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056C9-5A07-4C16-87B7-4225139D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AF91C-921F-4E3B-AB75-C55D4FD0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3DF63-A49A-4947-B91D-47E1D7F6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12AC0-5C11-40EF-8357-9977E666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B7F54-087E-4437-986B-5C801424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B7F91-2123-4B87-8A36-1D3914B2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44BFA-7D23-4C4A-A13D-04388BBE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54533-207A-4AD5-B9AA-1A973CD8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311640"/>
            <a:ext cx="822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AB3BC-7277-4D54-A4BE-5731F72B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311640"/>
            <a:ext cx="40158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68A5B-4355-49B4-85EB-D4268148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311640"/>
            <a:ext cx="264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57EAE-C499-4610-828F-87FD092D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245F0-0F88-4591-8C4F-C724A1BE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E6689-13B2-4797-A06F-5CA48BC6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12DE0-634B-48A2-9976-7685207E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0_9e916_fbcdf200_XL.jpg"/>
          <p:cNvPicPr/>
          <p:nvPr/>
        </p:nvPicPr>
        <p:blipFill>
          <a:blip r:embed="rId2"/>
          <a:stretch/>
        </p:blipFill>
        <p:spPr>
          <a:xfrm>
            <a:off x="6858000" y="4724280"/>
            <a:ext cx="1676520" cy="151452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8" descr="0_68ceb_c0523558_L.jpg"/>
          <p:cNvPicPr/>
          <p:nvPr/>
        </p:nvPicPr>
        <p:blipFill>
          <a:blip r:embed="rId3"/>
          <a:stretch/>
        </p:blipFill>
        <p:spPr>
          <a:xfrm>
            <a:off x="7391520" y="3200400"/>
            <a:ext cx="1600200" cy="1609560"/>
          </a:xfrm>
          <a:prstGeom prst="rect">
            <a:avLst/>
          </a:prstGeom>
          <a:ln w="0">
            <a:noFill/>
          </a:ln>
        </p:spPr>
      </p:pic>
      <p:pic>
        <p:nvPicPr>
          <p:cNvPr id="2" name="Рисунок 9" descr="bukva_A.jpg"/>
          <p:cNvPicPr/>
          <p:nvPr/>
        </p:nvPicPr>
        <p:blipFill>
          <a:blip r:embed="rId4"/>
          <a:stretch/>
        </p:blipFill>
        <p:spPr>
          <a:xfrm>
            <a:off x="5486400" y="49528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3" name="Рисунок 6" descr="0_675bf_e1290b04_L.jpg"/>
          <p:cNvPicPr/>
          <p:nvPr/>
        </p:nvPicPr>
        <p:blipFill>
          <a:blip r:embed="rId5"/>
          <a:stretch/>
        </p:blipFill>
        <p:spPr>
          <a:xfrm>
            <a:off x="228600" y="4572000"/>
            <a:ext cx="1708200" cy="18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25040" indent="-180360">
              <a:spcBef>
                <a:spcPts val="799"/>
              </a:spcBef>
              <a:buClr>
                <a:srgbClr val="ddd9c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Прямоугольник 11"/>
          <p:cNvSpPr/>
          <p:nvPr/>
        </p:nvSpPr>
        <p:spPr>
          <a:xfrm>
            <a:off x="6934320" y="632448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Calibri"/>
              </a:rPr>
              <a:t>http://lara3172.blogspot.r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Рисунок 7" descr="0_9e916_fbcdf200_XL.jpg"/>
          <p:cNvPicPr/>
          <p:nvPr/>
        </p:nvPicPr>
        <p:blipFill>
          <a:blip r:embed="rId2"/>
          <a:stretch/>
        </p:blipFill>
        <p:spPr>
          <a:xfrm>
            <a:off x="6858000" y="4724280"/>
            <a:ext cx="1676520" cy="151452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8" descr="0_68ceb_c0523558_L.jpg"/>
          <p:cNvPicPr/>
          <p:nvPr/>
        </p:nvPicPr>
        <p:blipFill>
          <a:blip r:embed="rId3"/>
          <a:stretch/>
        </p:blipFill>
        <p:spPr>
          <a:xfrm>
            <a:off x="7391520" y="3200400"/>
            <a:ext cx="1600200" cy="160956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9" descr="bukva_A.jpg"/>
          <p:cNvPicPr/>
          <p:nvPr/>
        </p:nvPicPr>
        <p:blipFill>
          <a:blip r:embed="rId4"/>
          <a:stretch/>
        </p:blipFill>
        <p:spPr>
          <a:xfrm>
            <a:off x="5486400" y="49528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6" descr="0_675bf_e1290b04_L.jpg"/>
          <p:cNvPicPr/>
          <p:nvPr/>
        </p:nvPicPr>
        <p:blipFill>
          <a:blip r:embed="rId5"/>
          <a:stretch/>
        </p:blipFill>
        <p:spPr>
          <a:xfrm>
            <a:off x="228600" y="4572000"/>
            <a:ext cx="1708200" cy="185256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11"/>
          <p:cNvSpPr/>
          <p:nvPr/>
        </p:nvSpPr>
        <p:spPr>
          <a:xfrm>
            <a:off x="6934320" y="632448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Calibri"/>
              </a:rPr>
              <a:t>http://lara3172.blogspot.r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25040" indent="-180360">
              <a:spcBef>
                <a:spcPts val="799"/>
              </a:spcBef>
              <a:buClr>
                <a:srgbClr val="ddd9c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45C4-1D0D-4788-AB90-06E05F05947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Рисунок 7" descr="0_9e916_fbcdf200_XL.jpg"/>
          <p:cNvPicPr/>
          <p:nvPr/>
        </p:nvPicPr>
        <p:blipFill>
          <a:blip r:embed="rId2"/>
          <a:stretch/>
        </p:blipFill>
        <p:spPr>
          <a:xfrm>
            <a:off x="6858000" y="4724280"/>
            <a:ext cx="1676520" cy="151452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8" descr="0_68ceb_c0523558_L.jpg"/>
          <p:cNvPicPr/>
          <p:nvPr/>
        </p:nvPicPr>
        <p:blipFill>
          <a:blip r:embed="rId3"/>
          <a:stretch/>
        </p:blipFill>
        <p:spPr>
          <a:xfrm>
            <a:off x="7391520" y="3200400"/>
            <a:ext cx="1600200" cy="160956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9" descr="bukva_A.jpg"/>
          <p:cNvPicPr/>
          <p:nvPr/>
        </p:nvPicPr>
        <p:blipFill>
          <a:blip r:embed="rId4"/>
          <a:stretch/>
        </p:blipFill>
        <p:spPr>
          <a:xfrm>
            <a:off x="5486400" y="49528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6" descr="0_675bf_e1290b04_L.jpg"/>
          <p:cNvPicPr/>
          <p:nvPr/>
        </p:nvPicPr>
        <p:blipFill>
          <a:blip r:embed="rId5"/>
          <a:stretch/>
        </p:blipFill>
        <p:spPr>
          <a:xfrm>
            <a:off x="228600" y="4572000"/>
            <a:ext cx="1708200" cy="18525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1"/>
          <p:cNvSpPr/>
          <p:nvPr/>
        </p:nvSpPr>
        <p:spPr>
          <a:xfrm>
            <a:off x="6934320" y="632448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Calibri"/>
              </a:rPr>
              <a:t>http://lara3172.blogspot.r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25040" indent="-180360">
              <a:spcBef>
                <a:spcPts val="799"/>
              </a:spcBef>
              <a:buClr>
                <a:srgbClr val="ddd9c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2B8E-4E77-4549-9582-C3E9D00F7C3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Рисунок 7" descr="0_9e916_fbcdf200_XL.jpg"/>
          <p:cNvPicPr/>
          <p:nvPr/>
        </p:nvPicPr>
        <p:blipFill>
          <a:blip r:embed="rId2"/>
          <a:stretch/>
        </p:blipFill>
        <p:spPr>
          <a:xfrm>
            <a:off x="6858000" y="4724280"/>
            <a:ext cx="1676520" cy="151452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8" descr="0_68ceb_c0523558_L.jpg"/>
          <p:cNvPicPr/>
          <p:nvPr/>
        </p:nvPicPr>
        <p:blipFill>
          <a:blip r:embed="rId3"/>
          <a:stretch/>
        </p:blipFill>
        <p:spPr>
          <a:xfrm>
            <a:off x="7391520" y="3200400"/>
            <a:ext cx="1600200" cy="160956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9" descr="bukva_A.jpg"/>
          <p:cNvPicPr/>
          <p:nvPr/>
        </p:nvPicPr>
        <p:blipFill>
          <a:blip r:embed="rId4"/>
          <a:stretch/>
        </p:blipFill>
        <p:spPr>
          <a:xfrm>
            <a:off x="5486400" y="49528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6" descr="0_675bf_e1290b04_L.jpg"/>
          <p:cNvPicPr/>
          <p:nvPr/>
        </p:nvPicPr>
        <p:blipFill>
          <a:blip r:embed="rId5"/>
          <a:stretch/>
        </p:blipFill>
        <p:spPr>
          <a:xfrm>
            <a:off x="228600" y="4572000"/>
            <a:ext cx="1708200" cy="1852560"/>
          </a:xfrm>
          <a:prstGeom prst="rect">
            <a:avLst/>
          </a:prstGeom>
          <a:ln w="0">
            <a:noFill/>
          </a:ln>
        </p:spPr>
      </p:pic>
      <p:sp>
        <p:nvSpPr>
          <p:cNvPr id="506" name="Прямоугольник 11"/>
          <p:cNvSpPr/>
          <p:nvPr/>
        </p:nvSpPr>
        <p:spPr>
          <a:xfrm>
            <a:off x="6934320" y="632448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Calibri"/>
              </a:rPr>
              <a:t>http://lara3172.blogspot.r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25040" indent="-180360">
              <a:spcBef>
                <a:spcPts val="799"/>
              </a:spcBef>
              <a:buClr>
                <a:srgbClr val="ddd9c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B384-1C23-4A95-909C-17286C4BDDA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7" descr="0_9e916_fbcdf200_XL.jpg"/>
          <p:cNvPicPr/>
          <p:nvPr/>
        </p:nvPicPr>
        <p:blipFill>
          <a:blip r:embed="rId2"/>
          <a:stretch/>
        </p:blipFill>
        <p:spPr>
          <a:xfrm>
            <a:off x="6858000" y="4724280"/>
            <a:ext cx="1676520" cy="1514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0_68ceb_c0523558_L.jpg"/>
          <p:cNvPicPr/>
          <p:nvPr/>
        </p:nvPicPr>
        <p:blipFill>
          <a:blip r:embed="rId3"/>
          <a:stretch/>
        </p:blipFill>
        <p:spPr>
          <a:xfrm>
            <a:off x="7391520" y="3200400"/>
            <a:ext cx="1600200" cy="16095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bukva_A.jpg"/>
          <p:cNvPicPr/>
          <p:nvPr/>
        </p:nvPicPr>
        <p:blipFill>
          <a:blip r:embed="rId4"/>
          <a:stretch/>
        </p:blipFill>
        <p:spPr>
          <a:xfrm>
            <a:off x="5486400" y="49528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0_675bf_e1290b04_L.jpg"/>
          <p:cNvPicPr/>
          <p:nvPr/>
        </p:nvPicPr>
        <p:blipFill>
          <a:blip r:embed="rId5"/>
          <a:stretch/>
        </p:blipFill>
        <p:spPr>
          <a:xfrm>
            <a:off x="228600" y="4572000"/>
            <a:ext cx="1708200" cy="18525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1"/>
          <p:cNvSpPr/>
          <p:nvPr/>
        </p:nvSpPr>
        <p:spPr>
          <a:xfrm>
            <a:off x="6934320" y="632448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Calibri"/>
              </a:rPr>
              <a:t>http://lara3172.blogspot.r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25040" indent="-180360">
              <a:spcBef>
                <a:spcPts val="799"/>
              </a:spcBef>
              <a:buClr>
                <a:srgbClr val="ddd9c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8D50-DFB5-44F1-8EF8-4BAB250CE7A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Скругленный прямоугольник 10"/>
          <p:cNvSpPr/>
          <p:nvPr/>
        </p:nvSpPr>
        <p:spPr>
          <a:xfrm>
            <a:off x="304920" y="228600"/>
            <a:ext cx="8458200" cy="5029200"/>
          </a:xfrm>
          <a:prstGeom prst="roundRect">
            <a:avLst>
              <a:gd name="adj" fmla="val 16667"/>
            </a:avLst>
          </a:prstGeom>
          <a:solidFill>
            <a:srgbClr val="c3d69b">
              <a:alpha val="32000"/>
            </a:srgbClr>
          </a:solidFill>
          <a:ln cap="rnd" w="25560">
            <a:solidFill>
              <a:srgbClr val="ebf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10" descr="0_68ceb_c0523558_L.jpg"/>
          <p:cNvPicPr/>
          <p:nvPr/>
        </p:nvPicPr>
        <p:blipFill>
          <a:blip r:embed="rId2"/>
          <a:stretch/>
        </p:blipFill>
        <p:spPr>
          <a:xfrm>
            <a:off x="7620120" y="3886200"/>
            <a:ext cx="1523880" cy="15336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2" descr="0_9e916_fbcdf200_XL.jpg"/>
          <p:cNvPicPr/>
          <p:nvPr/>
        </p:nvPicPr>
        <p:blipFill>
          <a:blip r:embed="rId3"/>
          <a:stretch/>
        </p:blipFill>
        <p:spPr>
          <a:xfrm>
            <a:off x="6324480" y="5029200"/>
            <a:ext cx="1752840" cy="15843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3" descr="bukva_A.jpg"/>
          <p:cNvPicPr/>
          <p:nvPr/>
        </p:nvPicPr>
        <p:blipFill>
          <a:blip r:embed="rId4"/>
          <a:stretch/>
        </p:blipFill>
        <p:spPr>
          <a:xfrm>
            <a:off x="4952880" y="5257800"/>
            <a:ext cx="1676520" cy="16002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5"/>
          <p:cNvSpPr/>
          <p:nvPr/>
        </p:nvSpPr>
        <p:spPr>
          <a:xfrm>
            <a:off x="7238880" y="647712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Calibri"/>
              </a:rPr>
              <a:t>http://lara3172.blogspot.r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25040" indent="-180360">
              <a:spcBef>
                <a:spcPts val="799"/>
              </a:spcBef>
              <a:buClr>
                <a:srgbClr val="ddd9c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0"/>
          <p:cNvSpPr/>
          <p:nvPr/>
        </p:nvSpPr>
        <p:spPr>
          <a:xfrm flipH="1">
            <a:off x="7238160" y="624852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Calibri"/>
              </a:rPr>
              <a:t>http://lara3172.blogspot.r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12" descr="0_68ceb_c0523558_L.jpg"/>
          <p:cNvPicPr/>
          <p:nvPr/>
        </p:nvPicPr>
        <p:blipFill>
          <a:blip r:embed="rId2"/>
          <a:stretch/>
        </p:blipFill>
        <p:spPr>
          <a:xfrm>
            <a:off x="7238880" y="2590920"/>
            <a:ext cx="1708200" cy="17175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3" descr="bukva_A.jpg"/>
          <p:cNvPicPr/>
          <p:nvPr/>
        </p:nvPicPr>
        <p:blipFill>
          <a:blip r:embed="rId3"/>
          <a:stretch/>
        </p:blipFill>
        <p:spPr>
          <a:xfrm>
            <a:off x="457200" y="49528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4" descr="0_9e916_fbcdf200_XL.jpg"/>
          <p:cNvPicPr/>
          <p:nvPr/>
        </p:nvPicPr>
        <p:blipFill>
          <a:blip r:embed="rId4"/>
          <a:stretch/>
        </p:blipFill>
        <p:spPr>
          <a:xfrm>
            <a:off x="5791320" y="5257800"/>
            <a:ext cx="1523880" cy="13780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25040" indent="-180360">
              <a:spcBef>
                <a:spcPts val="799"/>
              </a:spcBef>
              <a:buClr>
                <a:srgbClr val="ddd9c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7" descr="0_9e916_fbcdf200_XL.jpg"/>
          <p:cNvPicPr/>
          <p:nvPr/>
        </p:nvPicPr>
        <p:blipFill>
          <a:blip r:embed="rId2"/>
          <a:stretch/>
        </p:blipFill>
        <p:spPr>
          <a:xfrm>
            <a:off x="6858000" y="4724280"/>
            <a:ext cx="1676520" cy="15145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8" descr="0_68ceb_c0523558_L.jpg"/>
          <p:cNvPicPr/>
          <p:nvPr/>
        </p:nvPicPr>
        <p:blipFill>
          <a:blip r:embed="rId3"/>
          <a:stretch/>
        </p:blipFill>
        <p:spPr>
          <a:xfrm>
            <a:off x="7391520" y="3200400"/>
            <a:ext cx="1600200" cy="160956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9" descr="bukva_A.jpg"/>
          <p:cNvPicPr/>
          <p:nvPr/>
        </p:nvPicPr>
        <p:blipFill>
          <a:blip r:embed="rId4"/>
          <a:stretch/>
        </p:blipFill>
        <p:spPr>
          <a:xfrm>
            <a:off x="5486400" y="49528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6" descr="0_675bf_e1290b04_L.jpg"/>
          <p:cNvPicPr/>
          <p:nvPr/>
        </p:nvPicPr>
        <p:blipFill>
          <a:blip r:embed="rId5"/>
          <a:stretch/>
        </p:blipFill>
        <p:spPr>
          <a:xfrm>
            <a:off x="228600" y="4572000"/>
            <a:ext cx="1708200" cy="185256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11"/>
          <p:cNvSpPr/>
          <p:nvPr/>
        </p:nvSpPr>
        <p:spPr>
          <a:xfrm>
            <a:off x="6934320" y="632448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Calibri"/>
              </a:rPr>
              <a:t>http://lara3172.blogspot.r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25040" indent="-180360">
              <a:spcBef>
                <a:spcPts val="799"/>
              </a:spcBef>
              <a:buClr>
                <a:srgbClr val="ddd9c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9CA1-C3BE-4BEB-8207-342E61D1020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7" descr="0_9e916_fbcdf200_XL.jpg"/>
          <p:cNvPicPr/>
          <p:nvPr/>
        </p:nvPicPr>
        <p:blipFill>
          <a:blip r:embed="rId2"/>
          <a:stretch/>
        </p:blipFill>
        <p:spPr>
          <a:xfrm>
            <a:off x="6858000" y="4724280"/>
            <a:ext cx="1676520" cy="15145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8" descr="0_68ceb_c0523558_L.jpg"/>
          <p:cNvPicPr/>
          <p:nvPr/>
        </p:nvPicPr>
        <p:blipFill>
          <a:blip r:embed="rId3"/>
          <a:stretch/>
        </p:blipFill>
        <p:spPr>
          <a:xfrm>
            <a:off x="7391520" y="3200400"/>
            <a:ext cx="1600200" cy="16095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9" descr="bukva_A.jpg"/>
          <p:cNvPicPr/>
          <p:nvPr/>
        </p:nvPicPr>
        <p:blipFill>
          <a:blip r:embed="rId4"/>
          <a:stretch/>
        </p:blipFill>
        <p:spPr>
          <a:xfrm>
            <a:off x="5486400" y="49528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6" descr="0_675bf_e1290b04_L.jpg"/>
          <p:cNvPicPr/>
          <p:nvPr/>
        </p:nvPicPr>
        <p:blipFill>
          <a:blip r:embed="rId5"/>
          <a:stretch/>
        </p:blipFill>
        <p:spPr>
          <a:xfrm>
            <a:off x="228600" y="4572000"/>
            <a:ext cx="1708200" cy="185256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11"/>
          <p:cNvSpPr/>
          <p:nvPr/>
        </p:nvSpPr>
        <p:spPr>
          <a:xfrm>
            <a:off x="6934320" y="632448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Calibri"/>
              </a:rPr>
              <a:t>http://lara3172.blogspot.r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25040" indent="-180360">
              <a:spcBef>
                <a:spcPts val="799"/>
              </a:spcBef>
              <a:buClr>
                <a:srgbClr val="ddd9c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FBFA-C530-4E66-917E-FA9CC06C127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7" descr="0_9e916_fbcdf200_XL.jpg"/>
          <p:cNvPicPr/>
          <p:nvPr/>
        </p:nvPicPr>
        <p:blipFill>
          <a:blip r:embed="rId2"/>
          <a:stretch/>
        </p:blipFill>
        <p:spPr>
          <a:xfrm>
            <a:off x="6858000" y="4724280"/>
            <a:ext cx="1676520" cy="151452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8" descr="0_68ceb_c0523558_L.jpg"/>
          <p:cNvPicPr/>
          <p:nvPr/>
        </p:nvPicPr>
        <p:blipFill>
          <a:blip r:embed="rId3"/>
          <a:stretch/>
        </p:blipFill>
        <p:spPr>
          <a:xfrm>
            <a:off x="7391520" y="3200400"/>
            <a:ext cx="1600200" cy="160956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9" descr="bukva_A.jpg"/>
          <p:cNvPicPr/>
          <p:nvPr/>
        </p:nvPicPr>
        <p:blipFill>
          <a:blip r:embed="rId4"/>
          <a:stretch/>
        </p:blipFill>
        <p:spPr>
          <a:xfrm>
            <a:off x="5486400" y="49528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6" descr="0_675bf_e1290b04_L.jpg"/>
          <p:cNvPicPr/>
          <p:nvPr/>
        </p:nvPicPr>
        <p:blipFill>
          <a:blip r:embed="rId5"/>
          <a:stretch/>
        </p:blipFill>
        <p:spPr>
          <a:xfrm>
            <a:off x="228600" y="4572000"/>
            <a:ext cx="1708200" cy="185256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11"/>
          <p:cNvSpPr/>
          <p:nvPr/>
        </p:nvSpPr>
        <p:spPr>
          <a:xfrm>
            <a:off x="6934320" y="632448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Calibri"/>
              </a:rPr>
              <a:t>http://lara3172.blogspot.r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25040" indent="-180360">
              <a:spcBef>
                <a:spcPts val="799"/>
              </a:spcBef>
              <a:buClr>
                <a:srgbClr val="ddd9c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ADC1-19F6-45A9-A364-A32FA389C2F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7" descr="0_9e916_fbcdf200_XL.jpg"/>
          <p:cNvPicPr/>
          <p:nvPr/>
        </p:nvPicPr>
        <p:blipFill>
          <a:blip r:embed="rId2"/>
          <a:stretch/>
        </p:blipFill>
        <p:spPr>
          <a:xfrm>
            <a:off x="6858000" y="4724280"/>
            <a:ext cx="1676520" cy="151452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8" descr="0_68ceb_c0523558_L.jpg"/>
          <p:cNvPicPr/>
          <p:nvPr/>
        </p:nvPicPr>
        <p:blipFill>
          <a:blip r:embed="rId3"/>
          <a:stretch/>
        </p:blipFill>
        <p:spPr>
          <a:xfrm>
            <a:off x="7391520" y="3200400"/>
            <a:ext cx="1600200" cy="160956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9" descr="bukva_A.jpg"/>
          <p:cNvPicPr/>
          <p:nvPr/>
        </p:nvPicPr>
        <p:blipFill>
          <a:blip r:embed="rId4"/>
          <a:stretch/>
        </p:blipFill>
        <p:spPr>
          <a:xfrm>
            <a:off x="5486400" y="49528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6" descr="0_675bf_e1290b04_L.jpg"/>
          <p:cNvPicPr/>
          <p:nvPr/>
        </p:nvPicPr>
        <p:blipFill>
          <a:blip r:embed="rId5"/>
          <a:stretch/>
        </p:blipFill>
        <p:spPr>
          <a:xfrm>
            <a:off x="228600" y="4572000"/>
            <a:ext cx="1708200" cy="185256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оугольник 11"/>
          <p:cNvSpPr/>
          <p:nvPr/>
        </p:nvSpPr>
        <p:spPr>
          <a:xfrm>
            <a:off x="6934320" y="632448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Calibri"/>
              </a:rPr>
              <a:t>http://lara3172.blogspot.r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25040" indent="-180360">
              <a:spcBef>
                <a:spcPts val="799"/>
              </a:spcBef>
              <a:buClr>
                <a:srgbClr val="ddd9c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BD61-82DA-4B68-A906-A4564BBCB09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7" descr="0_9e916_fbcdf200_XL.jpg"/>
          <p:cNvPicPr/>
          <p:nvPr/>
        </p:nvPicPr>
        <p:blipFill>
          <a:blip r:embed="rId2"/>
          <a:stretch/>
        </p:blipFill>
        <p:spPr>
          <a:xfrm>
            <a:off x="6858000" y="4724280"/>
            <a:ext cx="1676520" cy="151452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8" descr="0_68ceb_c0523558_L.jpg"/>
          <p:cNvPicPr/>
          <p:nvPr/>
        </p:nvPicPr>
        <p:blipFill>
          <a:blip r:embed="rId3"/>
          <a:stretch/>
        </p:blipFill>
        <p:spPr>
          <a:xfrm>
            <a:off x="7391520" y="3200400"/>
            <a:ext cx="1600200" cy="160956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9" descr="bukva_A.jpg"/>
          <p:cNvPicPr/>
          <p:nvPr/>
        </p:nvPicPr>
        <p:blipFill>
          <a:blip r:embed="rId4"/>
          <a:stretch/>
        </p:blipFill>
        <p:spPr>
          <a:xfrm>
            <a:off x="5486400" y="49528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6" descr="0_675bf_e1290b04_L.jpg"/>
          <p:cNvPicPr/>
          <p:nvPr/>
        </p:nvPicPr>
        <p:blipFill>
          <a:blip r:embed="rId5"/>
          <a:stretch/>
        </p:blipFill>
        <p:spPr>
          <a:xfrm>
            <a:off x="228600" y="4572000"/>
            <a:ext cx="1708200" cy="1852560"/>
          </a:xfrm>
          <a:prstGeom prst="rect">
            <a:avLst/>
          </a:prstGeom>
          <a:ln w="0">
            <a:noFill/>
          </a:ln>
        </p:spPr>
      </p:pic>
      <p:sp>
        <p:nvSpPr>
          <p:cNvPr id="368" name="Прямоугольник 11"/>
          <p:cNvSpPr/>
          <p:nvPr/>
        </p:nvSpPr>
        <p:spPr>
          <a:xfrm>
            <a:off x="6934320" y="632448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Calibri"/>
              </a:rPr>
              <a:t>http://lara3172.blogspot.r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25040" indent="-180360">
              <a:spcBef>
                <a:spcPts val="799"/>
              </a:spcBef>
              <a:buClr>
                <a:srgbClr val="ddd9c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AF55-0129-4D9F-A28A-B7810825822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Урок  русского язык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 4 класс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Автор: Колесникова Татьяна Леонидов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ГБОУ СОШ пос. Новоспасск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omic Sans MS"/>
              </a:rPr>
              <a:t>Девиз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olas"/>
              </a:rPr>
              <a:t>Кто в дружбу верит горяч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olas"/>
              </a:rPr>
              <a:t>Кто рядом чувствует плеч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olas"/>
              </a:rPr>
              <a:t>Тот никогда не пропадё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olas"/>
              </a:rPr>
              <a:t>Тот никого не подведё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agneto"/>
              </a:rPr>
              <a:t>Четвёртое февраля.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Magneto"/>
              </a:rPr>
              <a:t>Классная работ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Picture 18" descr="1"/>
          <p:cNvPicPr/>
          <p:nvPr/>
        </p:nvPicPr>
        <p:blipFill>
          <a:blip r:embed="rId2"/>
          <a:stretch/>
        </p:blipFill>
        <p:spPr>
          <a:xfrm>
            <a:off x="4648320" y="349560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algun Gothic"/>
              </a:rPr>
              <a:t>Чистопис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Живи с людьми так, чтобы твои друзья не стали недругами, а недруги стали друзь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ифагор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гра «Молчан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. Глагол обозначае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 признак дей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0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) действ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0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) предм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0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304920" y="175248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.В предложении глагол обычно являе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 сказуем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) существительн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) подлежащи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304920" y="2895480"/>
            <a:ext cx="83055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. Глаголы в начальной форме имеют суффик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 - ам, - 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) - ти, - ть, - ч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) - ат, - я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152280" y="4038480"/>
            <a:ext cx="83822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. В глаголах начальной формы после ч пише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 ничего не пише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) 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) 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152280" y="5181480"/>
            <a:ext cx="76201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. Не  с глаголами пише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 раздель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) слит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1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5" dur="1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6" dur="1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1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0" dur="1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1" dur="1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77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77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77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77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1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05" dur="1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6" dur="1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77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77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1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0" dur="1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1" dur="1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77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77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1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04" dur="1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05" dur="1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ungsuhChe"/>
              </a:rPr>
              <a:t>Настоящее время глаг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Я читаю правил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763200" y="2818800"/>
            <a:ext cx="415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Я читал правил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457560" y="4037760"/>
            <a:ext cx="59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Я буду читать правил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77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77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7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7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ремя глагол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шедшее           настоящее           буду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мент ре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2" name="AutoShape 7"/>
          <p:cNvCxnSpPr/>
          <p:nvPr/>
        </p:nvCxnSpPr>
        <p:spPr>
          <a:xfrm>
            <a:off x="1904760" y="3657240"/>
            <a:ext cx="571572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73" name="AutoShape 8"/>
          <p:cNvSpPr/>
          <p:nvPr/>
        </p:nvSpPr>
        <p:spPr>
          <a:xfrm>
            <a:off x="4648320" y="3581280"/>
            <a:ext cx="152280" cy="15264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. 117, упр.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: живёт – наст. вр., несов. вид, 3-е лиц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ек</cp:lastModifiedBy>
  <dcterms:modified xsi:type="dcterms:W3CDTF">2014-03-24T17:16:20Z</dcterms:modified>
  <cp:revision>16</cp:revision>
  <dc:subject/>
  <dc:title>Слайд 1</dc:title>
</cp:coreProperties>
</file>