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3B1B-65E8-4593-9847-87DF4D4F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EFA9-1053-4BD7-998C-2D7943C4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37E1-6236-4099-A785-D85EA6C6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7CBB-7E86-4D28-AFD1-8C151376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EC3-8ADB-407B-9C60-01586AD3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68B-5E53-4856-BA72-D2FE5FBE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B73-28DE-41F3-BA14-72928130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2D5-BCE1-48E9-A23E-A0137C8C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006C-EC9E-4E33-8F7D-400CF321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4FE-DBD1-47DF-B5AB-25FD76E3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E7D0-A5FD-4595-8DA1-D2302E78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EBAD-6072-4948-B040-5C3943FC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EAA1-1425-4DD3-B4C9-FAD967AE5E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НОГОУГОЛЬН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800" y="53337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AN00790_"/>
          <p:cNvPicPr/>
          <p:nvPr/>
        </p:nvPicPr>
        <p:blipFill>
          <a:blip r:embed="rId1"/>
          <a:stretch/>
        </p:blipFill>
        <p:spPr>
          <a:xfrm>
            <a:off x="3429000" y="2209680"/>
            <a:ext cx="274320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тырёхугольни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"/>
          <p:cNvSpPr/>
          <p:nvPr/>
        </p:nvSpPr>
        <p:spPr>
          <a:xfrm flipV="1">
            <a:off x="380880" y="251460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 flipV="1">
            <a:off x="1752480" y="2361960"/>
            <a:ext cx="16765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"/>
          <p:cNvSpPr/>
          <p:nvPr/>
        </p:nvSpPr>
        <p:spPr>
          <a:xfrm>
            <a:off x="3429000" y="2362320"/>
            <a:ext cx="106668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380880" y="3809880"/>
            <a:ext cx="41148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12193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327672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441972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5867280" y="22860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5410080" y="1371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числ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5257800" y="27432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АВ, ВС, С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, А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6172200" y="3200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4876920" y="35812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А+ </a:t>
            </a:r>
            <a:r>
              <a:rPr b="1" lang="ru-RU" sz="2800" spc="-1" strike="noStrike">
                <a:solidFill>
                  <a:srgbClr val="00660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+ </a:t>
            </a:r>
            <a:r>
              <a:rPr b="1" lang="ru-RU" sz="2800" spc="-1" strike="noStrike">
                <a:solidFill>
                  <a:srgbClr val="00660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+</a:t>
            </a:r>
            <a:r>
              <a:rPr b="1" lang="ru-RU" sz="2800" spc="-1" strike="noStrike">
                <a:solidFill>
                  <a:srgbClr val="0066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=180</a:t>
            </a:r>
            <a:r>
              <a:rPr b="1" lang="ru-RU" sz="2800" spc="-1" strike="noStrike">
                <a:solidFill>
                  <a:srgbClr val="0066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5867280" y="1371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ш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3505320" y="54864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А и С, В и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1676520" y="41148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ивоположные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289548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и ВС, АВ и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1676520" y="50292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ивоположные верши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5791320" y="1828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, В, С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3048120" y="6019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он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 flipV="1">
            <a:off x="380880" y="2361960"/>
            <a:ext cx="3048120" cy="144756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1752480" y="2514600"/>
            <a:ext cx="2743200" cy="137160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5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5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5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ы четырёхуголь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 flipV="1">
            <a:off x="838080" y="2056320"/>
            <a:ext cx="3505320" cy="2514600"/>
          </a:xfrm>
          <a:custGeom>
            <a:avLst/>
            <a:gdLst>
              <a:gd name="textAreaLeft" fmla="*/ 730080 w 3505320"/>
              <a:gd name="textAreaRight" fmla="*/ 2775240 w 3505320"/>
              <a:gd name="textAreaTop" fmla="*/ 523800 h 2514600"/>
              <a:gd name="textAreaBottom" fmla="*/ 199080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 flipV="1">
            <a:off x="838080" y="2057040"/>
            <a:ext cx="266724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 flipH="1" flipV="1">
            <a:off x="1676520" y="2057040"/>
            <a:ext cx="266688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5867280" y="19051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5867280" y="1905120"/>
            <a:ext cx="91440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 flipH="1">
            <a:off x="6781680" y="2819520"/>
            <a:ext cx="7632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H="1">
            <a:off x="6858000" y="1905120"/>
            <a:ext cx="8380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6781680" y="1905120"/>
            <a:ext cx="914400" cy="2819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867280" y="1905120"/>
            <a:ext cx="990720" cy="9144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5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5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5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7" descr="tigra2"/>
          <p:cNvPicPr/>
          <p:nvPr/>
        </p:nvPicPr>
        <p:blipFill>
          <a:blip r:embed="rId1"/>
          <a:stretch/>
        </p:blipFill>
        <p:spPr>
          <a:xfrm>
            <a:off x="3048120" y="1219320"/>
            <a:ext cx="4419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Группа 13"/>
          <p:cNvGrpSpPr/>
          <p:nvPr/>
        </p:nvGrpSpPr>
        <p:grpSpPr>
          <a:xfrm>
            <a:off x="1270080" y="1257120"/>
            <a:ext cx="1955880" cy="1600560"/>
            <a:chOff x="1270080" y="1257120"/>
            <a:chExt cx="1955880" cy="1600560"/>
          </a:xfrm>
        </p:grpSpPr>
        <p:sp>
          <p:nvSpPr>
            <p:cNvPr id="45" name="Прямая соединительная линия 4"/>
            <p:cNvSpPr/>
            <p:nvPr/>
          </p:nvSpPr>
          <p:spPr>
            <a:xfrm>
              <a:off x="1270080" y="2057400"/>
              <a:ext cx="195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Прямая соединительная линия 6"/>
            <p:cNvSpPr/>
            <p:nvPr/>
          </p:nvSpPr>
          <p:spPr>
            <a:xfrm flipV="1">
              <a:off x="1270080" y="1257480"/>
              <a:ext cx="366480" cy="79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Прямая соединительная линия 8"/>
            <p:cNvSpPr/>
            <p:nvPr/>
          </p:nvSpPr>
          <p:spPr>
            <a:xfrm>
              <a:off x="1636560" y="1257480"/>
              <a:ext cx="79452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Прямая соединительная линия 10"/>
            <p:cNvSpPr/>
            <p:nvPr/>
          </p:nvSpPr>
          <p:spPr>
            <a:xfrm flipV="1">
              <a:off x="2431440" y="1257120"/>
              <a:ext cx="48888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Прямая соединительная линия 12"/>
            <p:cNvSpPr/>
            <p:nvPr/>
          </p:nvSpPr>
          <p:spPr>
            <a:xfrm>
              <a:off x="2920320" y="1257480"/>
              <a:ext cx="305640" cy="79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араллелограмм 14"/>
          <p:cNvSpPr/>
          <p:nvPr/>
        </p:nvSpPr>
        <p:spPr>
          <a:xfrm>
            <a:off x="4495680" y="1085760"/>
            <a:ext cx="1752840" cy="1143000"/>
          </a:xfrm>
          <a:prstGeom prst="parallelogram">
            <a:avLst>
              <a:gd name="adj" fmla="val 2500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Группа 23"/>
          <p:cNvGrpSpPr/>
          <p:nvPr/>
        </p:nvGrpSpPr>
        <p:grpSpPr>
          <a:xfrm>
            <a:off x="4051440" y="3342960"/>
            <a:ext cx="2006640" cy="1295640"/>
            <a:chOff x="4051440" y="3342960"/>
            <a:chExt cx="2006640" cy="1295640"/>
          </a:xfrm>
        </p:grpSpPr>
        <p:sp>
          <p:nvSpPr>
            <p:cNvPr id="52" name="Прямая соединительная линия 16"/>
            <p:cNvSpPr/>
            <p:nvPr/>
          </p:nvSpPr>
          <p:spPr>
            <a:xfrm flipV="1">
              <a:off x="4051440" y="3342960"/>
              <a:ext cx="2006640" cy="94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Прямая соединительная линия 18"/>
            <p:cNvSpPr/>
            <p:nvPr/>
          </p:nvSpPr>
          <p:spPr>
            <a:xfrm>
              <a:off x="4051440" y="4285440"/>
              <a:ext cx="1667160" cy="35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20"/>
            <p:cNvSpPr/>
            <p:nvPr/>
          </p:nvSpPr>
          <p:spPr>
            <a:xfrm flipH="1">
              <a:off x="5224320" y="3343320"/>
              <a:ext cx="833400" cy="70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ая соединительная линия 22"/>
            <p:cNvSpPr/>
            <p:nvPr/>
          </p:nvSpPr>
          <p:spPr>
            <a:xfrm>
              <a:off x="5224680" y="4050000"/>
              <a:ext cx="49392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Правильный пятиугольник 24"/>
          <p:cNvSpPr/>
          <p:nvPr/>
        </p:nvSpPr>
        <p:spPr>
          <a:xfrm>
            <a:off x="1454040" y="3500280"/>
            <a:ext cx="1676520" cy="1371600"/>
          </a:xfrm>
          <a:prstGeom prst="pentag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41"/>
          <p:cNvGrpSpPr/>
          <p:nvPr/>
        </p:nvGrpSpPr>
        <p:grpSpPr>
          <a:xfrm>
            <a:off x="7010280" y="1085760"/>
            <a:ext cx="1600200" cy="1143000"/>
            <a:chOff x="7010280" y="1085760"/>
            <a:chExt cx="1600200" cy="1143000"/>
          </a:xfrm>
        </p:grpSpPr>
        <p:sp>
          <p:nvSpPr>
            <p:cNvPr id="58" name="Прямая соединительная линия 26"/>
            <p:cNvSpPr/>
            <p:nvPr/>
          </p:nvSpPr>
          <p:spPr>
            <a:xfrm>
              <a:off x="7010280" y="222876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Прямая соединительная линия 28"/>
            <p:cNvSpPr/>
            <p:nvPr/>
          </p:nvSpPr>
          <p:spPr>
            <a:xfrm flipV="1">
              <a:off x="7010280" y="1256760"/>
              <a:ext cx="0" cy="9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ая соединительная линия 30"/>
            <p:cNvSpPr/>
            <p:nvPr/>
          </p:nvSpPr>
          <p:spPr>
            <a:xfrm>
              <a:off x="7010280" y="1257120"/>
              <a:ext cx="533520" cy="48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ая соединительная линия 32"/>
            <p:cNvSpPr/>
            <p:nvPr/>
          </p:nvSpPr>
          <p:spPr>
            <a:xfrm flipV="1">
              <a:off x="7543800" y="1085760"/>
              <a:ext cx="99072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Прямая соединительная линия 34"/>
            <p:cNvSpPr/>
            <p:nvPr/>
          </p:nvSpPr>
          <p:spPr>
            <a:xfrm>
              <a:off x="8534520" y="1085760"/>
              <a:ext cx="7596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Шестиугольник 42"/>
          <p:cNvSpPr/>
          <p:nvPr/>
        </p:nvSpPr>
        <p:spPr>
          <a:xfrm>
            <a:off x="6781680" y="3444840"/>
            <a:ext cx="1828800" cy="1681200"/>
          </a:xfrm>
          <a:prstGeom prst="hexagon">
            <a:avLst>
              <a:gd name="adj" fmla="val 25009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угольни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 flipV="1">
            <a:off x="914400" y="2361960"/>
            <a:ext cx="76212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1676520" y="23623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2590920" y="2362320"/>
            <a:ext cx="22860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H="1">
            <a:off x="2514240" y="289548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914400" y="2895480"/>
            <a:ext cx="3808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1295280" y="3809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33520" y="2286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1371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2438280" y="1828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819520" y="2590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251460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91440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57200" y="41911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АВ и ВС – смежные 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380880" y="4800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ислите все пары смежных отрез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V="1">
            <a:off x="3657600" y="2057400"/>
            <a:ext cx="114300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4800600" y="20574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6019920" y="2057400"/>
            <a:ext cx="1522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 flipH="1" flipV="1">
            <a:off x="5257800" y="2590920"/>
            <a:ext cx="9144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"/>
          <p:cNvSpPr/>
          <p:nvPr/>
        </p:nvSpPr>
        <p:spPr>
          <a:xfrm>
            <a:off x="5257800" y="2590920"/>
            <a:ext cx="7632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4"/>
          <p:cNvSpPr/>
          <p:nvPr/>
        </p:nvSpPr>
        <p:spPr>
          <a:xfrm>
            <a:off x="3657600" y="2895480"/>
            <a:ext cx="167652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5"/>
          <p:cNvSpPr/>
          <p:nvPr/>
        </p:nvSpPr>
        <p:spPr>
          <a:xfrm>
            <a:off x="6705720" y="3200400"/>
            <a:ext cx="2133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6"/>
          <p:cNvSpPr/>
          <p:nvPr/>
        </p:nvSpPr>
        <p:spPr>
          <a:xfrm flipV="1">
            <a:off x="6705720" y="2286000"/>
            <a:ext cx="53316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"/>
          <p:cNvSpPr/>
          <p:nvPr/>
        </p:nvSpPr>
        <p:spPr>
          <a:xfrm>
            <a:off x="7238880" y="2286000"/>
            <a:ext cx="53352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8"/>
          <p:cNvSpPr/>
          <p:nvPr/>
        </p:nvSpPr>
        <p:spPr>
          <a:xfrm flipV="1">
            <a:off x="7772400" y="2209680"/>
            <a:ext cx="60948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9"/>
          <p:cNvSpPr/>
          <p:nvPr/>
        </p:nvSpPr>
        <p:spPr>
          <a:xfrm>
            <a:off x="8381880" y="2209680"/>
            <a:ext cx="45720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380880" y="53341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А и В – соседние вер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304920" y="57913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ислите все пары соседних верш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609480" y="8380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это замкнутая ломаная без самопересеч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3657600" y="18288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A, B, C, D, E, F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-вер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3733920" y="236232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B, BC, C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, EF, FA -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8"/>
          <p:cNvSpPr/>
          <p:nvPr/>
        </p:nvSpPr>
        <p:spPr>
          <a:xfrm flipV="1">
            <a:off x="1295280" y="2361960"/>
            <a:ext cx="381240" cy="14475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9"/>
          <p:cNvSpPr/>
          <p:nvPr/>
        </p:nvSpPr>
        <p:spPr>
          <a:xfrm flipV="1">
            <a:off x="1295280" y="2895480"/>
            <a:ext cx="1524240" cy="9144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0"/>
          <p:cNvSpPr/>
          <p:nvPr/>
        </p:nvSpPr>
        <p:spPr>
          <a:xfrm>
            <a:off x="3809880" y="35812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B,  FC -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диагон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5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5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5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5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5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5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5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5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5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5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5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5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5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5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5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5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5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5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5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5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5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ногоуг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1066680" y="1523880"/>
            <a:ext cx="2210040" cy="2210040"/>
          </a:xfrm>
          <a:prstGeom prst="octagon">
            <a:avLst>
              <a:gd name="adj" fmla="val 29287"/>
            </a:avLst>
          </a:prstGeom>
          <a:solidFill>
            <a:srgbClr val="ffff00">
              <a:alpha val="42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762120" y="39625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УК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4952880" y="1219320"/>
            <a:ext cx="2743200" cy="2438280"/>
          </a:xfrm>
          <a:prstGeom prst="plus">
            <a:avLst>
              <a:gd name="adj" fmla="val 25000"/>
            </a:avLst>
          </a:prstGeom>
          <a:solidFill>
            <a:srgbClr val="0000cc">
              <a:alpha val="45000"/>
            </a:srgbClr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724280" y="39625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ВЫПУК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 flipV="1">
            <a:off x="609480" y="1142640"/>
            <a:ext cx="1447920" cy="152388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1066680" y="1523880"/>
            <a:ext cx="20574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2286000" y="1219320"/>
            <a:ext cx="1295280" cy="12189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3276720" y="1828800"/>
            <a:ext cx="0" cy="16765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2437920" y="2666880"/>
            <a:ext cx="1219320" cy="12956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1143000" y="3733920"/>
            <a:ext cx="175248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685800" y="2743200"/>
            <a:ext cx="1219320" cy="11430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1066680" y="1905120"/>
            <a:ext cx="0" cy="16002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4724280" y="1219320"/>
            <a:ext cx="297180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>
            <a:off x="7086600" y="838080"/>
            <a:ext cx="0" cy="320040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5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5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5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 flipV="1">
            <a:off x="914400" y="1599840"/>
            <a:ext cx="129528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2209680" y="16002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3657600" y="1600200"/>
            <a:ext cx="3808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 flipH="1" flipV="1">
            <a:off x="1142640" y="3352320"/>
            <a:ext cx="16002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914400" y="2819520"/>
            <a:ext cx="22860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 rot="19245000">
            <a:off x="3096000" y="318096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7400" y="388620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-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09480" y="320040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038480" y="259092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352680" y="99072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1523880" y="1066680"/>
            <a:ext cx="7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457200" y="213372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6"/>
          <p:cNvSpPr/>
          <p:nvPr/>
        </p:nvSpPr>
        <p:spPr>
          <a:xfrm>
            <a:off x="35812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7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8"/>
          <p:cNvSpPr/>
          <p:nvPr/>
        </p:nvSpPr>
        <p:spPr>
          <a:xfrm>
            <a:off x="26668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0"/>
          <p:cNvSpPr/>
          <p:nvPr/>
        </p:nvSpPr>
        <p:spPr>
          <a:xfrm>
            <a:off x="2133720" y="1523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1"/>
          <p:cNvSpPr/>
          <p:nvPr/>
        </p:nvSpPr>
        <p:spPr>
          <a:xfrm>
            <a:off x="83808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2"/>
          <p:cNvSpPr/>
          <p:nvPr/>
        </p:nvSpPr>
        <p:spPr>
          <a:xfrm>
            <a:off x="106668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685800" y="4419720"/>
            <a:ext cx="8001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= А</a:t>
            </a:r>
            <a:r>
              <a:rPr b="1" lang="ru-RU" sz="32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ru-RU" sz="32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+ А </a:t>
            </a:r>
            <a:r>
              <a:rPr b="1" lang="ru-RU" sz="32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А </a:t>
            </a:r>
            <a:r>
              <a:rPr b="1" lang="ru-RU" sz="32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+ А</a:t>
            </a:r>
            <a:r>
              <a:rPr b="1" lang="ru-RU" sz="32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ru-RU" sz="3200" spc="-1" strike="noStrike" baseline="-25000">
                <a:solidFill>
                  <a:srgbClr val="cc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+…+ А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n+1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А 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4"/>
          <p:cNvSpPr/>
          <p:nvPr/>
        </p:nvSpPr>
        <p:spPr>
          <a:xfrm>
            <a:off x="5181480" y="1219320"/>
            <a:ext cx="3124440" cy="2666880"/>
          </a:xfrm>
          <a:prstGeom prst="octagon">
            <a:avLst>
              <a:gd name="adj" fmla="val 2928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5334120" y="22096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утренняя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66"/>
                                      </p:to>
                                    </p:animClr>
                                    <p:set>
                                      <p:cBhvr>
                                        <p:cTn id="37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5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5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5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Эксперимент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52801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4" descr="22"/>
          <p:cNvPicPr/>
          <p:nvPr/>
        </p:nvPicPr>
        <p:blipFill>
          <a:blip r:embed="rId1"/>
          <a:stretch/>
        </p:blipFill>
        <p:spPr>
          <a:xfrm>
            <a:off x="2971800" y="2438280"/>
            <a:ext cx="3048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905120" y="6094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Заполните табл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5800" y="1295280"/>
          <a:ext cx="7696080" cy="5300640"/>
        </p:xfrm>
        <a:graphic>
          <a:graphicData uri="http://schemas.openxmlformats.org/drawingml/2006/table">
            <a:tbl>
              <a:tblPr/>
              <a:tblGrid>
                <a:gridCol w="2805120"/>
                <a:gridCol w="2630520"/>
                <a:gridCol w="2260440"/>
              </a:tblGrid>
              <a:tr h="235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сторон многоуголь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треугольников получившихся, если провести все диагонали из одной верш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углов многоуголь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0" y="1981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28600" y="3352680"/>
            <a:ext cx="2133720" cy="1295640"/>
          </a:xfrm>
          <a:custGeom>
            <a:avLst/>
            <a:gdLst>
              <a:gd name="textAreaLeft" fmla="*/ 444600 w 2133720"/>
              <a:gd name="textAreaRight" fmla="*/ 1689480 w 2133720"/>
              <a:gd name="textAreaTop" fmla="*/ 270000 h 1295640"/>
              <a:gd name="textAreaBottom" fmla="*/ 102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99">
              <a:alpha val="54000"/>
            </a:srgbClr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V="1">
            <a:off x="762120" y="3352320"/>
            <a:ext cx="160020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85800" y="4724280"/>
            <a:ext cx="1143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2438280" y="3276720"/>
            <a:ext cx="2133720" cy="1676160"/>
          </a:xfrm>
          <a:prstGeom prst="pentagon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3505320" y="3276720"/>
            <a:ext cx="609480" cy="167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 flipH="1">
            <a:off x="2819160" y="3276720"/>
            <a:ext cx="685800" cy="167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3048120" y="4876920"/>
            <a:ext cx="91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=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4648320" y="3352680"/>
            <a:ext cx="1981080" cy="1600200"/>
          </a:xfrm>
          <a:prstGeom prst="hexagon">
            <a:avLst>
              <a:gd name="adj" fmla="val 30951"/>
              <a:gd name="vf" fmla="val 115470"/>
            </a:avLst>
          </a:prstGeom>
          <a:solidFill>
            <a:srgbClr val="ffff00">
              <a:alpha val="34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 flipH="1">
            <a:off x="5105160" y="3352680"/>
            <a:ext cx="7596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5181480" y="33526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5"/>
          <p:cNvSpPr/>
          <p:nvPr/>
        </p:nvSpPr>
        <p:spPr>
          <a:xfrm>
            <a:off x="5181480" y="3352680"/>
            <a:ext cx="144792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5105520" y="4952880"/>
            <a:ext cx="99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=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6934320" y="3352680"/>
            <a:ext cx="1828800" cy="1752840"/>
          </a:xfrm>
          <a:prstGeom prst="octagon">
            <a:avLst>
              <a:gd name="adj" fmla="val 29287"/>
            </a:avLst>
          </a:prstGeom>
          <a:solidFill>
            <a:srgbClr val="3333ff">
              <a:alpha val="62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7010280" y="5029200"/>
            <a:ext cx="1676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=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 flipH="1">
            <a:off x="6933960" y="3352680"/>
            <a:ext cx="53316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"/>
          <p:cNvSpPr/>
          <p:nvPr/>
        </p:nvSpPr>
        <p:spPr>
          <a:xfrm>
            <a:off x="7467480" y="33526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1"/>
          <p:cNvSpPr/>
          <p:nvPr/>
        </p:nvSpPr>
        <p:spPr>
          <a:xfrm>
            <a:off x="7467480" y="3352680"/>
            <a:ext cx="76212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2"/>
          <p:cNvSpPr/>
          <p:nvPr/>
        </p:nvSpPr>
        <p:spPr>
          <a:xfrm>
            <a:off x="7467480" y="3352680"/>
            <a:ext cx="129564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3"/>
          <p:cNvSpPr/>
          <p:nvPr/>
        </p:nvSpPr>
        <p:spPr>
          <a:xfrm>
            <a:off x="7467480" y="3352680"/>
            <a:ext cx="12956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Равнобедренный треугольник 1"/>
          <p:cNvSpPr/>
          <p:nvPr/>
        </p:nvSpPr>
        <p:spPr>
          <a:xfrm rot="15174000">
            <a:off x="3686040" y="502560"/>
            <a:ext cx="1066680" cy="1524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3611520" y="1828800"/>
            <a:ext cx="163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5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5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5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умма углов выпуклого много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685800" y="1905120"/>
            <a:ext cx="2514600" cy="2057400"/>
          </a:xfrm>
          <a:prstGeom prst="hexagon">
            <a:avLst>
              <a:gd name="adj" fmla="val 30556"/>
              <a:gd name="vf" fmla="val 115470"/>
            </a:avLst>
          </a:prstGeom>
          <a:solidFill>
            <a:srgbClr val="00ffcc">
              <a:alpha val="44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 flipH="1">
            <a:off x="1295280" y="1905120"/>
            <a:ext cx="7632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1371600" y="1905120"/>
            <a:ext cx="121932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1371600" y="1905120"/>
            <a:ext cx="182880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3886200" y="1752480"/>
            <a:ext cx="4952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личество треуг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4419720" y="358128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мма углов одного треугольника - 18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914400" y="46483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Сумма углов выпуклого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n-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угольника ра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352680" y="57913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-2)·180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5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5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5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5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5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5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7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8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39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/>
  <dc:language>en-US</dc:language>
  <cp:lastModifiedBy>spectre95@mail.ru</cp:lastModifiedBy>
  <dcterms:modified xsi:type="dcterms:W3CDTF">2014-03-28T15:35:2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