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BC-892F-4901-8560-814612C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C8F-3D36-49DE-AF81-FA62FF5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57DDE-616E-45D0-8EE9-71C51DCB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842B-B013-4572-9527-F0FADD3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30E8-CAEA-49E1-9731-78133CE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92269-488D-438A-9F80-F5C471D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CCA3C-4A65-42C2-80BD-B440C3D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7673-91CF-4D15-9FB5-90910C6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FADED-AF62-45C6-B9A3-B779363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E28F5-01DB-4570-A1A8-52C7F4D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1CA9-5D14-4DC9-9C96-D1B84958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51E22-77A1-41E6-9308-0C70577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70-AF19-4483-870F-6FE6F9F7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B366B-26AC-454A-9E81-5B9A748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343D1-E0A7-4C3A-B2F8-3C42CD6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98525-870B-49C8-BBCE-440B6AE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59582-F2E8-47AC-BDE6-F19C489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AA5D5-754C-4723-9737-56EEDBD2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4FFCD-3384-4DD6-AA18-420DD65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76CF-00CB-4E7B-B6B8-DC641C5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93840-1439-49F3-9A3B-E78A2CF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22E17-E366-4B5B-AC79-5EFD8103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448CA-6069-4E93-89AF-DFBAFDF7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F77-3A5C-4C9C-8AC4-78477FB4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ADDB2-117B-48E3-9789-07522F49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7772-A955-44A2-8336-83596FC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8D052-01CB-4923-892C-43001DF5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DB19E-8CEB-433C-A734-30505538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A52F-3931-4D66-90EA-B2FA31C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F9FC3-4E72-43CC-866D-1FD25EC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06A88-42BC-4FAD-B5CA-1C58FF6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1DCE8-250C-49C1-A9DF-9AD8A73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BB39D-DCD8-4BE2-BBF3-BE53133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1A1CD-450D-49E1-894A-DA62060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437-DDD5-4E3B-92DA-528FA800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104BF-2933-4A52-A920-826F76C1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B9579-0500-4B0A-9FDA-751602B7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F39C-09BD-47D7-88E5-77D039D5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35466-E9F8-45DB-9A68-A74269CD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31EB1-6EBE-4C27-BCB0-FAE22EC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4E9CC-12A1-46FD-8A9E-4BBE8CD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3DC1F-A01D-4E55-8B6A-2C93A1E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6E797-5F2A-44B7-9DD7-1003CC27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F3FD3-DD98-4032-80F3-C0CCBC0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3676E-CEEE-4291-93CD-7F8451B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591-6CE9-4C45-8710-2241DAAF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93F6F-CC86-4552-AEA3-BCB8213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E41C-5160-4869-BD3E-8201AFF7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6AE4B-61F6-41FC-A7E4-DC2A17F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4E0DA-5287-4A5F-ADC9-F0895B96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C3A48-FDC1-4778-8C44-15828032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F09C07-80ED-46AA-BE63-82FDD2B4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F4D211-7033-472D-AF80-6953A1D5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681A7A-0FE0-4281-86F2-E623ED03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11B33D-4742-4A6A-9C93-BE04AF3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86918-41F2-4720-A105-D478CE5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74C-86A9-48C6-9695-2B08114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AA90BA-9D07-45B4-88FB-200F6DFB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9CDE56-3A4F-4379-9185-759B3FF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6E147-1A8F-4B87-91AC-2893B09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69E1A8-51E0-46F8-997B-CF52C26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6A6198-7C25-4F6C-A2CC-AF28AEE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27E51C-629A-4B90-BAAB-7400CEDE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898A6-AF9B-4D01-B55A-CFDF2491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7958D-BC2C-4970-ACDA-D9CC6780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DB1A5-EC3A-4AD4-9612-66F30E2B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A7569-34F3-4CAA-9695-171B038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1A2F-DF74-4341-A6F7-715EEBBD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DB908-6B51-4615-9B71-96EB81B8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FD4EB-3790-4C2F-A784-52507AC1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694B8-269D-4239-8887-817B8BF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4A3CE-455C-41D9-B449-DCBB543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A4ED4-36DD-4080-A280-BF9F4D2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2818B-7F34-40C5-9459-DF48047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88512-DEA2-4BB9-ABCD-CEF95B2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4C9C5-48C3-44B2-A698-866E769E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A1803-7D72-441E-9307-E33B7C34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90D71-4270-4C29-A01A-7EA6674B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DB80-C014-4DFF-AD09-9A9FB25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4BF1F-B1E7-434D-9CDC-48C2088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8E1EE-78B1-427A-BB6E-31B4E99C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3855F-CE5D-42B6-8CF1-98B1A757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68F51-9615-44A3-B305-4C6C0C0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06312-0272-46BA-8B13-77A95B8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E25A6-8D72-457E-A42B-8DE93C3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6AB0F-E87B-4C53-ACAA-D26B0A0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80980-6E8C-4C16-85BD-FFC5A5FD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63EE7-1350-4316-8BF8-15866D8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7A587-89B9-4CDA-8DB9-0D2E0E1C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9554-F63D-46D8-A6AA-17EF6A3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0A49C-1207-4667-8882-B018D0D3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EA408-D3E4-4B66-A17E-E4FC392B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CD6A1-8E66-4028-A6DA-466FC05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462F3-53F4-4CBC-A65D-41BA0CF6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8037A-8364-49B5-AFEC-BE037C79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518FF-41E6-40B4-BE8D-E1E0CAE4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56B9B-8716-4191-99CE-CDDE5BB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7E1B9-3965-477A-945F-F030EEB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8451C-394A-42E4-AEE1-9FADC7B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8D32E-1FC2-43D9-9139-795256E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FFC3-6C63-45DA-B57D-BE29EE9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68682-C124-4A0B-9AE0-04D230F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20C10-5033-41E6-A816-4ADC3E99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3B7FF-987A-4951-B2D4-59CD549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DEFF7-0827-416D-A0F4-EC6E1881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23DFE-CCFD-4525-A6F1-3ED34865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BA87D-6E55-42D0-83B0-B440ECF7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4A71C-9481-4D35-9F71-AF5E049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1D24E-21BB-4B6F-8C0C-9724B45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C5413-7E83-4E2E-BAD1-4892F7F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C4C64-E589-4D85-8F9B-D53838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A0F-7B09-4DBC-91CD-E5EEFB8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C8B4-1213-40C4-8A76-8A604D7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E7826-B098-4B44-B9E6-30E8EB0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CD405-E69C-42F4-8914-B98C55B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CAA2D-A6EB-4E0E-8086-431433C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A5A4D-E5F2-4B11-9EC2-91830834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BC7D4-7301-4418-BA88-D0E63B7E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43809-94EA-4800-8649-3D9695F8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B6F52-BC40-4750-99EB-48D750BF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AF1FB-14B0-4E01-8887-69D2165F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ED238-72FF-459C-BE1C-1513972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03D2B-53AD-4356-9D42-35A7BF8D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F847-A2B1-4B8D-88D8-DE251D9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D92A1-E371-4E17-822D-73E3D9FA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B5EAB-BEBC-40B4-9E41-B51A1B8C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9EE59-9C7C-4B1D-A16E-AE9BC58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2FB4B-F20E-48B9-AE0E-73CC518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8ECD6-2727-4872-BB5A-184DB40A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E05BB-1824-4DE5-A8BA-88120464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9CF07-88A9-4E58-8B5E-955493C5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5E8D2-68CB-4964-92BB-7C53DCB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44CC1-DD9E-4AE1-A6AE-872B0DA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7880B-3474-4D80-98FB-B712898F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6DC-FAB5-4905-B003-D8251370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2DAEA-70DE-46F3-AAB3-7FB2DEE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1B55C-D978-49BB-A0EF-77AA3EA4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3A158-0A6F-4FCA-B246-617D3AC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36A4A-A3EC-49DC-8432-8C313B0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EA608-4128-4AAA-B28D-867B1BC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BE9FA-062C-4FB6-80B3-140FB15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AA4CA-8CFB-49B3-A941-4621E69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36443-3004-4BEB-AB95-84918355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705F7-CD2A-472E-8EBC-347E5C17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9D90C-A0B9-4C8A-8853-A4811128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C6E-E83B-454B-A298-1AE71BAB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046E9-C64D-4701-AC7A-2C4FE437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078AD-129D-4BEC-A1B5-1F24897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DF9F5-45CA-48BB-8AE8-A3E440B4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65F14-BB66-4159-971A-12FA61F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74F41-465B-4BC9-BFFE-9F39E960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1EF48-FD5E-47F0-A765-A3F3084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5122E-DA4D-4893-90AB-381106C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706C5-7A75-4B59-8109-9622500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91AF3-9216-44EE-92C3-3F8FD47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33CB1-C769-4330-889E-AA5240FA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AB9B-CC57-4F80-9F1B-6AE03F75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71CCB-9459-4F67-AECD-BDF53E8E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C65B7-59E8-487A-91D8-5EE17D86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AF8A3-9835-4BFE-9373-394C20AC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8806A-644E-459C-927D-163140B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E9BB4-183C-4307-A3A0-3CB58FAC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CF1E9-53ED-4C42-AB9E-787E330D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0529E-9A9C-4E49-AC98-D990A07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BECA5-5855-4B25-AB59-9C7A832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64602-0728-4DA4-B40D-99FACD4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5D0B3-8F25-41BF-B04E-ED3D6AF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00DA-F27C-4163-972D-3EC2B73F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565D3-0C69-464D-9DC4-F9A9E120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6F047-7A99-476C-9094-B672D31D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C3DD0-9243-4173-BC28-704A5534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38D3-9263-4809-8944-879C1A01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58C4-E41C-4C16-9B67-46CC7F51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4AC0-B3C1-4FFA-BD59-F894B88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D8C6-B256-42A8-B59D-6975193E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94A-5A15-4A2D-AF7A-D3B642C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63A9-51BC-4DF0-BF82-F3E4E7C7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D69C-6BF6-4902-B472-DD19F54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F6A8-F06C-421B-AF38-228ADF0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7C53-F8ED-4EA2-BE77-0F462D9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B3BE-AA0D-4A19-B140-E6B06445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7C94-46A0-489D-8544-C7053CC8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2989-BFF8-4B3C-9495-983D0AF9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330F4-7045-4DE1-95BC-D0FE3234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87915-2E40-48A2-A6F2-5D9EFADB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291B7-8C25-46C2-A942-719BB03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D7C-C0EA-43B9-B2EF-781E3A6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56243-7C71-484D-9AE6-5F9B215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F6B60-1CDA-4054-8D59-CB2A0F9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6D50B-999A-4F29-819A-F0271548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90D31-6E3B-46EF-A97D-14E48F2E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468A7-B5AB-4B4D-B778-64E907B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0B141-3537-4A7A-AC7C-CD86C15A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4F040-E56B-48BB-BFBB-6810574E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C1B3F-3171-4420-86FB-995918D1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78B24-7634-48A4-B884-A9A36F07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D408-686B-4BEC-8C08-AD801B9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5BF-5426-452C-BB47-4FEAD81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7E30-C51D-41FE-AFFF-8119BB7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6EEF-2DA6-40E4-A387-48E3E5A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4E7F-9AE7-4509-BAF3-AC88353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8D656-D116-41C9-A84C-E03E58D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28E0-3EEC-4F60-98B1-F7C7E7C0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2EDA-0E90-483F-9C9F-99413C3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3B10-F752-41DB-93C1-85C1646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FE31-FC55-451F-8A8F-730C78F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A3BB-07AD-4BC3-8687-EE6D124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FDA5-77D8-4BBF-8585-F5D164E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D70-E2CA-473F-BD54-6F4F955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F201-94AE-4D7E-ADCD-80150BC7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CAA2-1FFD-408B-BC76-211AEC70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944FA-1609-4F34-AC5E-7417D4FE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7F61-02F8-48DE-B040-6EE191A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E7C0-7A30-436D-88A3-066CC60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4454-C1EB-4250-A873-3EDBE96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73DDF-8021-4611-8442-1C3D9E0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1A7B-86A8-4257-8FF3-A8E91F2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C544-2021-495A-884D-02940AC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31C8-802F-4F02-80C5-E014345D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AC0-C4D3-4AB5-937E-5A47B2A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D0FC-4CBF-41E1-9FB8-61065417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AB17-6BBB-49D4-9E7D-6DFCF223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4055-1F0E-4C2B-8C9B-9BFC227F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C786-6491-4999-91CF-CA292539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ED84-2960-4834-9174-417E21FF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DE5DC-CB11-4078-ACF4-8B2332F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B206-E544-4FA2-8712-45697A6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1DA9-EE4A-4AF2-BFDC-DBCE493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5C49-4021-49F7-97F2-F142759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5DDA-0C05-4D6E-A05C-2E700531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02C-53C4-4C26-AAAE-92B5066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0B9F1-C007-4269-A09E-0FA75EB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2E57-4879-4A2B-9508-9FE04F2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2362-A9FE-41D9-B24D-2569CF7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DC6A-C6D1-4FE6-A2BD-11C48C9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14AB-831A-438B-A419-0856C12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6E2F-261D-4AA6-961B-7130408F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E7B5-8FE0-484D-9BE4-168EB28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FEC3-98A9-433A-A5AA-A07903E8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F61EE-D72C-497A-9780-9A5D40D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89868-A1C4-47E4-9C60-120F595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3BB-3CD2-4B2B-934C-FFEB4FE1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8C43-2E8C-4B80-ABF9-223050D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13B28-5A08-45A4-8A2D-78A371D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38DDF-55B6-4154-BEDF-620EDF7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A746-3240-4A41-B3CB-A476462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9559-FAB5-422B-AEA6-25AE7FA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4D90D-96D6-40D3-A871-A45CBFC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0A85-8D13-4914-A035-961A8E92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91338-8119-4A44-87C0-35895EE0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0116-CC2E-4D48-BFBD-F3AE126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ACBE7-D6FE-4743-9428-FB3840B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81.xml"/><Relationship Id="rId35" Type="http://schemas.openxmlformats.org/officeDocument/2006/relationships/slideLayout" Target="../slideLayouts/slideLayout182.xml"/><Relationship Id="rId36" Type="http://schemas.openxmlformats.org/officeDocument/2006/relationships/slideLayout" Target="../slideLayouts/slideLayout183.xml"/><Relationship Id="rId37" Type="http://schemas.openxmlformats.org/officeDocument/2006/relationships/slideLayout" Target="../slideLayouts/slideLayout184.xml"/><Relationship Id="rId38" Type="http://schemas.openxmlformats.org/officeDocument/2006/relationships/slideLayout" Target="../slideLayouts/slideLayout185.xml"/><Relationship Id="rId39" Type="http://schemas.openxmlformats.org/officeDocument/2006/relationships/slideLayout" Target="../slideLayouts/slideLayout186.xml"/><Relationship Id="rId40" Type="http://schemas.openxmlformats.org/officeDocument/2006/relationships/slideLayout" Target="../slideLayouts/slideLayout187.xml"/><Relationship Id="rId41" Type="http://schemas.openxmlformats.org/officeDocument/2006/relationships/slideLayout" Target="../slideLayouts/slideLayout188.xml"/><Relationship Id="rId42" Type="http://schemas.openxmlformats.org/officeDocument/2006/relationships/slideLayout" Target="../slideLayouts/slideLayout189.xml"/><Relationship Id="rId43" Type="http://schemas.openxmlformats.org/officeDocument/2006/relationships/slideLayout" Target="../slideLayouts/slideLayout190.xml"/><Relationship Id="rId44" Type="http://schemas.openxmlformats.org/officeDocument/2006/relationships/slideLayout" Target="../slideLayouts/slideLayout191.xml"/><Relationship Id="rId4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1B0-6A54-427E-A07C-B6E46609B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4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4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6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C11-77BF-43E9-A7AD-F05C242499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FCE4-03AC-4825-9915-0CF32017CDA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1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1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1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2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2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2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3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3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4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4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4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5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5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5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6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6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7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7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7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8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8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9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9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9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0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0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0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1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1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2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2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3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F07-FE5A-4AB6-9816-D680070589D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9B66-68C3-4387-83EB-7FE1A89EC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3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BA3-1B0E-47D5-B83A-5E84500645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9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0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149-DD14-404D-AAB0-ADAD2C8F75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5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5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5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5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5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6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7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8EC-A1D1-4819-A6A6-309FF80250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4"/>
    <p:sldLayoutId id="2147483845" r:id="rId35"/>
    <p:sldLayoutId id="2147483846" r:id="rId36"/>
    <p:sldLayoutId id="2147483847" r:id="rId37"/>
    <p:sldLayoutId id="2147483848" r:id="rId38"/>
    <p:sldLayoutId id="2147483849" r:id="rId39"/>
    <p:sldLayoutId id="2147483850" r:id="rId40"/>
    <p:sldLayoutId id="2147483851" r:id="rId41"/>
    <p:sldLayoutId id="2147483852" r:id="rId42"/>
    <p:sldLayoutId id="2147483853" r:id="rId43"/>
    <p:sldLayoutId id="2147483854" r:id="rId44"/>
    <p:sldLayoutId id="2147483855" r:id="rId4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4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5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F92-C031-490B-A535-B84293C8B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5D2-7C4F-4A95-9406-3654B31048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70E-A58C-4C85-BCA5-A5E0A959BE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678-27F6-46DC-A8AF-2850B046E63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9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9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1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3A2-C6F4-4A3A-8CA9-1F428345D67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6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6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BB0D-FCED-4718-8982-DE949B3CFF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DC7-F9D0-4831-B3D6-30BBA62E2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158-83EB-449A-B6D9-8739E82EF0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668-EC9D-4687-8A7B-6874E9DBE8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5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2515-38CF-4C23-8AD2-F5CE8D4D19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DB8-9300-4094-ACE0-AF0FE0E89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4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062E-DB52-432A-BAC2-EB1C0B0B53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78D-9E01-4C03-811E-B36FB3472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99"/>
                </a:solidFill>
                <a:uFillTx/>
                <a:latin typeface="Arial"/>
              </a:rPr>
              <a:t>Здоровьесберегающие технологии на уроках математики</a:t>
            </a:r>
            <a:br>
              <a:rPr sz="4800"/>
            </a:br>
            <a:br>
              <a:rPr sz="48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МОУ СОШ №6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тренко Л.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/>
          </p:nvPr>
        </p:nvSpPr>
        <p:spPr>
          <a:xfrm>
            <a:off x="2286000" y="45684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тикальные движения глаз вверх –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изонтальное влево –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щение глазами по часовой стрелке и 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ь глаза и представить по очереди цвета радуги как можно отчетлив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доске до начала урока начертить какую – либо кривую      ( спираль, окружность, ломаную), предлагается глазами «нарисовать» эти фигуры несколько раз в одном, а затем в другом направ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2224080" y="4203720"/>
            <a:ext cx="49039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Гимна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для гл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WordArt 3"/>
          <p:cNvSpPr txBox="1"/>
          <p:nvPr/>
        </p:nvSpPr>
        <p:spPr>
          <a:xfrm>
            <a:off x="1835280" y="907920"/>
            <a:ext cx="5689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регите зр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032360" cy="4464000"/>
          </a:xfrm>
          <a:prstGeom prst="rect">
            <a:avLst/>
          </a:prstGeom>
          <a:ln w="0">
            <a:noFill/>
          </a:ln>
        </p:spPr>
      </p:pic>
      <p:sp>
        <p:nvSpPr>
          <p:cNvPr id="1777" name="AutoShape 3"/>
          <p:cNvSpPr/>
          <p:nvPr/>
        </p:nvSpPr>
        <p:spPr>
          <a:xfrm>
            <a:off x="1908000" y="189000"/>
            <a:ext cx="6409080" cy="1224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ращ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427640" y="1844640"/>
            <a:ext cx="446400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двигая головой, начинай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ащать глазами снач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часовой стрелке, по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ратную сторону. По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туда и обратно. А теп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же самое, только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ытыми глаз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402080" cy="4681440"/>
          </a:xfrm>
          <a:prstGeom prst="rect">
            <a:avLst/>
          </a:prstGeom>
          <a:ln w="0">
            <a:noFill/>
          </a:ln>
        </p:spPr>
      </p:pic>
      <p:sp>
        <p:nvSpPr>
          <p:cNvPr id="1780" name="AutoShape 3"/>
          <p:cNvSpPr/>
          <p:nvPr/>
        </p:nvSpPr>
        <p:spPr>
          <a:xfrm>
            <a:off x="1692360" y="260280"/>
            <a:ext cx="6551640" cy="1152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о все сторо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4"/>
          <p:cNvSpPr/>
          <p:nvPr/>
        </p:nvSpPr>
        <p:spPr>
          <a:xfrm>
            <a:off x="5003640" y="1773360"/>
            <a:ext cx="374508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ворачив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ы, двигай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зами вверх – вни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раво – вле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10 – 15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2" name="Picture 2" descr=""/>
          <p:cNvPicPr/>
          <p:nvPr/>
        </p:nvPicPr>
        <p:blipFill>
          <a:blip r:embed="rId1"/>
          <a:srcRect l="3592" t="0" r="-1796" b="1675"/>
          <a:stretch/>
        </p:blipFill>
        <p:spPr>
          <a:xfrm>
            <a:off x="324000" y="1773360"/>
            <a:ext cx="3960720" cy="4319640"/>
          </a:xfrm>
          <a:prstGeom prst="rect">
            <a:avLst/>
          </a:prstGeom>
          <a:ln w="0">
            <a:noFill/>
          </a:ln>
        </p:spPr>
      </p:pic>
      <p:sp>
        <p:nvSpPr>
          <p:cNvPr id="1783" name="AutoShape 3"/>
          <p:cNvSpPr/>
          <p:nvPr/>
        </p:nvSpPr>
        <p:spPr>
          <a:xfrm>
            <a:off x="2050920" y="333360"/>
            <a:ext cx="6337440" cy="1295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Пальч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Rectangle 4"/>
          <p:cNvSpPr/>
          <p:nvPr/>
        </p:nvSpPr>
        <p:spPr>
          <a:xfrm>
            <a:off x="4572000" y="1773360"/>
            <a:ext cx="42480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жмите палец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носице и посмотр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него. Затем медл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одите палец от себ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я следить 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м глазами. Повторите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жнение несколько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751280" cy="4248000"/>
          </a:xfrm>
          <a:prstGeom prst="rect">
            <a:avLst/>
          </a:prstGeom>
          <a:ln w="0">
            <a:noFill/>
          </a:ln>
        </p:spPr>
      </p:pic>
      <p:sp>
        <p:nvSpPr>
          <p:cNvPr id="1786" name="AutoShape 3"/>
          <p:cNvSpPr/>
          <p:nvPr/>
        </p:nvSpPr>
        <p:spPr>
          <a:xfrm>
            <a:off x="1692360" y="549360"/>
            <a:ext cx="6696000" cy="1295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Кто там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Rectangle 4"/>
          <p:cNvSpPr/>
          <p:nvPr/>
        </p:nvSpPr>
        <p:spPr>
          <a:xfrm>
            <a:off x="5508720" y="2133720"/>
            <a:ext cx="338436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жмурьт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ильнее, а за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 открой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за, словно 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-то оч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ивились. Повтор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еще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"/>
          <p:cNvPicPr/>
          <p:nvPr/>
        </p:nvPicPr>
        <p:blipFill>
          <a:blip r:embed="rId1"/>
          <a:stretch/>
        </p:blipFill>
        <p:spPr>
          <a:xfrm>
            <a:off x="179280" y="2122560"/>
            <a:ext cx="4680000" cy="3827520"/>
          </a:xfrm>
          <a:prstGeom prst="rect">
            <a:avLst/>
          </a:prstGeom>
          <a:ln w="0">
            <a:noFill/>
          </a:ln>
        </p:spPr>
      </p:pic>
      <p:sp>
        <p:nvSpPr>
          <p:cNvPr id="1789" name="AutoShape 3"/>
          <p:cNvSpPr/>
          <p:nvPr/>
        </p:nvSpPr>
        <p:spPr>
          <a:xfrm>
            <a:off x="1692360" y="549360"/>
            <a:ext cx="6624720" cy="1224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Морг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Rectangle 4"/>
          <p:cNvSpPr/>
          <p:nvPr/>
        </p:nvSpPr>
        <p:spPr>
          <a:xfrm>
            <a:off x="5364000" y="2133720"/>
            <a:ext cx="338472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оргай, быстр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льно сжимая в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ожно больше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608360"/>
          </a:xfrm>
          <a:prstGeom prst="rect">
            <a:avLst/>
          </a:prstGeom>
          <a:ln w="0">
            <a:noFill/>
          </a:ln>
        </p:spPr>
      </p:pic>
      <p:sp>
        <p:nvSpPr>
          <p:cNvPr id="1792" name="AutoShape 3"/>
          <p:cNvSpPr/>
          <p:nvPr/>
        </p:nvSpPr>
        <p:spPr>
          <a:xfrm>
            <a:off x="2484360" y="333360"/>
            <a:ext cx="5400720" cy="1150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С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Rectangle 4"/>
          <p:cNvSpPr/>
          <p:nvPr/>
        </p:nvSpPr>
        <p:spPr>
          <a:xfrm>
            <a:off x="4859280" y="1700280"/>
            <a:ext cx="367344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еперь закройте гла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асслабьтесь, буд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ираетесь сп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майте о чем-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прият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WordArt 2"/>
          <p:cNvSpPr txBox="1"/>
          <p:nvPr/>
        </p:nvSpPr>
        <p:spPr>
          <a:xfrm>
            <a:off x="971640" y="1916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ята, берегите зре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5" name="Picture 3" descr="книга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155916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4" descr="чтец"/>
          <p:cNvPicPr/>
          <p:nvPr/>
        </p:nvPicPr>
        <p:blipFill>
          <a:blip r:embed="rId2"/>
          <a:stretch/>
        </p:blipFill>
        <p:spPr>
          <a:xfrm>
            <a:off x="7885080" y="5373720"/>
            <a:ext cx="957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Freeform 2"/>
          <p:cNvSpPr/>
          <p:nvPr/>
        </p:nvSpPr>
        <p:spPr>
          <a:xfrm>
            <a:off x="1403280" y="6524640"/>
            <a:ext cx="5616720" cy="647640"/>
          </a:xfrm>
          <a:custGeom>
            <a:avLst/>
            <a:gdLst/>
            <a:ahLst/>
            <a:rect l="l" t="t" r="r" b="b"/>
            <a:pathLst>
              <a:path w="5050" h="567">
                <a:moveTo>
                  <a:pt x="86" y="329"/>
                </a:moveTo>
                <a:cubicBezTo>
                  <a:pt x="110" y="306"/>
                  <a:pt x="127" y="275"/>
                  <a:pt x="152" y="255"/>
                </a:cubicBezTo>
                <a:cubicBezTo>
                  <a:pt x="167" y="243"/>
                  <a:pt x="186" y="234"/>
                  <a:pt x="201" y="222"/>
                </a:cubicBezTo>
                <a:cubicBezTo>
                  <a:pt x="234" y="195"/>
                  <a:pt x="248" y="176"/>
                  <a:pt x="292" y="165"/>
                </a:cubicBezTo>
                <a:cubicBezTo>
                  <a:pt x="300" y="159"/>
                  <a:pt x="308" y="153"/>
                  <a:pt x="317" y="148"/>
                </a:cubicBezTo>
                <a:cubicBezTo>
                  <a:pt x="325" y="144"/>
                  <a:pt x="334" y="144"/>
                  <a:pt x="341" y="140"/>
                </a:cubicBezTo>
                <a:cubicBezTo>
                  <a:pt x="429" y="88"/>
                  <a:pt x="287" y="160"/>
                  <a:pt x="374" y="107"/>
                </a:cubicBezTo>
                <a:cubicBezTo>
                  <a:pt x="415" y="82"/>
                  <a:pt x="474" y="86"/>
                  <a:pt x="522" y="74"/>
                </a:cubicBezTo>
                <a:cubicBezTo>
                  <a:pt x="547" y="58"/>
                  <a:pt x="569" y="51"/>
                  <a:pt x="596" y="41"/>
                </a:cubicBezTo>
                <a:cubicBezTo>
                  <a:pt x="848" y="49"/>
                  <a:pt x="906" y="58"/>
                  <a:pt x="1156" y="50"/>
                </a:cubicBezTo>
                <a:cubicBezTo>
                  <a:pt x="1233" y="33"/>
                  <a:pt x="1307" y="24"/>
                  <a:pt x="1386" y="17"/>
                </a:cubicBezTo>
                <a:cubicBezTo>
                  <a:pt x="1563" y="28"/>
                  <a:pt x="1463" y="22"/>
                  <a:pt x="1576" y="0"/>
                </a:cubicBezTo>
                <a:cubicBezTo>
                  <a:pt x="1719" y="3"/>
                  <a:pt x="1861" y="3"/>
                  <a:pt x="2004" y="8"/>
                </a:cubicBezTo>
                <a:cubicBezTo>
                  <a:pt x="2045" y="10"/>
                  <a:pt x="2043" y="63"/>
                  <a:pt x="2086" y="66"/>
                </a:cubicBezTo>
                <a:cubicBezTo>
                  <a:pt x="2163" y="71"/>
                  <a:pt x="2239" y="71"/>
                  <a:pt x="2316" y="74"/>
                </a:cubicBezTo>
                <a:cubicBezTo>
                  <a:pt x="2363" y="83"/>
                  <a:pt x="2364" y="96"/>
                  <a:pt x="2407" y="107"/>
                </a:cubicBezTo>
                <a:cubicBezTo>
                  <a:pt x="2437" y="104"/>
                  <a:pt x="2467" y="103"/>
                  <a:pt x="2497" y="99"/>
                </a:cubicBezTo>
                <a:cubicBezTo>
                  <a:pt x="2531" y="94"/>
                  <a:pt x="2562" y="68"/>
                  <a:pt x="2596" y="66"/>
                </a:cubicBezTo>
                <a:cubicBezTo>
                  <a:pt x="2829" y="53"/>
                  <a:pt x="2695" y="60"/>
                  <a:pt x="2999" y="50"/>
                </a:cubicBezTo>
                <a:cubicBezTo>
                  <a:pt x="3079" y="36"/>
                  <a:pt x="3121" y="9"/>
                  <a:pt x="3205" y="0"/>
                </a:cubicBezTo>
                <a:cubicBezTo>
                  <a:pt x="3316" y="14"/>
                  <a:pt x="3439" y="4"/>
                  <a:pt x="3550" y="8"/>
                </a:cubicBezTo>
                <a:cubicBezTo>
                  <a:pt x="3616" y="26"/>
                  <a:pt x="3680" y="66"/>
                  <a:pt x="3748" y="74"/>
                </a:cubicBezTo>
                <a:cubicBezTo>
                  <a:pt x="3784" y="78"/>
                  <a:pt x="3819" y="79"/>
                  <a:pt x="3855" y="82"/>
                </a:cubicBezTo>
                <a:cubicBezTo>
                  <a:pt x="3887" y="104"/>
                  <a:pt x="3920" y="106"/>
                  <a:pt x="3954" y="124"/>
                </a:cubicBezTo>
                <a:cubicBezTo>
                  <a:pt x="4057" y="113"/>
                  <a:pt x="4156" y="120"/>
                  <a:pt x="4258" y="132"/>
                </a:cubicBezTo>
                <a:cubicBezTo>
                  <a:pt x="4285" y="141"/>
                  <a:pt x="4315" y="151"/>
                  <a:pt x="4340" y="165"/>
                </a:cubicBezTo>
                <a:cubicBezTo>
                  <a:pt x="4357" y="175"/>
                  <a:pt x="4370" y="197"/>
                  <a:pt x="4390" y="198"/>
                </a:cubicBezTo>
                <a:cubicBezTo>
                  <a:pt x="4603" y="211"/>
                  <a:pt x="4477" y="205"/>
                  <a:pt x="4768" y="214"/>
                </a:cubicBezTo>
                <a:cubicBezTo>
                  <a:pt x="4774" y="220"/>
                  <a:pt x="4781" y="224"/>
                  <a:pt x="4785" y="231"/>
                </a:cubicBezTo>
                <a:cubicBezTo>
                  <a:pt x="4793" y="246"/>
                  <a:pt x="4784" y="276"/>
                  <a:pt x="4801" y="280"/>
                </a:cubicBezTo>
                <a:cubicBezTo>
                  <a:pt x="4901" y="304"/>
                  <a:pt x="4823" y="288"/>
                  <a:pt x="5040" y="296"/>
                </a:cubicBezTo>
                <a:cubicBezTo>
                  <a:pt x="5050" y="327"/>
                  <a:pt x="5033" y="337"/>
                  <a:pt x="4999" y="338"/>
                </a:cubicBezTo>
                <a:cubicBezTo>
                  <a:pt x="4873" y="343"/>
                  <a:pt x="4746" y="343"/>
                  <a:pt x="4620" y="346"/>
                </a:cubicBezTo>
                <a:cubicBezTo>
                  <a:pt x="4399" y="567"/>
                  <a:pt x="3947" y="184"/>
                  <a:pt x="3732" y="412"/>
                </a:cubicBezTo>
                <a:cubicBezTo>
                  <a:pt x="3690" y="401"/>
                  <a:pt x="3650" y="387"/>
                  <a:pt x="3608" y="379"/>
                </a:cubicBezTo>
                <a:cubicBezTo>
                  <a:pt x="3402" y="382"/>
                  <a:pt x="3197" y="395"/>
                  <a:pt x="2991" y="387"/>
                </a:cubicBezTo>
                <a:cubicBezTo>
                  <a:pt x="2973" y="386"/>
                  <a:pt x="2919" y="339"/>
                  <a:pt x="2892" y="329"/>
                </a:cubicBezTo>
                <a:cubicBezTo>
                  <a:pt x="2144" y="338"/>
                  <a:pt x="2031" y="345"/>
                  <a:pt x="1246" y="338"/>
                </a:cubicBezTo>
                <a:cubicBezTo>
                  <a:pt x="951" y="319"/>
                  <a:pt x="654" y="338"/>
                  <a:pt x="358" y="329"/>
                </a:cubicBezTo>
                <a:cubicBezTo>
                  <a:pt x="0" y="344"/>
                  <a:pt x="234" y="329"/>
                  <a:pt x="86" y="329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8" name="Picture 3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4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5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7079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6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7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8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9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0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11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1807" name="AutoShape 12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9999ff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AutoShape 13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9999ff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9" name="Picture 14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1810" name="0164056.wav" descr=""/>
          <p:cNvPicPr/>
          <p:nvPr/>
        </p:nvPicPr>
        <p:blipFill>
          <a:blip r:embed="rId1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16" descr="Ёжик1"/>
          <p:cNvPicPr/>
          <p:nvPr/>
        </p:nvPicPr>
        <p:blipFill>
          <a:blip r:embed="rId13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17" descr="079513_337"/>
          <p:cNvPicPr/>
          <p:nvPr/>
        </p:nvPicPr>
        <p:blipFill>
          <a:blip r:embed="rId14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8" dur="2000" fill="hold"/>
                                        <p:tgtEl>
                                          <p:spTgt spid="1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" dur="20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4" dur="2000" fill="hold"/>
                                        <p:tgtEl>
                                          <p:spTgt spid="1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7" dur="20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20" dur="2000" fill="hold"/>
                                        <p:tgtEl>
                                          <p:spTgt spid="1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32" dur="50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39" dur="5000" fill="hold"/>
                                        <p:tgtEl>
                                          <p:spTgt spid="1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" dur="2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5" dur="2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8" dur="2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" dur="2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5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64" dur="5000" fill="hold"/>
                                        <p:tgtEl>
                                          <p:spTgt spid="1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6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71" dur="2000" fill="hold"/>
                                        <p:tgtEl>
                                          <p:spTgt spid="1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0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83" dur="3000" fill="hold"/>
                                        <p:tgtEl>
                                          <p:spTgt spid="1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16763E-006 C -0.00243 0.0467 -0.00469 0.09363 -0.04097 0.18173 C -0.07743 0.26982 -0.17431 0.4615 -0.21719 0.52855 C -0.26024 0.5956 -0.28993 0.57433 -0.29809 0.58358 C -0.30625 0.59282 -0.27361 0.58358 -0.26649 0.58358 C -0.25938 0.58358 -0.26302 0.58358 -0.25538 0.58358 C -0.24774 0.58358 -0.22639 0.58358 -0.22031 0.58358 E">
                                      <p:cBhvr>
                                        <p:cTn id="96" dur="2000" fill="hold"/>
                                        <p:tgtEl>
                                          <p:spTgt spid="1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4"/>
          <p:cNvSpPr/>
          <p:nvPr/>
        </p:nvSpPr>
        <p:spPr>
          <a:xfrm>
            <a:off x="304920" y="5400"/>
            <a:ext cx="57909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00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Состояние здоровья школьников требует особенно внимательного отношения к организации их школьной жизни: режиму учебных занятий, интенсивности учебной нагрузки, методическим требованиям, эмоциональному климату в класс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6100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6100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6100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6100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4419720" y="5486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Письмо Министерства образования                                                                                 Российской Федерации от 25.09.200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- 1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ерх рука вниз ру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янули их слег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стро поменяли рук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м сегодня не до ску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Одна прямая рука вверх, другая вниз, рывком менять рук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седание с хлопкам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низ – хлопок и вверх хлоп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ги, руки разминаем, точно знаем – будет пр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 Приседания, хлопки в ладоши над головой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утим – верти головой, разминаем шею- стой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 Вращение головой вправо влев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а месте мы шагаем, ноги выше поднимаем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Ходьба на месте высоко поднимая колен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янулись, растянулис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ерх и в стороны, впере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тягивания- руки вверх, в стороны, впере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за парты все вернулись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новь урок у нас ид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Дети садятся за парты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 НАЧАЛЕ УРОКА ДЛЯ АКТИВИЗАЦИИ ВНИМАНИЯ – ТРЕНИ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О ВРЕМЯ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 КОНЦЕ РАБОТЫ ДЛЯ СНЯ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ИХОФИЗИЧЕСКОГО НАПРЯ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Памятка для учител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, помни, что дети устают значительно быстрее, чем сам учитель, а учебный труд рассматривается как стрессовое воздействие на детей. Именно поэтому необходимо, на общеобразовательных уроках детям давать двигательную разрядку в течении 2-3 минут. Это позволяет сделать учебный процесс более эффективным, так как снимается перегрузка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подборе комплекса упражнений для физ. минуток необходимо учитывать особенности учебной работы на уро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ганизация физ. минуток  включает подготовку помещения( открытие окон, форточек) и учащихся, которые для выполнения упражнений выходят из-за парт, ослабляют пояса, ворот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ль физ. минуток одна: вернуть уставшему ребенку работоспособность, внимание, снять мышечное и умственное утомление, предупредить нарушение осанки, зрения, повысить эмоциональный уровень уча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уровень знаний учащих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уровень мотивации учащихся клас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сихологическую комфортность в классном коллекти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ыявить проблемы здоров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биться усвоения программного материала в полном объеме каждым ребен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вивать у учащихся подвижность и способность самостоятельного мышления, учить рассуждать, мысл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охранить здоровье школьников в период об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вивать психологическую, личностную, психофизиологическую и психосоматическую сферы личности ребенка, формируя способность к саморазвитию и сохранению здоровья собственными силами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/>
          </p:nvPr>
        </p:nvSpPr>
        <p:spPr>
          <a:xfrm>
            <a:off x="1143000" y="30456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етоды предупреждения и коррекции психоэмоционального напряжения у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утогенную тренировку (самовнушение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пражнения на            снятие нервного напряжения у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нструктивно – программирующие метод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одолжительное воздействие на детей школьной сред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ловесно – информационный – вербальный принцип построения учебного проце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етодики, лежащие в основе учебного проце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чрезмерное увеличение методиками «интеллектуального» развития в ущерб чувственному, эмоционально – образном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на парт на столы, что привело к ранней потери зрения и нарушениям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на каллиграфического письма перьевой ручкой на безотрывное письмо шариковой. В связи с этим выросли утомляемость, неуравновешенность, агре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на электролампового освещения на высококачественное люминесцентное, которое заглушает внутренние биоритмы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кращение или изгнание из школы уроков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шибочным считают введение в середине 50-х годов совместное обучение и воспитание мальчиков и дев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на шестидневной учебной недели на пятидневную, что привело к дополнительной нагру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сконечные смены содержания  образования и учебных планов, результаты «инновации» не оцениваются мед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физическом плане – здоровье позволяет ему справляться с учебной нагрузкой, ребенок умеет преодолевать уста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циальном плане – он коммуникабелен, общите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эмоциональном плане – ребенок уравновешен, способен удивляться и восхищ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интеллектуальном плане – учащийся проявляет хорошие умственные способности, наблюдательность, воображение, самообучае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равственном плане – он признает основные общечеловеческие цен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007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огая дозировка учебной нагру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роение урока с учетом работоспособности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людение гигиенических требований ( свежий воздух, оптимальный тепловой режим, хорошая освещенность, чист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приятный эмоциональный настр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ведение физкультминуток и динамических пауз на уро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Петренко</cp:lastModifiedBy>
  <dcterms:modified xsi:type="dcterms:W3CDTF">2014-10-26T10:02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