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126-2F44-4B36-8A92-53BD5FAB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E53-38EB-4CEB-B4E0-8198842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342-DF23-49B0-97F4-7C09129F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6F1-70C9-489E-AC12-436BF709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FAA-580E-449D-87A8-B5D4B69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1A5-E00B-465E-B269-DC2889CE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F2F-49C1-455C-8520-11F3839F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745-7C8F-4DB9-A207-99F4697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AD0-1AEA-4827-96A6-2AB03E2C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2F0-9E1A-4102-98FD-E94B5B3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A76-AEE5-4B2B-977C-9A3E909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1E0-7ECD-43C3-86F6-5665DC5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10a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6C8-739D-4015-87A2-0070083F2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79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но- экспериментальная деятельность</a:t>
            </a:r>
            <a:br>
              <a:rPr sz="24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лияния длины черенков сенполии на их укоре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457200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итатель 1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итдикова А. 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0" descr="111"/>
          <p:cNvPicPr/>
          <p:nvPr/>
        </p:nvPicPr>
        <p:blipFill>
          <a:blip r:embed="rId1"/>
          <a:srcRect l="6120" t="7914" r="6810" b="7950"/>
          <a:stretch/>
        </p:blipFill>
        <p:spPr>
          <a:xfrm>
            <a:off x="179280" y="3284640"/>
            <a:ext cx="44276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1"/>
          <p:cNvPicPr/>
          <p:nvPr/>
        </p:nvPicPr>
        <p:blipFill>
          <a:blip r:embed="rId1"/>
          <a:srcRect l="5050" t="0" r="3798" b="0"/>
          <a:stretch/>
        </p:blipFill>
        <p:spPr>
          <a:xfrm>
            <a:off x="250920" y="692280"/>
            <a:ext cx="511308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580000" y="278136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здоровление воздуш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580000" y="620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ашение поме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5508720" y="13413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гащение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5580000" y="20606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ение вла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5508720" y="371628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лучшение самочувств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белая"/>
          <p:cNvPicPr/>
          <p:nvPr/>
        </p:nvPicPr>
        <p:blipFill>
          <a:blip r:embed="rId2"/>
          <a:srcRect l="3691" t="6030" r="5209" b="6030"/>
          <a:stretch/>
        </p:blipFill>
        <p:spPr>
          <a:xfrm>
            <a:off x="6804000" y="4653000"/>
            <a:ext cx="20509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, влияет ли длина черенков на скорость и качество укоре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Разработать рекомендацию по созданию условий для выращивания  сенполии в домашни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белая"/>
          <p:cNvPicPr/>
          <p:nvPr/>
        </p:nvPicPr>
        <p:blipFill>
          <a:blip r:embed="rId1"/>
          <a:srcRect l="3691" t="6030" r="5209" b="6030"/>
          <a:stretch/>
        </p:blipFill>
        <p:spPr>
          <a:xfrm>
            <a:off x="7093080" y="4835520"/>
            <a:ext cx="2050920" cy="202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белая"/>
          <p:cNvPicPr/>
          <p:nvPr/>
        </p:nvPicPr>
        <p:blipFill>
          <a:blip r:embed="rId2"/>
          <a:srcRect l="3686" t="6028" r="5219" b="6028"/>
          <a:stretch/>
        </p:blipFill>
        <p:spPr>
          <a:xfrm>
            <a:off x="250920" y="5084640"/>
            <a:ext cx="1476360" cy="145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белая"/>
          <p:cNvPicPr/>
          <p:nvPr/>
        </p:nvPicPr>
        <p:blipFill>
          <a:blip r:embed="rId3"/>
          <a:srcRect l="3705" t="6038" r="5218" b="6038"/>
          <a:stretch/>
        </p:blipFill>
        <p:spPr>
          <a:xfrm>
            <a:off x="6012000" y="5445000"/>
            <a:ext cx="125892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биологические особенности сенпо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ся с агротехникой выращива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самостоятельно выращивать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наблюдения и сделать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белая"/>
          <p:cNvPicPr/>
          <p:nvPr/>
        </p:nvPicPr>
        <p:blipFill>
          <a:blip r:embed="rId1"/>
          <a:srcRect l="3686" t="6028" r="5219" b="6028"/>
          <a:stretch/>
        </p:blipFill>
        <p:spPr>
          <a:xfrm>
            <a:off x="7667640" y="5402160"/>
            <a:ext cx="14763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ладка опыта была проведен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4 февраля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Users\admin\Desktop\проек\100_4408.JPG"/>
          <p:cNvPicPr/>
          <p:nvPr/>
        </p:nvPicPr>
        <p:blipFill>
          <a:blip r:embed="rId1"/>
          <a:stretch/>
        </p:blipFill>
        <p:spPr>
          <a:xfrm>
            <a:off x="1643040" y="1500120"/>
            <a:ext cx="62182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листа фиалки разной длины стеб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оведения опыта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м понадобило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16000" y="57340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24360" y="57340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443640" y="57340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C:\Users\admin\Desktop\проек\100_4410.JPG"/>
          <p:cNvPicPr/>
          <p:nvPr/>
        </p:nvPicPr>
        <p:blipFill>
          <a:blip r:embed="rId1"/>
          <a:srcRect l="22012" t="0" r="29742" b="0"/>
          <a:stretch/>
        </p:blipFill>
        <p:spPr>
          <a:xfrm>
            <a:off x="428760" y="1857240"/>
            <a:ext cx="2500200" cy="38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admin\Desktop\проек\100_4411.JPG"/>
          <p:cNvPicPr/>
          <p:nvPr/>
        </p:nvPicPr>
        <p:blipFill>
          <a:blip r:embed="rId2"/>
          <a:srcRect l="22081" t="0" r="27368" b="0"/>
          <a:stretch/>
        </p:blipFill>
        <p:spPr>
          <a:xfrm>
            <a:off x="3143160" y="1857240"/>
            <a:ext cx="2643120" cy="392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C:\Users\admin\Desktop\проек\100_4412.JPG"/>
          <p:cNvPicPr/>
          <p:nvPr/>
        </p:nvPicPr>
        <p:blipFill>
          <a:blip r:embed="rId3"/>
          <a:srcRect l="21118" t="0" r="29491" b="0"/>
          <a:stretch/>
        </p:blipFill>
        <p:spPr>
          <a:xfrm>
            <a:off x="6000840" y="1857240"/>
            <a:ext cx="2587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Так выглядели корешки на 12-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1357200" y="557208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357800" y="557208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7164360" y="5589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C:\Users\admin\Desktop\проек\100_4418.JPG"/>
          <p:cNvPicPr/>
          <p:nvPr/>
        </p:nvPicPr>
        <p:blipFill>
          <a:blip r:embed="rId1"/>
          <a:srcRect l="0" t="0" r="9307" b="7365"/>
          <a:stretch/>
        </p:blipFill>
        <p:spPr>
          <a:xfrm>
            <a:off x="214200" y="1500120"/>
            <a:ext cx="2833920" cy="385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Users\admin\Desktop\проек\100_4421.JPG"/>
          <p:cNvPicPr/>
          <p:nvPr/>
        </p:nvPicPr>
        <p:blipFill>
          <a:blip r:embed="rId2"/>
          <a:srcRect l="0" t="0" r="13687" b="9221"/>
          <a:stretch/>
        </p:blipFill>
        <p:spPr>
          <a:xfrm>
            <a:off x="6107040" y="1500120"/>
            <a:ext cx="2751120" cy="385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Users\admin\Desktop\проек\100_4423.JPG"/>
          <p:cNvPicPr/>
          <p:nvPr/>
        </p:nvPicPr>
        <p:blipFill>
          <a:blip r:embed="rId3"/>
          <a:srcRect l="12456" t="0" r="0" b="0"/>
          <a:stretch/>
        </p:blipFill>
        <p:spPr>
          <a:xfrm>
            <a:off x="3357720" y="1500120"/>
            <a:ext cx="253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ши наблюдения</a:t>
            </a:r>
            <a:br>
              <a:rPr sz="4400"/>
            </a:br>
            <a:br>
              <a:rPr sz="2800"/>
            </a:b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ыт длился с 14 февраля по 16 м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2421000"/>
          <a:ext cx="8229600" cy="3076560"/>
        </p:xfrm>
        <a:graphic>
          <a:graphicData uri="http://schemas.openxmlformats.org/drawingml/2006/table">
            <a:tbl>
              <a:tblPr/>
              <a:tblGrid>
                <a:gridCol w="3446280"/>
                <a:gridCol w="1652760"/>
                <a:gridCol w="1652400"/>
                <a:gridCol w="147816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лю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явились первые коре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марта 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ина  кореш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марта 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марта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марта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ина  кореш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марта 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марта 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марта 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427280" y="1125360"/>
            <a:ext cx="4319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такане №3 корешки выросли  быстрее и качественно лучше, чем в остальных образ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м, что гипотеза, о том, что если изучить биологические особенности фиалки и ее агротехнику, можно выбрать оптимизированные условия для выращивания фиалок  в городской квартире  -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:  Нужно размножать фиалки листовыми черенками, срезая листья с черешком длиной 2 см для более быстрого и качественного укорен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C:\Users\admin\Desktop\проек\100_4419.JPG"/>
          <p:cNvPicPr/>
          <p:nvPr/>
        </p:nvPicPr>
        <p:blipFill>
          <a:blip r:embed="rId1"/>
          <a:srcRect l="0" t="0" r="13495" b="0"/>
          <a:stretch/>
        </p:blipFill>
        <p:spPr>
          <a:xfrm>
            <a:off x="857160" y="1071720"/>
            <a:ext cx="32148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9:34:21Z</dcterms:created>
  <dc:creator>user</dc:creator>
  <dc:description/>
  <dc:language>en-US</dc:language>
  <cp:lastModifiedBy>admin</cp:lastModifiedBy>
  <dcterms:modified xsi:type="dcterms:W3CDTF">2014-10-26T08:04:15Z</dcterms:modified>
  <cp:revision>34</cp:revision>
  <dc:subject/>
  <dc:title>Школа № 32</dc:title>
</cp:coreProperties>
</file>