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3FA-957A-4235-B767-F5FAEF8E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134-9BB8-4FFA-B080-507E9C5A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515-D65E-4CF9-989A-9E0EBE70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48F-F30E-4027-912F-4659C332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8420-ED34-40AD-9163-86D151E5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F7B0-3295-4FE2-B2F9-8F5D8066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3172-0C2D-4108-8267-44B7AEEF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E3D9-151D-433C-9448-53C78845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6868-A4ED-41A4-8330-804BDAF2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A937-8541-41F1-8A46-45D4AC18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D98D-18A0-48FF-BCF3-AE58156A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750-8B08-466B-B69B-0FB8F853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6086-CE98-4F05-8C16-B18B9F53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85AD-8B7E-4F1B-929C-7B548B42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C6CC-141E-45A1-A55B-0504EDDA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8C5B-E9F8-4AD1-9F22-21BC0E71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CEC5-83CF-4438-83F1-A75FBED5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0C46-D9A1-4AF5-8837-A1E3F049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DD27-9EBA-48ED-BD41-3C7AEE1B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04EF-223B-4E79-8F52-927ED266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16BF-8344-4D3B-A8C0-347FAFBA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4B9A-8E14-4740-BD63-4DDFF516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D78-E681-4966-9660-0B9C7248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F06C1-08E3-4ECD-8861-1CAA869A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55C0-0DAF-4DBB-8B26-9FE4FD01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C9D30-3BB3-42A1-9D44-120293E8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0136-E1C8-4332-B2B3-EA394F62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5EE7-B72C-4624-8D64-A9D2139C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6E1B-759F-4727-A977-A5C8319F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CA37-6379-4E68-B169-A6587402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BD44-8177-4533-83EF-9332B976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69FC1-61A2-4348-97D5-1D15C3BF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38EC3-0EA0-4EB9-968A-8F867DDC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F73-6CB1-4E11-A63B-19624BCA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F56C6-7D0B-4B5F-B233-78001508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876FF-FD57-4709-9C83-8AF01EE3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0089-247D-436A-A890-9AFFA1FF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737B-C410-4F5D-8CBF-D5B1D01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69377-D1D3-4422-B817-B34BED0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27AE-A54F-43D8-A941-9D8F9A45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AF855-2146-4CE7-8B61-E043314B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EA87-C3DB-4FBC-BCB5-8775278C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06D6B-F992-47A8-9A0F-D28D2468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8FE05-F547-4E3E-ADAD-F375054B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C36-A22B-4055-98A7-E8FEE57C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7633A-2D90-4E2F-945A-D5AB293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7C4E2-B5D5-48A4-9A3F-50F69C2D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3C24-0CAE-4E0F-911C-2CC6A46B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0D84-360F-4CDD-A0D0-F4F41FFC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125C2-59B3-4797-8999-14B47CF7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D85A9-EABC-4394-A3A1-898B7C87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BB4C1-5BBD-4009-8CEA-C7E69BE3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FA0D2-AB87-4ABB-A884-2B57AE62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B8776-86DB-4D67-BF2C-86CFA120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600C1-B6FB-4B39-9FDC-0CF6AB06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8C9-FF98-4A3C-BE22-E676BEB0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5927-C9B0-436F-ADB5-BBCD4A42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49766-557D-44AA-89AF-0C630CE5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818B-A5AC-47F5-AACB-BF9DE19A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2848-0771-49E4-9885-EDBF6115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E69FD-2027-4446-970A-108C5F2A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A6A2F-E422-4979-A121-DBEE7A63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A24BD-97E1-4E76-9185-2BAA7CC7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36A50-34B9-4573-97B6-CAA68164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77FFE-AEEB-4810-8F9C-73894F8C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C8E5D-D107-491F-8DA6-F74CAC11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CAC-4D30-4ECC-B02B-531CDA57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88F1C-CE28-4971-950A-D6131DAD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61331-C040-4F71-BF48-1B14DC61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6020B-554B-4833-84E6-1A7187F3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E3E29-9EA3-4C7B-9B3A-4E9E93D0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A3D0D-4570-42C4-8ED6-F14C910B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B7ADE-FF4F-4F48-9757-73C0EF11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B90E0-8001-4C70-BE87-0862068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0274-7E9B-436A-B68D-355938A9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DC0EC-51B2-41AF-B3A8-5905CB22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A3CE3-6977-48AE-8BB1-09AAC20A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483-8AB5-4E69-9FD1-EA64E91C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42E3B-074F-488B-A275-87A1A00F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EC530-A3E4-4D57-9091-16E1DD5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2B5A4-BEFF-4824-9ED6-C4C0EB86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394E5-9D34-4AA1-9A9C-448C6E40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99061-39CB-4E1B-82CF-7A26A94A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B5AFA-792D-432A-B8C9-BCEFAFDF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01E62-FDE7-43FF-849D-91F26498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69719-210E-43F7-AEDB-2DFA357D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9738E-87D4-455D-9D73-DE421C57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AB9C0-0DCA-44AD-80CD-51D29128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74E-8E88-4A54-83A3-8525EA1B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16D1A-9859-46DA-AD1D-1094CC8E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A4570-C97E-4C7C-A628-AEB68248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707F2-05C8-4DD8-A253-2F8AFB31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85DDA-48C0-4861-A07E-F1673306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52506-53B1-436C-98E3-B2C7F24C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6A777-20F8-446D-B81A-15D364C5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2792F-DA77-4288-AB4B-F72A008A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95C4-34BC-48BE-ADF6-DEFCB13FE71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242561"/>
              </a:gs>
              <a:gs pos="50000">
                <a:srgbClr val="6b6ca5"/>
              </a:gs>
              <a:gs pos="100000">
                <a:srgbClr val="242561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9aab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1149-6788-4993-90EE-3EC51B0EFB1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1C23-7432-40AE-918B-66A240A1819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D5A5-ED10-4400-9E01-FB31A829A3F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C976-3BAC-4CC6-8CCB-D1A958FD924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4E70-DEC6-4C4A-8597-81937463EEC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8CA7-DB53-478C-86D1-F1F66638C3D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A229-98AE-4B0F-B6D5-A0527A54EDB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24456"/>
                </a:solidFill>
                <a:latin typeface="Lucida Sans Unicode"/>
              </a:rPr>
              <a:t>Автор Сергеева Т.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24456"/>
                </a:solidFill>
                <a:latin typeface="Lucida Sans Unicode"/>
              </a:rPr>
              <a:t>МАОУ «СОШ №34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торид кальция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Ca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дород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льций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ероводород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то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лорид лития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LiC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атунь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Cu-90%, Zn – 10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ммиак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N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зо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N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лороводород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HC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) бром, бромоводород, азо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Б) бромоводород, оксид серы(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), фто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) хлорид калия, хлороводород, вод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у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ро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идроксид натр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льфат кал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ксид железа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II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ксид углерода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I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тр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руктоз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зот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щества с молекулярной решеткой имеют низкие температуры плавления и низкую электропроводн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щества с атомной решеткой пластичны и обладают высокой электрической проводимость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Химическая связь между атомами водорода одной молекулы и атомами наиболее электроотрицательных элементов  (фтор, кислород, азот) другой молекулы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Users\1\Desktop\таня\химия\111.png"/>
          <p:cNvPicPr/>
          <p:nvPr/>
        </p:nvPicPr>
        <p:blipFill>
          <a:blip r:embed="rId2"/>
          <a:stretch/>
        </p:blipFill>
        <p:spPr>
          <a:xfrm>
            <a:off x="2340000" y="4005360"/>
            <a:ext cx="4834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 Механизм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электростатическ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донорно-акцепторн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Объяснение существования жидкостей и легко сжижаемых газ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Взаимодействие молекул растворителя и растворенного вещест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Аномальные свойства вод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. Образование кристаллов в виде разнообразных снежинок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жмолекулярная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нутримолекулярная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Users\1\Desktop\таня\химия\123.jpg"/>
          <p:cNvPicPr/>
          <p:nvPr/>
        </p:nvPicPr>
        <p:blipFill>
          <a:blip r:embed="rId2"/>
          <a:stretch/>
        </p:blipFill>
        <p:spPr>
          <a:xfrm>
            <a:off x="324000" y="3860640"/>
            <a:ext cx="4679640" cy="2021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C:\Users\1\Desktop\таня\химия\124.gif"/>
          <p:cNvPicPr/>
          <p:nvPr/>
        </p:nvPicPr>
        <p:blipFill>
          <a:blip r:embed="rId3"/>
          <a:stretch/>
        </p:blipFill>
        <p:spPr>
          <a:xfrm>
            <a:off x="5580000" y="1413000"/>
            <a:ext cx="3192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омальные свойства воды (высокая температура кипения и плавления, уменьшение плотности при переходе в твердое состояние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нение хладоаген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еспечение принципа комплементарности в молекуле ДНК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53548a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17:07:34Z</dcterms:created>
  <dc:creator>1</dc:creator>
  <dc:description/>
  <dc:language>en-US</dc:language>
  <cp:lastModifiedBy>1</cp:lastModifiedBy>
  <dcterms:modified xsi:type="dcterms:W3CDTF">2014-10-26T08:15:39Z</dcterms:modified>
  <cp:revision>14</cp:revision>
  <dc:subject/>
  <dc:title>Водородная связь</dc:title>
</cp:coreProperties>
</file>