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FFE-F61E-441A-930F-750FECBD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CE8-C25A-47D1-AEDD-E2C68C7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8C0-D1FC-4CE1-9C0C-F615304E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EA4-192B-45D0-9BB4-76EB41E1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787-EF4B-45B9-BB9F-79A6D514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CA14-8540-4E66-B485-207BFEB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115B-1DAE-4C5C-8857-C97DDA09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2AA-BB96-4D77-8F3E-7ECA288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3FA-4414-45F1-9B94-5D118D7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E2C0-E7FD-446F-80F4-619B4E4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EC09-0D9E-4CF3-AB27-BE61FFB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451-6404-4061-9CE2-29C4278A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A843-B91A-4FD0-8313-9B20FDB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656-ADB2-459B-8EFB-73E37A9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894E-9623-4011-8E08-F71E7C0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9A20-4AC7-4483-B9DE-C3561E46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B92C-D8A9-4222-BA53-81C326C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1C8-33E4-4A64-A6F8-9EBFC92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C76-6862-4358-93B7-3218182E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865-50C0-4E90-933B-4F08C71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5B9-118B-44CC-BE32-F1B3C38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F8D-7899-45C1-A0DD-63C717C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CC1-D30A-40C8-A04B-0C58735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AD2-7D62-4FB4-8C58-CD3A0F6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C32-3269-4E75-A04A-6DBD5392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C33E-99AF-4E91-95F1-CD8178C7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146320"/>
            <a:ext cx="8582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15"/>
          <p:cNvSpPr/>
          <p:nvPr/>
        </p:nvSpPr>
        <p:spPr>
          <a:xfrm>
            <a:off x="6156360" y="1268280"/>
            <a:ext cx="2519280" cy="1008360"/>
          </a:xfrm>
          <a:prstGeom prst="roundRect">
            <a:avLst>
              <a:gd name="adj" fmla="val 16667"/>
            </a:avLst>
          </a:prstGeom>
          <a:solidFill>
            <a:srgbClr val="47c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2"/>
          <p:cNvSpPr/>
          <p:nvPr/>
        </p:nvSpPr>
        <p:spPr>
          <a:xfrm>
            <a:off x="1692360" y="3141720"/>
            <a:ext cx="863640" cy="50328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468360" y="306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3640" y="1600200"/>
            <a:ext cx="5903640" cy="388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аименьшее значение фун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y=2^{x^2+2x+5}"/>
          <p:cNvPicPr/>
          <p:nvPr/>
        </p:nvPicPr>
        <p:blipFill>
          <a:blip r:embed="rId2"/>
          <a:stretch/>
        </p:blipFill>
        <p:spPr>
          <a:xfrm>
            <a:off x="6300720" y="1484280"/>
            <a:ext cx="1906560" cy="50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24000" y="2205000"/>
                <a:ext cx="2857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539640" y="2708280"/>
                <a:ext cx="241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577800" y="3213000"/>
                <a:ext cx="233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826920" y="4221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826920" y="4581360"/>
                <a:ext cx="660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755640" y="3716280"/>
                <a:ext cx="1384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5" name="Прямая со стрелкой 14"/>
          <p:cNvCxnSpPr/>
          <p:nvPr/>
        </p:nvCxnSpPr>
        <p:spPr>
          <a:xfrm flipV="1">
            <a:off x="1692360" y="1988640"/>
            <a:ext cx="4680720" cy="266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5867280" y="2637000"/>
                <a:ext cx="1168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5796000" y="3357720"/>
                <a:ext cx="799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5867280" y="4005360"/>
                <a:ext cx="1067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Прямоугольник 19"/>
          <p:cNvSpPr/>
          <p:nvPr/>
        </p:nvSpPr>
        <p:spPr>
          <a:xfrm>
            <a:off x="7242840" y="5229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20">
            <a:hlinkClick r:id="" action="ppaction://hlinkshowjump?jump=nextslide"/>
          </p:cNvPr>
          <p:cNvSpPr/>
          <p:nvPr/>
        </p:nvSpPr>
        <p:spPr>
          <a:xfrm>
            <a:off x="6875640" y="5805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2771640" y="5300640"/>
                <a:ext cx="3354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Управляющая кнопка: возврат 21">
            <a:hlinkClick r:id="" action="ppaction://hlinkshowjump?jump=previousslide"/>
          </p:cNvPr>
          <p:cNvSpPr/>
          <p:nvPr/>
        </p:nvSpPr>
        <p:spPr>
          <a:xfrm>
            <a:off x="8172360" y="5732640"/>
            <a:ext cx="576360" cy="43308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7493"/>
                </a:moveTo>
                <a:lnTo>
                  <a:pt x="10871" y="7493"/>
                </a:lnTo>
                <a:lnTo>
                  <a:pt x="10871" y="12828"/>
                </a:lnTo>
                <a:cubicBezTo>
                  <a:pt x="10871" y="13751"/>
                  <a:pt x="11672" y="14482"/>
                  <a:pt x="12708" y="14482"/>
                </a:cubicBezTo>
                <a:lnTo>
                  <a:pt x="14370" y="14482"/>
                </a:lnTo>
                <a:cubicBezTo>
                  <a:pt x="15406" y="14482"/>
                  <a:pt x="16207" y="13751"/>
                  <a:pt x="16207" y="12828"/>
                </a:cubicBezTo>
                <a:lnTo>
                  <a:pt x="16207" y="7493"/>
                </a:lnTo>
                <a:lnTo>
                  <a:pt x="14370" y="7493"/>
                </a:lnTo>
                <a:lnTo>
                  <a:pt x="17878" y="3985"/>
                </a:lnTo>
                <a:lnTo>
                  <a:pt x="21551" y="7493"/>
                </a:lnTo>
                <a:lnTo>
                  <a:pt x="19714" y="7493"/>
                </a:lnTo>
                <a:lnTo>
                  <a:pt x="19714" y="12828"/>
                </a:lnTo>
                <a:cubicBezTo>
                  <a:pt x="19714" y="15596"/>
                  <a:pt x="17138" y="18155"/>
                  <a:pt x="14370" y="18155"/>
                </a:cubicBezTo>
                <a:lnTo>
                  <a:pt x="12708" y="18155"/>
                </a:lnTo>
                <a:cubicBezTo>
                  <a:pt x="9940" y="18155"/>
                  <a:pt x="7364" y="15596"/>
                  <a:pt x="7364" y="12828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6156360" y="98100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47c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1692360" y="3141720"/>
            <a:ext cx="863640" cy="50328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68360" y="306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395280" y="1341360"/>
            <a:ext cx="5904000" cy="316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аименьшее значение фун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539640" y="2205000"/>
                <a:ext cx="3149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539640" y="2637000"/>
                <a:ext cx="2590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488880" y="321300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776160" y="4221000"/>
                <a:ext cx="1092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820800" y="4581360"/>
                <a:ext cx="673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717480" y="3716280"/>
                <a:ext cx="1460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6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3" name="Прямая со стрелкой 14"/>
          <p:cNvCxnSpPr/>
          <p:nvPr/>
        </p:nvCxnSpPr>
        <p:spPr>
          <a:xfrm flipV="1">
            <a:off x="1692360" y="1988640"/>
            <a:ext cx="4680720" cy="266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823000" y="2637000"/>
                <a:ext cx="1257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796000" y="3357720"/>
                <a:ext cx="9777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861160" y="4005360"/>
                <a:ext cx="10792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18"/>
          <p:cNvSpPr/>
          <p:nvPr/>
        </p:nvSpPr>
        <p:spPr>
          <a:xfrm>
            <a:off x="7242840" y="5229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y=6^{x^2+16x+66}"/>
          <p:cNvPicPr/>
          <p:nvPr/>
        </p:nvPicPr>
        <p:blipFill>
          <a:blip r:embed="rId2"/>
          <a:stretch/>
        </p:blipFill>
        <p:spPr>
          <a:xfrm>
            <a:off x="6372360" y="1197000"/>
            <a:ext cx="2232000" cy="51768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6875640" y="5805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2627280" y="5229360"/>
                <a:ext cx="3772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6"/>
          <p:cNvSpPr/>
          <p:nvPr/>
        </p:nvSpPr>
        <p:spPr>
          <a:xfrm>
            <a:off x="6156360" y="981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7c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1341000"/>
            <a:ext cx="5905440" cy="64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аименьшее значение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875640" y="5805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362480" y="-1839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y=5^{x^2-24x+148}"/>
          <p:cNvPicPr/>
          <p:nvPr/>
        </p:nvPicPr>
        <p:blipFill>
          <a:blip r:embed="rId2"/>
          <a:stretch/>
        </p:blipFill>
        <p:spPr>
          <a:xfrm>
            <a:off x="6156360" y="1197000"/>
            <a:ext cx="2340000" cy="51264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7"/>
          <p:cNvSpPr/>
          <p:nvPr/>
        </p:nvSpPr>
        <p:spPr>
          <a:xfrm>
            <a:off x="1692360" y="3141720"/>
            <a:ext cx="863640" cy="50328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8"/>
          <p:cNvSpPr/>
          <p:nvPr/>
        </p:nvSpPr>
        <p:spPr>
          <a:xfrm>
            <a:off x="468360" y="306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46fc57"/>
          </a:solidFill>
          <a:ln w="25560">
            <a:solidFill>
              <a:srgbClr val="46f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463680" y="2205000"/>
                <a:ext cx="3301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507960" y="2637000"/>
                <a:ext cx="26542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463680" y="3213000"/>
                <a:ext cx="2565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770040" y="422100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839880" y="4581360"/>
                <a:ext cx="635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692280" y="3716280"/>
                <a:ext cx="15112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5" name="Прямая со стрелкой 16"/>
          <p:cNvCxnSpPr/>
          <p:nvPr/>
        </p:nvCxnSpPr>
        <p:spPr>
          <a:xfrm flipV="1">
            <a:off x="1692360" y="1988640"/>
            <a:ext cx="4680720" cy="266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5848200" y="2637000"/>
                <a:ext cx="1206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757840" y="3357720"/>
                <a:ext cx="1054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5803920" y="4005360"/>
                <a:ext cx="11937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Прямоугольник 20"/>
          <p:cNvSpPr/>
          <p:nvPr/>
        </p:nvSpPr>
        <p:spPr>
          <a:xfrm>
            <a:off x="7243920" y="522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8764"/>
          <p:cNvPicPr/>
          <p:nvPr/>
        </p:nvPicPr>
        <p:blipFill>
          <a:blip r:embed="rId4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9:54:09Z</dcterms:created>
  <dc:creator>zenalla</dc:creator>
  <dc:description/>
  <dc:language>en-US</dc:language>
  <cp:lastModifiedBy>Admin</cp:lastModifiedBy>
  <dcterms:modified xsi:type="dcterms:W3CDTF">2014-10-20T13:10:31Z</dcterms:modified>
  <cp:revision>63</cp:revision>
  <dc:subject/>
  <dc:title>B14                ЕГЭ                  2012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