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799-53F3-417C-821C-DEB97103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84F-5C5C-4AFD-B28F-CCB43204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DB6-5AA7-4412-AD42-7993211C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27C-0B03-44B9-A4E5-9B947E5F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FE64-3314-40CB-AAB3-4AE5B4C2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256A-B2C3-4FA0-85C1-B1F76212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CD28-A76A-40C0-9A6A-F103C6FB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53A3-E493-4A87-9843-230180B5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4229-5EBB-45CA-9794-7745F16A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8CAD-D9E5-4002-BFF3-B4EB6EB5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0AAC-24C9-46BC-8CC9-2CCDAD3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763-E35D-468D-9C53-D950750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BBA1-D4B1-4C5F-B4B0-DF643B9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026-D914-4FAD-B3BF-35E3CF59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E872-2F64-4DEC-846C-418996D5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7646-873E-404E-AFED-D1A7D13B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DCFE-79D7-4991-91AC-333FCEA6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F74-4B12-4726-B281-F4F8B785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EF8-386F-4C40-A755-F6F0610C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A39-2932-44BA-A62F-3D514FE1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D12-AA54-4D40-B439-DC6ABD3B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783-050C-48AA-B410-217EBE4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5E3-00DC-4AF5-8621-76807206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13B-CFA3-45E2-97C1-A39ACBA0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A026-0260-4E40-A7E0-49AC744F2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E2B2-786B-403B-8C78-65AF504A7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-6480" y="2054160"/>
            <a:ext cx="6748560" cy="14810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3"/>
          <a:stretch/>
        </p:blipFill>
        <p:spPr>
          <a:xfrm>
            <a:off x="-189000" y="493560"/>
            <a:ext cx="2865600" cy="138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916360" y="2637000"/>
            <a:ext cx="2401920" cy="89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2916360" y="1844640"/>
            <a:ext cx="2487600" cy="64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2833560" y="4365720"/>
                <a:ext cx="3157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3348000" y="3716280"/>
                <a:ext cx="1589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3" descr=""/>
          <p:cNvPicPr/>
          <p:nvPr/>
        </p:nvPicPr>
        <p:blipFill>
          <a:blip r:embed="rId2"/>
          <a:stretch/>
        </p:blipFill>
        <p:spPr>
          <a:xfrm>
            <a:off x="822240" y="324000"/>
            <a:ext cx="7499520" cy="669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342360" y="1125720"/>
            <a:ext cx="63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y=3^{-7-6x-x^2}"/>
          <p:cNvPicPr/>
          <p:nvPr/>
        </p:nvPicPr>
        <p:blipFill>
          <a:blip r:embed="rId3"/>
          <a:stretch/>
        </p:blipFill>
        <p:spPr>
          <a:xfrm>
            <a:off x="6372360" y="1052640"/>
            <a:ext cx="2103480" cy="504720"/>
          </a:xfrm>
          <a:prstGeom prst="rect">
            <a:avLst/>
          </a:prstGeom>
          <a:ln w="0">
            <a:noFill/>
          </a:ln>
        </p:spPr>
      </p:pic>
      <p:sp>
        <p:nvSpPr>
          <p:cNvPr id="93" name="Управляющая кнопка: настраиваемая 7"/>
          <p:cNvSpPr/>
          <p:nvPr/>
        </p:nvSpPr>
        <p:spPr>
          <a:xfrm>
            <a:off x="395280" y="1916280"/>
            <a:ext cx="8424720" cy="3889080"/>
          </a:xfrm>
          <a:custGeom>
            <a:avLst/>
            <a:gdLst>
              <a:gd name="textAreaLeft" fmla="*/ 252000 w 8424720"/>
              <a:gd name="textAreaRight" fmla="*/ 8172720 w 8424720"/>
              <a:gd name="textAreaTop" fmla="*/ 252000 h 3889080"/>
              <a:gd name="textAreaBottom" fmla="*/ 3637080 h 3889080"/>
            </a:gdLst>
            <a:ahLst/>
            <a:rect l="textAreaLeft" t="textAreaTop" r="textAreaRight" b="textAreaBottom"/>
            <a:pathLst>
              <a:path w="46789" h="21600">
                <a:moveTo>
                  <a:pt x="0" y="0"/>
                </a:moveTo>
                <a:lnTo>
                  <a:pt x="46789" y="0"/>
                </a:lnTo>
                <a:lnTo>
                  <a:pt x="46789" y="21600"/>
                </a:lnTo>
                <a:lnTo>
                  <a:pt x="0" y="21600"/>
                </a:lnTo>
                <a:close/>
              </a:path>
              <a:path fill="lightenLess" w="46789" h="21600">
                <a:moveTo>
                  <a:pt x="0" y="0"/>
                </a:moveTo>
                <a:lnTo>
                  <a:pt x="46789" y="0"/>
                </a:lnTo>
                <a:lnTo>
                  <a:pt x="45389" y="1400"/>
                </a:lnTo>
                <a:lnTo>
                  <a:pt x="1400" y="1400"/>
                </a:lnTo>
                <a:close/>
              </a:path>
              <a:path fill="darken" w="46789" h="21600">
                <a:moveTo>
                  <a:pt x="46789" y="0"/>
                </a:moveTo>
                <a:lnTo>
                  <a:pt x="46789" y="21600"/>
                </a:lnTo>
                <a:lnTo>
                  <a:pt x="45389" y="20200"/>
                </a:lnTo>
                <a:lnTo>
                  <a:pt x="45389" y="1400"/>
                </a:lnTo>
                <a:close/>
              </a:path>
              <a:path fill="darkenLess" w="46789" h="21600">
                <a:moveTo>
                  <a:pt x="46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9" y="20200"/>
                </a:lnTo>
                <a:close/>
              </a:path>
              <a:path fill="lighten" w="46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горитм нахождения наименьшего и наибольшего знач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прерывной функции у = f(x) на отрезке [а; в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айти производную f′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Найти точки, в которых f′(x) = 0 или f′(x) не существует, и отобразить из них те, что лежат внутри  области определения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ычислить значения функции у = f(x) в точках,  отобранных на втором шаге. Затем выбрать среди этих значений наименьшее (это будет 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наи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и  наибольшее (это будет 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наи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52472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3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1001520" cy="138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"/>
          <p:cNvPicPr/>
          <p:nvPr/>
        </p:nvPicPr>
        <p:blipFill>
          <a:blip r:embed="rId3"/>
          <a:stretch/>
        </p:blipFill>
        <p:spPr>
          <a:xfrm>
            <a:off x="7451640" y="3213000"/>
            <a:ext cx="1381320" cy="107640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17"/>
          <p:cNvSpPr/>
          <p:nvPr/>
        </p:nvSpPr>
        <p:spPr>
          <a:xfrm>
            <a:off x="6300720" y="907920"/>
            <a:ext cx="2303640" cy="86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носка 1 13"/>
          <p:cNvSpPr/>
          <p:nvPr/>
        </p:nvSpPr>
        <p:spPr>
          <a:xfrm>
            <a:off x="2124000" y="2421000"/>
            <a:ext cx="1152720" cy="431640"/>
          </a:xfrm>
          <a:prstGeom prst="borderCallout1">
            <a:avLst>
              <a:gd name="adj1" fmla="val 18750"/>
              <a:gd name="adj2" fmla="val -8333"/>
              <a:gd name="adj3" fmla="val 283967"/>
              <a:gd name="adj4" fmla="val -89259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ая выноска 12"/>
          <p:cNvSpPr/>
          <p:nvPr/>
        </p:nvSpPr>
        <p:spPr>
          <a:xfrm>
            <a:off x="755640" y="2349360"/>
            <a:ext cx="1295280" cy="503280"/>
          </a:xfrm>
          <a:prstGeom prst="wedgeRectCallout">
            <a:avLst>
              <a:gd name="adj1" fmla="val 80912"/>
              <a:gd name="adj2" fmla="val 96217"/>
            </a:avLst>
          </a:prstGeom>
          <a:solidFill>
            <a:srgbClr val="74fc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84726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ласть  определения функции:  </a:t>
            </a: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101" name="Прямоугольник 3" descr=""/>
          <p:cNvPicPr/>
          <p:nvPr/>
        </p:nvPicPr>
        <p:blipFill>
          <a:blip r:embed="rId4"/>
          <a:stretch/>
        </p:blipFill>
        <p:spPr>
          <a:xfrm>
            <a:off x="822240" y="324000"/>
            <a:ext cx="7499520" cy="669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342360" y="1125720"/>
            <a:ext cx="63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y=3^{-7-6x-x^2}"/>
          <p:cNvPicPr/>
          <p:nvPr/>
        </p:nvPicPr>
        <p:blipFill>
          <a:blip r:embed="rId5"/>
          <a:stretch/>
        </p:blipFill>
        <p:spPr>
          <a:xfrm>
            <a:off x="6372360" y="1052640"/>
            <a:ext cx="2103480" cy="50472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524720" y="6381720"/>
            <a:ext cx="593640" cy="287280"/>
          </a:xfrm>
          <a:custGeom>
            <a:avLst/>
            <a:gdLst>
              <a:gd name="textAreaLeft" fmla="*/ 18360 w 593640"/>
              <a:gd name="textAreaRight" fmla="*/ 575280 w 59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4606" h="21600">
                <a:moveTo>
                  <a:pt x="0" y="0"/>
                </a:moveTo>
                <a:lnTo>
                  <a:pt x="44606" y="0"/>
                </a:lnTo>
                <a:lnTo>
                  <a:pt x="44606" y="21600"/>
                </a:lnTo>
                <a:lnTo>
                  <a:pt x="0" y="21600"/>
                </a:lnTo>
                <a:close/>
              </a:path>
              <a:path fill="lightenLess" w="44606" h="21600">
                <a:moveTo>
                  <a:pt x="0" y="0"/>
                </a:moveTo>
                <a:lnTo>
                  <a:pt x="44606" y="0"/>
                </a:lnTo>
                <a:lnTo>
                  <a:pt x="43206" y="1400"/>
                </a:lnTo>
                <a:lnTo>
                  <a:pt x="1400" y="1400"/>
                </a:lnTo>
                <a:close/>
              </a:path>
              <a:path fill="darken" w="44606" h="21600">
                <a:moveTo>
                  <a:pt x="44606" y="0"/>
                </a:moveTo>
                <a:lnTo>
                  <a:pt x="44606" y="21600"/>
                </a:lnTo>
                <a:lnTo>
                  <a:pt x="43206" y="20200"/>
                </a:lnTo>
                <a:lnTo>
                  <a:pt x="43206" y="1400"/>
                </a:lnTo>
                <a:close/>
              </a:path>
              <a:path fill="darkenLess" w="44606" h="21600">
                <a:moveTo>
                  <a:pt x="44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06" y="20200"/>
                </a:lnTo>
                <a:close/>
              </a:path>
              <a:path fill="lighten" w="44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06" h="21600">
                <a:moveTo>
                  <a:pt x="15296" y="3794"/>
                </a:moveTo>
                <a:lnTo>
                  <a:pt x="29309" y="10800"/>
                </a:lnTo>
                <a:lnTo>
                  <a:pt x="15296" y="17806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3851280" y="1628640"/>
                <a:ext cx="9302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6000" y="2016000"/>
                <a:ext cx="3771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44440" y="2492280"/>
                <a:ext cx="306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1600200" y="3068640"/>
                <a:ext cx="14796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468360" y="3068640"/>
                <a:ext cx="601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412920" y="3657600"/>
                <a:ext cx="1257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24000" y="4076640"/>
                <a:ext cx="1858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Прямоугольник 16"/>
          <p:cNvSpPr/>
          <p:nvPr/>
        </p:nvSpPr>
        <p:spPr>
          <a:xfrm>
            <a:off x="250920" y="4508640"/>
            <a:ext cx="62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числите  значение функции у = f(x) в точке  х=-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9"/>
              <p:cNvSpPr txBox="1"/>
              <p:nvPr/>
            </p:nvSpPr>
            <p:spPr>
              <a:xfrm>
                <a:off x="324000" y="5013360"/>
                <a:ext cx="3090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"/>
              <p:cNvSpPr txBox="1"/>
              <p:nvPr/>
            </p:nvSpPr>
            <p:spPr>
              <a:xfrm>
                <a:off x="324000" y="5589720"/>
                <a:ext cx="2527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1"/>
              <p:cNvSpPr txBox="1"/>
              <p:nvPr/>
            </p:nvSpPr>
            <p:spPr>
              <a:xfrm>
                <a:off x="468360" y="6165720"/>
                <a:ext cx="215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Прямоугольник 21"/>
          <p:cNvSpPr/>
          <p:nvPr/>
        </p:nvSpPr>
        <p:spPr>
          <a:xfrm>
            <a:off x="7596360" y="5661000"/>
            <a:ext cx="11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возврат 22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7493"/>
                </a:moveTo>
                <a:lnTo>
                  <a:pt x="16991" y="7493"/>
                </a:lnTo>
                <a:lnTo>
                  <a:pt x="16991" y="12828"/>
                </a:lnTo>
                <a:cubicBezTo>
                  <a:pt x="16991" y="13751"/>
                  <a:pt x="17792" y="14482"/>
                  <a:pt x="18827" y="14482"/>
                </a:cubicBezTo>
                <a:lnTo>
                  <a:pt x="20490" y="14482"/>
                </a:lnTo>
                <a:cubicBezTo>
                  <a:pt x="21526" y="14482"/>
                  <a:pt x="22326" y="13751"/>
                  <a:pt x="22326" y="12828"/>
                </a:cubicBezTo>
                <a:lnTo>
                  <a:pt x="22326" y="7493"/>
                </a:lnTo>
                <a:lnTo>
                  <a:pt x="20490" y="7493"/>
                </a:lnTo>
                <a:lnTo>
                  <a:pt x="23997" y="3985"/>
                </a:lnTo>
                <a:lnTo>
                  <a:pt x="27670" y="7493"/>
                </a:lnTo>
                <a:lnTo>
                  <a:pt x="25834" y="7493"/>
                </a:lnTo>
                <a:lnTo>
                  <a:pt x="25834" y="12828"/>
                </a:lnTo>
                <a:cubicBezTo>
                  <a:pt x="25834" y="15596"/>
                  <a:pt x="23258" y="18155"/>
                  <a:pt x="20490" y="18155"/>
                </a:cubicBezTo>
                <a:lnTo>
                  <a:pt x="18827" y="18155"/>
                </a:lnTo>
                <a:cubicBezTo>
                  <a:pt x="16060" y="18155"/>
                  <a:pt x="13483" y="15596"/>
                  <a:pt x="13483" y="12828"/>
                </a:cubicBez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30"/>
          <p:cNvCxnSpPr/>
          <p:nvPr/>
        </p:nvCxnSpPr>
        <p:spPr>
          <a:xfrm flipH="1" flipV="1">
            <a:off x="7884360" y="2059920"/>
            <a:ext cx="72360" cy="30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Прямая со стрелкой 32"/>
          <p:cNvCxnSpPr/>
          <p:nvPr/>
        </p:nvCxnSpPr>
        <p:spPr>
          <a:xfrm>
            <a:off x="5651280" y="4292280"/>
            <a:ext cx="3493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0" name="Прямоугольник 33"/>
          <p:cNvSpPr/>
          <p:nvPr/>
        </p:nvSpPr>
        <p:spPr>
          <a:xfrm>
            <a:off x="7598520" y="1916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4"/>
          <p:cNvSpPr/>
          <p:nvPr/>
        </p:nvSpPr>
        <p:spPr>
          <a:xfrm>
            <a:off x="8846280" y="400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5"/>
          <p:cNvSpPr/>
          <p:nvPr/>
        </p:nvSpPr>
        <p:spPr>
          <a:xfrm>
            <a:off x="79592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37"/>
          <p:cNvSpPr/>
          <p:nvPr/>
        </p:nvSpPr>
        <p:spPr>
          <a:xfrm>
            <a:off x="7451640" y="422100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9"/>
          <p:cNvSpPr/>
          <p:nvPr/>
        </p:nvSpPr>
        <p:spPr>
          <a:xfrm>
            <a:off x="723924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41"/>
          <p:cNvSpPr/>
          <p:nvPr/>
        </p:nvSpPr>
        <p:spPr>
          <a:xfrm flipH="1">
            <a:off x="7812000" y="270828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2"/>
          <p:cNvSpPr/>
          <p:nvPr/>
        </p:nvSpPr>
        <p:spPr>
          <a:xfrm>
            <a:off x="79592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44"/>
          <p:cNvSpPr/>
          <p:nvPr/>
        </p:nvSpPr>
        <p:spPr>
          <a:xfrm>
            <a:off x="7885080" y="3789360"/>
            <a:ext cx="142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5"/>
          <p:cNvSpPr/>
          <p:nvPr/>
        </p:nvSpPr>
        <p:spPr>
          <a:xfrm>
            <a:off x="81039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лилиния 55"/>
          <p:cNvSpPr/>
          <p:nvPr/>
        </p:nvSpPr>
        <p:spPr>
          <a:xfrm>
            <a:off x="7346880" y="2755800"/>
            <a:ext cx="177840" cy="528840"/>
          </a:xfrm>
          <a:custGeom>
            <a:avLst/>
            <a:gdLst/>
            <a:ahLst/>
            <a:rect l="l" t="t" r="r" b="b"/>
            <a:pathLst>
              <a:path w="172858" h="421019">
                <a:moveTo>
                  <a:pt x="0" y="173046"/>
                </a:moveTo>
                <a:cubicBezTo>
                  <a:pt x="5166" y="157548"/>
                  <a:pt x="11536" y="142400"/>
                  <a:pt x="15498" y="126551"/>
                </a:cubicBezTo>
                <a:cubicBezTo>
                  <a:pt x="21887" y="100995"/>
                  <a:pt x="19215" y="72620"/>
                  <a:pt x="30996" y="49059"/>
                </a:cubicBezTo>
                <a:cubicBezTo>
                  <a:pt x="40798" y="29455"/>
                  <a:pt x="61993" y="18062"/>
                  <a:pt x="77491" y="2564"/>
                </a:cubicBezTo>
                <a:cubicBezTo>
                  <a:pt x="98155" y="7730"/>
                  <a:pt x="128195" y="0"/>
                  <a:pt x="139484" y="18063"/>
                </a:cubicBezTo>
                <a:cubicBezTo>
                  <a:pt x="158845" y="49040"/>
                  <a:pt x="151348" y="90202"/>
                  <a:pt x="154983" y="126551"/>
                </a:cubicBezTo>
                <a:cubicBezTo>
                  <a:pt x="172858" y="305302"/>
                  <a:pt x="170481" y="285352"/>
                  <a:pt x="170481" y="42101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кругленный прямоугольник 25"/>
          <p:cNvSpPr/>
          <p:nvPr/>
        </p:nvSpPr>
        <p:spPr>
          <a:xfrm>
            <a:off x="5940360" y="907920"/>
            <a:ext cx="237672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907920"/>
            <a:ext cx="6096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57240" bIns="572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наибольшее значение функ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52472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4" descr=""/>
          <p:cNvPicPr/>
          <p:nvPr/>
        </p:nvPicPr>
        <p:blipFill>
          <a:blip r:embed="rId2"/>
          <a:stretch/>
        </p:blipFill>
        <p:spPr>
          <a:xfrm>
            <a:off x="395280" y="0"/>
            <a:ext cx="8083440" cy="669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5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2511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y=5^{-79+18x-x^2}"/>
          <p:cNvPicPr/>
          <p:nvPr/>
        </p:nvPicPr>
        <p:blipFill>
          <a:blip r:embed="rId4"/>
          <a:stretch/>
        </p:blipFill>
        <p:spPr>
          <a:xfrm>
            <a:off x="6084720" y="981000"/>
            <a:ext cx="2009880" cy="432000"/>
          </a:xfrm>
          <a:prstGeom prst="rect">
            <a:avLst/>
          </a:prstGeom>
          <a:ln w="0">
            <a:noFill/>
          </a:ln>
        </p:spPr>
      </p:pic>
      <p:sp>
        <p:nvSpPr>
          <p:cNvPr id="136" name="Выноска 1 9"/>
          <p:cNvSpPr/>
          <p:nvPr/>
        </p:nvSpPr>
        <p:spPr>
          <a:xfrm>
            <a:off x="6084720" y="2205000"/>
            <a:ext cx="1079640" cy="360360"/>
          </a:xfrm>
          <a:prstGeom prst="borderCallout1">
            <a:avLst>
              <a:gd name="adj1" fmla="val 18750"/>
              <a:gd name="adj2" fmla="val -8333"/>
              <a:gd name="adj3" fmla="val 310513"/>
              <a:gd name="adj4" fmla="val -362185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ая выноска 10"/>
          <p:cNvSpPr/>
          <p:nvPr/>
        </p:nvSpPr>
        <p:spPr>
          <a:xfrm>
            <a:off x="4788000" y="2205000"/>
            <a:ext cx="1224000" cy="432000"/>
          </a:xfrm>
          <a:prstGeom prst="wedgeRectCallout">
            <a:avLst>
              <a:gd name="adj1" fmla="val 80912"/>
              <a:gd name="adj2" fmla="val 96217"/>
            </a:avLst>
          </a:prstGeom>
          <a:solidFill>
            <a:srgbClr val="74fc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одержимое 2"/>
          <p:cNvSpPr/>
          <p:nvPr/>
        </p:nvSpPr>
        <p:spPr>
          <a:xfrm>
            <a:off x="179280" y="1700280"/>
            <a:ext cx="8474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ласть  определения функци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3780000" y="1773360"/>
                <a:ext cx="9302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154080" y="2205000"/>
                <a:ext cx="4124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4330800" y="2276640"/>
                <a:ext cx="2709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5718240" y="2871720"/>
                <a:ext cx="15555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4572000" y="2924280"/>
                <a:ext cx="601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1332000" y="3357720"/>
                <a:ext cx="11779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916360" y="3357720"/>
                <a:ext cx="1689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Прямоугольник 20"/>
          <p:cNvSpPr/>
          <p:nvPr/>
        </p:nvSpPr>
        <p:spPr>
          <a:xfrm>
            <a:off x="755640" y="3789360"/>
            <a:ext cx="62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числите  значение функции у = f(x) в точке  х =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971640" y="4365720"/>
                <a:ext cx="2660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900000" y="4941720"/>
                <a:ext cx="2527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909720" y="5516640"/>
                <a:ext cx="21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Прямоугольник 24"/>
          <p:cNvSpPr/>
          <p:nvPr/>
        </p:nvSpPr>
        <p:spPr>
          <a:xfrm>
            <a:off x="7451640" y="5732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52472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5" descr=""/>
          <p:cNvPicPr/>
          <p:nvPr/>
        </p:nvPicPr>
        <p:blipFill>
          <a:blip r:embed="rId2"/>
          <a:stretch/>
        </p:blipFill>
        <p:spPr>
          <a:xfrm>
            <a:off x="395280" y="0"/>
            <a:ext cx="8167680" cy="68904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6" descr=""/>
          <p:cNvPicPr/>
          <p:nvPr/>
        </p:nvPicPr>
        <p:blipFill>
          <a:blip r:embed="rId3"/>
          <a:stretch/>
        </p:blipFill>
        <p:spPr>
          <a:xfrm>
            <a:off x="5364000" y="189000"/>
            <a:ext cx="2498760" cy="40932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588600" y="692280"/>
            <a:ext cx="442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наибольшее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4362480" y="-18396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y=2^{-37-12x-x^2}"/>
          <p:cNvPicPr/>
          <p:nvPr/>
        </p:nvPicPr>
        <p:blipFill>
          <a:blip r:embed="rId4"/>
          <a:stretch/>
        </p:blipFill>
        <p:spPr>
          <a:xfrm>
            <a:off x="5796000" y="765000"/>
            <a:ext cx="2736720" cy="576360"/>
          </a:xfrm>
          <a:prstGeom prst="rect">
            <a:avLst/>
          </a:prstGeom>
          <a:ln w="0">
            <a:noFill/>
          </a:ln>
        </p:spPr>
      </p:pic>
      <p:sp>
        <p:nvSpPr>
          <p:cNvPr id="157" name="Выноска 1 10"/>
          <p:cNvSpPr/>
          <p:nvPr/>
        </p:nvSpPr>
        <p:spPr>
          <a:xfrm>
            <a:off x="6156360" y="2205000"/>
            <a:ext cx="1295280" cy="432000"/>
          </a:xfrm>
          <a:prstGeom prst="borderCallout1">
            <a:avLst>
              <a:gd name="adj1" fmla="val 18750"/>
              <a:gd name="adj2" fmla="val -8333"/>
              <a:gd name="adj3" fmla="val 261726"/>
              <a:gd name="adj4" fmla="val -313972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ая выноска 11"/>
          <p:cNvSpPr/>
          <p:nvPr/>
        </p:nvSpPr>
        <p:spPr>
          <a:xfrm>
            <a:off x="4859280" y="2205000"/>
            <a:ext cx="1225440" cy="432000"/>
          </a:xfrm>
          <a:prstGeom prst="wedgeRectCallout">
            <a:avLst>
              <a:gd name="adj1" fmla="val 80912"/>
              <a:gd name="adj2" fmla="val 96217"/>
            </a:avLst>
          </a:prstGeom>
          <a:solidFill>
            <a:srgbClr val="74fc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250920" y="1773360"/>
            <a:ext cx="54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ласть  определения фун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3851280" y="1773360"/>
                <a:ext cx="9302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244440" y="2205000"/>
                <a:ext cx="4138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4421160" y="2276640"/>
                <a:ext cx="2906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587920" y="2781360"/>
                <a:ext cx="156852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4500720" y="2781360"/>
                <a:ext cx="601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"/>
              <p:cNvSpPr txBox="1"/>
              <p:nvPr/>
            </p:nvSpPr>
            <p:spPr>
              <a:xfrm>
                <a:off x="1241280" y="3357720"/>
                <a:ext cx="13608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2771640" y="3357720"/>
                <a:ext cx="1978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Прямоугольник 20"/>
          <p:cNvSpPr/>
          <p:nvPr/>
        </p:nvSpPr>
        <p:spPr>
          <a:xfrm>
            <a:off x="755640" y="3789360"/>
            <a:ext cx="62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числите  значение функции у = f(x) в точке  х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687240" y="4365720"/>
                <a:ext cx="3229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1"/>
              <p:cNvSpPr txBox="1"/>
              <p:nvPr/>
            </p:nvSpPr>
            <p:spPr>
              <a:xfrm>
                <a:off x="611280" y="5013360"/>
                <a:ext cx="2714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684360" y="5516640"/>
                <a:ext cx="30574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Прямоугольник 24"/>
          <p:cNvSpPr/>
          <p:nvPr/>
        </p:nvSpPr>
        <p:spPr>
          <a:xfrm>
            <a:off x="7451640" y="5732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Решить   самостоятельно.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4362480" y="-18396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y=3^{-219-30x-x^2}"/>
          <p:cNvPicPr/>
          <p:nvPr/>
        </p:nvPicPr>
        <p:blipFill>
          <a:blip r:embed="rId2"/>
          <a:stretch/>
        </p:blipFill>
        <p:spPr>
          <a:xfrm>
            <a:off x="1619280" y="2421000"/>
            <a:ext cx="2122560" cy="4316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6"/>
          <p:cNvSpPr/>
          <p:nvPr/>
        </p:nvSpPr>
        <p:spPr>
          <a:xfrm>
            <a:off x="324000" y="1413000"/>
            <a:ext cx="4176720" cy="5111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7"/>
          <p:cNvSpPr/>
          <p:nvPr/>
        </p:nvSpPr>
        <p:spPr>
          <a:xfrm>
            <a:off x="4716360" y="1413000"/>
            <a:ext cx="4176720" cy="5111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8"/>
          <p:cNvSpPr/>
          <p:nvPr/>
        </p:nvSpPr>
        <p:spPr>
          <a:xfrm>
            <a:off x="4788000" y="191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йдите наибольшее зна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ункции 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>
            <a:off x="4880160" y="155736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Задание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B14 (№ 28770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362480" y="-18396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y=4^{-99+20x-x^2}"/>
          <p:cNvPicPr/>
          <p:nvPr/>
        </p:nvPicPr>
        <p:blipFill>
          <a:blip r:embed="rId3"/>
          <a:stretch/>
        </p:blipFill>
        <p:spPr>
          <a:xfrm>
            <a:off x="6084720" y="2421000"/>
            <a:ext cx="1675080" cy="3603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4"/>
          <p:cNvSpPr/>
          <p:nvPr/>
        </p:nvSpPr>
        <p:spPr>
          <a:xfrm>
            <a:off x="324000" y="1628640"/>
            <a:ext cx="457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Задание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B14 (№ 2876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йдите наибольшее зна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ункции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5"/>
          <p:cNvSpPr/>
          <p:nvPr/>
        </p:nvSpPr>
        <p:spPr>
          <a:xfrm>
            <a:off x="2347200" y="522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7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6"/>
          <p:cNvSpPr/>
          <p:nvPr/>
        </p:nvSpPr>
        <p:spPr>
          <a:xfrm>
            <a:off x="4788000" y="29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числите  значение функции у 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очке  х =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7"/>
          <p:cNvSpPr/>
          <p:nvPr/>
        </p:nvSpPr>
        <p:spPr>
          <a:xfrm>
            <a:off x="324000" y="29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числите  значение функции у 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очке  х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971640" y="4005360"/>
                <a:ext cx="11937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219640" y="3933720"/>
                <a:ext cx="18543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Прямоугольник 20"/>
          <p:cNvSpPr/>
          <p:nvPr/>
        </p:nvSpPr>
        <p:spPr>
          <a:xfrm>
            <a:off x="6089760" y="50846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Управляющая кнопка: далее 21">
            <a:hlinkClick r:id="" action="ppaction://hlinkshowjump?jump=nextslide"/>
          </p:cNvPr>
          <p:cNvSpPr/>
          <p:nvPr/>
        </p:nvSpPr>
        <p:spPr>
          <a:xfrm>
            <a:off x="752472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9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925720" cy="957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3"/>
          <a:stretch/>
        </p:blipFill>
        <p:spPr>
          <a:xfrm>
            <a:off x="1197000" y="2523960"/>
            <a:ext cx="6999120" cy="1017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08764"/>
          <p:cNvPicPr/>
          <p:nvPr/>
        </p:nvPicPr>
        <p:blipFill>
          <a:blip r:embed="rId4"/>
          <a:stretch/>
        </p:blipFill>
        <p:spPr>
          <a:xfrm>
            <a:off x="3851280" y="3789360"/>
            <a:ext cx="18730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5:06:16Z</dcterms:created>
  <dc:creator>zenalla</dc:creator>
  <dc:description/>
  <dc:language>en-US</dc:language>
  <cp:lastModifiedBy>Admin</cp:lastModifiedBy>
  <dcterms:modified xsi:type="dcterms:W3CDTF">2014-10-20T13:13:49Z</dcterms:modified>
  <cp:revision>39</cp:revision>
  <dc:subject/>
  <dc:title>Заголовок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563</vt:lpwstr>
  </property>
</Properties>
</file>