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2D3B3-A9F2-41B5-9904-55FAF29E4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E8068-4A35-4280-9E10-4FED5D26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27DF4-9E37-4E40-B632-1F059F415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35666-DF98-4374-9483-4974DB1EF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A07B-0B62-4C2C-AA87-D7F7BEE26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CFD1-8EA4-4B95-B2B5-EC1E387F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49A0-95D6-4FFC-9508-5A52D025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2DBB-3A4E-465C-9004-5E589B2D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3381-766B-4163-9111-F8EB94D4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803A-78F4-4E71-9DD1-2C2C9BBB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FD39-F09C-4C07-B0E1-04B2A88F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8CF71-AA82-4114-870C-B61EB7C4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C9F8-9DB1-485D-93FE-BAE82DE9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3E2F-C0FA-4D16-B71E-1613DC00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FBB9-9D31-4A1B-8D7C-D93A5B04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190A-0C0F-4007-B9F2-FCE6BC7B9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12B7-4591-4B6C-8A64-B64514ECD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9B8DD-82DD-4D1A-97C3-06EF81A1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412FE-3C7E-48E9-98F4-5000A245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B6467-BF79-480D-943C-AD0CF259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3859A-6225-4B96-8200-E40034C2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13822-B02F-43F4-AC3A-4E5D1DD1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ED0C7-C25D-469E-835B-F2E31AAE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80537-6A3F-43A3-B73C-504F6812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F5FA-54C4-4D28-A565-6ECA4CF962B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2059-A438-4BC0-BC02-378A9865561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"/>
          <p:cNvSpPr txBox="1"/>
          <p:nvPr/>
        </p:nvSpPr>
        <p:spPr>
          <a:xfrm>
            <a:off x="900000" y="1341360"/>
            <a:ext cx="7417080" cy="151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редства бытовой хими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WordArt 5"/>
          <p:cNvSpPr txBox="1"/>
          <p:nvPr/>
        </p:nvSpPr>
        <p:spPr>
          <a:xfrm>
            <a:off x="1979640" y="3933720"/>
            <a:ext cx="5592600" cy="8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лезная отрав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2000160" y="55720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к ОБЖ в 5 класс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: Быстрякова И.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0" y="25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7200" y="457200"/>
          <a:ext cx="8229600" cy="5410080"/>
        </p:xfrm>
        <a:graphic>
          <a:graphicData uri="http://schemas.openxmlformats.org/drawingml/2006/table">
            <a:tbl>
              <a:tblPr/>
              <a:tblGrid>
                <a:gridCol w="3683160"/>
                <a:gridCol w="4546440"/>
              </a:tblGrid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пень опас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Rectangle 178"/>
          <p:cNvSpPr/>
          <p:nvPr/>
        </p:nvSpPr>
        <p:spPr>
          <a:xfrm>
            <a:off x="468360" y="1052640"/>
            <a:ext cx="4103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л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79"/>
          <p:cNvSpPr/>
          <p:nvPr/>
        </p:nvSpPr>
        <p:spPr>
          <a:xfrm>
            <a:off x="4356000" y="1052640"/>
            <a:ext cx="4103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сительно безопас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i?id=44430389&amp;tov=4"/>
          <p:cNvPicPr/>
          <p:nvPr/>
        </p:nvPicPr>
        <p:blipFill>
          <a:blip r:embed="rId2"/>
          <a:stretch/>
        </p:blipFill>
        <p:spPr>
          <a:xfrm>
            <a:off x="2771640" y="1268280"/>
            <a:ext cx="34988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468360" y="549360"/>
          <a:ext cx="8280360" cy="5759280"/>
        </p:xfrm>
        <a:graphic>
          <a:graphicData uri="http://schemas.openxmlformats.org/drawingml/2006/table">
            <a:tbl>
              <a:tblPr/>
              <a:tblGrid>
                <a:gridCol w="3672000"/>
                <a:gridCol w="460836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пень опас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ыл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носительно безопас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Rectangle 96"/>
          <p:cNvSpPr/>
          <p:nvPr/>
        </p:nvSpPr>
        <p:spPr>
          <a:xfrm>
            <a:off x="539640" y="1844640"/>
            <a:ext cx="345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рей для обу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7"/>
          <p:cNvSpPr/>
          <p:nvPr/>
        </p:nvSpPr>
        <p:spPr>
          <a:xfrm>
            <a:off x="4284720" y="1844640"/>
            <a:ext cx="4390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гнеопасн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7" descr="Картинка 2 из 349"/>
          <p:cNvPicPr/>
          <p:nvPr/>
        </p:nvPicPr>
        <p:blipFill>
          <a:blip r:embed="rId2"/>
          <a:stretch/>
        </p:blipFill>
        <p:spPr>
          <a:xfrm>
            <a:off x="3203640" y="907920"/>
            <a:ext cx="295092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431640" y="549360"/>
          <a:ext cx="8280720" cy="5759280"/>
        </p:xfrm>
        <a:graphic>
          <a:graphicData uri="http://schemas.openxmlformats.org/drawingml/2006/table">
            <a:tbl>
              <a:tblPr/>
              <a:tblGrid>
                <a:gridCol w="3672000"/>
                <a:gridCol w="460872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пень опас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ыл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носительно безопас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рей для обув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гнеопасно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Rectangle 129"/>
          <p:cNvSpPr/>
          <p:nvPr/>
        </p:nvSpPr>
        <p:spPr>
          <a:xfrm>
            <a:off x="395280" y="2492280"/>
            <a:ext cx="367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ак для ног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30"/>
          <p:cNvSpPr/>
          <p:nvPr/>
        </p:nvSpPr>
        <p:spPr>
          <a:xfrm>
            <a:off x="4140360" y="2492280"/>
            <a:ext cx="446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сительно безопас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5" descr="Картинка 1 из 1629"/>
          <p:cNvPicPr/>
          <p:nvPr/>
        </p:nvPicPr>
        <p:blipFill>
          <a:blip r:embed="rId2"/>
          <a:stretch/>
        </p:blipFill>
        <p:spPr>
          <a:xfrm>
            <a:off x="1763640" y="1557360"/>
            <a:ext cx="568980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431640" y="549360"/>
          <a:ext cx="8280720" cy="5759280"/>
        </p:xfrm>
        <a:graphic>
          <a:graphicData uri="http://schemas.openxmlformats.org/drawingml/2006/table">
            <a:tbl>
              <a:tblPr/>
              <a:tblGrid>
                <a:gridCol w="3672000"/>
                <a:gridCol w="460872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пень опас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ыл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носительно безопас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рей для обув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гнеопасно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к для ногт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носительно безопас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Rectangle 36"/>
          <p:cNvSpPr/>
          <p:nvPr/>
        </p:nvSpPr>
        <p:spPr>
          <a:xfrm>
            <a:off x="468360" y="3068640"/>
            <a:ext cx="3527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7"/>
          <p:cNvSpPr/>
          <p:nvPr/>
        </p:nvSpPr>
        <p:spPr>
          <a:xfrm>
            <a:off x="4211640" y="3141720"/>
            <a:ext cx="4248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довит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i?id=13731924&amp;tov=7"/>
          <p:cNvPicPr/>
          <p:nvPr/>
        </p:nvPicPr>
        <p:blipFill>
          <a:blip r:embed="rId2"/>
          <a:stretch/>
        </p:blipFill>
        <p:spPr>
          <a:xfrm>
            <a:off x="2857680" y="1285920"/>
            <a:ext cx="3600360" cy="50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431640" y="549360"/>
          <a:ext cx="8280720" cy="5759280"/>
        </p:xfrm>
        <a:graphic>
          <a:graphicData uri="http://schemas.openxmlformats.org/drawingml/2006/table">
            <a:tbl>
              <a:tblPr/>
              <a:tblGrid>
                <a:gridCol w="3672000"/>
                <a:gridCol w="460872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пень опас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ыл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носительно безопас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рей для обув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гнеопасно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к для ногт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носительно безопас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д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довито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Rectangle 96"/>
          <p:cNvSpPr/>
          <p:nvPr/>
        </p:nvSpPr>
        <p:spPr>
          <a:xfrm>
            <a:off x="468360" y="3789360"/>
            <a:ext cx="3598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иральный порош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7"/>
          <p:cNvSpPr/>
          <p:nvPr/>
        </p:nvSpPr>
        <p:spPr>
          <a:xfrm>
            <a:off x="4067280" y="3716280"/>
            <a:ext cx="46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асное для глаз и кож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5" descr="i?id=47788298&amp;tov=5"/>
          <p:cNvPicPr/>
          <p:nvPr/>
        </p:nvPicPr>
        <p:blipFill>
          <a:blip r:embed="rId2"/>
          <a:stretch/>
        </p:blipFill>
        <p:spPr>
          <a:xfrm>
            <a:off x="2771640" y="2133720"/>
            <a:ext cx="4176720" cy="31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4"/>
          <p:cNvSpPr txBox="1"/>
          <p:nvPr/>
        </p:nvSpPr>
        <p:spPr>
          <a:xfrm>
            <a:off x="1476360" y="907920"/>
            <a:ext cx="6264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дачи уро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539640" y="2781360"/>
            <a:ext cx="813780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учится определять степень опасности средств бытовой хим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ctr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ширить знания о правилах использования и применения домашней хим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ctr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зработать правила их хран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324000" y="549360"/>
          <a:ext cx="8424720" cy="5759280"/>
        </p:xfrm>
        <a:graphic>
          <a:graphicData uri="http://schemas.openxmlformats.org/drawingml/2006/table">
            <a:tbl>
              <a:tblPr/>
              <a:tblGrid>
                <a:gridCol w="3816360"/>
                <a:gridCol w="460836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пень опас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ыл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носительно безопас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рей для обув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гнеопасно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к для ногт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носительно безопас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д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довито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иральный порош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асное для глаз и кож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Rectangle 38"/>
          <p:cNvSpPr/>
          <p:nvPr/>
        </p:nvSpPr>
        <p:spPr>
          <a:xfrm>
            <a:off x="324000" y="4365720"/>
            <a:ext cx="381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убная па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9"/>
          <p:cNvSpPr/>
          <p:nvPr/>
        </p:nvSpPr>
        <p:spPr>
          <a:xfrm>
            <a:off x="4140360" y="4365720"/>
            <a:ext cx="46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сительно безопас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Картинка 5 из 464"/>
          <p:cNvPicPr/>
          <p:nvPr/>
        </p:nvPicPr>
        <p:blipFill>
          <a:blip r:embed="rId2"/>
          <a:stretch/>
        </p:blipFill>
        <p:spPr>
          <a:xfrm>
            <a:off x="2771640" y="1268280"/>
            <a:ext cx="328644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324000" y="549360"/>
          <a:ext cx="8424720" cy="5759280"/>
        </p:xfrm>
        <a:graphic>
          <a:graphicData uri="http://schemas.openxmlformats.org/drawingml/2006/table">
            <a:tbl>
              <a:tblPr/>
              <a:tblGrid>
                <a:gridCol w="3816360"/>
                <a:gridCol w="460836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пень опас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ыл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носительно безопас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рей для обув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гнеопасно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к для ногт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носительно безопас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д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довито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иральный порош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асное для глаз и кож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убная паст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носительно безопас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36"/>
          <p:cNvSpPr/>
          <p:nvPr/>
        </p:nvSpPr>
        <p:spPr>
          <a:xfrm>
            <a:off x="395280" y="5013360"/>
            <a:ext cx="3745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зодоран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7"/>
          <p:cNvSpPr/>
          <p:nvPr/>
        </p:nvSpPr>
        <p:spPr>
          <a:xfrm>
            <a:off x="4140360" y="5013360"/>
            <a:ext cx="46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гнеопас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i?id=16487991&amp;tov=8"/>
          <p:cNvPicPr/>
          <p:nvPr/>
        </p:nvPicPr>
        <p:blipFill>
          <a:blip r:embed="rId2"/>
          <a:stretch/>
        </p:blipFill>
        <p:spPr>
          <a:xfrm>
            <a:off x="3635280" y="1557360"/>
            <a:ext cx="4753080" cy="37051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i?id=45025261&amp;tov=0"/>
          <p:cNvPicPr/>
          <p:nvPr/>
        </p:nvPicPr>
        <p:blipFill>
          <a:blip r:embed="rId3"/>
          <a:stretch/>
        </p:blipFill>
        <p:spPr>
          <a:xfrm>
            <a:off x="2484360" y="1628640"/>
            <a:ext cx="1349280" cy="35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324000" y="549360"/>
          <a:ext cx="8424720" cy="5759280"/>
        </p:xfrm>
        <a:graphic>
          <a:graphicData uri="http://schemas.openxmlformats.org/drawingml/2006/table">
            <a:tbl>
              <a:tblPr/>
              <a:tblGrid>
                <a:gridCol w="3816360"/>
                <a:gridCol w="460836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пень опас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ыл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носительно безопас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рей для обув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гнеопасно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к для ногт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носительно безопас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д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довито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иральный порош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асное для глаз и кож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убная паст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носительно безопас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зодоран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гнеопасно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Rectangle 36"/>
          <p:cNvSpPr/>
          <p:nvPr/>
        </p:nvSpPr>
        <p:spPr>
          <a:xfrm>
            <a:off x="324000" y="5661000"/>
            <a:ext cx="381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ампун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7"/>
          <p:cNvSpPr/>
          <p:nvPr/>
        </p:nvSpPr>
        <p:spPr>
          <a:xfrm>
            <a:off x="4140360" y="5661000"/>
            <a:ext cx="46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сительно безопас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ля инструкции можно использовать слов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ра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льз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допуск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4"/>
          <p:cNvSpPr txBox="1"/>
          <p:nvPr/>
        </p:nvSpPr>
        <p:spPr>
          <a:xfrm>
            <a:off x="1187280" y="620640"/>
            <a:ext cx="6337440" cy="16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нструкция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684360" y="2565360"/>
            <a:ext cx="792144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ранить отдельно от пищевых продуктов, желательно, где есть вытяж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льзя использовать для игр и не по прямому назнач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допускать попадания в рот, нос, глаз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ранить все вещества в заводской упаковке и обязательно подписан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ять сроки хранения и использования ве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льзя хранить вещества около огн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льзя выбрасывать тару из-под средств бытовой химии у дома, в дороге, на лоне прир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граф 1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буется идея! Придумать флакон для хранения опасных веществ и нарисовать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4"/>
          <p:cNvSpPr txBox="1"/>
          <p:nvPr/>
        </p:nvSpPr>
        <p:spPr>
          <a:xfrm>
            <a:off x="1332000" y="2276640"/>
            <a:ext cx="720072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за внимание!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971640" y="620640"/>
          <a:ext cx="7343640" cy="5715000"/>
        </p:xfrm>
        <a:graphic>
          <a:graphicData uri="http://schemas.openxmlformats.org/drawingml/2006/table">
            <a:tbl>
              <a:tblPr/>
              <a:tblGrid>
                <a:gridCol w="4392360"/>
                <a:gridCol w="1295640"/>
                <a:gridCol w="165564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гласн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согласн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читывается более 1000 препаратов бытовой хим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жегодно около 300 тыс. отравлений, в том числе почти 20 тыс. со смертельными исходами связано в нашей стране с препаратами бытовой хим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эффективной очистки стекол можно использовать подсолнечное масл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 3 тыс. лет тому назад на Востоке научились получать мыл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 работы с препаратами бытовой химии нужно тщательно вымыть ру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бой препарат бытовой химии можно заменить более простым и безвредным средств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язательно после покупки препаратов бытовой химии  внимательно прочитайте инструкци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упаковки с препаратами бытовой химии должны быть обязательно подписан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я «Домашняя химия» вредна для здоровья челове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эрозоли нельзя хранить вблизи источников тепл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Rectangle 416"/>
          <p:cNvSpPr/>
          <p:nvPr/>
        </p:nvSpPr>
        <p:spPr>
          <a:xfrm>
            <a:off x="5435640" y="981000"/>
            <a:ext cx="1152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17"/>
          <p:cNvSpPr/>
          <p:nvPr/>
        </p:nvSpPr>
        <p:spPr>
          <a:xfrm>
            <a:off x="5435640" y="1557360"/>
            <a:ext cx="1152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18"/>
          <p:cNvSpPr/>
          <p:nvPr/>
        </p:nvSpPr>
        <p:spPr>
          <a:xfrm>
            <a:off x="6877080" y="2205000"/>
            <a:ext cx="1152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19"/>
          <p:cNvSpPr/>
          <p:nvPr/>
        </p:nvSpPr>
        <p:spPr>
          <a:xfrm>
            <a:off x="5435640" y="2781360"/>
            <a:ext cx="1152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20"/>
          <p:cNvSpPr/>
          <p:nvPr/>
        </p:nvSpPr>
        <p:spPr>
          <a:xfrm>
            <a:off x="5435640" y="3284640"/>
            <a:ext cx="1152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21"/>
          <p:cNvSpPr/>
          <p:nvPr/>
        </p:nvSpPr>
        <p:spPr>
          <a:xfrm>
            <a:off x="6877080" y="3789360"/>
            <a:ext cx="1152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22"/>
          <p:cNvSpPr/>
          <p:nvPr/>
        </p:nvSpPr>
        <p:spPr>
          <a:xfrm>
            <a:off x="5435640" y="4292640"/>
            <a:ext cx="1152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23"/>
          <p:cNvSpPr/>
          <p:nvPr/>
        </p:nvSpPr>
        <p:spPr>
          <a:xfrm>
            <a:off x="5435640" y="4797360"/>
            <a:ext cx="1152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24"/>
          <p:cNvSpPr/>
          <p:nvPr/>
        </p:nvSpPr>
        <p:spPr>
          <a:xfrm>
            <a:off x="6877080" y="5300640"/>
            <a:ext cx="1152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25"/>
          <p:cNvSpPr/>
          <p:nvPr/>
        </p:nvSpPr>
        <p:spPr>
          <a:xfrm>
            <a:off x="5435640" y="5877000"/>
            <a:ext cx="1152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4"/>
          <p:cNvSpPr txBox="1"/>
          <p:nvPr/>
        </p:nvSpPr>
        <p:spPr>
          <a:xfrm>
            <a:off x="755640" y="620640"/>
            <a:ext cx="7416720" cy="151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редства бытовой хими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84360" y="2421000"/>
          <a:ext cx="7842240" cy="3103560"/>
        </p:xfrm>
        <a:graphic>
          <a:graphicData uri="http://schemas.openxmlformats.org/drawingml/2006/table">
            <a:tbl>
              <a:tblPr/>
              <a:tblGrid>
                <a:gridCol w="4016160"/>
                <a:gridCol w="3826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х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16" descr=""/>
          <p:cNvPicPr/>
          <p:nvPr/>
        </p:nvPicPr>
        <p:blipFill>
          <a:blip r:embed="rId1"/>
          <a:stretch/>
        </p:blipFill>
        <p:spPr>
          <a:xfrm>
            <a:off x="971640" y="2612880"/>
            <a:ext cx="3384360" cy="26416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217"/>
          <p:cNvSpPr/>
          <p:nvPr/>
        </p:nvSpPr>
        <p:spPr>
          <a:xfrm>
            <a:off x="4716360" y="2637000"/>
            <a:ext cx="32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ждое из средств бытовой химии имеет пояснительные надписи, объясняющие степень его опасности. Безопасные средства не имеют предупредительных надпис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218"/>
          <p:cNvSpPr txBox="1"/>
          <p:nvPr/>
        </p:nvSpPr>
        <p:spPr>
          <a:xfrm>
            <a:off x="1258920" y="692280"/>
            <a:ext cx="6408720" cy="119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тносительно безопасные веществ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5"/>
          <p:cNvSpPr txBox="1"/>
          <p:nvPr/>
        </p:nvSpPr>
        <p:spPr>
          <a:xfrm>
            <a:off x="826920" y="333360"/>
            <a:ext cx="7185240" cy="10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пасные для глаз и кож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076720" y="184464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ти средства наносят вред только при попадании на определенные участки тела, например в гл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images6"/>
          <p:cNvPicPr/>
          <p:nvPr/>
        </p:nvPicPr>
        <p:blipFill>
          <a:blip r:embed="rId1"/>
          <a:stretch/>
        </p:blipFill>
        <p:spPr>
          <a:xfrm>
            <a:off x="5796000" y="4437000"/>
            <a:ext cx="2195640" cy="2160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images2"/>
          <p:cNvPicPr/>
          <p:nvPr/>
        </p:nvPicPr>
        <p:blipFill>
          <a:blip r:embed="rId2"/>
          <a:stretch/>
        </p:blipFill>
        <p:spPr>
          <a:xfrm>
            <a:off x="1042920" y="1844640"/>
            <a:ext cx="2592360" cy="22971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5580000" y="3789360"/>
            <a:ext cx="2737080" cy="3682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белива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1042920" y="4653000"/>
            <a:ext cx="2665440" cy="9169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лорные и      дезинфицирующие    вещ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500"/>
                            </p:stCondLst>
                            <p:childTnLst>
                              <p:par>
                                <p:cTn id="7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116000" y="2565360"/>
            <a:ext cx="3600360" cy="25322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5219640" y="2924280"/>
            <a:ext cx="367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гнеопасные вещества имеют предупредительные надписи или условные обозначения, запрещающие их использование в близи открытого ог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6"/>
          <p:cNvSpPr txBox="1"/>
          <p:nvPr/>
        </p:nvSpPr>
        <p:spPr>
          <a:xfrm>
            <a:off x="2050920" y="907920"/>
            <a:ext cx="532764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гнеопасны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476360" y="2492280"/>
            <a:ext cx="3095640" cy="27306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5148360" y="314172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Ядовитые вещества имеют надпись «ЯД!» или специальную маркиров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6"/>
          <p:cNvSpPr txBox="1"/>
          <p:nvPr/>
        </p:nvSpPr>
        <p:spPr>
          <a:xfrm>
            <a:off x="1476360" y="765000"/>
            <a:ext cx="6073920" cy="127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Ядовитые веществ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180px-Tualetsapo"/>
          <p:cNvPicPr/>
          <p:nvPr/>
        </p:nvPicPr>
        <p:blipFill>
          <a:blip r:embed="rId1"/>
          <a:stretch/>
        </p:blipFill>
        <p:spPr>
          <a:xfrm>
            <a:off x="1908000" y="1628640"/>
            <a:ext cx="561672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4:01:52Z</dcterms:created>
  <dc:creator>Customer</dc:creator>
  <dc:description/>
  <dc:language>en-US</dc:language>
  <cp:lastModifiedBy>Admin</cp:lastModifiedBy>
  <dcterms:modified xsi:type="dcterms:W3CDTF">2014-08-12T21:05:27Z</dcterms:modified>
  <cp:revision>19</cp:revision>
  <dc:subject/>
  <dc:title>Слайд 1</dc:title>
</cp:coreProperties>
</file>