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8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4.png" ContentType="image/png"/>
  <Override PartName="/ppt/media/image12.wmf" ContentType="image/x-wmf"/>
  <Override PartName="/ppt/media/image8.png" ContentType="image/png"/>
  <Override PartName="/ppt/media/image13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9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25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9A99-7998-42EA-A01A-D1A480EF4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EE80-A16D-46A4-B7CE-E59B14F93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06D9-0FDC-4224-A2FD-8F9C60A1E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C34C-0401-4DB8-8964-19F91030C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0ECF-D135-4B72-887E-D71371D0A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ECE9-EDAE-44DD-8A4E-A224FC3CD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92E8-DAF6-4E70-93D4-44323BA79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FBE0-D7D3-4C56-9FCA-54C4F33ED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3747-C52E-4209-AB70-DE658A965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08CA-0D1C-4E5C-A11A-510781F8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B1AB-0026-450E-B4DF-0D6E7BA6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0623-B2C1-4529-9299-2DB66C37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7DF84-45BA-406A-883F-28C4BB814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wmf"/><Relationship Id="rId8" Type="http://schemas.openxmlformats.org/officeDocument/2006/relationships/image" Target="../media/image12.wmf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image" Target="../media/image24.png"/><Relationship Id="rId14" Type="http://schemas.openxmlformats.org/officeDocument/2006/relationships/image" Target="../media/image26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image" Target="../media/image22.png"/><Relationship Id="rId18" Type="http://schemas.openxmlformats.org/officeDocument/2006/relationships/image" Target="../media/image23.png"/><Relationship Id="rId19" Type="http://schemas.openxmlformats.org/officeDocument/2006/relationships/image" Target="../media/image24.png"/><Relationship Id="rId20" Type="http://schemas.openxmlformats.org/officeDocument/2006/relationships/image" Target="../media/image25.png"/><Relationship Id="rId21" Type="http://schemas.openxmlformats.org/officeDocument/2006/relationships/image" Target="../media/image24.png"/><Relationship Id="rId22" Type="http://schemas.openxmlformats.org/officeDocument/2006/relationships/image" Target="../media/image26.png"/><Relationship Id="rId23" Type="http://schemas.openxmlformats.org/officeDocument/2006/relationships/image" Target="../media/image27.png"/><Relationship Id="rId2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image" Target="../media/image31.png"/><Relationship Id="rId1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361360" cy="4530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68360" y="1125360"/>
            <a:ext cx="358560" cy="3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7370640" cy="4593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187280" y="1484280"/>
            <a:ext cx="231840" cy="231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2987640" y="2421000"/>
            <a:ext cx="40968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7451640" y="2421000"/>
            <a:ext cx="39996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Нарисуй в тетради и запи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3987720" cy="679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3987720" cy="6775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68360" y="2852640"/>
            <a:ext cx="4032360" cy="6955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468360" y="3789360"/>
            <a:ext cx="4037040" cy="693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468360" y="4724280"/>
            <a:ext cx="4032360" cy="6955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468360" y="5648400"/>
            <a:ext cx="4032360" cy="693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4572000" y="342900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8"/>
          <a:stretch/>
        </p:blipFill>
        <p:spPr>
          <a:xfrm>
            <a:off x="4643280" y="3645000"/>
            <a:ext cx="146160" cy="145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9"/>
          <a:stretch/>
        </p:blipFill>
        <p:spPr>
          <a:xfrm>
            <a:off x="5580000" y="2060640"/>
            <a:ext cx="1662120" cy="438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0"/>
          <a:stretch/>
        </p:blipFill>
        <p:spPr>
          <a:xfrm>
            <a:off x="5580000" y="3068640"/>
            <a:ext cx="1614600" cy="417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1"/>
          <a:stretch/>
        </p:blipFill>
        <p:spPr>
          <a:xfrm>
            <a:off x="5651640" y="4005360"/>
            <a:ext cx="1542960" cy="3985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2"/>
          <a:stretch/>
        </p:blipFill>
        <p:spPr>
          <a:xfrm>
            <a:off x="5580000" y="494172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3"/>
          <a:stretch/>
        </p:blipFill>
        <p:spPr>
          <a:xfrm>
            <a:off x="5724360" y="5805360"/>
            <a:ext cx="1544760" cy="397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4"/>
          <a:stretch/>
        </p:blipFill>
        <p:spPr>
          <a:xfrm>
            <a:off x="7023240" y="0"/>
            <a:ext cx="212076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Состав числа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50920" y="3645000"/>
            <a:ext cx="1171440" cy="9334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762200" y="1197000"/>
            <a:ext cx="1173240" cy="933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49120" y="2349360"/>
            <a:ext cx="1173240" cy="933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1762200" y="2421000"/>
            <a:ext cx="1173240" cy="9334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177840" y="1125360"/>
            <a:ext cx="1173240" cy="9334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1762200" y="3645000"/>
            <a:ext cx="1173240" cy="9334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3346560" y="1700280"/>
            <a:ext cx="2425680" cy="4110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8"/>
          <a:stretch/>
        </p:blipFill>
        <p:spPr>
          <a:xfrm>
            <a:off x="4282920" y="2131920"/>
            <a:ext cx="586080" cy="935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9"/>
          <a:stretch/>
        </p:blipFill>
        <p:spPr>
          <a:xfrm>
            <a:off x="3706920" y="3213000"/>
            <a:ext cx="600120" cy="719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0"/>
          <a:stretch/>
        </p:blipFill>
        <p:spPr>
          <a:xfrm>
            <a:off x="3706920" y="4076640"/>
            <a:ext cx="581040" cy="7207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1"/>
          <a:stretch/>
        </p:blipFill>
        <p:spPr>
          <a:xfrm>
            <a:off x="3706920" y="5013360"/>
            <a:ext cx="576000" cy="719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2"/>
          <a:stretch/>
        </p:blipFill>
        <p:spPr>
          <a:xfrm>
            <a:off x="4803840" y="3213000"/>
            <a:ext cx="560160" cy="719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3"/>
          <a:stretch/>
        </p:blipFill>
        <p:spPr>
          <a:xfrm>
            <a:off x="4788000" y="5013360"/>
            <a:ext cx="576000" cy="719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4"/>
          <a:stretch/>
        </p:blipFill>
        <p:spPr>
          <a:xfrm>
            <a:off x="4714920" y="4076640"/>
            <a:ext cx="633240" cy="720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5"/>
          <a:stretch/>
        </p:blipFill>
        <p:spPr>
          <a:xfrm>
            <a:off x="6210360" y="1700280"/>
            <a:ext cx="2425680" cy="4110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6"/>
          <a:stretch/>
        </p:blipFill>
        <p:spPr>
          <a:xfrm>
            <a:off x="7147080" y="2131920"/>
            <a:ext cx="585720" cy="9352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7"/>
          <a:stretch/>
        </p:blipFill>
        <p:spPr>
          <a:xfrm>
            <a:off x="6570720" y="3213000"/>
            <a:ext cx="600120" cy="719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8"/>
          <a:stretch/>
        </p:blipFill>
        <p:spPr>
          <a:xfrm>
            <a:off x="6570720" y="4076640"/>
            <a:ext cx="581040" cy="720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9"/>
          <a:stretch/>
        </p:blipFill>
        <p:spPr>
          <a:xfrm>
            <a:off x="6570720" y="5013360"/>
            <a:ext cx="576360" cy="7192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0"/>
          <a:stretch/>
        </p:blipFill>
        <p:spPr>
          <a:xfrm>
            <a:off x="7667640" y="3213000"/>
            <a:ext cx="560520" cy="719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1"/>
          <a:stretch/>
        </p:blipFill>
        <p:spPr>
          <a:xfrm>
            <a:off x="7651800" y="5013360"/>
            <a:ext cx="576360" cy="719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2"/>
          <a:stretch/>
        </p:blipFill>
        <p:spPr>
          <a:xfrm>
            <a:off x="7578720" y="4076640"/>
            <a:ext cx="633240" cy="720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3"/>
          <a:stretch/>
        </p:blipFill>
        <p:spPr>
          <a:xfrm>
            <a:off x="1619280" y="4724280"/>
            <a:ext cx="1819080" cy="20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6.66667E-006 L 0.11024 6.66667E-006 E">
                                      <p:cBhvr>
                                        <p:cTn id="105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48148E-006 L -0.11806 -1.48148E-006 E">
                                      <p:cBhvr>
                                        <p:cTn id="109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E-006 -7.40741E-007 L 0.11805 -7.40741E-007 E">
                                      <p:cBhvr>
                                        <p:cTn id="113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7.40741E-007 L -0.11806 -7.40741E-007 E">
                                      <p:cBhvr>
                                        <p:cTn id="117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Какими монетами можно заплатить 6 рублей, если  у тебя такие монет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332000" y="4005360"/>
            <a:ext cx="771480" cy="739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700360" y="4005360"/>
            <a:ext cx="771480" cy="7398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140360" y="4005360"/>
            <a:ext cx="771480" cy="7398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2484360" y="3068640"/>
            <a:ext cx="555840" cy="555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3419640" y="3068640"/>
            <a:ext cx="555480" cy="5554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1547640" y="3068640"/>
            <a:ext cx="555840" cy="555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4284720" y="3068640"/>
            <a:ext cx="555480" cy="5554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8"/>
          <a:stretch/>
        </p:blipFill>
        <p:spPr>
          <a:xfrm>
            <a:off x="611280" y="3068640"/>
            <a:ext cx="555480" cy="5554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9"/>
          <a:stretch/>
        </p:blipFill>
        <p:spPr>
          <a:xfrm>
            <a:off x="5148360" y="3068640"/>
            <a:ext cx="555480" cy="555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0"/>
          <a:stretch/>
        </p:blipFill>
        <p:spPr>
          <a:xfrm>
            <a:off x="2556000" y="5157720"/>
            <a:ext cx="1008000" cy="10461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1"/>
          <a:stretch/>
        </p:blipFill>
        <p:spPr>
          <a:xfrm>
            <a:off x="5435640" y="3933720"/>
            <a:ext cx="354492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68360" y="693720"/>
            <a:ext cx="8372520" cy="55404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484360" y="1125360"/>
            <a:ext cx="325908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6T21:11:21Z</dcterms:created>
  <dc:creator>Света</dc:creator>
  <dc:description/>
  <dc:language>en-US</dc:language>
  <cp:lastModifiedBy>Света</cp:lastModifiedBy>
  <dcterms:modified xsi:type="dcterms:W3CDTF">2014-10-26T22:32:21Z</dcterms:modified>
  <cp:revision>2</cp:revision>
  <dc:subject/>
  <dc:title>Слайд 1</dc:title>
</cp:coreProperties>
</file>