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2E5-C36F-4E86-A53B-3E4DC7AC2D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8566-AC99-4E3C-ABB9-E3533FEC1413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2D6-3FCA-4C28-BCEB-046AFDF0BD72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A0FE-F663-458A-9916-1AA1819D21A2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D84-E0A1-4FF5-9D7F-E787B3413C69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A889-2376-4BD3-BE31-EDD66ED6BAA2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CFE-1DE9-4662-868B-FC362A870CCB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AD3D-A42E-43A1-A6F8-D13E375C9EC5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9AC-A754-41D9-BBF4-32BDDF131B47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3C2-22C1-4CDE-B736-E2443107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1D1-B2FF-4566-8577-DB86422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9E9-42FC-4078-88A1-6B8B9765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E31-19DD-44D4-8E89-10EE4488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686-DC63-453F-BECE-7EF6AC05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B3F-1AD9-457C-AFF5-31E2CEB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5702-FBE1-4CCE-AF72-852B918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B79-19A1-4EE0-9E86-822AF29D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A1B-4B5F-4A38-AC24-0B695E2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3117-A76A-416A-AF39-73A854E2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1AA5-EC2E-4C61-899D-810151B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88E-087B-4136-8A98-5733DE5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340-E531-4413-B52E-0320BDF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DE50-7D9B-42C2-B2DF-E18E059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0C5-7014-4C30-ABE4-2D00685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85F5-AB15-4B47-9624-89EA884C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141B-1D93-4DF1-8868-DA07F198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34AE-6694-4D70-B325-5FB96B0F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F310-39D1-4FE1-A8F7-25739C20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F11B-A71D-4087-BCBB-1D1ED14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4A06-8B67-4E65-97CA-7C75FB2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876B-1EC5-4A32-84C4-5CF926FD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27D-EF01-4C64-88E7-DD9F556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3269-3946-4B8C-B993-BE5DF93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D2A1-301D-47DF-9517-409C6A4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A1DA-63A6-42D6-BE84-6341831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E1DA-5D50-4D2F-AE35-1CF5783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3EFA-5B89-41E9-85B5-A42E8552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BDF4-F3AA-4C35-895D-B6E6F87B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A34F-1C27-4E36-AFC7-08DEE50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0351-673B-41A8-9C2C-CE8424AB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A25A-AF07-497C-99A3-D2837E8D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332A-DA7B-47E3-8188-EA9B5024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8A9-D875-49E1-B78D-07CC1919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B25C-32E3-40E7-B506-10484A31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4394-176F-4E76-BC49-913DE73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6ECF-5507-499B-AFAD-B1913FA7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6B78-74FE-43AB-80A6-FA4B16F5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48C2-5769-4D4F-9452-F199470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597D-C650-4F92-BDCB-B074659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58F2-2311-4C69-9CCF-76279F1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50BB-8057-483D-B41B-9273BD3B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AF3C-8B51-4DFC-8EC5-554C8495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4C8B-486D-4570-B705-E6A1A43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1FC-D08E-44CE-9997-BA1DFD4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2E9A-EF00-469D-A3C9-3AF513A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E96D-D742-43BA-87A8-75A2C2D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DA0D-7911-4075-B06E-4DDFCE8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3D35-6D6E-4F8A-A4B0-D3069166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CC8A-EC92-49B6-93B0-EA86910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13B0-495E-4966-8912-44E9985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08A2-B244-4235-B1F3-2988857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8366F-1BE7-4B26-A3EB-FBFE8AC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8270-889D-4CDC-8DB8-78B3E8E0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DE3E-F482-40AA-BDF6-DCCDA7F5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271-08EC-4AC2-A6EB-B2882209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E170-B7BC-4D4C-8FD4-01713B20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7F670-73C0-4942-8CCE-86CFD160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151C-F3B9-4F25-88BD-DF69A15C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5C29-7110-4D07-9681-8ABA203D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2B27-4434-45B0-90D3-601EA89D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AA21-E029-4C8C-BA43-13748D7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47AF-654F-4E07-AB9C-038B5D4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1732-5653-4E0E-8DC1-CB686AC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AC916-5D32-4F25-B4E1-19B007A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AB86C-AA40-4A5B-BC4D-4C15015E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093-4576-4B6F-80D9-6A1C94C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C1D5-B2F2-409D-A00D-A9D1597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C5D3-9236-4D6A-9C63-09983191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ED5E-4D7E-4129-BE24-60CAAB6D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D4E0E-082A-4D4E-AAFF-0C981823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5730-9DF0-49CF-AE70-C73433C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14CB-EF03-4E26-B7A3-50DC6ED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54DF-A5CC-4464-B548-29996FE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C330-36A4-4983-A2F3-6D4D0BD3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14D44-D3A6-459E-8565-8C48BF3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6C19-4066-4C2F-9904-E50D5F4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FD1-32A4-4F33-9FC4-8ED054E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20BD-CE7A-48FD-9B47-4909A61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50A4-448B-4BC1-82AA-EC41215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ACD2C-DC1E-437E-8A9C-DC845544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9C01-2DFA-45C2-846F-F91BEC7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FD87-548A-4A6C-80DA-A37F5462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8AB65-8557-42F0-BCBF-548760C2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AA4A-4F47-4DDD-90D6-4CFE1C3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F52B5-58BB-4DBB-9488-DE9798C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6C9A-2781-4BE6-A2A1-B84B300C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4A06D-6E0B-475E-B33A-F145A367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E85-24B5-472D-9ABC-6C6CB64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038B-EA32-4C62-831B-85818015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5142-6C92-4AD8-967E-49984D6D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EB13-421E-4349-8B80-8D17361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28D01-7A00-47A0-BD52-AAF61F9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B027-61AC-4D10-9D02-E6E11F8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564C-D6E8-43B6-ABC8-854E9A03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3B66-CA50-411E-845B-81079572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38E6-7620-4954-B11A-052FD9819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9CDD-5357-43B0-87FE-6677791D3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6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7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8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3ADD-5D94-4FE8-97F1-80BC48479BA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5A9-96B8-4419-B512-8BA3BC266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52D-50EE-4B9A-A268-BA01BA078D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2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3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7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7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8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8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38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38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38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38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2DDC-7DE7-4F73-81E4-3010EB0A1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3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4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4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5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6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6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6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B29-82CA-4DCC-BA2A-B2A37993B82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CF2-19AD-4F89-B811-754EC23ADA0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40000" y="-268560"/>
            <a:ext cx="39564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4859280" y="5805360"/>
            <a:ext cx="396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 Black"/>
              </a:rPr>
              <a:t>Выполнила: Новикова О.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 Black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3132000" y="6165720"/>
            <a:ext cx="3168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Arial Black"/>
              </a:rPr>
              <a:t>Магнитогорск</a:t>
            </a:r>
            <a:r>
              <a:rPr b="0" lang="ru-RU" sz="1800" spc="-1" strike="noStrike">
                <a:solidFill>
                  <a:srgbClr val="262673"/>
                </a:solidFill>
                <a:latin typeface="Arial Black"/>
              </a:rPr>
              <a:t> 201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WordArt 13"/>
          <p:cNvSpPr txBox="1"/>
          <p:nvPr/>
        </p:nvSpPr>
        <p:spPr>
          <a:xfrm>
            <a:off x="1258920" y="333360"/>
            <a:ext cx="6481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ащитника Отечеств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5" name="Picture 15" descr="631263271"/>
          <p:cNvPicPr/>
          <p:nvPr/>
        </p:nvPicPr>
        <p:blipFill>
          <a:blip r:embed="rId3"/>
          <a:stretch/>
        </p:blipFill>
        <p:spPr>
          <a:xfrm>
            <a:off x="1619280" y="1197000"/>
            <a:ext cx="5689440" cy="42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000" y="285840"/>
            <a:ext cx="807732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7" name="Picture 19" descr="soviet-army-20"/>
          <p:cNvPicPr/>
          <p:nvPr/>
        </p:nvPicPr>
        <p:blipFill>
          <a:blip r:embed="rId1"/>
          <a:stretch/>
        </p:blipFill>
        <p:spPr>
          <a:xfrm>
            <a:off x="755640" y="1700280"/>
            <a:ext cx="4000680" cy="4914720"/>
          </a:xfrm>
          <a:prstGeom prst="rect">
            <a:avLst/>
          </a:prstGeom>
          <a:ln w="0">
            <a:noFill/>
          </a:ln>
        </p:spPr>
      </p:pic>
      <p:pic>
        <p:nvPicPr>
          <p:cNvPr id="578" name="popup_img" descr="forma%5Fmorjakov%5Fsecretworlds"/>
          <p:cNvPicPr/>
          <p:nvPr/>
        </p:nvPicPr>
        <p:blipFill>
          <a:blip r:embed="rId2"/>
          <a:stretch/>
        </p:blipFill>
        <p:spPr>
          <a:xfrm rot="20911800">
            <a:off x="5219280" y="1773360"/>
            <a:ext cx="2228760" cy="1628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2" descr="th?id=H"/>
          <p:cNvPicPr/>
          <p:nvPr/>
        </p:nvPicPr>
        <p:blipFill>
          <a:blip r:embed="rId3"/>
          <a:stretch/>
        </p:blipFill>
        <p:spPr>
          <a:xfrm rot="866400">
            <a:off x="5292720" y="378900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580" name="WordArt 23"/>
          <p:cNvSpPr txBox="1"/>
          <p:nvPr/>
        </p:nvSpPr>
        <p:spPr>
          <a:xfrm>
            <a:off x="1763640" y="404640"/>
            <a:ext cx="540216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енные професси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340000" y="220464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ницу держишь ты на зам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Родины сон бережеш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пограничник, ты как на войн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чью глаз не сомкн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opup_img" descr="984dada94d59b46305aed12dc16f5c35"/>
          <p:cNvPicPr/>
          <p:nvPr/>
        </p:nvPicPr>
        <p:blipFill>
          <a:blip r:embed="rId2"/>
          <a:stretch/>
        </p:blipFill>
        <p:spPr>
          <a:xfrm>
            <a:off x="4211640" y="260280"/>
            <a:ext cx="1944720" cy="156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2053"/>
          <p:cNvPicPr/>
          <p:nvPr/>
        </p:nvPicPr>
        <p:blipFill>
          <a:blip r:embed="rId3"/>
          <a:stretch/>
        </p:blipFill>
        <p:spPr>
          <a:xfrm>
            <a:off x="6300720" y="3429000"/>
            <a:ext cx="284328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WordArt 15"/>
          <p:cNvSpPr txBox="1"/>
          <p:nvPr/>
        </p:nvSpPr>
        <p:spPr>
          <a:xfrm>
            <a:off x="250920" y="33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раничник</a:t>
            </a:r>
            <a:endParaRPr b="1" lang="en-US" sz="44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5" name="Picture 17" descr="i?id=1799858-65-72&amp;n=21"/>
          <p:cNvPicPr/>
          <p:nvPr/>
        </p:nvPicPr>
        <p:blipFill>
          <a:blip r:embed="rId4"/>
          <a:stretch/>
        </p:blipFill>
        <p:spPr>
          <a:xfrm>
            <a:off x="6300720" y="620640"/>
            <a:ext cx="2843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9" descr="1196184397_xakep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5769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0" y="1773360"/>
            <a:ext cx="4038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сантники в мину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ускаются с небе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путав парашют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чешут темный лес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враги, горы и луг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ут опасного враг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8" name="popup_img" descr="2d965d8127ea67b7c6eb046431844409"/>
          <p:cNvPicPr/>
          <p:nvPr/>
        </p:nvPicPr>
        <p:blipFill>
          <a:blip r:embed="rId2"/>
          <a:stretch/>
        </p:blipFill>
        <p:spPr>
          <a:xfrm>
            <a:off x="0" y="260280"/>
            <a:ext cx="3059280" cy="2664000"/>
          </a:xfrm>
          <a:prstGeom prst="rect">
            <a:avLst/>
          </a:prstGeom>
          <a:ln w="0">
            <a:noFill/>
          </a:ln>
        </p:spPr>
      </p:pic>
      <p:sp>
        <p:nvSpPr>
          <p:cNvPr id="589" name="WordArt 27"/>
          <p:cNvSpPr txBox="1"/>
          <p:nvPr/>
        </p:nvSpPr>
        <p:spPr>
          <a:xfrm>
            <a:off x="4643280" y="404640"/>
            <a:ext cx="381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сантник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90" name="Picture 32" descr="soviet-army-23"/>
          <p:cNvPicPr/>
          <p:nvPr/>
        </p:nvPicPr>
        <p:blipFill>
          <a:blip r:embed="rId3"/>
          <a:stretch/>
        </p:blipFill>
        <p:spPr>
          <a:xfrm>
            <a:off x="0" y="3789360"/>
            <a:ext cx="3059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9" descr="i?id=149877841-49-72&amp;n=21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i?id=131249229-57-72&amp;n=21"/>
          <p:cNvPicPr/>
          <p:nvPr/>
        </p:nvPicPr>
        <p:blipFill>
          <a:blip r:embed="rId2"/>
          <a:stretch/>
        </p:blipFill>
        <p:spPr>
          <a:xfrm>
            <a:off x="0" y="141300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5"/>
          <p:cNvSpPr txBox="1"/>
          <p:nvPr/>
        </p:nvSpPr>
        <p:spPr>
          <a:xfrm>
            <a:off x="324000" y="260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нкист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4" name="Picture 6" descr="00999638697274"/>
          <p:cNvPicPr/>
          <p:nvPr/>
        </p:nvPicPr>
        <p:blipFill>
          <a:blip r:embed="rId5"/>
          <a:stretch/>
        </p:blipFill>
        <p:spPr>
          <a:xfrm>
            <a:off x="0" y="4292640"/>
            <a:ext cx="2627280" cy="2565360"/>
          </a:xfrm>
          <a:prstGeom prst="rect">
            <a:avLst/>
          </a:prstGeom>
          <a:ln w="0">
            <a:noFill/>
          </a:ln>
        </p:spPr>
      </p:pic>
      <p:pic>
        <p:nvPicPr>
          <p:cNvPr id="595" name="popup_img" descr="cards-2v-9"/>
          <p:cNvPicPr/>
          <p:nvPr/>
        </p:nvPicPr>
        <p:blipFill>
          <a:blip r:embed="rId6"/>
          <a:stretch/>
        </p:blipFill>
        <p:spPr>
          <a:xfrm>
            <a:off x="6516720" y="333360"/>
            <a:ext cx="2232000" cy="215892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8"/>
          <p:cNvSpPr/>
          <p:nvPr/>
        </p:nvSpPr>
        <p:spPr>
          <a:xfrm>
            <a:off x="4859280" y="4076640"/>
            <a:ext cx="403848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зде, как будто вездеход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гусеницах  танк пройдет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вол орудийный впереди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асно, враг, не подходи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нк прочной защищен брон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может встретить бой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3" descr="i?id=214562437-5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95280" y="141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металлическую пт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нимет в обла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воздушная гра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ежна и креп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opup_img" descr="253de9f590ea28404af8dc102c9c69cb"/>
          <p:cNvPicPr/>
          <p:nvPr/>
        </p:nvPicPr>
        <p:blipFill>
          <a:blip r:embed="rId2"/>
          <a:stretch/>
        </p:blipFill>
        <p:spPr>
          <a:xfrm>
            <a:off x="5508720" y="333360"/>
            <a:ext cx="3240000" cy="2519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th?id=H"/>
          <p:cNvPicPr/>
          <p:nvPr/>
        </p:nvPicPr>
        <p:blipFill>
          <a:blip r:embed="rId3"/>
          <a:stretch/>
        </p:blipFill>
        <p:spPr>
          <a:xfrm>
            <a:off x="5435640" y="3284640"/>
            <a:ext cx="3313080" cy="3168720"/>
          </a:xfrm>
          <a:prstGeom prst="rect">
            <a:avLst/>
          </a:prstGeom>
          <a:ln w="0">
            <a:noFill/>
          </a:ln>
        </p:spPr>
      </p:pic>
      <p:pic>
        <p:nvPicPr>
          <p:cNvPr id="602" name="popup_img" descr="23feb-brizgunov"/>
          <p:cNvPicPr/>
          <p:nvPr/>
        </p:nvPicPr>
        <p:blipFill>
          <a:blip r:embed="rId4"/>
          <a:stretch/>
        </p:blipFill>
        <p:spPr>
          <a:xfrm>
            <a:off x="468360" y="407664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603" name="WordArt 14"/>
          <p:cNvSpPr txBox="1"/>
          <p:nvPr/>
        </p:nvSpPr>
        <p:spPr>
          <a:xfrm>
            <a:off x="1332000" y="476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тчик</a:t>
            </a:r>
            <a:endParaRPr b="1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2" descr="i?id=352337418-13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42920" y="1052640"/>
            <a:ext cx="403884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вная картин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 из глуб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ьная субмари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удто бы дельфин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ники в ней служат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и там, и т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водной гладью кружа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цу берегу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opup_img" descr="88d21858eba3740ff26e975aee8b7612"/>
          <p:cNvPicPr/>
          <p:nvPr/>
        </p:nvPicPr>
        <p:blipFill>
          <a:blip r:embed="rId2"/>
          <a:stretch/>
        </p:blipFill>
        <p:spPr>
          <a:xfrm>
            <a:off x="0" y="476280"/>
            <a:ext cx="3168720" cy="2367000"/>
          </a:xfrm>
          <a:prstGeom prst="rect">
            <a:avLst/>
          </a:prstGeom>
          <a:ln w="0">
            <a:noFill/>
          </a:ln>
        </p:spPr>
      </p:pic>
      <p:pic>
        <p:nvPicPr>
          <p:cNvPr id="608" name="IFid11" descr="Подлодка в заливе"/>
          <p:cNvPicPr/>
          <p:nvPr/>
        </p:nvPicPr>
        <p:blipFill>
          <a:blip r:embed="rId3"/>
          <a:stretch/>
        </p:blipFill>
        <p:spPr>
          <a:xfrm>
            <a:off x="0" y="3357720"/>
            <a:ext cx="3348000" cy="2663640"/>
          </a:xfrm>
          <a:prstGeom prst="rect">
            <a:avLst/>
          </a:prstGeom>
          <a:ln w="0">
            <a:noFill/>
          </a:ln>
        </p:spPr>
      </p:pic>
      <p:sp>
        <p:nvSpPr>
          <p:cNvPr id="609" name="WordArt 23"/>
          <p:cNvSpPr txBox="1"/>
          <p:nvPr/>
        </p:nvSpPr>
        <p:spPr>
          <a:xfrm>
            <a:off x="3276720" y="476280"/>
            <a:ext cx="4464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одник</a:t>
            </a:r>
            <a:endParaRPr b="1" lang="en-US" sz="4000" spc="1" strike="noStrike">
              <a:ln w="0">
                <a:noFill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лужу Росси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C:\Users\Тёмка\Desktop\images (1).jpg"/>
          <p:cNvPicPr/>
          <p:nvPr/>
        </p:nvPicPr>
        <p:blipFill>
          <a:blip r:embed="rId1"/>
          <a:stretch/>
        </p:blipFill>
        <p:spPr>
          <a:xfrm>
            <a:off x="755640" y="1916280"/>
            <a:ext cx="705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5:45:31Z</dcterms:created>
  <dc:creator>user</dc:creator>
  <dc:description/>
  <dc:language>en-US</dc:language>
  <cp:lastModifiedBy>Тёмка</cp:lastModifiedBy>
  <dcterms:modified xsi:type="dcterms:W3CDTF">2014-10-26T15:50:41Z</dcterms:modified>
  <cp:revision>9</cp:revision>
  <dc:subject/>
  <dc:title>Слайд 1</dc:title>
</cp:coreProperties>
</file>