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4D8A-3824-4E40-8A5C-7A47979C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3C45-BEDF-4F55-B655-59DC2312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502C-3760-4C88-B507-2FF59369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5EB2-FE3E-42AA-AABA-79F67867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180E-7B2E-4731-AC24-DBD0C386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257-4233-444E-8142-7D349C9D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3624-7AE4-44F1-910A-11E86F3F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04F5-FDFE-49CC-9239-385390E9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164F-808D-412A-89C6-60E4AB3A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9E2B-5BFB-400C-A0F7-2B167147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7D5-69AC-4163-BF8F-1C639B42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72C4-006D-4EE3-922A-DBE3458F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A818-F0A2-42B3-96BC-E5B076B28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едеральный закон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оссийской Федераци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"О защите детей от информации, причиняющей вред их здоровью и развитию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е  телевизионные каналы, программы, мультфильмы чаще всего смотрит Ваш ребенок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0920" y="1484280"/>
          <a:ext cx="8713800" cy="5373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84280"/>
                    <a:ext cx="871380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70581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бы ты выбрал: поиграть с мамой и папой или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мотреть телевизор, фильмы на компьютер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1484280"/>
          <a:ext cx="8856720" cy="5195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484280"/>
                    <a:ext cx="885672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55436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евизионные пристраст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50920" y="1773360"/>
          <a:ext cx="8713800" cy="4824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773360"/>
                    <a:ext cx="87138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 мальчи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-па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бка Б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пашки Ниндз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дагаск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ездные во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рри Пот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рон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меди Кла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 девоче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нг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боск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урф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ша и Медв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пунц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8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9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дается ли Вам контролировать телевизионные пристрастия вашего малыша? Что мешает вам осуществлять контрол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95280" y="1773360"/>
          <a:ext cx="8497800" cy="4843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773360"/>
                    <a:ext cx="84978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4140360" y="3284640"/>
            <a:ext cx="448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шает занят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всегда успеваю за сменой передач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тестует, настаивает на игре на компьюте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ма удается, у бабушек -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сть ли программы, мультфильмы которые смотрит ребенок без Вашего согласия, или Вы не совсем одобряете его выбо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9280" y="1557360"/>
          <a:ext cx="8640720" cy="5099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557360"/>
                    <a:ext cx="8640720" cy="50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900000" y="1844640"/>
            <a:ext cx="415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бка Б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мультфильмы на Дис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elodeon, Cartoon Networ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j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*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ши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странные с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орони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ле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4360" y="1125000"/>
            <a:ext cx="4546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 смотрите телевизо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0920" y="1557360"/>
          <a:ext cx="8642160" cy="5113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557360"/>
                    <a:ext cx="864216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колько времени смотрит телевизор ваш ребенок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течение дн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9280" y="1773360"/>
          <a:ext cx="8856720" cy="4824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773360"/>
                    <a:ext cx="885672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836280"/>
            <a:ext cx="44658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 считаете, что телевиде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1341360"/>
          <a:ext cx="8964720" cy="5338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41360"/>
                    <a:ext cx="896472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2000" y="1052640"/>
            <a:ext cx="691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становлены ли средства защиты на телевизор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5280" y="1628640"/>
          <a:ext cx="8353440" cy="4896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628640"/>
                    <a:ext cx="835344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332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тья 2. Основные понятия, используемые в настоящем Федеральном зак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информационная безопасность детей - состояние защищенности детей, при котором отсутствует риск, связанный с причинением информацией вреда их здоровью и (или) физическому, психическому, духовному, нравственному развит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информационная продукция для детей - информационная продукция, соответствующая по тематике, содержанию и художественному оформлению физическому, психическому, духовному и нравственному развитию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) информация, причиняющая вред здоровью и (или) развитию детей, - информация (в том числе содержащаяся в информационной продукции для детей), распространение которой среди детей запрещено или ограничено в соответствии с настоящим Федеральным закон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) натуралистические изображение или описание - изображение или описание в любой форме и с использованием любых средств человека, животного, отдельных частей тела человека и (или) животного, действия (бездействия), события, явления, их последствий с фиксированием внимания на деталях, анатомических подробностях и (или) физиологических процесс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85104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тья 5. Виды информации, причиняющей вред здоровью и (или) развитию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К информации, запрещенной для распространения среди детей, относится информ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побуждающая детей к совершению действий, представляющих угрозу их жизни и (или) здоровью, в том числе к причинению вреда своему здоровью, самоубийств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способная вызвать у детей желание употребить наркотические средства, психотропные и (или) одурманивающие вещества, табачные изделия, алкогольную и спиртосодержащую продукцию, пиво и напитки, изготавливаемые на его основе, принять участие в азартных играх, заниматься проституцией, бродяжничеством или попрошайничеств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обосновывающая или оправдывающая допустимость насилия и (или) жестокости либо побуждающая осуществлять насильственные действия по отношению к людям или животным, за исключением случаев, предусмотренных настоящим Федеральным закон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отрицающая семейные ценности и формирующая неуважение к родителям и (или) другим членам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оправдывающая противоправное повед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содержащая нецензурную бра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) содержащая информацию порнографического харак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420640"/>
            <a:ext cx="8362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К информации, распространение которой среди детей определенных возрастных категорий ограничено, относится информ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представляемая в виде изображения или описания жестокости, физического и (или) психического насилия, преступления или иного антиобщественного дей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вызывающая у детей страх, ужас или панику, в том числе представляемая в виде изображения или описания в унижающей человеческое достоинство форме ненасильственной смерти, заболевания, самоубийства, несчастного случая, аварии или катастрофы и (или) их последств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представляемая в виде изображения или описания половых отношений между мужчиной и женщи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содержащая бранные слова и выражения, не относящиеся к нецензурной бр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780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тья 7. Информационная продукция для детей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достигших возраста шести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3141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информационной продукции для детей, не достигших возраста шести лет, может быть отнесена информационная продукция, содержащая информацию, не причиняющую вреда здоровью и (или) развитию детей (в том числе информационная продукция, содержащая оправданные ее жанром и (или) сюжетом эпизодические ненатуралистические изображение или описание физического и (или) психического насилия (за исключением сексуального насилия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условии торжества добра над злом и выражения сострадания к жертве насилия и (или) осуждения насил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тья 8. Информационная продукция для детей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стигших возраста шести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допускаемой к обороту информационной продукции для детей, достигших возраста шести лет, может быть отнесена информационная продукция, предусмотренная статьей 7 настоящего Федерального закона, а также информационная продукция, содержащая оправданные ее жанром и (или) сюже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кратковременные и ненатуралистические изображение или описание заболеваний человека (за исключением тяжелых заболеваний) и (или) их последстви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форме, не унижающей человеческого достоин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ненатуралистические изображение или описание несчастного случая, аварии, катастрофы либо ненасильственной смерт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ез демонстрации их последствий, которые могут вызывать у детей страх, ужас или пани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не побуждающие к совершению антиобщественных действий и (или) преступлений эпизодические изображение или описание этих действий и (или) преступлений при условии, что не обосновывается и не оправдывается их допустимость и выражается отрицательное, осуждающее отношение к лицам, их совершаю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33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тья 9. Информационная продукция для детей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стигших возраста двенадцати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0312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эпизодические изображение или описание жестокости и (или) насилия (за исключением сексуального насилия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ез натуралистического показа процесса лишения жизни или нанесения увечий при условии, что выражается сострадание к жертве и (или) отрицательное, осуждающее отношение к жестокости, насили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за исключением насилия, применяемого в случаях защиты прав граждан и охраняемых законом интересов общества или государств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изображение или описание, не побуждающие к совершению антиобщественных действий (в том числе к потреблению алкогольной и спиртосодержащей продукции, пива и напитков, изготавливаемых на его основе, участию в азартных играх, занятию бродяжничеством или попрошайничеством), эпизодическое упоминание (без демонстрации) наркотических средств, психотропных и (или) одурманивающих веществ, табачных изделий при условии, чт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 обосновывается и не оправдывается допустимость антиобщественных действий, выражается отрицательное, осуждающее отношение к ним и содержится указание на опасность потребления указанных продукции, средств, веществ, издел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) не эксплуатирующие интереса к сексу и не носящие возбуждающего или оскорбительного характера эпизодические ненатуралистические изображение или описание половых отношений между мужчиной и женщиной, за исключением изображения или описания действий сексуального характ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998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лава 3. Требования к обороту информационной продукции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тья 11. Общие требования к обороту информационной прод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120920"/>
            <a:ext cx="822960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В присутствии родителей или иных законных представителей детей, достигших возраста шести лет, допускается оборот информационной продукции, предусмотренной статьей 9 настоящего Федерального зак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тья 16. Дополнительные требования к обороту информационной продукции, запрещенной для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0312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Первая и последняя полосы газеты, обложка экземпляра печатной продукции, иной полиграфической продукции, запрещенной для детей, при распространении для неопределенного круга лиц в местах, доступных для детей, не должны содержать информацию, причиняющую вред здоровью и (или) развитию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Информационная продукция, запрещенная для детей, в виде печатной продукции допускается к распространению в местах, доступных для детей, только в запечатанных упаков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Информационная продукция, запрещенная для детей, не допускается к распространению в предназначенных для детей образовательных организациях, детских медицинских, санаторно-курортных, физкультурно-спортивных организациях, организациях культуры, организациях отдыха и оздоровления детей или на расстоянии менее чем сто метров от границ территорий указанных орган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11:20:46Z</dcterms:created>
  <dc:creator>Acer</dc:creator>
  <dc:description/>
  <dc:language>en-US</dc:language>
  <cp:lastModifiedBy>Acer</cp:lastModifiedBy>
  <dcterms:modified xsi:type="dcterms:W3CDTF">2013-11-10T12:19:34Z</dcterms:modified>
  <cp:revision>27</cp:revision>
  <dc:subject/>
  <dc:title>Федеральный закон Российской Федерации от 29 декабря 2010 г. N 436-ФЗ "О защите детей от информации, причиняющей вред их здоровью и развитию" </dc:title>
</cp:coreProperties>
</file>