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BA6-FA1C-4682-9CB0-D780A3DE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E29-4535-4E06-B088-5A5FEE0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286-DE7C-4F81-9C80-E34117EF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DCC-F2D8-4EF7-8F79-2EAA6384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498-C64E-49C8-81A4-1176C22B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1701-AEE4-44E2-866F-52EDBDFA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5125-AAE2-49EA-A516-F60C7566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C002-BBEC-4513-BCBE-84657D67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6402-D585-441C-8279-254B26C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C62F-CBF3-40B6-88C8-8A0B75E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920D-04DF-4950-AA60-44AD7C3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319-1346-4F72-81A6-2FE34A5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84B9-1222-4679-827D-32F5359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BD4C-F391-4E51-97B9-71AC004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1942-7DF9-408C-AD98-02B14F83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E8B0-A04A-45F9-962C-3458E685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81B-FB4B-4F71-BD0E-62B948B5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C9C5B-AA95-4EAF-B323-61DA2119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BB5DE-7787-461D-AEE6-1125C5E8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3621E-AA20-4111-A23A-1CAB76D1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2BB5C-C127-4156-B86F-9A4AFFF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D1DBB-8465-4AB2-BDB4-51C93364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B45-99B8-4A96-BA2D-2A075A91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9778E-707B-4B08-96B6-844EBC3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BE943-A155-4BAB-9D15-D7D1472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2B2B4-CB15-46FD-A145-5100FCF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7875B-3896-4995-AAFD-C86A9AA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262D4-9E78-4F26-8104-822728E2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43D4E-5AF8-4AD2-B097-D2AD1D63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A58D1-25E6-4049-9DCF-644C0CA9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988C-8B2C-4EE6-9A76-5EEAD7F6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E3E8-8D04-4172-A8A8-9D47A30A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556B-4D7B-42C1-BAFA-CB39B86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EE7-00AD-4A59-BE43-300217D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AEE65-C191-4DAB-895F-554CCED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9236-7A43-47B5-9C97-9E6763F3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59A2-34DD-43AD-95A0-EE90CB11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89D8-42B5-45A2-857B-741FB0C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B757-86EC-4752-9A75-8EA794D3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641C-8135-47E3-9A11-E477A471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733A-DD9A-41B9-9054-B867917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7DEA-A157-4187-B59C-9F501BFA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C147-0689-4090-8124-790202C8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538CC-21CB-4CFE-8793-E9118579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CE0-61A5-4998-BC05-2FC2B8FA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515B2-DB51-4170-B5C7-E9CDF83C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793F6-788E-491B-BA4F-3EE99A4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9A563-0C9F-4CA2-A203-57708462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EA566-D402-4CA1-B83E-07D33D4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2600F-04FE-4F16-9E29-3A312E3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CE124-0034-4DB4-8765-17AA825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79A79-F391-485E-BA12-D141EBB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53155-C223-40FF-8F36-E5541A2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3663F-1321-49DB-97CA-29828303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992E9-1063-4C70-967B-BC38A8F3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69C-6EBE-470D-867A-40A9AC8C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7FBED-2E85-4754-9C6F-40D4DFA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E53C9-98B1-4519-B510-414FD1C9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4B6FA-F6D0-40BC-ADAF-89746CCE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0105F-722A-4F72-A3BE-A22B26F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A59FB-968E-4FF1-A3FD-53B46EDE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BA6F5-5D0B-4960-B1CA-A094CE4C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00273-094B-4D21-8B54-5D8A980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44A56-9FB2-4918-A62A-B0DA023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CE1FC-49D9-4F6C-98F9-E1ACA94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DD145-6B78-4A34-B072-296692B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E79-F8E3-4ABA-855F-DB48BDE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44575-AFCF-412F-9529-20279A48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BCFDA-B658-4677-9199-B5117A12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F769D-488D-4E1B-8C95-5335A165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41E59-5A39-42D9-9354-97A13038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5DE62-7BA2-4284-BCDE-EA037A43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52D10-676D-43B1-9781-AA8672DC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3897D-428E-40AC-A221-59DC7703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2E8D1-8718-43D7-9D26-7666CD4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B331E-B0D3-4A00-9E0B-3213240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69E4C-A2BB-4AF7-B963-5FF6D8B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761-8F8B-4494-8D47-A3D4E2B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9081E-6A33-4665-9491-5EC52CE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7679B-3559-488A-BC71-80BC766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BF2AC-6450-46D0-AF47-23F93B74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1D45D-3EE9-4F48-8C42-586FDD94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0655D-795A-4223-8C43-C5A86684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7AC-6755-4F99-97FE-826049C5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DBC9-3A7A-4FAB-A089-955CE19F4D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67E-EF66-4BF5-857E-6B1E763B68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7C22-A5B0-4614-88A7-18EAF04C8F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2ED-1997-47FC-8752-FC0E702596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5CA8-254A-442A-A48F-23D6492233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6F38-FDA7-4379-8444-22E8ACF21D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8C95-AFF7-40BF-92B9-EF31CF8D29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341000"/>
            <a:ext cx="83628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(«штиль»)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мый для написания эпиграмм, комедий и дружеских писе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ысок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редн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изк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341000"/>
            <a:ext cx="8353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(«штиль»), состоящий преимущественно из «российских речений» с небольшой примесью «славянских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ысок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редн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изк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000" y="1341000"/>
            <a:ext cx="83516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лирическому роду литературы относится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омед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а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ассказ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95280" y="1196640"/>
            <a:ext cx="8353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, используемый в строке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не понятно, что все люди на Земле равны?! Кому не понятно, что род человеческий един?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эпифора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нафора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нтитез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5280" y="1196640"/>
            <a:ext cx="8353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, используемый в строке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хотелось бы знать, отчего я титулярный советник? Почему именно титулярный советник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эпифора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нафора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нтитез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23640" y="1052280"/>
            <a:ext cx="83516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ите «штиль» (стиль), используемый в строках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ились вместе два Астронома в пиру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рили весьма между собой в жару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твердил: земля, вертясь, круг Солнца ходит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, что Солнце все с собой планеты водит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оперник был, другой слыл Птолеме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повар спор решил усмешкою свое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ин спрашивал: "Ты звезд теченье знаешь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, как ты о сем сомненье рассуждаешь?"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ал такой ответ: "Что в том Коперник прав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авду докажу, на Солнце не бывав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идел простака из поваров такого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бы вертел очаг кругом жаркого?"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15:15:45Z</dcterms:created>
  <dc:creator>Владимир</dc:creator>
  <dc:description/>
  <dc:language>en-US</dc:language>
  <cp:lastModifiedBy>Владимир</cp:lastModifiedBy>
  <dcterms:modified xsi:type="dcterms:W3CDTF">2014-10-27T14:44:34Z</dcterms:modified>
  <cp:revision>22</cp:revision>
  <dc:subject/>
  <dc:title>М.В. Ломоносов.  Теория  о «трех штилях». Мысли о просвещении.</dc:title>
</cp:coreProperties>
</file>