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E7EF-FE50-4964-A660-551C6859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24D8-4E9A-4319-947A-09603FC8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C53E-BB44-4A08-8033-8FC8E506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6518-427A-4E91-9FDC-9BB46782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955-5F33-42CD-B338-7A64E2FF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BCE6-B901-4924-AFCE-4EAF4BC1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B370-19EB-462A-859D-45D778D0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2C44-A1FA-4AF2-970D-3DD8ECEC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52C8-B706-447D-A4C7-223B4723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8EFB-5788-4BE5-883C-6CC80DB2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312A-C949-4804-8958-E793F132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5BAB-598E-4115-BF9E-98C4ACBC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9D03-4759-4B44-B13D-21713C63FF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Горизонтальный свиток 3"/>
          <p:cNvSpPr/>
          <p:nvPr/>
        </p:nvSpPr>
        <p:spPr>
          <a:xfrm>
            <a:off x="285840" y="214200"/>
            <a:ext cx="8429400" cy="271476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928880"/>
          </a:xfrm>
          <a:prstGeom prst="rect">
            <a:avLst/>
          </a:prstGeom>
          <a:noFill/>
          <a:ln cap="rnd" w="9360">
            <a:solidFill>
              <a:srgbClr val="31859c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ИГРЫ ПО ТРИЗ ДЛЯ ДЕТЕЙ МЛАДШЕГО ДОШКОЛЬНОГО ВОЗРАСТА</a:t>
            </a:r>
            <a:br>
              <a:rPr sz="3200"/>
            </a:b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(Кольца Лулл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57240">
            <a:solidFill>
              <a:srgbClr val="0070c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ила: Боровкова Галина Ильинична – воспитатель ГБДО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 Кировского района г.СП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Вертикальный свиток 4"/>
          <p:cNvSpPr/>
          <p:nvPr/>
        </p:nvSpPr>
        <p:spPr>
          <a:xfrm>
            <a:off x="0" y="285840"/>
            <a:ext cx="3857760" cy="607212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268596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«</a:t>
            </a: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НАЙДИ ФИГУРУ» ФЭМП 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ОО «Познавательное развитие»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300816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ХОД: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Детям предлагается подобрать картинки из геометрических фигур, которых не хватает в сектор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I </a:t>
            </a: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вариант: найти подходящую геометрическую фигур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II</a:t>
            </a: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 вариант: найти геометрическую фигуру в цвет секто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C:\Documents and Settings\Константин\Рабочий стол\фот\625.JPG"/>
          <p:cNvPicPr/>
          <p:nvPr/>
        </p:nvPicPr>
        <p:blipFill>
          <a:blip r:embed="rId2"/>
          <a:stretch/>
        </p:blipFill>
        <p:spPr>
          <a:xfrm>
            <a:off x="3857760" y="1511280"/>
            <a:ext cx="482904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Вертикальный свиток 4"/>
          <p:cNvSpPr/>
          <p:nvPr/>
        </p:nvSpPr>
        <p:spPr>
          <a:xfrm>
            <a:off x="0" y="214200"/>
            <a:ext cx="3857760" cy="621504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300816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«НАЗОВИ ФОРМУ» ФЭМП 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ОО «Познавательное развити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42760"/>
            <a:ext cx="282888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ХОД: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Детям предлагается подобрать пару: предмет - форма (на какую геометрическую фигуру похож предмет) и назвать е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C:\Documents and Settings\Константин\Рабочий стол\фот\629.JPG"/>
          <p:cNvPicPr/>
          <p:nvPr/>
        </p:nvPicPr>
        <p:blipFill>
          <a:blip r:embed="rId2"/>
          <a:stretch/>
        </p:blipFill>
        <p:spPr>
          <a:xfrm>
            <a:off x="3575160" y="1282680"/>
            <a:ext cx="511164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Вертикальный свиток 6"/>
          <p:cNvSpPr/>
          <p:nvPr/>
        </p:nvSpPr>
        <p:spPr>
          <a:xfrm>
            <a:off x="-142920" y="571680"/>
            <a:ext cx="4071960" cy="550044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72520"/>
            <a:ext cx="3179520" cy="251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2400"/>
            </a:b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«</a:t>
            </a: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НАЗОВИ, СКОЛЬКО»</a:t>
            </a:r>
            <a:br>
              <a:rPr sz="2000"/>
            </a:br>
            <a:r>
              <a:rPr b="1" i="1" lang="ru-RU" sz="2200" spc="-1" strike="noStrike">
                <a:solidFill>
                  <a:srgbClr val="7030a0"/>
                </a:solidFill>
                <a:latin typeface="Calibri"/>
              </a:rPr>
              <a:t> ФЭМП </a:t>
            </a:r>
            <a:br>
              <a:rPr sz="22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ОО «Познавательное развитие»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785680"/>
            <a:ext cx="300816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Calibri"/>
              </a:rPr>
              <a:t>ХОД:</a:t>
            </a:r>
            <a:r>
              <a:rPr b="0" lang="ru-RU" sz="2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Детям предлагается подобрать картинки, где количество предметов соответствует определенной цифр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C:\Documents and Settings\Константин\Рабочий стол\фот\624.JPG"/>
          <p:cNvPicPr/>
          <p:nvPr/>
        </p:nvPicPr>
        <p:blipFill>
          <a:blip r:embed="rId2"/>
          <a:stretch/>
        </p:blipFill>
        <p:spPr>
          <a:xfrm>
            <a:off x="3929040" y="1494000"/>
            <a:ext cx="475776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Вертикальный свиток 4"/>
          <p:cNvSpPr/>
          <p:nvPr/>
        </p:nvSpPr>
        <p:spPr>
          <a:xfrm>
            <a:off x="0" y="357120"/>
            <a:ext cx="3786120" cy="5572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20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«НАЗОВИ ЦВЕТ»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 ФЭМП 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ОО «Познавательное развити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300816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ХОД: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Детям предлагается подобрать пару: предмет – цвет (каким цветом данный предмет) и назвать 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C:\Documents and Settings\Константин\Рабочий стол\фот\628.JPG"/>
          <p:cNvPicPr/>
          <p:nvPr/>
        </p:nvPicPr>
        <p:blipFill>
          <a:blip r:embed="rId2"/>
          <a:stretch/>
        </p:blipFill>
        <p:spPr>
          <a:xfrm>
            <a:off x="3575160" y="1282680"/>
            <a:ext cx="511164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Вертикальный свиток 4"/>
          <p:cNvSpPr/>
          <p:nvPr/>
        </p:nvSpPr>
        <p:spPr>
          <a:xfrm>
            <a:off x="0" y="357120"/>
            <a:ext cx="3857760" cy="607212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642960"/>
            <a:ext cx="335736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«ОПАСНЫЕ ПРЕДМЕТЫ» БЕЗОПАСНОСТЬ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ОО «Социально- коммуникативное развити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30081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Calibri"/>
              </a:rPr>
              <a:t>ХОД:</a:t>
            </a:r>
            <a:r>
              <a:rPr b="0" lang="ru-RU" sz="2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Детям предлагается подобрать картинки к знакам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-зеленый знак- предмет можно брать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-красный знак- предмет опасный и его брать нельзя (почему?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C:\Documents and Settings\Константин\Рабочий стол\фот\627.JPG"/>
          <p:cNvPicPr/>
          <p:nvPr/>
        </p:nvPicPr>
        <p:blipFill>
          <a:blip r:embed="rId2"/>
          <a:stretch/>
        </p:blipFill>
        <p:spPr>
          <a:xfrm>
            <a:off x="3575160" y="1282680"/>
            <a:ext cx="511164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Вертикальный свиток 4"/>
          <p:cNvSpPr/>
          <p:nvPr/>
        </p:nvSpPr>
        <p:spPr>
          <a:xfrm>
            <a:off x="0" y="285840"/>
            <a:ext cx="3714840" cy="585792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3008160" cy="192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«СОБЕРИ СКАЗКУ»</a:t>
            </a:r>
            <a:br>
              <a:rPr sz="2400"/>
            </a:b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ОО</a:t>
            </a:r>
            <a:br>
              <a:rPr sz="2400"/>
            </a:b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 «Речевое развити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2757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ХОД: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Детям предлагается найти героев заданной сказки и назвать е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C:\Documents and Settings\Константин\Рабочий стол\фот\631.JPG"/>
          <p:cNvPicPr/>
          <p:nvPr/>
        </p:nvPicPr>
        <p:blipFill>
          <a:blip r:embed="rId2"/>
          <a:stretch/>
        </p:blipFill>
        <p:spPr>
          <a:xfrm>
            <a:off x="3575160" y="1282680"/>
            <a:ext cx="511164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Вертикальный свиток 4"/>
          <p:cNvSpPr/>
          <p:nvPr/>
        </p:nvSpPr>
        <p:spPr>
          <a:xfrm>
            <a:off x="0" y="214200"/>
            <a:ext cx="3929040" cy="592956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200" spc="-1" strike="noStrike">
                <a:solidFill>
                  <a:srgbClr val="7030a0"/>
                </a:solidFill>
                <a:latin typeface="Calibri"/>
              </a:rPr>
              <a:t>«КОНТУРЫ»</a:t>
            </a:r>
            <a:br>
              <a:rPr sz="2200"/>
            </a:br>
            <a:r>
              <a:rPr b="1" i="1" lang="ru-RU" sz="2200" spc="-1" strike="noStrike">
                <a:solidFill>
                  <a:srgbClr val="7030a0"/>
                </a:solidFill>
                <a:latin typeface="Calibri"/>
              </a:rPr>
              <a:t>ОО «Познавательное развитие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500200"/>
            <a:ext cx="300816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ХОД: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Детям предлагается подобрать картинку и соответствующий к ней контур и назвать кто изображен на картин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C:\Documents and Settings\Константин\Рабочий стол\фот\623.JPG"/>
          <p:cNvPicPr/>
          <p:nvPr/>
        </p:nvPicPr>
        <p:blipFill>
          <a:blip r:embed="rId2"/>
          <a:stretch/>
        </p:blipFill>
        <p:spPr>
          <a:xfrm>
            <a:off x="3575160" y="1282680"/>
            <a:ext cx="511164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Вертикальный свиток 4"/>
          <p:cNvSpPr/>
          <p:nvPr/>
        </p:nvSpPr>
        <p:spPr>
          <a:xfrm>
            <a:off x="0" y="357120"/>
            <a:ext cx="3857760" cy="5572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300816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«НАЙДИ МАМУ» ЭКОЛОГИЯ </a:t>
            </a:r>
            <a:br>
              <a:rPr sz="2400"/>
            </a:b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ОО «Познавательное развити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282888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ХОД: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Детям предлагается подобрать пару: детеныш - мама и назвать 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C:\Documents and Settings\Константин\Рабочий стол\фот\626.JPG"/>
          <p:cNvPicPr/>
          <p:nvPr/>
        </p:nvPicPr>
        <p:blipFill>
          <a:blip r:embed="rId2"/>
          <a:stretch/>
        </p:blipFill>
        <p:spPr>
          <a:xfrm>
            <a:off x="3575160" y="1282680"/>
            <a:ext cx="511164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0T12:01:02Z</dcterms:created>
  <dc:creator>Константин</dc:creator>
  <dc:description/>
  <dc:language>en-US</dc:language>
  <cp:lastModifiedBy>Константин</cp:lastModifiedBy>
  <dcterms:modified xsi:type="dcterms:W3CDTF">2014-04-21T16:14:15Z</dcterms:modified>
  <cp:revision>20</cp:revision>
  <dc:subject/>
  <dc:title>     ФЭМП  «НАЗОВИ, СКОЛЬКО» ОО Позновательное развитие» </dc:title>
</cp:coreProperties>
</file>