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36C-1D14-4EA1-835C-7C5FD95C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DC7-EEBF-4E47-835F-FC2E4E4B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50C-8962-4753-A668-F4AC2EC2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CB2-074F-47C2-919A-5EA70ED7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32B6-FCB9-49CA-AF15-563590EA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2EDF-ABFC-4E1D-9849-8E956053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B82E-9A69-4A25-9855-2BCFA85B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FF4E-DB73-40D0-8525-FC6761CF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491C-7941-4760-BEDE-FF4B6FDB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1402-637D-4993-BAB6-9D0C37E7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51FB-FE8C-49BC-81EF-F19BE31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D17-EB26-4DAC-A39E-F8C473E0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E415-42FA-4EFB-BB5E-E6184F5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6EB7-D111-44BA-8DCA-FA9F96C4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DD4E-C838-4415-99B2-7B19C3A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B92A-A326-4FF3-9B7B-E0635AB3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8E48-1DFF-4C77-A57C-3E77A539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C50-3D61-4EDB-BC5F-2A2B45E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3BB-BE40-4859-A727-686894C0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D3A-BF4A-4000-8D28-BDD7E16D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AD2-ECC5-47C6-BCB3-D04BEED4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7FE-09FB-4547-A18D-55F38374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E32-0AF2-49C8-B04B-A26390D1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946-CD06-4290-9C01-913DD148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19C3-325C-4CEC-86C7-BCC141B31B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6AD-C420-47BD-817D-B80DA9FB19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Использование приемов технологии РКМ на основе чтения и письма как средство активизации познавательной деятельности учащихс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45086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Домбровская Н.Н  «Усть – Абаканская СОШ»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емы и методы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аркировка (по мере чтения на полях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ение с остановк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иск ответов на поставленные вопрос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вторское кресл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улирование вопрос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. стадия рефлекс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ятельность учител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ернуть учащихся к первоначальным записям, предложениям, обобщение полученной информации на основе обмена мнениями друг с другом, преподавател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ятельность учащих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относят «новую» информацию со «старой», используя уже имеющиеся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емы и методы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полнение табли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зврат к ключевым слов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тветы на поставленные вопрос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рганизация различных видов дискусс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писание творческих рабо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кценты целей технологии РКМЧП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формирование нового стиля мышл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совместный поиск решения проблем, «партнерские отношения между педагогом и учащимис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развитие коммуникативности, креативности, самостоятельности, ответственности за свой выб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Развитие аналитического мышл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Избегать категоричности в утверждениях, быть честным в своих рассуждения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Отделять главное от второстепен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Формирование культуры чт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Самостоятельная творческая поисковая деятельно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5040" y="2587680"/>
            <a:ext cx="76611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Умеющие мыслить умеют задавать вопросы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            Э Кинг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хнология РКМ на основе чтения и пись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зникла в Америке в 80 годы 20 столетия. В России стала изучаться с конца 90 г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основу положены идеи об этапах умственного развития ребе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то интерактивная технология т.е. учебный процесс организован на основе взаимодействия учащихся друг с другом, с педагог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деи технологии РКМЧП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ети от природы любознательны, способны рассматривать серьезные вопросы и выдвигать оригинальные иде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роль учителя – быть вдумчивым помощником, стимулировать учащихся к познанию и помогать им сформировать навыки продуктивного мышл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КМ формируется прежде всего в дискуссии, письменных работах и активной работе с текст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еразрывная связь между развитием мыслительных навыков и формированием гражданского созн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ределение К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М это мышление самостоятельно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нформация является отправным, а не конечным пунктом мыш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М начинается с постановки вопросов и выяснения проблем, которые нужно реша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М это убедительная аргументац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М это мышление социально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рмы технологии КМЧП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итательские конферен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руглые сто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искус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след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исьм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емы технологии РКМЧП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зговой штурм, перепутанные логические цепочки, продвинутые лекции, дебаты,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 стадия вызо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ятельность учител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ктивизация учащихся, мотивация для дальнейшей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ятельность учащих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поминают, что  известно по изучаемому вопросу (делают предположения) задают вопрос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емы и методы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ставление «корзины идей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едположение по ключевым вопрос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истематизация материала (графики, таблицы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ерные неверные утверждения, отве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ем «интервью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.  стадия осмысл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ятельность учител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хранение интереса к теме, получение новой информации, ее осмысл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ятельность учащих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ченик читает текст, делает пометки на полях или ведет записи по мере осмысления новой информации, комментарии к прочитанном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6:56:20Z</dcterms:created>
  <dc:creator>User</dc:creator>
  <dc:description/>
  <dc:language>en-US</dc:language>
  <cp:lastModifiedBy>User</cp:lastModifiedBy>
  <dcterms:modified xsi:type="dcterms:W3CDTF">2014-04-21T13:46:17Z</dcterms:modified>
  <cp:revision>5</cp:revision>
  <dc:subject/>
  <dc:title>Использование приемов технологии РКМ на основе чтения и письма как средство активизации познавательной деятельности учащихся</dc:title>
</cp:coreProperties>
</file>