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15F-5B8E-4C4F-86DF-1325AB98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021-231A-4BB5-AFA2-B3C2D188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2F98B-8221-41FE-A619-CD438841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9E56C-8937-437F-8446-FE6CE6A6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FA1AE-BE41-4B7D-8FDD-4710F118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EE2EE-9BE2-4A95-A318-9D799BCE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36234-9502-4F88-AB87-7D26952B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F4D3C-4FC4-45CC-808C-F854F623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EB2B1-4619-4906-8561-B3D3B40E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1EFD0-A226-4590-9EBA-6818963F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13BB9-1A17-4A6C-8892-1DD817AC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A85-EAB0-4F88-86FE-15EF8E05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C9BB-7C89-4B98-90C2-93BF8806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A6D3-BD5B-4C96-A8D2-3702A027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EFE0-EFB4-4742-9E03-2980C2F3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2D80-6419-4B6B-8713-86243F5A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BAB8-8180-42F0-BFD3-9EBFBED1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60C7-16D5-4835-92D0-91E651C2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0084-8B13-4D3E-94D1-B3621860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7551-A776-48F7-96B1-79DDBFE3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702-024C-4854-9E43-41DF1081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1165-F9AA-41FC-9B45-B25BAF70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2814-648A-4CA7-962C-85FCD684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82E7-CA41-4712-9672-C7D68957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06D3-C2BD-4660-884E-0E10E4DD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BE6D-1C0B-41E7-A82B-4BBAD6E5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6F7AE-4865-404E-A001-059F6C54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EB870-2B65-4609-AEE4-2F85674D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4DF1E-BA7F-45CB-802B-EB06002B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CBD7D-5FF6-4A8A-9201-338A6F97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AAC08-02D0-4FA0-89D0-2DE45461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5A5-81E4-4990-87D7-32A96D18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ADF4-6768-4745-851A-B9FAD616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2DEE1-5BF2-48A5-AC28-A6FC479C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CF43C-6557-4329-A6D3-832B6369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1CC7A-993A-484D-A452-C9684342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68FEB-5CE5-4057-AB28-940606E7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87A77-593C-4C97-AEA1-C51B23A1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66FFE-4D8B-4B66-AF2E-076D528D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061E7-4FF8-4B36-9B5E-863C6EAC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4E4C4-F4DF-4EDB-AC88-CA1D8B8F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9CDDA-8EEC-438E-833A-9FD05BB7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374-5CEA-4571-A129-8AB7239F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B3084-9DF6-4ABB-AA42-E2BE35B3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1AA5E-E2C2-4EB6-81B6-DAA2981E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14835-B3F4-4CB0-AFB6-607BB07A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0BDA2-3967-4EBD-883C-77A5390C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B5952-5F21-49F6-A703-43F5ECBF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86042-3448-4D2A-BC86-AC997A47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2084D-D630-4482-8068-5919EC98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3FD79-09F0-44FB-A25E-8CFA1861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3503E-66E4-4F95-9261-7962C970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3131B-71E7-4086-8B81-6D593035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74B-49F2-4DD9-B6ED-D2CF6BD6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3667C-D3A3-4E06-9741-22018412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539D8-56C7-44AA-8F80-C081FC7A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483F2-F356-408D-81B4-1DBA21BE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4A303-A62E-496E-A5F5-F2ABB095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6808-C548-4970-A2CA-B72AB8B7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AA057-6CCE-46E8-B3C6-BB531E58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F5715-836E-4571-910D-91A44C37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3BE2-6046-44AB-BD18-850E9E4A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319D2-23BA-4132-B687-01B6D33F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C61F5-DFDD-41DC-AA4E-4D0EB570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57D-4151-43D8-B963-07B5A5FD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B3805-28E1-4446-8D0E-7A9ECFA4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94655-29A2-49CC-ACF7-B110561B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58182-CFB9-403F-9463-04293B6E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F22C3-589F-4B22-BC04-F99D351B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B827D-6CA0-4B24-AB70-49DC9764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682E6-9BE8-47C9-8A40-990E0C72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D0ECC-DC41-4A7E-BDC5-47045A8B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A3FE8-4C51-4F96-A933-B751F941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29E20-C832-49DE-BDC4-A290079F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E74C5-5526-4DED-BE12-92F66734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059-B55D-4AEE-B6A9-8466EAE3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3799A-33F0-431B-B8FA-19778F75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39239-F4EE-4822-9ADC-54DC87D0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801A9-0A65-4D89-986A-A600D149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1745E-2CDB-405A-92CD-96ED70F7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5B22D-B1D8-4B8C-9CEE-0FB6C1DF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AF45D-7E06-4617-BD2C-16C52F6D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A894F-F873-4E54-BD3C-4FACF106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22603-ED53-4A9B-9D8F-11736DE1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7684C-F9D0-427E-8B78-D10F069E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1C65C-7C1B-43B8-A95E-250158D2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0F7-6624-44DD-8F71-681818A7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3AFBC-1E08-48FA-921E-8EF64F88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84E75-8454-4B67-A9DF-B3832BEB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8E6DF-D7F3-483D-AE6A-13B4F74B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35622-A261-4131-A84D-DA919F33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EE624-294B-4F55-A6D0-F235464E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B9544-7B78-4BCC-96A7-CDC2519C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F709E-5A8C-4E13-BBD6-CB26EA22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BE4C5-EE53-44E9-8E74-FFB16DE7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808AC-0998-4ED1-BC8A-2F76733F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D8CA1-CAB1-4633-B1F4-9B7937EB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A09-3680-45CD-9927-D03D7C22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A2D67-35F2-47FD-8484-2960EE75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57ABC-0D56-449C-82A2-BC704D1A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408ED-049D-41BB-8F21-C916C5F6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EB670-9616-4D16-8895-6EA6AF78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D5F6D-4030-4C85-B2F6-24A07ECD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F6AAF-3F5A-4EDC-8A73-111476E3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9ACDC-86C3-4704-AB0E-2312F991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C3E81-8608-47DA-B3E5-759408D5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EC6EE-F787-4E50-A0DE-43A06B9A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C32A6-D6B7-4A9A-BD04-F31EFB73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9694-9632-42B4-A438-1F3DB367080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E400-E70D-41E6-9C98-2E4EA022C44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9FCE-C607-423F-8E1B-05A9204E4FE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7339-740C-4D86-8A2F-0BAE67962B6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BE7E-678A-45B2-98B1-67FABE34AB7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1DAB-DEDD-4B77-A6DF-94707BCB491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FB5C-07F0-410F-9EBC-B6E96D4D73B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52DD-B7B4-445F-99F6-ABE9A759381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F80E-8450-4FA6-8614-220F7EAA0D3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6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"/>
          <p:cNvPicPr/>
          <p:nvPr/>
        </p:nvPicPr>
        <p:blipFill>
          <a:blip r:embed="rId2"/>
          <a:stretch/>
        </p:blipFill>
        <p:spPr>
          <a:xfrm>
            <a:off x="2411280" y="692280"/>
            <a:ext cx="4032360" cy="3213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4"/>
          <p:cNvSpPr/>
          <p:nvPr/>
        </p:nvSpPr>
        <p:spPr>
          <a:xfrm>
            <a:off x="3859560" y="2421000"/>
            <a:ext cx="137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B9</a:t>
            </a:r>
            <a:endParaRPr b="0" lang="en-US" sz="8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Прямоугольник 7"/>
          <p:cNvSpPr/>
          <p:nvPr/>
        </p:nvSpPr>
        <p:spPr>
          <a:xfrm>
            <a:off x="1619280" y="2637000"/>
            <a:ext cx="752472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Franklin Gothic Book"/>
              </a:rPr>
              <a:t>Использование свойства диагонали прямоугольного параллелепипеда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0" y="112500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Найдите квадрат расстояния между вершинами С и А</a:t>
            </a:r>
            <a:r>
              <a:rPr b="1" lang="ru-RU" sz="2400" spc="-1" strike="noStrike" baseline="-25000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прямоугольного параллелепипеда, для которого АВ=5, А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D = 4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AA</a:t>
            </a:r>
            <a:r>
              <a:rPr b="1" lang="en-US" sz="2400" spc="-1" strike="noStrike" baseline="-25000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=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2" descr="C:\Users\zenalla\Documents\математика\геометрия\чертежи из открытлого банка\i2541.png"/>
          <p:cNvPicPr/>
          <p:nvPr/>
        </p:nvPicPr>
        <p:blipFill>
          <a:blip r:embed="rId2"/>
          <a:stretch/>
        </p:blipFill>
        <p:spPr>
          <a:xfrm>
            <a:off x="82692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4"/>
          <p:cNvSpPr/>
          <p:nvPr/>
        </p:nvSpPr>
        <p:spPr>
          <a:xfrm>
            <a:off x="545400" y="551664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Прямоугольник 5"/>
          <p:cNvSpPr/>
          <p:nvPr/>
        </p:nvSpPr>
        <p:spPr>
          <a:xfrm>
            <a:off x="2347920" y="5589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1192320" y="306864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2932920" y="31417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Прямоугольник 8"/>
          <p:cNvSpPr/>
          <p:nvPr/>
        </p:nvSpPr>
        <p:spPr>
          <a:xfrm>
            <a:off x="2352600" y="3933720"/>
            <a:ext cx="41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Прямоугольник 9"/>
          <p:cNvSpPr/>
          <p:nvPr/>
        </p:nvSpPr>
        <p:spPr>
          <a:xfrm>
            <a:off x="478080" y="3860640"/>
            <a:ext cx="41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Прямоугольник 10"/>
          <p:cNvSpPr/>
          <p:nvPr/>
        </p:nvSpPr>
        <p:spPr>
          <a:xfrm>
            <a:off x="1476720" y="46530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Прямоугольник 11"/>
          <p:cNvSpPr/>
          <p:nvPr/>
        </p:nvSpPr>
        <p:spPr>
          <a:xfrm>
            <a:off x="3071880" y="4724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Прямая соединительная линия 13"/>
          <p:cNvSpPr/>
          <p:nvPr/>
        </p:nvSpPr>
        <p:spPr>
          <a:xfrm>
            <a:off x="826920" y="4076640"/>
            <a:ext cx="2160720" cy="8650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Прямоугольник 15"/>
          <p:cNvSpPr/>
          <p:nvPr/>
        </p:nvSpPr>
        <p:spPr>
          <a:xfrm>
            <a:off x="1476720" y="573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Прямоугольник 16"/>
          <p:cNvSpPr/>
          <p:nvPr/>
        </p:nvSpPr>
        <p:spPr>
          <a:xfrm>
            <a:off x="1043280" y="486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Прямоугольник 17"/>
          <p:cNvSpPr/>
          <p:nvPr/>
        </p:nvSpPr>
        <p:spPr>
          <a:xfrm>
            <a:off x="468720" y="450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Прямая соединительная линия 19"/>
          <p:cNvSpPr/>
          <p:nvPr/>
        </p:nvSpPr>
        <p:spPr>
          <a:xfrm flipV="1">
            <a:off x="900000" y="5013000"/>
            <a:ext cx="2087640" cy="57636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Прямоугольник 18"/>
          <p:cNvSpPr/>
          <p:nvPr/>
        </p:nvSpPr>
        <p:spPr>
          <a:xfrm>
            <a:off x="4284720" y="2565360"/>
            <a:ext cx="293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А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С - прямоугольный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Прямоугольник 20"/>
          <p:cNvSpPr/>
          <p:nvPr/>
        </p:nvSpPr>
        <p:spPr>
          <a:xfrm>
            <a:off x="5419800" y="2133720"/>
            <a:ext cx="298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 action="ppaction://hlinksldjump"/>
              </a:rPr>
              <a:t>Теоретические сведения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Прямоугольник 23"/>
          <p:cNvSpPr/>
          <p:nvPr/>
        </p:nvSpPr>
        <p:spPr>
          <a:xfrm>
            <a:off x="4391280" y="2924280"/>
            <a:ext cx="301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А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+ (AB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Прямоугольник 24"/>
          <p:cNvSpPr/>
          <p:nvPr/>
        </p:nvSpPr>
        <p:spPr>
          <a:xfrm>
            <a:off x="4413240" y="3500280"/>
            <a:ext cx="201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+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Прямоугольник 25"/>
          <p:cNvSpPr/>
          <p:nvPr/>
        </p:nvSpPr>
        <p:spPr>
          <a:xfrm>
            <a:off x="4356000" y="386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АС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=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+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Прямоугольник 27"/>
          <p:cNvSpPr/>
          <p:nvPr/>
        </p:nvSpPr>
        <p:spPr>
          <a:xfrm>
            <a:off x="4471560" y="4221000"/>
            <a:ext cx="210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9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16 + 25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Прямоугольник 28"/>
          <p:cNvSpPr/>
          <p:nvPr/>
        </p:nvSpPr>
        <p:spPr>
          <a:xfrm>
            <a:off x="7054920" y="4221000"/>
            <a:ext cx="1214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Прямоугольник 29"/>
          <p:cNvSpPr/>
          <p:nvPr/>
        </p:nvSpPr>
        <p:spPr>
          <a:xfrm>
            <a:off x="4243320" y="3213000"/>
            <a:ext cx="37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Из ∆ АВС по теореме Пифагор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Прямоугольник 30"/>
          <p:cNvSpPr/>
          <p:nvPr/>
        </p:nvSpPr>
        <p:spPr>
          <a:xfrm>
            <a:off x="6193800" y="3860640"/>
            <a:ext cx="22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АС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5 +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16 = 4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Прямоугольник 31"/>
          <p:cNvSpPr/>
          <p:nvPr/>
        </p:nvSpPr>
        <p:spPr>
          <a:xfrm>
            <a:off x="3996720" y="4508640"/>
            <a:ext cx="377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Из ∆ А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С по теореме Пифагор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Прямоугольник 32"/>
          <p:cNvSpPr/>
          <p:nvPr/>
        </p:nvSpPr>
        <p:spPr>
          <a:xfrm>
            <a:off x="4031280" y="5084640"/>
            <a:ext cx="367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А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АС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= 9 + 41 = 5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Прямоугольник 33"/>
          <p:cNvSpPr/>
          <p:nvPr/>
        </p:nvSpPr>
        <p:spPr>
          <a:xfrm>
            <a:off x="7236000" y="54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Ответ: 5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Управляющая кнопка: далее 34">
            <a:hlinkClick r:id="" action="ppaction://hlinkshowjump?jump=nextslide"/>
          </p:cNvPr>
          <p:cNvSpPr/>
          <p:nvPr/>
        </p:nvSpPr>
        <p:spPr>
          <a:xfrm>
            <a:off x="7956720" y="602136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fcecd5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Управляющая кнопка: назад 35">
            <a:hlinkClick r:id="rId4" action="ppaction://hlinksldjump"/>
          </p:cNvPr>
          <p:cNvSpPr/>
          <p:nvPr/>
        </p:nvSpPr>
        <p:spPr>
          <a:xfrm>
            <a:off x="6948360" y="602136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0014" y="10800"/>
                </a:moveTo>
                <a:lnTo>
                  <a:pt x="34027" y="3794"/>
                </a:lnTo>
                <a:lnTo>
                  <a:pt x="34027" y="17806"/>
                </a:lnTo>
                <a:close/>
              </a:path>
            </a:pathLst>
          </a:custGeom>
          <a:solidFill>
            <a:srgbClr val="fcecd5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Прямоугольник 36"/>
          <p:cNvSpPr/>
          <p:nvPr/>
        </p:nvSpPr>
        <p:spPr>
          <a:xfrm>
            <a:off x="4163040" y="6021360"/>
            <a:ext cx="28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Franklin Gothic Book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Прямоугольник 36"/>
          <p:cNvSpPr/>
          <p:nvPr/>
        </p:nvSpPr>
        <p:spPr>
          <a:xfrm>
            <a:off x="2772000" y="51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Штриховая стрелка вправо 37"/>
          <p:cNvSpPr/>
          <p:nvPr/>
        </p:nvSpPr>
        <p:spPr>
          <a:xfrm rot="18613200">
            <a:off x="5491440" y="4637520"/>
            <a:ext cx="1111320" cy="96840"/>
          </a:xfrm>
          <a:custGeom>
            <a:avLst/>
            <a:gdLst>
              <a:gd name="textAreaLeft" fmla="*/ 14760 w 1111320"/>
              <a:gd name="textAreaRight" fmla="*/ 1087200 w 1111320"/>
              <a:gd name="textAreaTop" fmla="*/ 24120 h 96840"/>
              <a:gd name="textAreaBottom" fmla="*/ 72720 h 96840"/>
            </a:gdLst>
            <a:ahLst/>
            <a:rect l="textAreaLeft" t="textAreaTop" r="textAreaRight" b="textAreaBottom"/>
            <a:pathLst>
              <a:path w="1112244" h="96587">
                <a:moveTo>
                  <a:pt x="0" y="24147"/>
                </a:moveTo>
                <a:lnTo>
                  <a:pt x="3018" y="24147"/>
                </a:lnTo>
                <a:lnTo>
                  <a:pt x="3018" y="72440"/>
                </a:lnTo>
                <a:lnTo>
                  <a:pt x="0" y="72440"/>
                </a:lnTo>
                <a:close/>
                <a:moveTo>
                  <a:pt x="6037" y="24147"/>
                </a:moveTo>
                <a:lnTo>
                  <a:pt x="12073" y="24147"/>
                </a:lnTo>
                <a:lnTo>
                  <a:pt x="12073" y="72440"/>
                </a:lnTo>
                <a:lnTo>
                  <a:pt x="6037" y="72440"/>
                </a:lnTo>
                <a:close/>
                <a:moveTo>
                  <a:pt x="15092" y="24147"/>
                </a:moveTo>
                <a:lnTo>
                  <a:pt x="1063951" y="24147"/>
                </a:lnTo>
                <a:lnTo>
                  <a:pt x="1063951" y="0"/>
                </a:lnTo>
                <a:lnTo>
                  <a:pt x="1112244" y="48294"/>
                </a:lnTo>
                <a:lnTo>
                  <a:pt x="1063951" y="96587"/>
                </a:lnTo>
                <a:lnTo>
                  <a:pt x="1063951" y="72440"/>
                </a:lnTo>
                <a:lnTo>
                  <a:pt x="15092" y="72440"/>
                </a:lnTo>
                <a:close/>
              </a:path>
            </a:pathLst>
          </a:custGeom>
          <a:solidFill>
            <a:srgbClr val="66ff66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3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3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800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3000"/>
                            </p:stCondLst>
                            <p:childTnLst>
                              <p:par>
                                <p:cTn id="9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3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2"/>
          <a:stretch/>
        </p:blipFill>
        <p:spPr>
          <a:xfrm>
            <a:off x="3108240" y="146160"/>
            <a:ext cx="5608800" cy="1164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95280" y="1268280"/>
            <a:ext cx="850752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Прямоугольным  параллелепипедом называется прямой параллелепипед, основания которого –прямоугольник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Прямой параллелепипед- это параллелепипед, боковые ребра которого перпендикулярны к плоскостям основания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Picture 5" descr="C:\Users\zenalla\Documents\математика\геометрия\чертежи из открытлого банка\i2541.png"/>
          <p:cNvPicPr/>
          <p:nvPr/>
        </p:nvPicPr>
        <p:blipFill>
          <a:blip r:embed="rId3"/>
          <a:stretch/>
        </p:blipFill>
        <p:spPr>
          <a:xfrm>
            <a:off x="684360" y="3933720"/>
            <a:ext cx="2057400" cy="2028960"/>
          </a:xfrm>
          <a:prstGeom prst="rect">
            <a:avLst/>
          </a:prstGeom>
          <a:ln w="0">
            <a:noFill/>
          </a:ln>
        </p:spPr>
      </p:pic>
      <p:sp>
        <p:nvSpPr>
          <p:cNvPr id="439" name="Параллелограмм 8"/>
          <p:cNvSpPr/>
          <p:nvPr/>
        </p:nvSpPr>
        <p:spPr>
          <a:xfrm>
            <a:off x="684360" y="3933720"/>
            <a:ext cx="2016000" cy="574920"/>
          </a:xfrm>
          <a:prstGeom prst="parallelogram">
            <a:avLst>
              <a:gd name="adj" fmla="val 99807"/>
            </a:avLst>
          </a:prstGeom>
          <a:solidFill>
            <a:srgbClr val="ddea3a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Параллелограмм 9"/>
          <p:cNvSpPr/>
          <p:nvPr/>
        </p:nvSpPr>
        <p:spPr>
          <a:xfrm>
            <a:off x="684360" y="5373720"/>
            <a:ext cx="2016000" cy="576360"/>
          </a:xfrm>
          <a:prstGeom prst="parallelogram">
            <a:avLst>
              <a:gd name="adj" fmla="val 99833"/>
            </a:avLst>
          </a:prstGeom>
          <a:solidFill>
            <a:srgbClr val="ddea3a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Прямая соединительная линия 11"/>
          <p:cNvSpPr/>
          <p:nvPr/>
        </p:nvSpPr>
        <p:spPr>
          <a:xfrm>
            <a:off x="684360" y="4508640"/>
            <a:ext cx="0" cy="144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Прямая соединительная линия 13"/>
          <p:cNvSpPr/>
          <p:nvPr/>
        </p:nvSpPr>
        <p:spPr>
          <a:xfrm>
            <a:off x="2124000" y="4508640"/>
            <a:ext cx="0" cy="144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Прямая соединительная линия 15"/>
          <p:cNvSpPr/>
          <p:nvPr/>
        </p:nvSpPr>
        <p:spPr>
          <a:xfrm>
            <a:off x="2700360" y="3933720"/>
            <a:ext cx="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Прямая соединительная линия 17"/>
          <p:cNvSpPr/>
          <p:nvPr/>
        </p:nvSpPr>
        <p:spPr>
          <a:xfrm>
            <a:off x="1258200" y="3933720"/>
            <a:ext cx="73080" cy="14400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5" name="Двойная стрелка влево/вверх 32"/>
          <p:cNvSpPr/>
          <p:nvPr/>
        </p:nvSpPr>
        <p:spPr>
          <a:xfrm rot="10800000">
            <a:off x="2484360" y="5013000"/>
            <a:ext cx="216000" cy="360360"/>
          </a:xfrm>
          <a:custGeom>
            <a:avLst/>
            <a:gdLst>
              <a:gd name="textAreaLeft" fmla="*/ 6120 w 216000"/>
              <a:gd name="textAreaRight" fmla="*/ 162000 w 216000"/>
              <a:gd name="textAreaTop" fmla="*/ 291600 h 360360"/>
              <a:gd name="textAreaBottom" fmla="*/ 321120 h 360360"/>
            </a:gdLst>
            <a:ahLst/>
            <a:rect l="textAreaLeft" t="textAreaTop" r="textAreaRight" b="textAreaBottom"/>
            <a:pathLst>
              <a:path w="215900" h="360363">
                <a:moveTo>
                  <a:pt x="0" y="306388"/>
                </a:moveTo>
                <a:lnTo>
                  <a:pt x="23574" y="252413"/>
                </a:lnTo>
                <a:lnTo>
                  <a:pt x="23574" y="291647"/>
                </a:lnTo>
                <a:lnTo>
                  <a:pt x="147184" y="291647"/>
                </a:lnTo>
                <a:lnTo>
                  <a:pt x="147184" y="23574"/>
                </a:lnTo>
                <a:lnTo>
                  <a:pt x="107950" y="23574"/>
                </a:lnTo>
                <a:lnTo>
                  <a:pt x="161925" y="0"/>
                </a:lnTo>
                <a:lnTo>
                  <a:pt x="215900" y="23574"/>
                </a:lnTo>
                <a:lnTo>
                  <a:pt x="176666" y="23574"/>
                </a:lnTo>
                <a:lnTo>
                  <a:pt x="176666" y="321129"/>
                </a:lnTo>
                <a:lnTo>
                  <a:pt x="23574" y="321129"/>
                </a:lnTo>
                <a:lnTo>
                  <a:pt x="23574" y="36036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6" name="Прямая соединительная линия 34"/>
          <p:cNvSpPr/>
          <p:nvPr/>
        </p:nvSpPr>
        <p:spPr>
          <a:xfrm>
            <a:off x="1332000" y="5373720"/>
            <a:ext cx="792000" cy="576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Двойная стрелка влево/вверх 42"/>
          <p:cNvSpPr/>
          <p:nvPr/>
        </p:nvSpPr>
        <p:spPr>
          <a:xfrm rot="16200000">
            <a:off x="1114920" y="4940640"/>
            <a:ext cx="792360" cy="504720"/>
          </a:xfrm>
          <a:custGeom>
            <a:avLst/>
            <a:gdLst>
              <a:gd name="textAreaLeft" fmla="*/ 29520 w 792360"/>
              <a:gd name="textAreaRight" fmla="*/ 666360 w 792360"/>
              <a:gd name="textAreaTop" fmla="*/ 349200 h 504720"/>
              <a:gd name="textAreaBottom" fmla="*/ 408240 h 504720"/>
            </a:gdLst>
            <a:ahLst/>
            <a:rect l="textAreaLeft" t="textAreaTop" r="textAreaRight" b="textAreaBottom"/>
            <a:pathLst>
              <a:path w="792163" h="504825">
                <a:moveTo>
                  <a:pt x="0" y="378619"/>
                </a:moveTo>
                <a:lnTo>
                  <a:pt x="126206" y="252413"/>
                </a:lnTo>
                <a:lnTo>
                  <a:pt x="126206" y="349079"/>
                </a:lnTo>
                <a:lnTo>
                  <a:pt x="636417" y="349079"/>
                </a:lnTo>
                <a:lnTo>
                  <a:pt x="636417" y="126206"/>
                </a:lnTo>
                <a:lnTo>
                  <a:pt x="539751" y="126206"/>
                </a:lnTo>
                <a:lnTo>
                  <a:pt x="665957" y="0"/>
                </a:lnTo>
                <a:lnTo>
                  <a:pt x="792163" y="126206"/>
                </a:lnTo>
                <a:lnTo>
                  <a:pt x="695497" y="126206"/>
                </a:lnTo>
                <a:lnTo>
                  <a:pt x="695497" y="408159"/>
                </a:lnTo>
                <a:lnTo>
                  <a:pt x="126206" y="408159"/>
                </a:lnTo>
                <a:lnTo>
                  <a:pt x="126206" y="50482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Управляющая кнопка: далее 44">
            <a:hlinkClick r:id="" action="ppaction://hlinkshowjump?jump=previousslide"/>
          </p:cNvPr>
          <p:cNvSpPr/>
          <p:nvPr/>
        </p:nvSpPr>
        <p:spPr>
          <a:xfrm>
            <a:off x="788508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fcecd5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Прямая соединительная линия 46"/>
          <p:cNvSpPr/>
          <p:nvPr/>
        </p:nvSpPr>
        <p:spPr>
          <a:xfrm>
            <a:off x="1258200" y="3933720"/>
            <a:ext cx="865080" cy="2016360"/>
          </a:xfrm>
          <a:prstGeom prst="line">
            <a:avLst/>
          </a:prstGeom>
          <a:ln w="5724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Прямоугольник 47"/>
          <p:cNvSpPr/>
          <p:nvPr/>
        </p:nvSpPr>
        <p:spPr>
          <a:xfrm>
            <a:off x="3348000" y="371628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Квадрат диагонали  прямоугольного параллелепипеда равен сумме квадратов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трех его измерений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Прямоугольник 16"/>
          <p:cNvSpPr/>
          <p:nvPr/>
        </p:nvSpPr>
        <p:spPr>
          <a:xfrm>
            <a:off x="759960" y="5300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Прямоугольник 18"/>
          <p:cNvSpPr/>
          <p:nvPr/>
        </p:nvSpPr>
        <p:spPr>
          <a:xfrm>
            <a:off x="331200" y="49417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Прямоугольник 19"/>
          <p:cNvSpPr/>
          <p:nvPr/>
        </p:nvSpPr>
        <p:spPr>
          <a:xfrm>
            <a:off x="1189800" y="5950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ɑ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Прямоугольник 20"/>
          <p:cNvSpPr/>
          <p:nvPr/>
        </p:nvSpPr>
        <p:spPr>
          <a:xfrm>
            <a:off x="4578480" y="479736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ɑ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+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r>
              <a:rPr b="1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Прямоугольник 21"/>
          <p:cNvSpPr/>
          <p:nvPr/>
        </p:nvSpPr>
        <p:spPr>
          <a:xfrm>
            <a:off x="1619280" y="4797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3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3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3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3500"/>
                            </p:stCondLst>
                            <p:childTnLst>
                              <p:par>
                                <p:cTn id="2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250920" y="1125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Найдите квадрат расстояния между вершинами В и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1" lang="en-US" sz="2400" spc="-1" strike="noStrike" baseline="-25000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прямоугольного параллелепипеда, для которого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AB=5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AD=3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AA</a:t>
            </a:r>
            <a:r>
              <a:rPr b="1" lang="en-US" sz="2400" spc="-1" strike="noStrike" baseline="-25000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=6 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8" name="Picture 2" descr="C:\Users\zenalla\Documents\математика\геометрия\чертежи из открытлого банка\i2541.png"/>
          <p:cNvPicPr/>
          <p:nvPr/>
        </p:nvPicPr>
        <p:blipFill>
          <a:blip r:embed="rId2"/>
          <a:stretch/>
        </p:blipFill>
        <p:spPr>
          <a:xfrm>
            <a:off x="82692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4"/>
          <p:cNvSpPr/>
          <p:nvPr/>
        </p:nvSpPr>
        <p:spPr>
          <a:xfrm>
            <a:off x="545400" y="551664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Прямоугольник 5"/>
          <p:cNvSpPr/>
          <p:nvPr/>
        </p:nvSpPr>
        <p:spPr>
          <a:xfrm>
            <a:off x="2347920" y="5589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Прямоугольник 6"/>
          <p:cNvSpPr/>
          <p:nvPr/>
        </p:nvSpPr>
        <p:spPr>
          <a:xfrm>
            <a:off x="1192320" y="306864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Прямоугольник 7"/>
          <p:cNvSpPr/>
          <p:nvPr/>
        </p:nvSpPr>
        <p:spPr>
          <a:xfrm>
            <a:off x="2932920" y="31417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Прямоугольник 8"/>
          <p:cNvSpPr/>
          <p:nvPr/>
        </p:nvSpPr>
        <p:spPr>
          <a:xfrm>
            <a:off x="2352600" y="3933720"/>
            <a:ext cx="41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Прямоугольник 9"/>
          <p:cNvSpPr/>
          <p:nvPr/>
        </p:nvSpPr>
        <p:spPr>
          <a:xfrm>
            <a:off x="478080" y="3860640"/>
            <a:ext cx="41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Прямоугольник 10"/>
          <p:cNvSpPr/>
          <p:nvPr/>
        </p:nvSpPr>
        <p:spPr>
          <a:xfrm>
            <a:off x="1476720" y="46530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Прямоугольник 11"/>
          <p:cNvSpPr/>
          <p:nvPr/>
        </p:nvSpPr>
        <p:spPr>
          <a:xfrm>
            <a:off x="3071880" y="4724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Прямая соединительная линия 26"/>
          <p:cNvSpPr/>
          <p:nvPr/>
        </p:nvSpPr>
        <p:spPr>
          <a:xfrm>
            <a:off x="1546920" y="3500280"/>
            <a:ext cx="863640" cy="2160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Прямоугольник 27"/>
          <p:cNvSpPr/>
          <p:nvPr/>
        </p:nvSpPr>
        <p:spPr>
          <a:xfrm>
            <a:off x="1476720" y="573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9" name="Прямоугольник 28"/>
          <p:cNvSpPr/>
          <p:nvPr/>
        </p:nvSpPr>
        <p:spPr>
          <a:xfrm>
            <a:off x="1043280" y="486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0" name="Прямоугольник 29"/>
          <p:cNvSpPr/>
          <p:nvPr/>
        </p:nvSpPr>
        <p:spPr>
          <a:xfrm>
            <a:off x="468720" y="450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Прямоугольник 43"/>
          <p:cNvSpPr/>
          <p:nvPr/>
        </p:nvSpPr>
        <p:spPr>
          <a:xfrm>
            <a:off x="4140360" y="2349360"/>
            <a:ext cx="38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B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= (AB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+ (AD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+ (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Прямоугольник 44"/>
          <p:cNvSpPr/>
          <p:nvPr/>
        </p:nvSpPr>
        <p:spPr>
          <a:xfrm>
            <a:off x="4881240" y="292428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Теоретические сведения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Прямоугольник 45"/>
          <p:cNvSpPr/>
          <p:nvPr/>
        </p:nvSpPr>
        <p:spPr>
          <a:xfrm>
            <a:off x="4356000" y="3573360"/>
            <a:ext cx="38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B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= (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+ (3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+ (6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4" name="Прямоугольник 46"/>
          <p:cNvSpPr/>
          <p:nvPr/>
        </p:nvSpPr>
        <p:spPr>
          <a:xfrm>
            <a:off x="4427640" y="4076640"/>
            <a:ext cx="38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B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= 25 + 9 + 36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Прямоугольник 47"/>
          <p:cNvSpPr/>
          <p:nvPr/>
        </p:nvSpPr>
        <p:spPr>
          <a:xfrm>
            <a:off x="4500720" y="458136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B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= 7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Прямоугольник 48"/>
          <p:cNvSpPr/>
          <p:nvPr/>
        </p:nvSpPr>
        <p:spPr>
          <a:xfrm>
            <a:off x="6862320" y="5013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Ответ: 7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Прямоугольник 49"/>
          <p:cNvSpPr/>
          <p:nvPr/>
        </p:nvSpPr>
        <p:spPr>
          <a:xfrm>
            <a:off x="4235400" y="5950080"/>
            <a:ext cx="28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Franklin Gothic Book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Управляющая кнопка: назад 50"/>
          <p:cNvSpPr/>
          <p:nvPr/>
        </p:nvSpPr>
        <p:spPr>
          <a:xfrm>
            <a:off x="7020000" y="595008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fcecd5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Управляющая кнопка: далее 51">
            <a:hlinkClick r:id="" action="ppaction://hlinkshowjump?jump=nextslide"/>
          </p:cNvPr>
          <p:cNvSpPr/>
          <p:nvPr/>
        </p:nvSpPr>
        <p:spPr>
          <a:xfrm>
            <a:off x="7956720" y="595008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3794"/>
                </a:moveTo>
                <a:lnTo>
                  <a:pt x="31337" y="10800"/>
                </a:lnTo>
                <a:lnTo>
                  <a:pt x="17324" y="17806"/>
                </a:lnTo>
                <a:close/>
              </a:path>
            </a:pathLst>
          </a:custGeom>
          <a:solidFill>
            <a:srgbClr val="fcecd5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0" y="112536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Найдите квадрат расстояния между вершинами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A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и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C</a:t>
            </a:r>
            <a:r>
              <a:rPr b="1" lang="en-US" sz="2400" spc="-1" strike="noStrike" baseline="-25000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прямоугольного параллелепипеда, для которого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AB=3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AD=5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AA</a:t>
            </a:r>
            <a:r>
              <a:rPr b="1" lang="en-US" sz="2400" spc="-1" strike="noStrike" baseline="-25000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=5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2" name="Picture 2" descr="C:\Users\zenalla\Documents\математика\геометрия\чертежи из открытлого банка\i2541.png"/>
          <p:cNvPicPr/>
          <p:nvPr/>
        </p:nvPicPr>
        <p:blipFill>
          <a:blip r:embed="rId2"/>
          <a:stretch/>
        </p:blipFill>
        <p:spPr>
          <a:xfrm>
            <a:off x="826920" y="3429000"/>
            <a:ext cx="2264040" cy="2232000"/>
          </a:xfrm>
          <a:prstGeom prst="rect">
            <a:avLst/>
          </a:prstGeom>
          <a:ln w="0">
            <a:noFill/>
          </a:ln>
        </p:spPr>
      </p:pic>
      <p:sp>
        <p:nvSpPr>
          <p:cNvPr id="483" name="Прямоугольник 4"/>
          <p:cNvSpPr/>
          <p:nvPr/>
        </p:nvSpPr>
        <p:spPr>
          <a:xfrm>
            <a:off x="2345760" y="558972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Прямоугольник 5"/>
          <p:cNvSpPr/>
          <p:nvPr/>
        </p:nvSpPr>
        <p:spPr>
          <a:xfrm>
            <a:off x="547560" y="5589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5" name="Прямоугольник 6"/>
          <p:cNvSpPr/>
          <p:nvPr/>
        </p:nvSpPr>
        <p:spPr>
          <a:xfrm>
            <a:off x="2921400" y="306864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6" name="Прямоугольник 7"/>
          <p:cNvSpPr/>
          <p:nvPr/>
        </p:nvSpPr>
        <p:spPr>
          <a:xfrm>
            <a:off x="1348560" y="306864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Прямоугольник 8"/>
          <p:cNvSpPr/>
          <p:nvPr/>
        </p:nvSpPr>
        <p:spPr>
          <a:xfrm>
            <a:off x="407880" y="3933720"/>
            <a:ext cx="41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Прямоугольник 9"/>
          <p:cNvSpPr/>
          <p:nvPr/>
        </p:nvSpPr>
        <p:spPr>
          <a:xfrm>
            <a:off x="2349720" y="4005360"/>
            <a:ext cx="41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Прямоугольник 10"/>
          <p:cNvSpPr/>
          <p:nvPr/>
        </p:nvSpPr>
        <p:spPr>
          <a:xfrm>
            <a:off x="3059640" y="4797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Прямоугольник 11"/>
          <p:cNvSpPr/>
          <p:nvPr/>
        </p:nvSpPr>
        <p:spPr>
          <a:xfrm>
            <a:off x="1488960" y="4653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Прямая соединительная линия 12"/>
          <p:cNvSpPr/>
          <p:nvPr/>
        </p:nvSpPr>
        <p:spPr>
          <a:xfrm>
            <a:off x="1546920" y="3500280"/>
            <a:ext cx="863640" cy="208944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2" name="Прямоугольник 13"/>
          <p:cNvSpPr/>
          <p:nvPr/>
        </p:nvSpPr>
        <p:spPr>
          <a:xfrm>
            <a:off x="1476720" y="573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Прямоугольник 14"/>
          <p:cNvSpPr/>
          <p:nvPr/>
        </p:nvSpPr>
        <p:spPr>
          <a:xfrm>
            <a:off x="2843640" y="522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Прямоугольник 15"/>
          <p:cNvSpPr/>
          <p:nvPr/>
        </p:nvSpPr>
        <p:spPr>
          <a:xfrm>
            <a:off x="2411640" y="450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5" name="Прямоугольник 20"/>
          <p:cNvSpPr/>
          <p:nvPr/>
        </p:nvSpPr>
        <p:spPr>
          <a:xfrm>
            <a:off x="4533840" y="4005360"/>
            <a:ext cx="13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)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= 59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Прямоугольник 21"/>
          <p:cNvSpPr/>
          <p:nvPr/>
        </p:nvSpPr>
        <p:spPr>
          <a:xfrm>
            <a:off x="4035960" y="2637000"/>
            <a:ext cx="313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A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= (AB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+ (AD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+ (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Прямоугольник 22"/>
          <p:cNvSpPr/>
          <p:nvPr/>
        </p:nvSpPr>
        <p:spPr>
          <a:xfrm>
            <a:off x="4011480" y="3068640"/>
            <a:ext cx="254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A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= (3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+ (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+ (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Прямоугольник 23"/>
          <p:cNvSpPr/>
          <p:nvPr/>
        </p:nvSpPr>
        <p:spPr>
          <a:xfrm>
            <a:off x="4041720" y="3573360"/>
            <a:ext cx="216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A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= 9 + 25 + 25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Прямоугольник 24"/>
          <p:cNvSpPr/>
          <p:nvPr/>
        </p:nvSpPr>
        <p:spPr>
          <a:xfrm>
            <a:off x="6790680" y="4797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Ответ: 59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Управляющая кнопка: назад 25"/>
          <p:cNvSpPr/>
          <p:nvPr/>
        </p:nvSpPr>
        <p:spPr>
          <a:xfrm>
            <a:off x="6659640" y="602136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cecd5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1" name="Прямоугольник 26"/>
          <p:cNvSpPr/>
          <p:nvPr/>
        </p:nvSpPr>
        <p:spPr>
          <a:xfrm>
            <a:off x="3802680" y="6021360"/>
            <a:ext cx="28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Franklin Gothic Book"/>
              </a:rPr>
              <a:t>Вернуться к содержанию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2" name="Управляющая кнопка: далее 27">
            <a:hlinkClick r:id="" action="ppaction://hlinkshowjump?jump=nextslide"/>
          </p:cNvPr>
          <p:cNvSpPr/>
          <p:nvPr/>
        </p:nvSpPr>
        <p:spPr>
          <a:xfrm>
            <a:off x="7812000" y="602136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3794"/>
                </a:moveTo>
                <a:lnTo>
                  <a:pt x="28661" y="10800"/>
                </a:lnTo>
                <a:lnTo>
                  <a:pt x="14648" y="17806"/>
                </a:lnTo>
                <a:close/>
              </a:path>
            </a:pathLst>
          </a:custGeom>
          <a:solidFill>
            <a:srgbClr val="fcecd5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3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Заголовок 1" descr=""/>
          <p:cNvPicPr/>
          <p:nvPr/>
        </p:nvPicPr>
        <p:blipFill>
          <a:blip r:embed="rId2"/>
          <a:stretch/>
        </p:blipFill>
        <p:spPr>
          <a:xfrm>
            <a:off x="3176640" y="2341440"/>
            <a:ext cx="2913120" cy="9446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1042560" y="3068280"/>
            <a:ext cx="69850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Еще есть время подготовиться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395280" cy="6892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08764"/>
          <p:cNvPicPr/>
          <p:nvPr/>
        </p:nvPicPr>
        <p:blipFill>
          <a:blip r:embed="rId4"/>
          <a:stretch/>
        </p:blipFill>
        <p:spPr>
          <a:xfrm>
            <a:off x="3635280" y="4076640"/>
            <a:ext cx="1873440" cy="1679760"/>
          </a:xfrm>
          <a:prstGeom prst="rect">
            <a:avLst/>
          </a:prstGeom>
          <a:ln w="0">
            <a:noFill/>
          </a:ln>
        </p:spPr>
      </p:pic>
      <p:sp>
        <p:nvSpPr>
          <p:cNvPr id="508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812000" y="602136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3794"/>
                </a:moveTo>
                <a:lnTo>
                  <a:pt x="28661" y="10800"/>
                </a:lnTo>
                <a:lnTo>
                  <a:pt x="14648" y="17806"/>
                </a:lnTo>
                <a:close/>
              </a:path>
            </a:pathLst>
          </a:custGeom>
          <a:solidFill>
            <a:srgbClr val="fcecd5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0:25:35Z</dcterms:created>
  <dc:creator>zenalla</dc:creator>
  <dc:description/>
  <dc:language>en-US</dc:language>
  <cp:lastModifiedBy>Admin</cp:lastModifiedBy>
  <dcterms:modified xsi:type="dcterms:W3CDTF">2014-10-20T14:02:38Z</dcterms:modified>
  <cp:revision>7</cp:revision>
  <dc:subject/>
  <dc:title>ЕГЭ                         2012год</dc:title>
</cp:coreProperties>
</file>