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3D5-2FEF-4B09-863D-719173CC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B6A-93FB-4E3C-895C-0E1368A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DF9-4B93-4CBF-8145-B2127BFB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393-6CB6-4850-BEBA-C66F1632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5D1-EE27-4051-AE18-ECBFAC5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B2C-E49E-4E44-993A-2055C012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4B9-0F1A-4B48-82BA-7EC915A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6F6-583D-460F-9D2D-B7A651D0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4EE-7D22-4F5D-AEE5-4491109B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890-7112-49A3-B2CE-9A022A1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A85-BA9D-4F50-A519-4156FCE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BCC-2767-4F7E-8822-5A8FDC0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585-E185-4FDE-A0DE-6599C46C6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9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 ПДД  по теме </a:t>
            </a:r>
            <a:br>
              <a:rPr sz="4400"/>
            </a:b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«Твоя дорога от дома до шко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авила и провела учитель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Крючкова Надежда Валерьевна с участием инспектора района Пронина Сергея Викторович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2 клас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ГБОУ ЦО №9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IMG_158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IMG_158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IMG_159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IMG_159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IMG_159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1</cp:lastModifiedBy>
  <dcterms:modified xsi:type="dcterms:W3CDTF">2014-10-27T16:48:34Z</dcterms:modified>
  <cp:revision>8</cp:revision>
  <dc:subject/>
  <dc:title>Презентация PowerPoint</dc:title>
</cp:coreProperties>
</file>