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D9E4-9EF1-4185-9591-D7734367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5BB-4B65-4ECF-B861-94529236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F0C-EB66-44FF-B8A1-19B215BC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EE4-A88E-4C4E-918F-C102FF24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006F-CBAC-4F37-B98D-23733A98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7EF9-C0D9-494C-BB86-50073192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798C-FD1A-48C1-A842-E5EE9759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A9BC-A015-49EA-9F22-062B4DF3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7946-BC88-46F2-BE68-A81022D9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7012-E7BA-4FF7-B5A5-590A02F2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EAC5-5D37-4000-8FB6-C3B57E73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43A1-4B96-4D9B-BD27-B9BCFC19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C144-81D2-4933-BF34-0E9C0C2D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43EB-0D1D-469F-BA4B-5C603B8D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0BF2-D0F4-4E46-9EDF-D1289EC5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DA9D-E081-45CC-84E7-EEBF34DB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F6C8-132F-4357-8465-8B7D0FB3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78F2-EE25-4809-B0B7-5549D5B9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114-E35A-4231-8761-794EBCEF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049-A18E-4DDB-AEA2-02503DE5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48A-5B00-4F48-9312-5CF85D99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23C1-9FE4-45A4-8397-A2652D4C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904-59D1-42A1-B40A-DE31A548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3D81-26ED-4B4F-8197-C2AECFEA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82D1-A8AC-40EE-8C24-66015804B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D06A-77EF-4D0B-8368-CCFD60FC5C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7200" spc="-1" strike="noStrike">
                <a:solidFill>
                  <a:srgbClr val="ffff66"/>
                </a:solidFill>
                <a:latin typeface="Arial Black"/>
              </a:rPr>
              <a:t>Контроль </a:t>
            </a:r>
            <a:br>
              <a:rPr sz="4800"/>
            </a:br>
            <a:r>
              <a:rPr b="0" lang="en-US" sz="4800" spc="-1" strike="noStrike">
                <a:solidFill>
                  <a:srgbClr val="ffff66"/>
                </a:solidFill>
                <a:latin typeface="Arial Black"/>
              </a:rPr>
              <a:t>как управленческая функция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онтроль – процесс, обеспечивающий </a:t>
            </a:r>
            <a:r>
              <a:rPr b="1" lang="en-US" sz="4000" spc="-1" strike="noStrike">
                <a:solidFill>
                  <a:srgbClr val="ffff66"/>
                </a:solidFill>
                <a:latin typeface="Arial Black"/>
              </a:rPr>
              <a:t>достижение ЦЕЛЕЙ организации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Модель процесса контр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713800" cy="583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Цель учебного занят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формирование профессиональных знаний о  контроле как управленческой функции, развитие ответственности за результаты деятельности, способности  адаптироваться к меняющимся обстоятельствам в трудовой деятельнос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4920" y="836280"/>
            <a:ext cx="84502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80694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80694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«Когда умный человек видит почему он добился успеха, он делает так снова. Когда же он видит свои ошибки, он не повторяет их».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И.Цзин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66"/>
                </a:solidFill>
                <a:latin typeface="Arial Black"/>
              </a:rPr>
              <a:t>Проблема для обсуждения</a:t>
            </a:r>
            <a:endParaRPr b="1" lang="en-US" sz="5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правленческий  контроль –  ограничения, исключающие возможность действий, наносящих вред организации </a:t>
            </a: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или…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ути поиска разрешения пробл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ределить,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ЧТ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такое управленческий контроль и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ДЛЯ ЧЕГ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необходимо контролирова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ществуют ли разновидности управленческого контрол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шить,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КАКИМ ОБРАЗО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следует осуществлять  контрол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 критерии и способы контроля  используются  для проверки рабочих показател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Дидактические задачи деятельност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4502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Раскрыть сущность и содержание понятия «контроль» как управленческой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На основе данных, полученных в результате анализа теории и практики управленческой деятельности разработать модель контроля  и сформулировать характеристики эффективного менеджме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Составить технологическую карту </a:t>
            </a: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 этапа контроля деятельности исполнителей виртуальной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Определения понятию «КОНТРОЛЬ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Контроль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оянное наблюдение в целях проверки и надзор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С.И. Ожегов. Толковый словарь русского язы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Контрол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процесс установления отклонений от предусмотренных величин и действий людей в хозяйственной деятельности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Майкл Мескон. Основы менеджмент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Контрол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роцесс соизмерения (сопоставления) фактически достигнутых результатов с запланированными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.Смирнов. Управление образовательными система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новные виды контрол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8713800" cy="4968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Характеристика основных видов контрол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1905120"/>
          <a:ext cx="8007480" cy="468000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варительный контроль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кущий контроль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ключительный контроль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ализуется в форме определенной политики, процедур и прави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няется по отношению к трудовым, материальным и финансовым ресурса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уществляется, когда работа уже идет и обычно производится в виде контроля работы подчиненного его непосредственным начальнико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уществляется после того, как работа закончена или истекло отведенное для нее врем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09:07:27Z</dcterms:created>
  <dc:creator>user</dc:creator>
  <dc:description/>
  <dc:language>en-US</dc:language>
  <cp:lastModifiedBy>user</cp:lastModifiedBy>
  <dcterms:modified xsi:type="dcterms:W3CDTF">2008-10-25T07:45:21Z</dcterms:modified>
  <cp:revision>26</cp:revision>
  <dc:subject/>
  <dc:title>Слайд 1</dc:title>
</cp:coreProperties>
</file>