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7CD2-243D-440F-B6CC-EF28FD5B41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F5FC-6A11-45FF-B97B-E6BA844FD58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712F-7262-4DC7-A36E-1A81C3046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5642-F694-4E32-890C-2E2F47A7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9298-5D50-4C44-BD93-BA2A3A40A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398C-DB21-4D5B-8E1C-8369D33F2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54A9-E8D3-4AAC-92FB-9B95655B8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A73BA-5811-4B1C-8B9B-660066D8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C2EB-9FA4-453C-BB23-433F7B97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EBF41-5EE1-40DB-B5BF-FC3B32C2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0BD9-5FC4-4C06-93C1-98D611E2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C851-B9E1-442B-8128-FAD5E27E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789F-A083-4667-A6E6-401064D2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8B80-5181-4141-9EDE-76AEBCDC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9C81-F8AF-4039-AF81-235148B8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83FD-861D-4622-9D86-A2AC0D58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CCDD-E011-4804-BF5E-11365675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D24A-44B2-4102-945F-BB8480CEA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4137-EBBF-48FB-A31A-B9F7355B5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EA68-1B0E-4EDC-A75C-1C6BBD4D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DF33-73F9-4F28-B4D5-79A8DB32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848F-9114-46BE-A456-F333B022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83D9-E38B-4AAE-B057-FE9A48BE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483A-6FD0-4790-BE16-4986C638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FBDA-6A1D-4B58-9343-FC1A220D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C00E-E48A-41B8-A72F-BCD86904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38BF-C119-4FF2-A087-7DD535A83CE1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DEE4-9245-42B7-B9CA-0DAE7C5071B8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Рисунок 3" descr="enter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2"/>
          <a:stretch/>
        </p:blipFill>
        <p:spPr>
          <a:xfrm>
            <a:off x="341280" y="109440"/>
            <a:ext cx="8461440" cy="1427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00 – Исчезнувшие. К ним относятся виды, ранее известные на территории и не встреченные там в последние 50 лет.  Пример: Венерин башмачок, очиток остролистный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0 – Вероятно исчезнувшие. Это виды, ранее известные на территории, сведения о единичных встречах в природе имеют 25-50 летнюю давность.  Пример: Астрагал сетчатый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237960" y="-165240"/>
            <a:ext cx="3133800" cy="939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575160" y="272520"/>
            <a:ext cx="5354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тегория1. Находящиеся под угрозой исчезновения. Это виды и популяции, численность особей которых уменьшилась до критического уровня таким образом, что в ближайшее время они могут исчезнуть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Рисунок 4" descr="D:\galery\030 Касатик (Ирис) карликовый - Iris pumila L..jpg"/>
          <p:cNvPicPr/>
          <p:nvPr/>
        </p:nvPicPr>
        <p:blipFill>
          <a:blip r:embed="rId2"/>
          <a:stretch/>
        </p:blipFill>
        <p:spPr>
          <a:xfrm>
            <a:off x="0" y="785880"/>
            <a:ext cx="39290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5D40CAOYBE9PCA02SRIICACLKURBCAAADVBACABPMLTHCA4XV5RECAHG093DCATETUHNCABD1UXTCAGA6PGZCACQ1SABCABBTIHDCAC3S5UWCASI69CRCAPOR3VXCAULMUMRCAEL5K7SCA5X27F7CAW9P2EU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97520"/>
          </a:xfrm>
          <a:prstGeom prst="rect">
            <a:avLst/>
          </a:prstGeom>
          <a:ln w="0">
            <a:noFill/>
          </a:ln>
        </p:spPr>
      </p:pic>
      <p:pic>
        <p:nvPicPr>
          <p:cNvPr id="101" name="Rectangle 5" descr=""/>
          <p:cNvPicPr/>
          <p:nvPr/>
        </p:nvPicPr>
        <p:blipFill>
          <a:blip r:embed="rId2"/>
          <a:stretch/>
        </p:blipFill>
        <p:spPr>
          <a:xfrm>
            <a:off x="-6480" y="231840"/>
            <a:ext cx="8242560" cy="121896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" descr="E:\3.мама\403382.jpg"/>
          <p:cNvPicPr/>
          <p:nvPr/>
        </p:nvPicPr>
        <p:blipFill>
          <a:blip r:embed="rId3"/>
          <a:stretch/>
        </p:blipFill>
        <p:spPr>
          <a:xfrm>
            <a:off x="0" y="1844640"/>
            <a:ext cx="82072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2560"/>
            <a:ext cx="300816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. Сокращающиеся в численности. Виды и популяции с неуклонно сокращающейся численностью, которые при дальнейшем могут в короткие сроки попасть в категорию находящихся под угрозой исчезнов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пример: Бельвалия Сарматск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Содержимое 4" descr="D:\galery\006 Бельвалия сарматская - Bellevalia sarmatica (Georgi) Woronow.jpg"/>
          <p:cNvPicPr/>
          <p:nvPr/>
        </p:nvPicPr>
        <p:blipFill>
          <a:blip r:embed="rId1"/>
          <a:stretch/>
        </p:blipFill>
        <p:spPr>
          <a:xfrm>
            <a:off x="3929040" y="214200"/>
            <a:ext cx="4389480" cy="60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371520" y="201600"/>
            <a:ext cx="3097080" cy="4809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214880" y="272520"/>
            <a:ext cx="44719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3. Редкие. Виды с низкой численностью, встречающиеся на ограниченной территории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Рисунок 4" descr="D:\galery\037 Ковыль опушённолистный - Stipa dasyphylla (Lindem.) Trautv..jpg"/>
          <p:cNvPicPr/>
          <p:nvPr/>
        </p:nvPicPr>
        <p:blipFill>
          <a:blip r:embed="rId2"/>
          <a:stretch/>
        </p:blipFill>
        <p:spPr>
          <a:xfrm>
            <a:off x="0" y="642960"/>
            <a:ext cx="428616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2"/>
          <a:stretch/>
        </p:blipFill>
        <p:spPr>
          <a:xfrm>
            <a:off x="281160" y="268200"/>
            <a:ext cx="88326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5D40CAOYBE9PCA02SRIICACLKURBCAAADVBACABPMLTHCA4XV5RECAHG093DCATETUHNCABD1UXTCAGA6PGZCACQ1SABCABBTIHDCAC3S5UWCASI69CRCAPOR3VXCAULMUMRCAEL5K7SCA5X27F7CAW9P2EU"/>
          <p:cNvPicPr/>
          <p:nvPr/>
        </p:nvPicPr>
        <p:blipFill>
          <a:blip r:embed="rId1"/>
          <a:stretch/>
        </p:blipFill>
        <p:spPr>
          <a:xfrm>
            <a:off x="0" y="0"/>
            <a:ext cx="9144000" cy="6794640"/>
          </a:xfrm>
          <a:prstGeom prst="rect">
            <a:avLst/>
          </a:prstGeom>
          <a:ln w="0">
            <a:noFill/>
          </a:ln>
        </p:spPr>
      </p:pic>
      <p:pic>
        <p:nvPicPr>
          <p:cNvPr id="112" name="Rectangle 5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0000"/>
                </a:solidFill>
                <a:latin typeface="Times New Roman"/>
              </a:rPr>
              <a:t>Помоги спасти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Мы призываем всех люде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К родной природе быть добрей –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Любить, ценить, оберега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И первоцветы не срывать 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8" descr="464835443[1]"/>
          <p:cNvPicPr/>
          <p:nvPr/>
        </p:nvPicPr>
        <p:blipFill>
          <a:blip r:embed="rId3"/>
          <a:stretch/>
        </p:blipFill>
        <p:spPr>
          <a:xfrm>
            <a:off x="468360" y="1749600"/>
            <a:ext cx="3959280" cy="3624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0_3821_a8549b96_XL[1]"/>
          <p:cNvPicPr/>
          <p:nvPr/>
        </p:nvPicPr>
        <p:blipFill>
          <a:blip r:embed="rId4"/>
          <a:stretch/>
        </p:blipFill>
        <p:spPr>
          <a:xfrm>
            <a:off x="4716360" y="3860640"/>
            <a:ext cx="352908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12:22:14Z</dcterms:created>
  <dc:creator>сергей</dc:creator>
  <dc:description/>
  <dc:language>en-US</dc:language>
  <cp:lastModifiedBy>1</cp:lastModifiedBy>
  <dcterms:modified xsi:type="dcterms:W3CDTF">2014-10-27T09:47:12Z</dcterms:modified>
  <cp:revision>44</cp:revision>
  <dc:subject/>
  <dc:title>Слайд 1</dc:title>
</cp:coreProperties>
</file>