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0B4B-4B66-4FA3-8405-5B944D33C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169D-CC2F-4B61-B764-0C75CA79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E217-1C90-4A04-BEAA-2C97751E5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7C13-E91B-4A7E-9B4D-CAB8A16CD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84A9-8360-48FA-AE16-50859CFB8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1C4B-7591-4CB3-82D0-6AE73927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9EA95-BB79-49EC-89A2-37B2AF4D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3FEC-1BD4-4DED-AF84-7868A8F2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CF06-CC4A-4F13-871A-D9944CD7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3B68-F9BE-4606-A5D0-E5D896BB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36E65-3548-41A8-856E-A7F55ADB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F996-F6CA-4ECA-AFE0-C3DAA7CC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B184-C4A7-4C44-9F69-D8CD9DAC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86D7-7C76-4174-85D3-F66C5075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21D6-D124-4BC8-B15B-E248B156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674E-4B9A-407A-841D-4CAD3D0E5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1B7B-1033-413D-B7CF-2D0F240C9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C8619-8E03-4392-8E98-5E56D6A4C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2E796-EE90-4B41-8EDC-81720C0F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B8AEC-9ABD-4985-A9E6-6CD75523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40A68-8D74-4DB2-9A34-CD680224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4F5C8-FB62-4D0F-90CC-F0ADD9E3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4093-C367-4643-9D94-3CE8113F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5D050-64E3-4C4F-8A54-495E8667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5EB54-DF42-4C2E-AD36-DF9123E8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6BEE7-936C-4919-8A99-1C15466D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F7699-FA14-4A30-9B88-F0BE5F19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81034-DDE3-4B7C-9227-74F5DBE6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7B471-FA60-4EDA-A50E-13CDD1DAA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CFFA5-93D3-470F-AE65-6219CCCF9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68816-2817-4BEA-BDA9-FE78B0FEF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354FF-7D88-402A-A640-93713969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E33DF-5D4B-44ED-A04D-32C7A8F6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4431-E21F-4E16-9E28-83972853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8667B-3C9D-47EB-9917-6612ED39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E6D07-6185-4714-8C2A-01CF3093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6FA12-0520-483C-81F7-25427643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68D1E-05D1-42D3-B0B0-424F17DE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B11CA-473C-4C4C-BB03-89F99375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7CAB2-D65F-4E88-B00B-528BB5C5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8A81B-9B5F-45A9-8A23-146E15BA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0E748-47BA-4507-856A-D4680DFEF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4970A-8825-4658-AACA-6610E162E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6BF1F-9117-43E4-B16B-F3842BDAD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F825-492D-439B-8B74-B7C1B866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6C397-EABD-4083-8570-2A066D25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A484F-A18F-4814-B22F-030D3CA2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2AF79-D112-406C-B13B-21EE5591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43DE2-E00C-485F-BED2-DB4E2446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EEB05-725E-43F5-B8B8-980D8F00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180BB-1287-418B-90EA-3AF02EE6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528C9-D298-41E9-B825-C62AF3CE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D0D77-1816-4952-BD46-D0F3F541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6B325-4F1D-4424-97F8-F8422D70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7527D-3D5D-411A-8AF7-69CE52451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95A9-A6A3-4687-BF9E-DC422790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A14CB-7BC6-472C-8F54-7EE659608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A091-D9E6-48F2-86C2-645ED5C4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89BC-3143-49E2-BD60-5B27BDF1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23E0-1955-477F-9DDE-530629F1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558E-EA2E-4E25-BA0F-06F53DAE6C5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38FF-B21E-40F3-842F-CCC74E98CBB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74C2-7079-4E68-82EA-EDCDAFE8465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57EF-8F61-4D17-A940-ABEB1ACBF9A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45DA-B809-4119-A544-4BC561A57E7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datai/biologija/Stroenie-kletki-i-ejo-funktsii/0022-024-Lizosomy.png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hyperlink" Target="http://www.megabook.ru/MObjects2/data/pict2008/10_06.jpg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2"/>
          <a:stretch/>
        </p:blipFill>
        <p:spPr>
          <a:xfrm>
            <a:off x="463680" y="285840"/>
            <a:ext cx="7862760" cy="4888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33160" y="1557000"/>
            <a:ext cx="78548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Constantia"/>
              </a:rPr>
              <a:t>Лизосомы</a:t>
            </a:r>
            <a:endParaRPr b="0" lang="en-US" sz="9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ыполнила: Пахмутова Тамар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Руководитель: Тураева М.В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2014г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WordArt 6"/>
          <p:cNvSpPr txBox="1"/>
          <p:nvPr/>
        </p:nvSpPr>
        <p:spPr>
          <a:xfrm>
            <a:off x="611280" y="0"/>
            <a:ext cx="7561080" cy="19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1ffff">
                        <a:alpha val="83137"/>
                      </a:srgbClr>
                    </a:gs>
                    <a:gs pos="100000">
                      <a:srgbClr val="00b400">
                        <a:alpha val="59215"/>
                      </a:srgbClr>
                    </a:gs>
                  </a:gsLst>
                  <a:lin ang="5400000"/>
                </a:gradFill>
                <a:latin typeface="Times New Roman"/>
              </a:rPr>
              <a:t>Лизосо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1ffff">
                      <a:alpha val="83137"/>
                    </a:srgbClr>
                  </a:gs>
                  <a:gs pos="100000">
                    <a:srgbClr val="00b400">
                      <a:alpha val="59215"/>
                    </a:srgbClr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250920" y="1989000"/>
            <a:ext cx="3673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Лизосомы представляют собой небольшие округлые тельца. От цитоплазм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аждая лизосома отграничен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ембраной. Внутри лизосомы находят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ерменты, расщепляющие белки, жиры, углеводы, нуклеиновые кислоты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9" name="Picture 2" descr="Картинка 18 из 7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14680" y="2836800"/>
            <a:ext cx="562932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" nodeType="afterEffect" fill="hold" presetClass="entr" presetID="38">
                                  <p:stCondLst>
                                    <p:cond delay="2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рямоугольник 1"/>
          <p:cNvSpPr/>
          <p:nvPr/>
        </p:nvSpPr>
        <p:spPr>
          <a:xfrm>
            <a:off x="285840" y="1503360"/>
            <a:ext cx="37148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Лизосомы были впервые описаны в 1955 году Кристианом де Дювом в животной клетке, а позже были обнаружены и в растительной. У растений к лизосомам по способу образования, а отчасти и по функциям близки вакуоли. Лизосомы есть также у грибов. Таким образом, наличие лизосом характерно для клеток всех эукариот. У прокариот лизосомы отсутствуют, так как у них отсутствует фагоцитоз и нет внутриклеточного пищеварени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Прямоугольник 5" descr=""/>
          <p:cNvPicPr/>
          <p:nvPr/>
        </p:nvPicPr>
        <p:blipFill>
          <a:blip r:embed="rId2"/>
          <a:stretch/>
        </p:blipFill>
        <p:spPr>
          <a:xfrm>
            <a:off x="-189000" y="281160"/>
            <a:ext cx="4395960" cy="12128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3574800" y="1676520"/>
            <a:ext cx="511164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3" name="Picture 5" descr="C:\Users\Tamara\Desktop\deduve.jpg"/>
          <p:cNvPicPr/>
          <p:nvPr/>
        </p:nvPicPr>
        <p:blipFill>
          <a:blip r:embed="rId3"/>
          <a:stretch/>
        </p:blipFill>
        <p:spPr>
          <a:xfrm>
            <a:off x="5003640" y="1773360"/>
            <a:ext cx="3168720" cy="42242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4617b"/>
                </a:solidFill>
                <a:latin typeface="Calibri"/>
              </a:rPr>
              <a:t>Строение </a:t>
            </a:r>
            <a:endParaRPr b="0" lang="en-US" sz="9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10920" y="1920960"/>
            <a:ext cx="82818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узырьки овальной формы (снаружи - мембрана, внутри –ферменты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Picture 2" descr="C:\Users\Tamara\Desktop\20120619201844!Bior8_7_14.gif"/>
          <p:cNvPicPr/>
          <p:nvPr/>
        </p:nvPicPr>
        <p:blipFill>
          <a:blip r:embed="rId2"/>
          <a:stretch/>
        </p:blipFill>
        <p:spPr>
          <a:xfrm>
            <a:off x="1258920" y="2781360"/>
            <a:ext cx="66261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1"/>
          <p:cNvSpPr/>
          <p:nvPr/>
        </p:nvSpPr>
        <p:spPr>
          <a:xfrm>
            <a:off x="0" y="785880"/>
            <a:ext cx="457200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Функциями лизосом являются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ереваривание захваченных клеткой при эндоцитозе веществ или частиц (бактерий, других клеток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аутофагия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— уничтожение ненужных клетке структур, например, во время замены старых органоидов новыми, или переваривание белков и других веществ, произведенных внутри самой клетк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автолиз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— самопереваривание клетки, приводящее к ее гибели (иногда этот процесс не является патологическим, а сопровождает развитие организма или дифференцировку некоторых специализированных клеток). Пример: При превращении головастика в лягушку, лизосомы, находящиеся в клетках хвоста, переваривают его: хвост исчезает, а образовавшиеся во время этого процесса вещества всасываются и используются другими клетками тел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9" name="Прямоугольник 3" descr=""/>
          <p:cNvPicPr/>
          <p:nvPr/>
        </p:nvPicPr>
        <p:blipFill>
          <a:blip r:embed="rId2"/>
          <a:stretch/>
        </p:blipFill>
        <p:spPr>
          <a:xfrm>
            <a:off x="-396720" y="-208080"/>
            <a:ext cx="4103640" cy="1195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Картинка 1 из 7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500040"/>
            <a:ext cx="4643280" cy="59292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4617b"/>
                </a:solidFill>
                <a:latin typeface="Calibri"/>
              </a:rPr>
              <a:t>Где находятся:</a:t>
            </a:r>
            <a:endParaRPr b="0" lang="en-US" sz="8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20960"/>
            <a:ext cx="41148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Лизосомы находятся в клетках почти всех типов, но количество их весьма разнообразно и зависит от специализации клетки. Очень много лизосом в макрофагах и нейтрофильных гранулоцитах, которые специализированы на фагоцитоз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. Ядрышк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. Ядр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3. рибосома (маленькие точки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4. везикул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5. шероховатый эндоплазматический ретикулу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6. Аппарат Гольдж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7. Цитоскеле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8. Гладкий эндоплазматический ретикулу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9. Митохондр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0. Вакуол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1. Цитоплазм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2. Лизосом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3. Центриоль и Центросом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4" name="Picture 6" descr="C:\Users\Tamara\Desktop\300px-Biological_cell.svg.png"/>
          <p:cNvPicPr/>
          <p:nvPr/>
        </p:nvPicPr>
        <p:blipFill>
          <a:blip r:embed="rId2"/>
          <a:stretch/>
        </p:blipFill>
        <p:spPr>
          <a:xfrm>
            <a:off x="539640" y="4149720"/>
            <a:ext cx="410364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9:15:54Z</dcterms:created>
  <dc:creator>Гость</dc:creator>
  <dc:description/>
  <dc:language>en-US</dc:language>
  <cp:lastModifiedBy>user</cp:lastModifiedBy>
  <dcterms:modified xsi:type="dcterms:W3CDTF">2014-10-23T05:34:37Z</dcterms:modified>
  <cp:revision>24</cp:revision>
  <dc:subject/>
  <dc:title>Слайд 1</dc:title>
</cp:coreProperties>
</file>