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FF5-9134-48A5-9A6B-BAD16197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24C-F386-4BA2-A44A-69BCDE14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84D-4B19-4D4B-89B2-901F2241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8AB-9E90-4BB7-9768-91B60EA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90D-87AD-49B2-9D52-AC6D0ED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6A9-920D-40F4-85C1-4677899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78C-6DCD-40C8-8050-ECEB599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E6B-0927-48A2-A116-B7CD14B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EB2-FA22-421F-A2F0-91AB5AC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1AA-90AF-4440-8FC2-8E49764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F29-6E8D-4CB9-A360-DA61C4F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F40-B288-4C5A-A3E0-E0E2589E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3EB-F8F2-46D5-9024-6DCA4C6C4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para-loshadei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vorobushki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pirozhki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v-detsadu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voleibolnaya-komanda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ribolov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-work.net/golovolomki/zadachi-shutki/tsaplya-1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огические задачи для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10 лет Сереже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 нет еще 6,-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а все никак не может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ережи дорасти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сколько лет моложе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Дима, чем Сереж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4 лет молож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пля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цыпленка стоят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 скорлупках сидят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яиц под крылом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дки лежат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й поверней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й поскорей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цыплят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дки моей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0 цыпля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g.eyebg.com/images/mgp6f2a66t9msxhjastl.jpg"/>
          <p:cNvPicPr/>
          <p:nvPr/>
        </p:nvPicPr>
        <p:blipFill>
          <a:blip r:embed="rId2"/>
          <a:stretch/>
        </p:blipFill>
        <p:spPr>
          <a:xfrm>
            <a:off x="4714920" y="1571760"/>
            <a:ext cx="3714840" cy="411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а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стояло 3 стакана с вишней. Костя съел один стакан вишни, поставив пустой стакан на стол. Сколько стаканов осталос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3 стака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malm.com.ua/uploads/sommarfint-51673fd8d65ae.jpg"/>
          <p:cNvPicPr/>
          <p:nvPr/>
        </p:nvPicPr>
        <p:blipFill>
          <a:blip r:embed="rId2"/>
          <a:stretch/>
        </p:blipFill>
        <p:spPr>
          <a:xfrm>
            <a:off x="4572000" y="1571760"/>
            <a:ext cx="421488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полнила: Воспитатель ГБОУСОШ №152 Букиа Медеа Гурами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Пара лошад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лошадей пробежала 20 км. По скольку километров пробежала каждая лоша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20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oto-zverey.ru/images/KON35_small.jpg"/>
          <p:cNvPicPr/>
          <p:nvPr/>
        </p:nvPicPr>
        <p:blipFill>
          <a:blip r:embed="rId3"/>
          <a:stretch/>
        </p:blipFill>
        <p:spPr>
          <a:xfrm>
            <a:off x="4714920" y="1714680"/>
            <a:ext cx="3024000" cy="341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Воробуш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тке сидят 3 воробья. Пришла кошка и поймала одного воробушка. Сколько воробьев осталось сидеть на ветк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одного. Все остальные улетел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воробьишки.. Природа Ухты и Коми Ухта"/>
          <p:cNvPicPr/>
          <p:nvPr/>
        </p:nvPicPr>
        <p:blipFill>
          <a:blip r:embed="rId3"/>
          <a:stretch/>
        </p:blipFill>
        <p:spPr>
          <a:xfrm>
            <a:off x="4643280" y="1643040"/>
            <a:ext cx="3500640" cy="38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Пирож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ила бабка в печь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жки с капустой в печь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таши, Маши, Тани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, Оли, Гали, Вани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жки уже готовы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еще один пирог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под лавку уволок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печи четыре шту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считают внучки.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ожешь, помоги сосчитать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12 порожков всег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Пирожки: подборка изображений"/>
          <p:cNvPicPr/>
          <p:nvPr/>
        </p:nvPicPr>
        <p:blipFill>
          <a:blip r:embed="rId2"/>
          <a:stretch/>
        </p:blipFill>
        <p:spPr>
          <a:xfrm>
            <a:off x="5099040" y="1643040"/>
            <a:ext cx="287352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В детсад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аду есть паровоз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автомобилей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пес - блестящий нос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кот Василий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 куколок в одной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е деревянной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трушка заводной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ий и румяный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твет: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meloman.kz/upload/images/46565_365144_10.jpg"/>
          <p:cNvPicPr/>
          <p:nvPr/>
        </p:nvPicPr>
        <p:blipFill>
          <a:blip r:embed="rId2"/>
          <a:stretch/>
        </p:blipFill>
        <p:spPr>
          <a:xfrm>
            <a:off x="6072120" y="4214880"/>
            <a:ext cx="2419560" cy="154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otoys.ru/picturesNew/feber/b_8000044701.jpg"/>
          <p:cNvPicPr/>
          <p:nvPr/>
        </p:nvPicPr>
        <p:blipFill>
          <a:blip r:embed="rId3"/>
          <a:stretch/>
        </p:blipFill>
        <p:spPr>
          <a:xfrm>
            <a:off x="3357720" y="4971960"/>
            <a:ext cx="20714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bumbom.ru/uploaded_files/shop_images/1/2704/big-2704.jpg"/>
          <p:cNvPicPr/>
          <p:nvPr/>
        </p:nvPicPr>
        <p:blipFill>
          <a:blip r:embed="rId4"/>
          <a:stretch/>
        </p:blipFill>
        <p:spPr>
          <a:xfrm>
            <a:off x="5072040" y="1643040"/>
            <a:ext cx="2786040" cy="248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Волейбольная коман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Сережа, Коля, Ванда -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йбольная команда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с Игорем пока -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ных два игрока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гда подучатся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ас получится?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Волейбольный мяч бесплатные картинки."/>
          <p:cNvPicPr/>
          <p:nvPr/>
        </p:nvPicPr>
        <p:blipFill>
          <a:blip r:embed="rId2"/>
          <a:stretch/>
        </p:blipFill>
        <p:spPr>
          <a:xfrm>
            <a:off x="4983120" y="1714680"/>
            <a:ext cx="301788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7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Рыбо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олов за 2 мин. поймал 4 рыбки. За сколько минут он поймает 8 таких же рыбок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вопрос задачи ответить нельз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1.liveinternet.ru/images/attach/c/0/43/724/43724519_ruybolovuy61.jpg"/>
          <p:cNvPicPr/>
          <p:nvPr/>
        </p:nvPicPr>
        <p:blipFill>
          <a:blip r:embed="rId3"/>
          <a:stretch/>
        </p:blipFill>
        <p:spPr>
          <a:xfrm>
            <a:off x="4643280" y="1714680"/>
            <a:ext cx="364356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Цап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0040" y="1599840"/>
            <a:ext cx="385776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цапля стоит на одной ноге, то она весит 3 кг. Сколько будет весить цапля, если встанет на две ног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3к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img1.liveinternet.ru/images/attach/c/0/32/684/32684846_post251146264394.jpg"/>
          <p:cNvPicPr/>
          <p:nvPr/>
        </p:nvPicPr>
        <p:blipFill>
          <a:blip r:embed="rId2"/>
          <a:stretch/>
        </p:blipFill>
        <p:spPr>
          <a:xfrm>
            <a:off x="4643280" y="1643040"/>
            <a:ext cx="3571920" cy="395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укол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39718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егодня рано встала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 всех своих считала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атрешки - на окошке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ринки - на перинке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сик с Катей, Буратино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трушка в колпачке - 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ом сундуч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tat18.privet.ru/lr/0a15142bd5e0eaf2666f5423c4ee82a3"/>
          <p:cNvPicPr/>
          <p:nvPr/>
        </p:nvPicPr>
        <p:blipFill>
          <a:blip r:embed="rId2"/>
          <a:stretch/>
        </p:blipFill>
        <p:spPr>
          <a:xfrm>
            <a:off x="4643280" y="1643040"/>
            <a:ext cx="3786480" cy="423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5:59:14Z</dcterms:created>
  <dc:creator>user</dc:creator>
  <dc:description/>
  <dc:language>en-US</dc:language>
  <cp:lastModifiedBy>Людмила Леонидовна</cp:lastModifiedBy>
  <dcterms:modified xsi:type="dcterms:W3CDTF">2014-10-27T14:13:54Z</dcterms:modified>
  <cp:revision>40</cp:revision>
  <dc:subject/>
  <dc:title>Логические задачи для детей</dc:title>
</cp:coreProperties>
</file>