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D0C0-209F-4869-B43E-4CD2B4DB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286-E275-4D5A-AD6A-D5182EE2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E40-51F7-4D99-B1A1-731BEAD1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A2B-D89C-4553-A566-969469BC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361-AD48-4574-984C-BBFBA508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EA7-8ED0-4F04-9264-64BBC233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E3C9-C5AD-4F92-9D25-0227A310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69E-8944-4E87-B6BF-440CE41B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75F4-C3DF-4EEC-B37F-89FBBEEB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98E1-BF2E-4477-BBD5-20DDFE73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112B-4656-41C7-B472-35912028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CDE-E38E-4E5D-896B-9F59FCBC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C1AF-409C-40C0-94CE-28199014E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damast.ru/images/all/textures/textures_22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damast.ru/images/all/textures/textures_22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pic.ipicture.ru/uploads/090321/16441/qs7MVQshRg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damast.ru/images/all/textures/textures_22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damast.ru/images/all/textures/textures_2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damast.ru/images/all/textures/textures_22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damast.ru/images/all/textures/textures_22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hyperlink" Target="http://images.yandex.ru/yandpage?&amp;p=85&amp;ed=1&amp;text=&#1042;&#1086;&#1081;&#1085;&#1072;%20&#1080;%20&#1084;&#1080;&#1088;%20&#1090;&#1086;&#1083;&#1089;&#1090;&#1086;&#1081;&amp;rpt=simage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damast.ru/images/all/textures/textures_2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damast.ru/images/all/textures/textures_22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mrcpk.marsu.ru/works_iso/2007-08-13-proftex/novoselova/image/lit20-19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homepage.ru/pictures/0006/0267/002_view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mm1"/>
          <p:cNvPicPr/>
          <p:nvPr/>
        </p:nvPicPr>
        <p:blipFill>
          <a:blip r:embed="rId1"/>
          <a:srcRect l="3421" t="719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 rot="20458200">
            <a:off x="3780000" y="4076640"/>
            <a:ext cx="3587760" cy="21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"Женщина цвета луны..."</a:t>
            </a:r>
            <a:endParaRPr b="0" i="1" lang="en-US" sz="1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Тема любви в романе</a:t>
            </a:r>
            <a:endParaRPr b="0" i="1" lang="en-US" sz="1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М.Булгакова</a:t>
            </a:r>
            <a:endParaRPr b="0" i="1" lang="en-US" sz="1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"Мастер и Маргарита"</a:t>
            </a:r>
            <a:endParaRPr b="0" i="1" lang="en-US" sz="1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Картинка 953 из 19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50920" y="620640"/>
            <a:ext cx="3132000" cy="4673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Маргарита на балу Воланда"/>
          <p:cNvPicPr/>
          <p:nvPr/>
        </p:nvPicPr>
        <p:blipFill>
          <a:blip r:embed="rId4"/>
          <a:stretch/>
        </p:blipFill>
        <p:spPr>
          <a:xfrm>
            <a:off x="6719760" y="260280"/>
            <a:ext cx="2181240" cy="3097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780000" y="2060640"/>
            <a:ext cx="2792160" cy="4487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Картинка 953 из 19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32508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ализ эпизода «Маргарита на балу у Воланда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340000" y="981000"/>
            <a:ext cx="680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ово место эпизода в развитии сюже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ова пространственно-временная организация текс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чему именно Маргарита становится хозяйкой ба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ие действия Маргариты до бала подчеркивают ее королевскую ст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она ведет себя во время бала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ова ее задача на бал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ово ее самочувствие и какие страдания ей пришлось перене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чему М. не напомнила Воланду о его обеща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ой поступок М. можно считать достойным короле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-main-pic" descr="Картинка 22 из 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907920"/>
            <a:ext cx="2160360" cy="4365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216480"/>
            <a:ext cx="665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ллюстрации к роману "Мастер и Маргарита" М. Булгак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Бал». Павел Ориня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Картинка 953 из 19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от, кто любит, должен разделить участь того, кого он люб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 rot="20828400">
            <a:off x="324000" y="1557360"/>
            <a:ext cx="1549080" cy="2009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20852400">
            <a:off x="468360" y="3573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росл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 rot="1017000">
            <a:off x="6372360" y="1341000"/>
            <a:ext cx="2168280" cy="3168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779400">
            <a:off x="5795640" y="4437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ша Миро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Картинка 953 из 19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76544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Любовь – это…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788480" y="348120"/>
            <a:ext cx="6071400" cy="6350040"/>
            <a:chOff x="1788480" y="348120"/>
            <a:chExt cx="6071400" cy="6350040"/>
          </a:xfrm>
        </p:grpSpPr>
        <p:sp>
          <p:nvSpPr>
            <p:cNvPr id="94" name="_s12326"/>
            <p:cNvSpPr/>
            <p:nvPr/>
          </p:nvSpPr>
          <p:spPr>
            <a:xfrm flipH="1" flipV="1">
              <a:off x="3749400" y="2399040"/>
              <a:ext cx="538920" cy="56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2325"/>
            <p:cNvSpPr/>
            <p:nvPr/>
          </p:nvSpPr>
          <p:spPr>
            <a:xfrm>
              <a:off x="2455200" y="1045080"/>
              <a:ext cx="1518120" cy="1587960"/>
            </a:xfrm>
            <a:prstGeom prst="ellipse">
              <a:avLst/>
            </a:prstGeom>
            <a:solidFill>
              <a:srgbClr val="edc4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ружб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2324"/>
            <p:cNvSpPr/>
            <p:nvPr/>
          </p:nvSpPr>
          <p:spPr>
            <a:xfrm flipH="1">
              <a:off x="3305160" y="3522240"/>
              <a:ext cx="76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2323"/>
            <p:cNvSpPr/>
            <p:nvPr/>
          </p:nvSpPr>
          <p:spPr>
            <a:xfrm>
              <a:off x="1788480" y="2729160"/>
              <a:ext cx="1518120" cy="1587960"/>
            </a:xfrm>
            <a:prstGeom prst="ellipse">
              <a:avLst/>
            </a:prstGeom>
            <a:solidFill>
              <a:srgbClr val="edc4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трудниче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2322"/>
            <p:cNvSpPr/>
            <p:nvPr/>
          </p:nvSpPr>
          <p:spPr>
            <a:xfrm flipH="1">
              <a:off x="3749400" y="4081320"/>
              <a:ext cx="538920" cy="56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2321"/>
            <p:cNvSpPr/>
            <p:nvPr/>
          </p:nvSpPr>
          <p:spPr>
            <a:xfrm>
              <a:off x="2455200" y="4413240"/>
              <a:ext cx="1518120" cy="1587960"/>
            </a:xfrm>
            <a:prstGeom prst="ellipse">
              <a:avLst/>
            </a:prstGeom>
            <a:solidFill>
              <a:srgbClr val="edc4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пережи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2320"/>
            <p:cNvSpPr/>
            <p:nvPr/>
          </p:nvSpPr>
          <p:spPr>
            <a:xfrm>
              <a:off x="4823280" y="4312440"/>
              <a:ext cx="0" cy="79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2319"/>
            <p:cNvSpPr/>
            <p:nvPr/>
          </p:nvSpPr>
          <p:spPr>
            <a:xfrm>
              <a:off x="4065120" y="5110200"/>
              <a:ext cx="1518120" cy="1587960"/>
            </a:xfrm>
            <a:prstGeom prst="ellipse">
              <a:avLst/>
            </a:prstGeom>
            <a:solidFill>
              <a:srgbClr val="edc4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ер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2318"/>
            <p:cNvSpPr/>
            <p:nvPr/>
          </p:nvSpPr>
          <p:spPr>
            <a:xfrm>
              <a:off x="5357880" y="4081320"/>
              <a:ext cx="538920" cy="56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2317"/>
            <p:cNvSpPr/>
            <p:nvPr/>
          </p:nvSpPr>
          <p:spPr>
            <a:xfrm>
              <a:off x="5675400" y="4413240"/>
              <a:ext cx="1518120" cy="1587960"/>
            </a:xfrm>
            <a:prstGeom prst="ellipse">
              <a:avLst/>
            </a:prstGeom>
            <a:solidFill>
              <a:srgbClr val="edc4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амоотвержен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2315"/>
            <p:cNvSpPr/>
            <p:nvPr/>
          </p:nvSpPr>
          <p:spPr>
            <a:xfrm>
              <a:off x="5578920" y="3522240"/>
              <a:ext cx="76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2314"/>
            <p:cNvSpPr/>
            <p:nvPr/>
          </p:nvSpPr>
          <p:spPr>
            <a:xfrm>
              <a:off x="6341760" y="2729160"/>
              <a:ext cx="1518120" cy="1587960"/>
            </a:xfrm>
            <a:prstGeom prst="ellipse">
              <a:avLst/>
            </a:prstGeom>
            <a:solidFill>
              <a:srgbClr val="edc4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орьб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2313"/>
            <p:cNvSpPr/>
            <p:nvPr/>
          </p:nvSpPr>
          <p:spPr>
            <a:xfrm flipV="1">
              <a:off x="5357880" y="2399040"/>
              <a:ext cx="538920" cy="56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2312"/>
            <p:cNvSpPr/>
            <p:nvPr/>
          </p:nvSpPr>
          <p:spPr>
            <a:xfrm>
              <a:off x="5675400" y="1045080"/>
              <a:ext cx="1518120" cy="1587960"/>
            </a:xfrm>
            <a:prstGeom prst="ellipse">
              <a:avLst/>
            </a:prstGeom>
            <a:solidFill>
              <a:srgbClr val="edc4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амопожертв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2311"/>
            <p:cNvSpPr/>
            <p:nvPr/>
          </p:nvSpPr>
          <p:spPr>
            <a:xfrm flipV="1">
              <a:off x="4823280" y="1933920"/>
              <a:ext cx="0" cy="79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2310"/>
            <p:cNvSpPr/>
            <p:nvPr/>
          </p:nvSpPr>
          <p:spPr>
            <a:xfrm>
              <a:off x="4065120" y="348120"/>
              <a:ext cx="1518120" cy="1587960"/>
            </a:xfrm>
            <a:prstGeom prst="ellipse">
              <a:avLst/>
            </a:prstGeom>
            <a:solidFill>
              <a:srgbClr val="edc4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часть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2309"/>
            <p:cNvSpPr/>
            <p:nvPr/>
          </p:nvSpPr>
          <p:spPr>
            <a:xfrm>
              <a:off x="4065120" y="2731320"/>
              <a:ext cx="1518120" cy="1588680"/>
            </a:xfrm>
            <a:prstGeom prst="ellipse">
              <a:avLst/>
            </a:prstGeom>
            <a:solidFill>
              <a:srgbClr val="edc4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нцепц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любв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 Булгаков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Картинка 953 из 19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71640" y="412200"/>
            <a:ext cx="7297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улгаков сумел проникнуть в душу человека и увидел, что она то место, где сходятся земля и небо. И тогда он выдумал для любящих и преданных сердец место покоя и бессмертия: “Вот твой дом, вот твой вечный дом”, — говорит Маргарита, и где-то далеко ей вторит голос другого поэта, прошедшего эту дорогу до конца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-main-pic" descr="Картинка 1 из 3800"/>
          <p:cNvPicPr/>
          <p:nvPr/>
        </p:nvPicPr>
        <p:blipFill>
          <a:blip r:embed="rId3"/>
          <a:stretch/>
        </p:blipFill>
        <p:spPr>
          <a:xfrm>
            <a:off x="4500720" y="3686040"/>
            <a:ext cx="4643280" cy="3171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8360" y="3573360"/>
            <a:ext cx="345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мерть и Время царят на земле, —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Ты владыками их не зови;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се, кружась, исчезает во мгле,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еподвижно лишь солнце люб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50920" y="5732640"/>
            <a:ext cx="936360" cy="93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006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953 из 19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емы мини-сочин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мысли, чувства волновали тебя, когда ты читал(а) о взаимоотношениях Мастера и Маргари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можна 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ая «настоящ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ерная, ве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бовь в наш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ни?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-main-pic" descr="Картинка 28 из 3800"/>
          <p:cNvPicPr/>
          <p:nvPr/>
        </p:nvPicPr>
        <p:blipFill>
          <a:blip r:embed="rId3"/>
          <a:stretch/>
        </p:blipFill>
        <p:spPr>
          <a:xfrm>
            <a:off x="3708360" y="2665440"/>
            <a:ext cx="525636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Картинка 953 из 1976"/>
          <p:cNvPicPr/>
          <p:nvPr/>
        </p:nvPicPr>
        <p:blipFill>
          <a:blip r:embed="rId1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848160"/>
            <a:ext cx="5472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За мной, читатель! Кто сказал тебе, что нет на свете настоящей, верной, вечной любви? Да отрежут лгуну его гнусный язык. За мной, мой читатель, и только за мной, и я покажу тебе такую любов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885080" y="566100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46" name="i-main-pic" descr="Картинка 1 из 21"/>
          <p:cNvPicPr/>
          <p:nvPr/>
        </p:nvPicPr>
        <p:blipFill>
          <a:blip r:embed="rId3"/>
          <a:stretch/>
        </p:blipFill>
        <p:spPr>
          <a:xfrm>
            <a:off x="6443640" y="115920"/>
            <a:ext cx="2467080" cy="3809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0820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01800" y="4005360"/>
            <a:ext cx="20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хаи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улг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Картинка 953 из 1976"/>
          <p:cNvPicPr/>
          <p:nvPr/>
        </p:nvPicPr>
        <p:blipFill>
          <a:blip r:embed="rId1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юбовные пары в произведениях русской класс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%5BLI9RK_11-09%5D_%5BIL_03%5D-k" descr=""/>
          <p:cNvPicPr/>
          <p:nvPr/>
        </p:nvPicPr>
        <p:blipFill>
          <a:blip r:embed="rId2"/>
          <a:stretch/>
        </p:blipFill>
        <p:spPr>
          <a:xfrm rot="20572800">
            <a:off x="394920" y="1412640"/>
            <a:ext cx="2314440" cy="287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20517000">
            <a:off x="1112760" y="439560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тьяна Ларина и Евгений Онег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" descr="">
            <a:hlinkClick r:id="rId3"/>
          </p:cNvPr>
          <p:cNvPicPr/>
          <p:nvPr/>
        </p:nvPicPr>
        <p:blipFill>
          <a:blip r:embed="rId4">
            <a:lum bright="6000"/>
          </a:blip>
          <a:stretch/>
        </p:blipFill>
        <p:spPr>
          <a:xfrm rot="1165200">
            <a:off x="6659640" y="1268280"/>
            <a:ext cx="1960560" cy="2737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024200">
            <a:off x="5943240" y="4051440"/>
            <a:ext cx="25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таша Ростова и Андрей Болко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Картинка 953 из 1976"/>
          <p:cNvPicPr/>
          <p:nvPr/>
        </p:nvPicPr>
        <p:blipFill>
          <a:blip r:embed="rId1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745920"/>
            <a:ext cx="85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нквейн – стихотворение из 5 строк, каждая из которых имеет строг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держание и определенную фор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– существительное, задающее те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– два прилагательных к данному существительно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– три глагола к данному существительно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 – смысловая фраза ( отношение автора к теме, его чувств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 - одно заключительное слово (предложение), определяю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моциональное отношение ко все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Картинка 953 из 1976"/>
          <p:cNvPicPr/>
          <p:nvPr/>
        </p:nvPicPr>
        <p:blipFill>
          <a:blip r:embed="rId1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Ц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Желтые, трев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являются, выделяются, тревож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хорошие ц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менно они соединили Мастера и Маргари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03640" y="2852640"/>
            <a:ext cx="3762360" cy="379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Картинка 953 из 1976"/>
          <p:cNvPicPr/>
          <p:nvPr/>
        </p:nvPicPr>
        <p:blipFill>
          <a:blip r:embed="rId1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уть к люб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 чувства могут привести к любви, страсти, все: ненависть, сожаление, равнодушие, благоговение, страх и даже презрение. Да, все чувства…, исключая одно: благодар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.С.Турге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Картинка 953 из 19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ототип Маргар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бы так описать любовь, Булгакову суждено было все это пережить само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Мастер и Маргарита"/>
          <p:cNvPicPr/>
          <p:nvPr/>
        </p:nvPicPr>
        <p:blipFill>
          <a:blip r:embed="rId1"/>
          <a:srcRect l="25586" t="13136" r="0" b="12067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79280" y="260280"/>
            <a:ext cx="8785440" cy="316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732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злюбленная по Булгакову - это подруга,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4000" y="4149720"/>
            <a:ext cx="15811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дьма,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04000" y="4292640"/>
            <a:ext cx="20001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ролев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Картинка 953 из 19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ализ эпизода «Погром в квартире Латунского»</a:t>
            </a:r>
            <a:br>
              <a:rPr sz="24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345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ово место эпизода в идейном замысле писател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овы действия Маргари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ми звуками сопровождаются действия герои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раскрывается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м эпизоде 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аракте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-main-pic" descr="Картинка 21 из 10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3716280"/>
            <a:ext cx="4465800" cy="297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Картинка 5 из 10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7640" y="1052640"/>
            <a:ext cx="2700360" cy="1909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13:40Z</dcterms:created>
  <dc:creator>1</dc:creator>
  <dc:description/>
  <dc:language>en-US</dc:language>
  <cp:lastModifiedBy>OEM</cp:lastModifiedBy>
  <dcterms:modified xsi:type="dcterms:W3CDTF">2009-12-19T07:16:18Z</dcterms:modified>
  <cp:revision>5</cp:revision>
  <dc:subject/>
  <dc:title>Слайд 1</dc:title>
</cp:coreProperties>
</file>