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13.gif" ContentType="image/gif"/>
  <Override PartName="/ppt/media/image8.gif" ContentType="image/gif"/>
  <Override PartName="/ppt/media/image4.jpeg" ContentType="image/jpeg"/>
  <Override PartName="/ppt/media/image22.gif" ContentType="image/gif"/>
  <Override PartName="/ppt/media/image25.png" ContentType="image/png"/>
  <Override PartName="/ppt/media/image23.gif" ContentType="image/gif"/>
  <Override PartName="/ppt/media/image21.gif" ContentType="image/gif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0F4D-3E2D-4396-8AED-1668C0AB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A33F-F093-491D-BB2F-7FFD051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40E5-A779-4B1A-A6E4-09A8F363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9941-9751-410E-9E8A-29AA88B1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D9AB-1DCE-4C8B-B750-2F4F96C4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8061-4B23-4069-8B7C-05475368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ADC0-B397-4BD2-8F18-FF0D8BEB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1EDF-D8EC-41DF-A895-9C560B74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7CB4-DFF8-413A-B88D-A28DBF5F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3151-6AE2-46C0-B41C-A43FC34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A616-29AD-4DF5-BDFC-5014609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5803-1E39-4B61-922B-E7A8F86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E280-DF3D-419D-8FB7-FB4E4AFE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2711-E66D-407F-A8FD-2007A4C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490D-3600-4FC5-B726-2BDF4CE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6C41-BFF0-4454-BE26-A0A2B9E2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DC6-07C3-4EE7-B695-8B2A502E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A45B-3640-496B-8E13-DFA0B165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2576-0FCD-40C4-AB31-9D53F481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FCD1-3965-4F4B-AC30-70EC2F7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647B-0D5D-4D66-90E0-8E192EC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E649-7ED7-4CB2-857C-D2090C88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E187-9701-4D15-82DE-61BDCC1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56BB-09D5-4E2D-BB22-33001DA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1EE2-53D7-4FF0-A3BF-95958731FB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1DC6-436C-4324-9F91-35D6BED2FB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7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Comic Sans MS"/>
              </a:rPr>
              <a:t>Действия объекта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1054080" cy="1633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620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Летело по небу 3            и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колько птиц летело по неб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2205000"/>
            <a:ext cx="5616720" cy="520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Петухи и курицы не лет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789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403280" y="3429000"/>
            <a:ext cx="676440" cy="1123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68360" y="3860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ли сы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211640" y="3141720"/>
            <a:ext cx="1150920" cy="1295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64000" y="38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дкралась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4508640"/>
            <a:ext cx="705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хватила одного мышонка. Сколько мышат осталось доедать сы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5734080"/>
            <a:ext cx="8424720" cy="947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исколько. Остальные мыши разбежа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31640" y="404640"/>
            <a:ext cx="3816360" cy="1027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лавно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кты могут совершать различ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юбое сложное действие объекта можно представить в виде последовательности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удовлетворения своих потребностей люди создали автоматические устройства, которым задается последовательность шагов, из которых складывается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56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476280"/>
            <a:ext cx="8713800" cy="9471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азовите объект и дайте название действ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025640"/>
            <a:ext cx="2533680" cy="251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2968560"/>
            <a:ext cx="2229120" cy="1708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181764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55ab"/>
                </a:solidFill>
                <a:latin typeface="Comic Sans MS"/>
              </a:rPr>
              <a:t>Аист несет</a:t>
            </a:r>
            <a:r>
              <a:rPr b="1" lang="en-US" sz="2800" spc="-1" strike="noStrike">
                <a:solidFill>
                  <a:srgbClr val="5555ab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555ab"/>
                </a:solidFill>
                <a:latin typeface="Comic Sans MS"/>
              </a:rPr>
              <a:t>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3500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55ab"/>
                </a:solidFill>
                <a:latin typeface="Comic Sans MS"/>
              </a:rPr>
              <a:t>Идет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16000" y="4984920"/>
            <a:ext cx="1720800" cy="153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67280" y="5157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55ab"/>
                </a:solidFill>
                <a:latin typeface="Comic Sans MS"/>
              </a:rPr>
              <a:t>Сверкает мол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5000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6772" t="6078" r="8850" b="6078"/>
          <a:stretch/>
        </p:blipFill>
        <p:spPr>
          <a:xfrm>
            <a:off x="755640" y="620640"/>
            <a:ext cx="1800360" cy="208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3622" t="0" r="3543" b="0"/>
          <a:stretch/>
        </p:blipFill>
        <p:spPr>
          <a:xfrm>
            <a:off x="6732720" y="54936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10497" t="0" r="10554" b="0"/>
          <a:stretch/>
        </p:blipFill>
        <p:spPr>
          <a:xfrm>
            <a:off x="3492360" y="3068640"/>
            <a:ext cx="2160720" cy="2678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4360" y="278136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охлаж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80536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нагре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9080" y="27082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пылесос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476280"/>
            <a:ext cx="86407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ое сложное действие объекта можно представить (описать)в виде последовательности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Шаг 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днять правую ногу, перенести её вперёд и поставит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Шаг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днять левую ногу, перенести ее вперед и поставить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Шаг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днять правую ногу, перенести её вперёд и поставить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Шаг 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днять левую ногу, перенести ее вперед и поставить на зем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00360" y="6093000"/>
            <a:ext cx="337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ловек ходи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404640"/>
            <a:ext cx="755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гадай объект по его действия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052640"/>
            <a:ext cx="46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д полом, под по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евелит хво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щели гля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ылезти бо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1255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4000" y="1125360"/>
            <a:ext cx="28728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1656000" cy="1241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95280" y="3933720"/>
            <a:ext cx="28728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3860640"/>
            <a:ext cx="52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ерый маленький Де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веревочке пов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56360" y="476280"/>
            <a:ext cx="1584360" cy="1522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58920" y="62064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рупно, дробно зача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всю землю напо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280" y="620640"/>
            <a:ext cx="28728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1692360" cy="169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32000" y="2852640"/>
            <a:ext cx="446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онь ст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вса не прос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 пашет и к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2924280"/>
            <a:ext cx="2872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40000" y="476280"/>
            <a:ext cx="5111640" cy="6426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pperplate Gothic Bold"/>
              </a:rPr>
              <a:t>Назови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880920" cy="13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7440" y="2781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5800" y="4510080"/>
            <a:ext cx="924120" cy="1514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5440" y="163044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Лечит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9440" y="32860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азвлекает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4870440"/>
            <a:ext cx="58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блюдает за звез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8351640" cy="642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Составь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11280" y="31399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91280" y="148428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870200" y="4579920"/>
            <a:ext cx="950760" cy="1500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119640" y="4795920"/>
            <a:ext cx="952560" cy="1238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582560" y="1339920"/>
            <a:ext cx="1555920" cy="1555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975280" y="3068640"/>
            <a:ext cx="1428840" cy="1457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3166560" y="2492280"/>
            <a:ext cx="3024360" cy="1224000"/>
          </a:xfrm>
          <a:prstGeom prst="line">
            <a:avLst/>
          </a:prstGeom>
          <a:ln w="57240">
            <a:solidFill>
              <a:srgbClr val="cccc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20296800">
            <a:off x="3670200" y="2636640"/>
            <a:ext cx="2006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ша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19280" y="476280"/>
            <a:ext cx="61214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зови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0200" y="1166760"/>
            <a:ext cx="862200" cy="1513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82920" y="181440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ломала 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4200" y="260676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Сломанный каранд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0560" y="3759120"/>
            <a:ext cx="847440" cy="847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59280" y="3830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ъ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4200" y="46227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Съеденное яб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58920" y="3398760"/>
            <a:ext cx="1038240" cy="1171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042920" y="512604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770200" y="55594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лили в 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6920" y="62784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Стакан с лимона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5:21:06Z</dcterms:created>
  <dc:creator>Татьяна</dc:creator>
  <dc:description/>
  <dc:language>en-US</dc:language>
  <cp:lastModifiedBy>Татьяна</cp:lastModifiedBy>
  <dcterms:modified xsi:type="dcterms:W3CDTF">2009-10-21T16:30:59Z</dcterms:modified>
  <cp:revision>17</cp:revision>
  <dc:subject/>
  <dc:title>Действия объекта</dc:title>
</cp:coreProperties>
</file>