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FD0DA-C92C-4E76-A8A4-265408F94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865D-1248-4E5C-BCFC-10AF514B4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490DE-EBC0-4A75-BEBA-920CEB6AA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CDED7-055E-4AAD-9284-9B9319F59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5D6D0-F48F-4F90-952B-F5F2ECF5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D7973-214F-4ABE-9C2E-8ED227C3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A28E-9E77-4DB6-B23D-E4C4D9327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F985-D7FF-43D2-8800-5F7EC1CCB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E6EE2-E0B9-4119-8B65-AFD0DB99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42CD-9DF5-42A3-B220-8222FE14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7264-C1B1-4338-8808-D61ECAE5F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8678-20D6-4C90-8406-8DAB3C8F5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2523-DFE6-4E18-8792-342AC91EC6DA}"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Первая Мировая Война.</a:t>
            </a:r>
            <a:br>
              <a:rPr sz="4000"/>
            </a:br>
            <a:r>
              <a:rPr b="1" lang="ru-RU" sz="4000" spc="-1" strike="noStrike">
                <a:solidFill>
                  <a:srgbClr val="ffffff"/>
                </a:solidFill>
                <a:latin typeface="Tahoma"/>
              </a:rPr>
              <a:t>Компании 1915-1916 гг.</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42" name="PlaceHolder 2"/>
          <p:cNvSpPr>
            <a:spLocks noGrp="1"/>
          </p:cNvSpPr>
          <p:nvPr>
            <p:ph/>
          </p:nvPr>
        </p:nvSpPr>
        <p:spPr>
          <a:xfrm>
            <a:off x="5714640" y="5943240"/>
            <a:ext cx="3429000" cy="762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дготовил ученик 11 «Б» класс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еньков Илья</a:t>
            </a:r>
            <a:endParaRPr b="0" lang="en-US" sz="1600" spc="-1" strike="noStrike">
              <a:solidFill>
                <a:srgbClr val="ffffff"/>
              </a:solidFill>
              <a:latin typeface="Tahoma"/>
            </a:endParaRPr>
          </a:p>
        </p:txBody>
      </p:sp>
      <p:sp>
        <p:nvSpPr>
          <p:cNvPr id="43" name="PlaceHolder 3"/>
          <p:cNvSpPr>
            <a:spLocks noGrp="1"/>
          </p:cNvSpPr>
          <p:nvPr>
            <p:ph/>
          </p:nvPr>
        </p:nvSpPr>
        <p:spPr>
          <a:xfrm>
            <a:off x="3886200" y="6324120"/>
            <a:ext cx="990720" cy="304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2011</a:t>
            </a:r>
            <a:endParaRPr b="0" lang="en-US" sz="1600" spc="-1" strike="noStrike">
              <a:solidFill>
                <a:srgbClr val="ffffff"/>
              </a:solidFill>
              <a:latin typeface="Tahoma"/>
            </a:endParaRPr>
          </a:p>
        </p:txBody>
      </p:sp>
      <p:pic>
        <p:nvPicPr>
          <p:cNvPr id="44" name="Picture 6" descr=""/>
          <p:cNvPicPr/>
          <p:nvPr/>
        </p:nvPicPr>
        <p:blipFill>
          <a:blip r:embed="rId1"/>
          <a:stretch/>
        </p:blipFill>
        <p:spPr>
          <a:xfrm>
            <a:off x="380880" y="1752480"/>
            <a:ext cx="733284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403848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 моменту наступления германские войска сумели усовершенствовать свои оборонительные позиции. Наступление, продолжавшееся до 7 октября, привело к чрезвычайно ограниченным результатам. В то же время, потери обеих сторон были огромными . </a:t>
            </a:r>
            <a:endParaRPr b="0" lang="en-US" sz="2400" spc="-1" strike="noStrike">
              <a:solidFill>
                <a:srgbClr val="ffffff"/>
              </a:solidFill>
              <a:latin typeface="Tahoma"/>
            </a:endParaRPr>
          </a:p>
        </p:txBody>
      </p:sp>
      <p:pic>
        <p:nvPicPr>
          <p:cNvPr id="68" name="Picture 6" descr="0_69628_39a9a2c4_XL"/>
          <p:cNvPicPr/>
          <p:nvPr/>
        </p:nvPicPr>
        <p:blipFill>
          <a:blip r:embed="rId1"/>
          <a:stretch/>
        </p:blipFill>
        <p:spPr>
          <a:xfrm>
            <a:off x="4775040" y="152280"/>
            <a:ext cx="4368960" cy="670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Позиции сторон к концу 1915 года и итоги кампани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а весь 1915 год фронт практически не сдвинулся — результатом всех ожесточенных наступлений явились подвижки линии фронта не более чем на 10 км. Обе стороны, все более и более укреплявшие свои оборонительные позиции, не смогли выработать тактики, позволяющей прорвать фрон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громные жертвы обеих сторон не дали никакого значимого результата. Ситуация, однако, позволила Германии усилить натиск на Восточном фронте — все укрепление германской армии было направлено на борьбу с Россие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6840" y="609480"/>
            <a:ext cx="4267080" cy="548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ранция и Россия снова предприняли попытки скоординировать действия своих армий — весеннее наступление в Артуа было призвано отвлечь германцев от активного наступления на русских. Было признано необходимым начать подготовку к согласованному наступлению всех союзных армий на трех главных театрах — французском, русском и итальянском. </a:t>
            </a:r>
            <a:endParaRPr b="0" lang="en-US" sz="2400" spc="-1" strike="noStrike">
              <a:solidFill>
                <a:srgbClr val="ffffff"/>
              </a:solidFill>
              <a:latin typeface="Tahoma"/>
            </a:endParaRPr>
          </a:p>
        </p:txBody>
      </p:sp>
      <p:pic>
        <p:nvPicPr>
          <p:cNvPr id="73" name="Picture 6" descr="42fba-list2"/>
          <p:cNvPicPr/>
          <p:nvPr/>
        </p:nvPicPr>
        <p:blipFill>
          <a:blip r:embed="rId1"/>
          <a:stretch/>
        </p:blipFill>
        <p:spPr>
          <a:xfrm>
            <a:off x="5181480" y="762120"/>
            <a:ext cx="375948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Русский театр военных действий — Восточный фронт</a:t>
            </a:r>
            <a:br>
              <a:rPr sz="4000"/>
            </a:br>
            <a:endParaRPr b="0" lang="en-US" sz="4000" spc="-1" strike="noStrike">
              <a:solidFill>
                <a:srgbClr val="ffffff"/>
              </a:solidFill>
              <a:latin typeface="Tahoma"/>
            </a:endParaRPr>
          </a:p>
        </p:txBody>
      </p:sp>
      <p:sp>
        <p:nvSpPr>
          <p:cNvPr id="75" name="PlaceHolder 2"/>
          <p:cNvSpPr>
            <a:spLocks noGrp="1"/>
          </p:cNvSpPr>
          <p:nvPr>
            <p:ph/>
          </p:nvPr>
        </p:nvSpPr>
        <p:spPr>
          <a:xfrm>
            <a:off x="228240" y="1981080"/>
            <a:ext cx="4267080" cy="472464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имняя операция в Восточной Пруссии.</a:t>
            </a:r>
            <a:r>
              <a:rPr b="0" lang="ru-RU" sz="2000" spc="-1" strike="noStrike">
                <a:solidFill>
                  <a:srgbClr val="ffffff"/>
                </a:solidFill>
                <a:latin typeface="Tahoma"/>
              </a:rPr>
              <a:t> В феврале русская армия предприняла очередную попытку наступления на Восточную Пруссию, на этот раз с юго-востока, из Мазурии, от города Сувалки. Плохо подготовленное, необеспеченное артиллерийской поддержкой наступление мгновенно захлебнулось и перешло в контрудар немецких войск, так называемую Августовскую операцию (по названию города Августов). </a:t>
            </a:r>
            <a:endParaRPr b="0" lang="en-US" sz="2000" spc="-1" strike="noStrike">
              <a:solidFill>
                <a:srgbClr val="ffffff"/>
              </a:solidFill>
              <a:latin typeface="Tahoma"/>
            </a:endParaRPr>
          </a:p>
        </p:txBody>
      </p:sp>
      <p:pic>
        <p:nvPicPr>
          <p:cNvPr id="76" name="Picture 5" descr="1"/>
          <p:cNvPicPr/>
          <p:nvPr/>
        </p:nvPicPr>
        <p:blipFill>
          <a:blip r:embed="rId1"/>
          <a:stretch/>
        </p:blipFill>
        <p:spPr>
          <a:xfrm>
            <a:off x="4648320" y="2438280"/>
            <a:ext cx="4495680" cy="335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219320"/>
            <a:ext cx="784872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26 февраля германцам удалось вытеснить русские войска с территории Восточной Прусии и продвинуться вглубь Царства Польского на 100—120 км, XX русский корпус был окружен и сдался в пле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228600"/>
            <a:ext cx="7696080" cy="3733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смотря на победу германцев, их надежды на полное крушение русского фронта не оправдались. В ходе следующего сражения — Праснышской операции (25 февраля — конец марта) германцы встретились с ожесточенным сопротивлением русских войск, перешедшим в контратаку в районе Прасныша, приведшей к отходу германцев на довоенную границу Восточной Пруссии (Сувалкская губерния при этом осталась за Германией). </a:t>
            </a:r>
            <a:endParaRPr b="0" lang="en-US" sz="2400" spc="-1" strike="noStrike">
              <a:solidFill>
                <a:srgbClr val="ffffff"/>
              </a:solidFill>
              <a:latin typeface="Tahoma"/>
            </a:endParaRPr>
          </a:p>
        </p:txBody>
      </p:sp>
      <p:pic>
        <p:nvPicPr>
          <p:cNvPr id="79" name="Picture 6" descr="61829_or"/>
          <p:cNvPicPr/>
          <p:nvPr/>
        </p:nvPicPr>
        <p:blipFill>
          <a:blip r:embed="rId1"/>
          <a:stretch/>
        </p:blipFill>
        <p:spPr>
          <a:xfrm>
            <a:off x="2819520" y="3657600"/>
            <a:ext cx="4038480" cy="288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Зимняя операция в Карпатах.</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81" name="PlaceHolder 2"/>
          <p:cNvSpPr>
            <a:spLocks noGrp="1"/>
          </p:cNvSpPr>
          <p:nvPr>
            <p:ph/>
          </p:nvPr>
        </p:nvSpPr>
        <p:spPr>
          <a:xfrm>
            <a:off x="457200" y="1981080"/>
            <a:ext cx="4038480" cy="457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9-11 февраля австро-германские войска начали наступление в Карпатах. В то же время русская армия начала встречное наступление, рассчитывая перейти Карпаты и вторгнуться в Венгрию с севера на юг. В северной части Карпат, ближе к Кракову, силы противников оказались равными, и фронт за время боев в феврале и марте практически не сдвинулся, оставшись в предгорьях Карпат с русской стороны. </a:t>
            </a:r>
            <a:endParaRPr b="0" lang="en-US" sz="2000" spc="-1" strike="noStrike">
              <a:solidFill>
                <a:srgbClr val="ffffff"/>
              </a:solidFill>
              <a:latin typeface="Tahoma"/>
            </a:endParaRPr>
          </a:p>
        </p:txBody>
      </p:sp>
      <p:pic>
        <p:nvPicPr>
          <p:cNvPr id="82" name="Picture 5" descr="699_18"/>
          <p:cNvPicPr/>
          <p:nvPr/>
        </p:nvPicPr>
        <p:blipFill>
          <a:blip r:embed="rId1"/>
          <a:stretch/>
        </p:blipFill>
        <p:spPr>
          <a:xfrm>
            <a:off x="4908600" y="1981080"/>
            <a:ext cx="35193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91404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о на юге Карпат русская армия не успела сгруппироваться, и концу марта русскими была потеряна большая часть Буковины с Черновцами. 22 марта пала осажденная австрийская крепость Перемышль. Взятие Перемышля стало последним крупным успехом русской армии в 1915 году.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Горлицкий прорыв. Начало Великого отступления русских армий — потеря Галици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85" name="PlaceHolder 2"/>
          <p:cNvSpPr>
            <a:spLocks noGrp="1"/>
          </p:cNvSpPr>
          <p:nvPr>
            <p:ph/>
          </p:nvPr>
        </p:nvSpPr>
        <p:spPr>
          <a:xfrm>
            <a:off x="380880" y="22096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 середине весны ситуация на фронте в Галиции изменилась. Германцы расширили зону своих операций, перебросив на северную и центральную часть фронта в Австро-Венгрии свои войска, более слабые австро-венгры теперь отвечали только за южную часть фронт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800"/>
            <a:ext cx="821520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1915 год.</a:t>
            </a:r>
            <a:br>
              <a:rPr sz="4000"/>
            </a:br>
            <a:r>
              <a:rPr b="1" lang="ru-RU" sz="4000" spc="-1" strike="noStrike">
                <a:solidFill>
                  <a:srgbClr val="ffffff"/>
                </a:solidFill>
                <a:latin typeface="Tahoma"/>
              </a:rPr>
              <a:t>Французский театр военных действий — Западный фронт</a:t>
            </a:r>
            <a:br>
              <a:rPr sz="4000"/>
            </a:br>
            <a:endParaRPr b="0" lang="en-US" sz="4000" spc="-1" strike="noStrike">
              <a:solidFill>
                <a:srgbClr val="ffffff"/>
              </a:solidFill>
              <a:latin typeface="Tahoma"/>
            </a:endParaRPr>
          </a:p>
        </p:txBody>
      </p:sp>
      <p:sp>
        <p:nvSpPr>
          <p:cNvPr id="46" name="PlaceHolder 2"/>
          <p:cNvSpPr>
            <a:spLocks noGrp="1"/>
          </p:cNvSpPr>
          <p:nvPr>
            <p:ph/>
          </p:nvPr>
        </p:nvSpPr>
        <p:spPr>
          <a:xfrm>
            <a:off x="151920" y="2057040"/>
            <a:ext cx="495324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Действия начала 1915 года.</a:t>
            </a:r>
            <a:r>
              <a:rPr b="0" lang="ru-RU" sz="2800" spc="-1" strike="noStrike">
                <a:solidFill>
                  <a:srgbClr val="ffffff"/>
                </a:solidFill>
                <a:latin typeface="Tahoma"/>
              </a:rPr>
              <a:t> Интенсивность действий на Западном фронте с начала 1915 года значительно уменьшилась. Германия сосредоточила свои силы на подготовке операций против Росси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07680" y="4559400"/>
            <a:ext cx="8002440" cy="15336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9 апреля (2 мая) германские войска начали наступление на центр русской позиции в Австро-Венгрии — Горлице — нацелив основной удар на Львов. Дальнейшие события сложились неблагоприятно для русской армии: численное преобладание германцев, неудачное маневрирование, нарастающая нехватка снарядов и полное преобладание германской тяжелой артиллерии привели к тому, что к 22 апреля (5 мая) фронт в районе Горлиц был прорван. </a:t>
            </a:r>
            <a:endParaRPr b="0" lang="en-US" sz="1600" spc="-1" strike="noStrike">
              <a:solidFill>
                <a:srgbClr val="ffffff"/>
              </a:solidFill>
              <a:latin typeface="Tahoma"/>
            </a:endParaRPr>
          </a:p>
        </p:txBody>
      </p:sp>
      <p:pic>
        <p:nvPicPr>
          <p:cNvPr id="87" name="Picture 6" descr="1286183348_022"/>
          <p:cNvPicPr/>
          <p:nvPr/>
        </p:nvPicPr>
        <p:blipFill>
          <a:blip r:embed="rId1"/>
          <a:stretch/>
        </p:blipFill>
        <p:spPr>
          <a:xfrm>
            <a:off x="1447920" y="380880"/>
            <a:ext cx="6400800" cy="37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авшийся отход русских армий продолжался до 9 (22) июня. Весь фронт южнее Варшавы передвинулся в сторону России. Отступление, начавшись с прорыва германцев, к моменту оставления Львова приобрело плановый характер, русские войска отходили в относительном порядк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Продолжение Великого отступления русских армий — потеря Польш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обившись успеха на южной части театра военных действий, германское командование решило немедленно продолжать активное наступление в северной его части — в Польше и в Восточной Пруссии — Остзейском кра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456840"/>
            <a:ext cx="4038480" cy="5638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е между Вислой и Бугом было начато 13 (26) июня, а 30 июня (13 июля) началась Наревская операция. После ожесточенных боев фронт был прорван в обоих местах, и русская армия, как и было предусмотрено германским планом, начала общий отход из Царства Польского. 22 июля (4 августа) были оставлены Варшава и крепость Ивангород.</a:t>
            </a:r>
            <a:endParaRPr b="0" lang="en-US" sz="2400" spc="-1" strike="noStrike">
              <a:solidFill>
                <a:srgbClr val="ffffff"/>
              </a:solidFill>
              <a:latin typeface="Tahoma"/>
            </a:endParaRPr>
          </a:p>
        </p:txBody>
      </p:sp>
      <p:pic>
        <p:nvPicPr>
          <p:cNvPr id="93" name="Picture 6" descr="536_258"/>
          <p:cNvPicPr/>
          <p:nvPr/>
        </p:nvPicPr>
        <p:blipFill>
          <a:blip r:embed="rId1"/>
          <a:stretch/>
        </p:blipFill>
        <p:spPr>
          <a:xfrm>
            <a:off x="4648320" y="685800"/>
            <a:ext cx="4038480" cy="492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800600" y="457200"/>
            <a:ext cx="4191120" cy="54864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е из Восточной Пруссии (Риго-Шавельская операция) началось 1 (14) июля. За месяц боев русские войска были оттеснены за Неман, германцы захватили Курляндию с Митавой и важнейшей военно-морской базой Либавой, Ковно, вплотную подошли к Риге. </a:t>
            </a:r>
            <a:endParaRPr b="0" lang="en-US" sz="2400" spc="-1" strike="noStrike">
              <a:solidFill>
                <a:srgbClr val="ffffff"/>
              </a:solidFill>
              <a:latin typeface="Tahoma"/>
            </a:endParaRPr>
          </a:p>
        </p:txBody>
      </p:sp>
      <p:pic>
        <p:nvPicPr>
          <p:cNvPr id="95" name="Picture 6" descr="D615C96B291E-59"/>
          <p:cNvPicPr/>
          <p:nvPr/>
        </p:nvPicPr>
        <p:blipFill>
          <a:blip r:embed="rId1"/>
          <a:stretch/>
        </p:blipFill>
        <p:spPr>
          <a:xfrm>
            <a:off x="0" y="1066680"/>
            <a:ext cx="4648320" cy="503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спеху германского наступления способствовало то обстоятельство, что к лету кризис военного снабжения русской армии достиг максимума. Особое значение имел так называемый «снарядный голод». Царство Польское давало России около четверти добычи каменного угля, потеря польских месторождений так и не была скомпенсирована, с конца 1915 года в России начался топливный кризи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Завершение великого отступления и стабилизация фронт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 (22) августа германцы переместили направление главного удара; теперь основное наступление происходило по фронту севернее Вильно, в районе Свенцян, и было направлено на Минск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ом оказалось то, что русские смогли заполнить фронт только после того, как отошли непосредственно к Минску. Виленская губерния русскими была потерян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762120"/>
            <a:ext cx="4038480" cy="533376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 концу сентября — началу октября фронт стабилизировлся, и на всей его протяженности наступило затишье. Наступательный потенциал германцев был исчерпан, русские начали восстанавливать свои сильно пострадавшие при отступлении войска и укреплять новые оборонительные рубежи. </a:t>
            </a:r>
            <a:endParaRPr b="0" lang="en-US" sz="2400" spc="-1" strike="noStrike">
              <a:solidFill>
                <a:srgbClr val="ffffff"/>
              </a:solidFill>
              <a:latin typeface="Tahoma"/>
            </a:endParaRPr>
          </a:p>
        </p:txBody>
      </p:sp>
      <p:pic>
        <p:nvPicPr>
          <p:cNvPr id="101" name="Picture 6" descr="3bae2d368a51"/>
          <p:cNvPicPr/>
          <p:nvPr/>
        </p:nvPicPr>
        <p:blipFill>
          <a:blip r:embed="rId1"/>
          <a:stretch/>
        </p:blipFill>
        <p:spPr>
          <a:xfrm>
            <a:off x="4495680" y="2819520"/>
            <a:ext cx="4343400" cy="385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Позиции сторон к концу 1915 год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 концу 1915 года фронт превратился практически в прямую линию, соединяющую Балтийское и Черное море; выступ фронта в Царстве Польском полностью исчез — Польша была полностью занята Германией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6840" y="4878360"/>
            <a:ext cx="7923240" cy="1217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рвые четыре месяца года на фронте царило почти полное затишье.</a:t>
            </a:r>
            <a:endParaRPr b="0" lang="en-US" sz="2800" spc="-1" strike="noStrike">
              <a:solidFill>
                <a:srgbClr val="ffffff"/>
              </a:solidFill>
              <a:latin typeface="Tahoma"/>
            </a:endParaRPr>
          </a:p>
        </p:txBody>
      </p:sp>
      <p:pic>
        <p:nvPicPr>
          <p:cNvPr id="48" name="Picture 6" descr="b893e40de9cd"/>
          <p:cNvPicPr/>
          <p:nvPr/>
        </p:nvPicPr>
        <p:blipFill>
          <a:blip r:embed="rId1"/>
          <a:stretch/>
        </p:blipFill>
        <p:spPr>
          <a:xfrm>
            <a:off x="1523880" y="533520"/>
            <a:ext cx="5334120" cy="3458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4422600"/>
            <a:ext cx="7391520" cy="167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вая конфигурация фронта, не имевшего выступов и плотно заполненного войсками обеих сторон, естественным образом подталкивала к переходу к позиционной войне и к оборонительной тактике. </a:t>
            </a:r>
            <a:endParaRPr b="0" lang="en-US" sz="2400" spc="-1" strike="noStrike">
              <a:solidFill>
                <a:srgbClr val="ffffff"/>
              </a:solidFill>
              <a:latin typeface="Tahoma"/>
            </a:endParaRPr>
          </a:p>
        </p:txBody>
      </p:sp>
      <p:pic>
        <p:nvPicPr>
          <p:cNvPr id="105" name="Picture 6" descr="9d09e1b7974876629d487b78d9104ad1_full"/>
          <p:cNvPicPr/>
          <p:nvPr/>
        </p:nvPicPr>
        <p:blipFill>
          <a:blip r:embed="rId1"/>
          <a:stretch/>
        </p:blipFill>
        <p:spPr>
          <a:xfrm>
            <a:off x="1600200" y="685800"/>
            <a:ext cx="5867280" cy="340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Итоги кампании 1915 года на Восточном фронте.</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ермания смогла добиться существенных военных побед и захватить территорию противника, тактическое преимущество Германии в маневренной войне было очевидным; но в то же время генеральная цель — полное поражение одного из противников и вывод его из войны — не была достигнута и в 1915 г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оссия, невзирая на большие потери в территории и в живой силе, полностью сохранила способность продолжать войн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685800"/>
            <a:ext cx="7238880" cy="2743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концу Великого отступления русские сумели преодолеть кризис военного снабжения, и ситуация с артиллерией и снарядами для нее к концу года нормализовалась. </a:t>
            </a:r>
            <a:endParaRPr b="0" lang="en-US" sz="2800" spc="-1" strike="noStrike">
              <a:solidFill>
                <a:srgbClr val="ffffff"/>
              </a:solidFill>
              <a:latin typeface="Tahoma"/>
            </a:endParaRPr>
          </a:p>
        </p:txBody>
      </p:sp>
      <p:pic>
        <p:nvPicPr>
          <p:cNvPr id="110" name="Picture 12" descr="9d09e1b7974876629d487b78d9104ad1_full"/>
          <p:cNvPicPr/>
          <p:nvPr/>
        </p:nvPicPr>
        <p:blipFill>
          <a:blip r:embed="rId1"/>
          <a:stretch/>
        </p:blipFill>
        <p:spPr>
          <a:xfrm>
            <a:off x="1447920" y="3200400"/>
            <a:ext cx="5475240" cy="317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жесточенная борьба и большие людские потери привели экономики России, Германии и Австро-Венгрии к перенапряжению, негативные результаты которого будут все более и более заметны в последующие год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1916 год</a:t>
            </a:r>
            <a:endParaRPr b="0" lang="en-US" sz="4400" spc="-1" strike="noStrike">
              <a:solidFill>
                <a:srgbClr val="ff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 добившись решительного успеха на Восточном фронте в кампании 1915 года, германское командование решило в 1916 году нанести основной удар на западе и вывести из войны Францию.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52280" y="457200"/>
            <a:ext cx="3810240" cy="64008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1 февраля 1916 года германские войска начали наступательную операцию в районе крепости Верден, получившую название Битва при Вердене. После упорных боев с огромными потерями с обеих сторон немцам удалось продвинуться на 6—8 километров вперёд и взять некоторые из фортов крепости, но их наступление было остановлено. Эта битва продолжалась до 18 декабря 1916 года. </a:t>
            </a:r>
            <a:endParaRPr b="0" lang="en-US" sz="2400" spc="-1" strike="noStrike">
              <a:solidFill>
                <a:srgbClr val="ffffff"/>
              </a:solidFill>
              <a:latin typeface="Tahoma"/>
            </a:endParaRPr>
          </a:p>
        </p:txBody>
      </p:sp>
      <p:pic>
        <p:nvPicPr>
          <p:cNvPr id="115" name="Picture 6" descr="c12a6690ed65"/>
          <p:cNvPicPr/>
          <p:nvPr/>
        </p:nvPicPr>
        <p:blipFill>
          <a:blip r:embed="rId1"/>
          <a:stretch/>
        </p:blipFill>
        <p:spPr>
          <a:xfrm>
            <a:off x="4114800" y="1959120"/>
            <a:ext cx="5029200" cy="4441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981080"/>
            <a:ext cx="403848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ходе Верденского сражения впервые применялось новое оружие со стороны Германии — огнемёт. Немцы впервые начали применять самолёт-истребитель, </a:t>
            </a:r>
            <a:endParaRPr b="0" lang="en-US" sz="2800" spc="-1" strike="noStrike">
              <a:solidFill>
                <a:srgbClr val="ffffff"/>
              </a:solidFill>
              <a:latin typeface="Tahoma"/>
            </a:endParaRPr>
          </a:p>
        </p:txBody>
      </p:sp>
      <p:pic>
        <p:nvPicPr>
          <p:cNvPr id="117" name="Picture 7" descr="3754731"/>
          <p:cNvPicPr/>
          <p:nvPr/>
        </p:nvPicPr>
        <p:blipFill>
          <a:blip r:embed="rId1"/>
          <a:stretch/>
        </p:blipFill>
        <p:spPr>
          <a:xfrm>
            <a:off x="4648320" y="155520"/>
            <a:ext cx="4038480" cy="2832120"/>
          </a:xfrm>
          <a:prstGeom prst="rect">
            <a:avLst/>
          </a:prstGeom>
          <a:ln w="0">
            <a:noFill/>
          </a:ln>
        </p:spPr>
      </p:pic>
      <p:pic>
        <p:nvPicPr>
          <p:cNvPr id="118" name="Picture 8" descr="31510b712ac9772b9c8fe2990941e385_original"/>
          <p:cNvPicPr/>
          <p:nvPr/>
        </p:nvPicPr>
        <p:blipFill>
          <a:blip r:embed="rId2"/>
          <a:stretch/>
        </p:blipFill>
        <p:spPr>
          <a:xfrm>
            <a:off x="5111640" y="3625920"/>
            <a:ext cx="3880080" cy="2469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3886200"/>
            <a:ext cx="8686800" cy="28195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 июня 1916 года началась крупная наступательная операция русской армии, получившая название Брусиловский прорыв по имени командующего фронтом А. А. Брусилова. В результате наступательной операции Юго-Западный фронт нанес тяжёлое поражение германским и австро-венгерским войскам в Галиции и Буковине. В то же время Нарочская и Барановичская операции русских войск окончились безуспешно. </a:t>
            </a:r>
            <a:endParaRPr b="0" lang="en-US" sz="2400" spc="-1" strike="noStrike">
              <a:solidFill>
                <a:srgbClr val="ffffff"/>
              </a:solidFill>
              <a:latin typeface="Tahoma"/>
            </a:endParaRPr>
          </a:p>
        </p:txBody>
      </p:sp>
      <p:pic>
        <p:nvPicPr>
          <p:cNvPr id="120" name="Picture 6" descr="post-198-1195235165"/>
          <p:cNvPicPr/>
          <p:nvPr/>
        </p:nvPicPr>
        <p:blipFill>
          <a:blip r:embed="rId1"/>
          <a:stretch/>
        </p:blipFill>
        <p:spPr>
          <a:xfrm>
            <a:off x="914400" y="0"/>
            <a:ext cx="6400800" cy="3884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981080"/>
            <a:ext cx="4038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июне же началась битва на Сомме, продолжавшаяся до ноября, в ходе которой впервые были применены танки. </a:t>
            </a:r>
            <a:endParaRPr b="0" lang="en-US" sz="2800" spc="-1" strike="noStrike">
              <a:solidFill>
                <a:srgbClr val="ffffff"/>
              </a:solidFill>
              <a:latin typeface="Tahoma"/>
            </a:endParaRPr>
          </a:p>
        </p:txBody>
      </p:sp>
      <p:pic>
        <p:nvPicPr>
          <p:cNvPr id="122" name="Picture 11" descr="aac86a5a43bb"/>
          <p:cNvPicPr/>
          <p:nvPr/>
        </p:nvPicPr>
        <p:blipFill>
          <a:blip r:embed="rId1"/>
          <a:stretch/>
        </p:blipFill>
        <p:spPr>
          <a:xfrm>
            <a:off x="5181480" y="228600"/>
            <a:ext cx="3548160" cy="2392200"/>
          </a:xfrm>
          <a:prstGeom prst="rect">
            <a:avLst/>
          </a:prstGeom>
          <a:ln w="0">
            <a:noFill/>
          </a:ln>
        </p:spPr>
      </p:pic>
      <p:pic>
        <p:nvPicPr>
          <p:cNvPr id="123" name="Picture 12" descr="7bcbe5659b44"/>
          <p:cNvPicPr/>
          <p:nvPr/>
        </p:nvPicPr>
        <p:blipFill>
          <a:blip r:embed="rId2"/>
          <a:stretch/>
        </p:blipFill>
        <p:spPr>
          <a:xfrm>
            <a:off x="4267080" y="2819520"/>
            <a:ext cx="4694400" cy="30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4038480" cy="5638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ерманцы, предприняли контрудар на севере фронта, во Фландрии у Ипра, против английских войск (22 апреля — 25 мая). При этом Германия, впервые в истории человечества и с полной неожиданностью для англо-французов, применила химическое оружие (из баллонов был выпущен хлор). Германцы не имели достаточных резервов, чтобы воспользоваться результатом газовой атаки и прорвать фронт. После ипрской газовой атаки обе стороны очень быстро сумели разработать противогазы различных конструкций, и дальнейшие попытки применения химического оружия уже не захватывали врасплох большие массы войск. </a:t>
            </a:r>
            <a:endParaRPr b="0" lang="en-US" sz="1800" spc="-1" strike="noStrike">
              <a:solidFill>
                <a:srgbClr val="ffffff"/>
              </a:solidFill>
              <a:latin typeface="Tahoma"/>
            </a:endParaRPr>
          </a:p>
        </p:txBody>
      </p:sp>
      <p:pic>
        <p:nvPicPr>
          <p:cNvPr id="50" name="Picture 12" descr="GasAttack- WWI (538x406)"/>
          <p:cNvPicPr/>
          <p:nvPr/>
        </p:nvPicPr>
        <p:blipFill>
          <a:blip r:embed="rId1"/>
          <a:stretch/>
        </p:blipFill>
        <p:spPr>
          <a:xfrm>
            <a:off x="4572000" y="457200"/>
            <a:ext cx="3602160" cy="2719440"/>
          </a:xfrm>
          <a:prstGeom prst="rect">
            <a:avLst/>
          </a:prstGeom>
          <a:ln w="0">
            <a:noFill/>
          </a:ln>
        </p:spPr>
      </p:pic>
      <p:pic>
        <p:nvPicPr>
          <p:cNvPr id="51" name="Picture 13" descr="ger006"/>
          <p:cNvPicPr/>
          <p:nvPr/>
        </p:nvPicPr>
        <p:blipFill>
          <a:blip r:embed="rId2"/>
          <a:stretch/>
        </p:blipFill>
        <p:spPr>
          <a:xfrm>
            <a:off x="5410080" y="2819520"/>
            <a:ext cx="3532320" cy="309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07680" y="4000680"/>
            <a:ext cx="8002440" cy="2092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Кавказском фронте в январе-феврале в Эрзурумском сражении русские войска наголову разгромили турецкую армию и овладели городом Эрзурум, в апреле в ходе Трабзонской операции был взят город Трапезунд, в июле — августе города Эрзинджан и Муш. </a:t>
            </a:r>
            <a:endParaRPr b="0" lang="en-US" sz="2400" spc="-1" strike="noStrike">
              <a:solidFill>
                <a:srgbClr val="ffffff"/>
              </a:solidFill>
              <a:latin typeface="Tahoma"/>
            </a:endParaRPr>
          </a:p>
        </p:txBody>
      </p:sp>
      <p:pic>
        <p:nvPicPr>
          <p:cNvPr id="125" name="Picture 6" descr="699_7"/>
          <p:cNvPicPr/>
          <p:nvPr/>
        </p:nvPicPr>
        <p:blipFill>
          <a:blip r:embed="rId1"/>
          <a:stretch/>
        </p:blipFill>
        <p:spPr>
          <a:xfrm>
            <a:off x="1447920" y="0"/>
            <a:ext cx="5790960" cy="3637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спехи русской армии побудили Румынию выступить на стороне Антанты. 17 августа 1916 года был заключен договор между Румынией и четырьмя державами Антанты. Румыния брала обязательство объявить войну Австро-Венгрии. Однако к концу года румынская армия была разбита и большая часть территории страны была оккупирован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981080"/>
            <a:ext cx="4038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енная кампания 1916 года ознаменовалась важным событием. 31 мая — 1 июня произошло крупнейшее за всю войну Ютландское морское сражение. </a:t>
            </a:r>
            <a:endParaRPr b="0" lang="en-US" sz="2800" spc="-1" strike="noStrike">
              <a:solidFill>
                <a:srgbClr val="ffffff"/>
              </a:solidFill>
              <a:latin typeface="Tahoma"/>
            </a:endParaRPr>
          </a:p>
        </p:txBody>
      </p:sp>
      <p:pic>
        <p:nvPicPr>
          <p:cNvPr id="129" name="Picture 6" descr="Battleship"/>
          <p:cNvPicPr/>
          <p:nvPr/>
        </p:nvPicPr>
        <p:blipFill>
          <a:blip r:embed="rId1"/>
          <a:stretch/>
        </p:blipFill>
        <p:spPr>
          <a:xfrm>
            <a:off x="4419720" y="762120"/>
            <a:ext cx="4724280" cy="3897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09480"/>
            <a:ext cx="8686800" cy="289584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 ноябре-декабре 1916 года Германия и её союзники предложили мир, но Антанта отклонила предложение, указав, что мир невозможен «до тех пор, пока не обеспечено восстановление нарушенных прав и свобод, признание принципа национальностей и свободного существования малых государств». </a:t>
            </a:r>
            <a:endParaRPr b="0" lang="en-US" sz="2800" spc="-1" strike="noStrike">
              <a:solidFill>
                <a:srgbClr val="ffffff"/>
              </a:solidFill>
              <a:latin typeface="Tahoma"/>
            </a:endParaRPr>
          </a:p>
        </p:txBody>
      </p:sp>
      <p:pic>
        <p:nvPicPr>
          <p:cNvPr id="131" name="Picture 6" descr="4a3bdd52"/>
          <p:cNvPicPr/>
          <p:nvPr/>
        </p:nvPicPr>
        <p:blipFill>
          <a:blip r:embed="rId1"/>
          <a:stretch/>
        </p:blipFill>
        <p:spPr>
          <a:xfrm>
            <a:off x="609480" y="3429000"/>
            <a:ext cx="8305920" cy="3056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30592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699_8"/>
          <p:cNvPicPr/>
          <p:nvPr/>
        </p:nvPicPr>
        <p:blipFill>
          <a:blip r:embed="rId1"/>
          <a:stretch/>
        </p:blipFill>
        <p:spPr>
          <a:xfrm>
            <a:off x="5867280" y="380880"/>
            <a:ext cx="3067200" cy="1981440"/>
          </a:xfrm>
          <a:prstGeom prst="rect">
            <a:avLst/>
          </a:prstGeom>
          <a:ln w="0">
            <a:noFill/>
          </a:ln>
        </p:spPr>
      </p:pic>
      <p:pic>
        <p:nvPicPr>
          <p:cNvPr id="53" name="Picture 8" descr="31-2121265-picture"/>
          <p:cNvPicPr/>
          <p:nvPr/>
        </p:nvPicPr>
        <p:blipFill>
          <a:blip r:embed="rId2"/>
          <a:stretch/>
        </p:blipFill>
        <p:spPr>
          <a:xfrm>
            <a:off x="6019920" y="2438280"/>
            <a:ext cx="2743200" cy="4191120"/>
          </a:xfrm>
          <a:prstGeom prst="rect">
            <a:avLst/>
          </a:prstGeom>
          <a:ln w="0">
            <a:noFill/>
          </a:ln>
        </p:spPr>
      </p:pic>
      <p:sp>
        <p:nvSpPr>
          <p:cNvPr id="54" name="PlaceHolder 1"/>
          <p:cNvSpPr>
            <a:spLocks noGrp="1"/>
          </p:cNvSpPr>
          <p:nvPr>
            <p:ph/>
          </p:nvPr>
        </p:nvSpPr>
        <p:spPr>
          <a:xfrm>
            <a:off x="-360" y="380520"/>
            <a:ext cx="5715000" cy="312444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ходе этих боевых действий, давших самые малозначимые результаты при заметных жертвах, обе стороны убедились в том, что штурм хорошо оборудованных позиций (несколько линий окопов, блиндажи, заграждения из колючей проволоки) бесперспективен без активной артиллерийской подготовки. </a:t>
            </a:r>
            <a:endParaRPr b="0" lang="en-US" sz="2400" spc="-1" strike="noStrike">
              <a:solidFill>
                <a:srgbClr val="ffffff"/>
              </a:solidFill>
              <a:latin typeface="Tahoma"/>
            </a:endParaRPr>
          </a:p>
        </p:txBody>
      </p:sp>
      <p:pic>
        <p:nvPicPr>
          <p:cNvPr id="55" name="Picture 11" descr="7"/>
          <p:cNvPicPr/>
          <p:nvPr/>
        </p:nvPicPr>
        <p:blipFill>
          <a:blip r:embed="rId3"/>
          <a:stretch/>
        </p:blipFill>
        <p:spPr>
          <a:xfrm>
            <a:off x="152280" y="3581280"/>
            <a:ext cx="5410440" cy="301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есенняя операция в Арту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5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мая Антанта начала новое наступление в </a:t>
            </a:r>
            <a:r>
              <a:rPr b="0" lang="ru-RU" sz="2400" spc="-1" strike="noStrike">
                <a:solidFill>
                  <a:srgbClr val="ffffff"/>
                </a:solidFill>
                <a:latin typeface="Tahoma"/>
              </a:rPr>
              <a:t>Артуа</a:t>
            </a:r>
            <a:r>
              <a:rPr b="0" lang="ru-RU" sz="2400" spc="-1" strike="noStrike">
                <a:solidFill>
                  <a:srgbClr val="ffffff"/>
                </a:solidFill>
                <a:latin typeface="Tahoma"/>
              </a:rPr>
              <a:t>. Наступление велось совместными англо-французскими силами. Французы наступали севернее Арраса, англичане — на смежном участке в районе Нев-Шапель. </a:t>
            </a:r>
            <a:endParaRPr b="0" lang="en-US" sz="2400" spc="-1" strike="noStrike">
              <a:solidFill>
                <a:srgbClr val="ffffff"/>
              </a:solidFill>
              <a:latin typeface="Tahoma"/>
            </a:endParaRPr>
          </a:p>
        </p:txBody>
      </p:sp>
      <p:pic>
        <p:nvPicPr>
          <p:cNvPr id="58" name="Picture 5" descr="154816496"/>
          <p:cNvPicPr/>
          <p:nvPr/>
        </p:nvPicPr>
        <p:blipFill>
          <a:blip r:embed="rId1"/>
          <a:stretch/>
        </p:blipFill>
        <p:spPr>
          <a:xfrm>
            <a:off x="4495680" y="2438280"/>
            <a:ext cx="4343400" cy="39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6840" y="-360"/>
            <a:ext cx="8458200" cy="289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ю предшествовала шестидневная артиллерийская подготовка, которая, как предполагалось, должна была полностью подавить сопротивление германских войск. Расчеты не оправдались. Огромные потери Антанты (130 тыс. человек), понесенные за шесть недель боев, полностью не соответствовали достигнутым результатам .</a:t>
            </a:r>
            <a:endParaRPr b="0" lang="en-US" sz="2400" spc="-1" strike="noStrike">
              <a:solidFill>
                <a:srgbClr val="ffffff"/>
              </a:solidFill>
              <a:latin typeface="Tahoma"/>
            </a:endParaRPr>
          </a:p>
        </p:txBody>
      </p:sp>
      <p:pic>
        <p:nvPicPr>
          <p:cNvPr id="60" name="Picture 6" descr="1249891323_12326-15"/>
          <p:cNvPicPr/>
          <p:nvPr/>
        </p:nvPicPr>
        <p:blipFill>
          <a:blip r:embed="rId1"/>
          <a:stretch/>
        </p:blipFill>
        <p:spPr>
          <a:xfrm>
            <a:off x="685800" y="2666880"/>
            <a:ext cx="792468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Осенняя операция в Шампани и Арту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62" name="PlaceHolder 2"/>
          <p:cNvSpPr>
            <a:spLocks noGrp="1"/>
          </p:cNvSpPr>
          <p:nvPr>
            <p:ph/>
          </p:nvPr>
        </p:nvSpPr>
        <p:spPr>
          <a:xfrm>
            <a:off x="457200" y="1981080"/>
            <a:ext cx="4038480" cy="41148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 началу сентября Антанта подготовила новое большое наступление, задачей которого было освобождение севера Франции. Наступление началось 25 сентября и происходило одновременно на двух участках в Шампани (восточнее Реймса) и в Артуа (у Арраса)</a:t>
            </a:r>
            <a:endParaRPr b="0" lang="en-US" sz="2400" spc="-1" strike="noStrike">
              <a:solidFill>
                <a:srgbClr val="ffffff"/>
              </a:solidFill>
              <a:latin typeface="Tahoma"/>
            </a:endParaRPr>
          </a:p>
        </p:txBody>
      </p:sp>
      <p:pic>
        <p:nvPicPr>
          <p:cNvPr id="63" name="Picture 5" descr="c38d58a458cd551ec563c5c54b8b5a43"/>
          <p:cNvPicPr/>
          <p:nvPr/>
        </p:nvPicPr>
        <p:blipFill>
          <a:blip r:embed="rId1"/>
          <a:stretch/>
        </p:blipFill>
        <p:spPr>
          <a:xfrm>
            <a:off x="4878360" y="1982880"/>
            <a:ext cx="3673440" cy="1812960"/>
          </a:xfrm>
          <a:prstGeom prst="rect">
            <a:avLst/>
          </a:prstGeom>
          <a:ln w="0">
            <a:noFill/>
          </a:ln>
        </p:spPr>
      </p:pic>
      <p:pic>
        <p:nvPicPr>
          <p:cNvPr id="64" name="Picture 7" descr="imag0490"/>
          <p:cNvPicPr/>
          <p:nvPr/>
        </p:nvPicPr>
        <p:blipFill>
          <a:blip r:embed="rId2"/>
          <a:stretch/>
        </p:blipFill>
        <p:spPr>
          <a:xfrm>
            <a:off x="4572000" y="3733920"/>
            <a:ext cx="4398840" cy="25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6840" y="4725720"/>
            <a:ext cx="7923240" cy="136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лучае успеха наступающие с двух сторон войска должны были сомкнуться на границе Франции (у Монса), что привело бы к освобождению Пикардии. Англо-французские войска применяли новую тактику наступления несколькими «волнами». </a:t>
            </a:r>
            <a:endParaRPr b="0" lang="en-US" sz="2000" spc="-1" strike="noStrike">
              <a:solidFill>
                <a:srgbClr val="ffffff"/>
              </a:solidFill>
              <a:latin typeface="Tahoma"/>
            </a:endParaRPr>
          </a:p>
        </p:txBody>
      </p:sp>
      <p:pic>
        <p:nvPicPr>
          <p:cNvPr id="66" name="Picture 6" descr="imag1147"/>
          <p:cNvPicPr/>
          <p:nvPr/>
        </p:nvPicPr>
        <p:blipFill>
          <a:blip r:embed="rId1"/>
          <a:stretch/>
        </p:blipFill>
        <p:spPr>
          <a:xfrm>
            <a:off x="990720" y="380880"/>
            <a:ext cx="6553080" cy="418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4-10-27T08:00:22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