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5A7-2D42-4A02-B194-F9017525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3DD-CABC-4CE5-8B26-F6734F0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384-4DD9-44F7-92E2-CBA2FB56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C97-F4EC-48C3-B91C-7AA7F751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7F93-297D-44B8-9CF5-5675DBE5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DE92-3A8C-420A-BA3A-1DEA284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F9C-DC91-4D38-AEE4-476C683A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35AF-80A0-466A-A059-77CA2092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0776-704D-44DD-8281-A8C6002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6DBF-232C-468A-8BF3-271556F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4A03-098B-4358-A397-418A6C7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0F6-44C8-4FB4-AC60-D08E881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B80-EF80-4A17-AE61-B21B004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FF8-90E4-4A51-8443-07C3054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24ED-E5C2-410B-BDE9-F045708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1A8F-1A96-4011-B1A7-82DEEA74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C64-2188-424F-8EC7-BD43EE43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2C1-13D6-4070-85F6-E54E8342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001-2765-4E64-8E99-CA187CC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06A-4A16-4DAD-929E-A30DAA4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CFD-4A46-4AB8-989D-95A7117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000-F53D-4873-8145-93978E8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7CD-509A-4D0F-9A39-2D2C5AB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AB4-4EF3-4D79-8F28-1D0AAC2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805-0782-4553-A09C-3BFED65E12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04A5-45D7-447D-8012-FEAC1A7C09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Модуль(абсолютная величина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и: учитель МОУ СОШ №2 Собенина Л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Провероч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8580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495680" y="1828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ешите нераве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914400" y="2133720"/>
                <a:ext cx="263376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Text Box 9"/>
          <p:cNvSpPr/>
          <p:nvPr/>
        </p:nvSpPr>
        <p:spPr>
          <a:xfrm>
            <a:off x="685800" y="4876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им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решении уравнений, в которых под знаком модуля находится выражение, также содержащее модуль, следует сначала освободиться от внутреннего модуля, а затем в полученных уравнениях раскрыть оставшиеся мод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200400" y="6095880"/>
                <a:ext cx="2286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4768920" y="2209680"/>
                <a:ext cx="232704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1828800"/>
            <a:ext cx="784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вторить понятие модуля, свойства модуля и решение простейших уравнений и неравенств, содержащих моду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вить внимание, память, логическое мышление, пространственное воображение, математически правиль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спитание аккуратности, трудолюбия, ответственности за правильно выполнен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3520" y="4114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1680" y="457200"/>
            <a:ext cx="74851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Определение моду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1905120" y="1523880"/>
                <a:ext cx="4419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а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066680" y="2895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огично для функции име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2590920" y="3429000"/>
                <a:ext cx="3886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Text Box 12"/>
          <p:cNvSpPr/>
          <p:nvPr/>
        </p:nvSpPr>
        <p:spPr>
          <a:xfrm>
            <a:off x="106668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 (геометрически) модуль числ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ь расстояние на координатной прямой о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начала от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2438280" y="5257800"/>
            <a:ext cx="4610160" cy="134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3581280" y="5181480"/>
                <a:ext cx="287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6"/>
              <p:cNvSpPr txBox="1"/>
              <p:nvPr/>
            </p:nvSpPr>
            <p:spPr>
              <a:xfrm>
                <a:off x="5257800" y="5105520"/>
                <a:ext cx="3589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18"/>
          <p:cNvSpPr/>
          <p:nvPr/>
        </p:nvSpPr>
        <p:spPr>
          <a:xfrm>
            <a:off x="685800" y="1600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Свойств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9480" y="1610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990720" y="1523880"/>
                <a:ext cx="914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610560" y="22550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990720" y="2209680"/>
                <a:ext cx="1371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Rectangle 14"/>
          <p:cNvSpPr/>
          <p:nvPr/>
        </p:nvSpPr>
        <p:spPr>
          <a:xfrm>
            <a:off x="610560" y="3123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1066680" y="2971800"/>
                <a:ext cx="1981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Rectangle 16"/>
          <p:cNvSpPr/>
          <p:nvPr/>
        </p:nvSpPr>
        <p:spPr>
          <a:xfrm>
            <a:off x="611280" y="4083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1143000" y="3886200"/>
                <a:ext cx="1657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Rectangle 17"/>
          <p:cNvSpPr/>
          <p:nvPr/>
        </p:nvSpPr>
        <p:spPr>
          <a:xfrm>
            <a:off x="4211640" y="3602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11280" y="4799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8"/>
              <p:cNvSpPr txBox="1"/>
              <p:nvPr/>
            </p:nvSpPr>
            <p:spPr>
              <a:xfrm>
                <a:off x="1143000" y="4572000"/>
                <a:ext cx="17524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0"/>
          <p:cNvSpPr/>
          <p:nvPr/>
        </p:nvSpPr>
        <p:spPr>
          <a:xfrm>
            <a:off x="4149720" y="37076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4268880" y="1599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1"/>
              <p:cNvSpPr txBox="1"/>
              <p:nvPr/>
            </p:nvSpPr>
            <p:spPr>
              <a:xfrm>
                <a:off x="4724280" y="1523880"/>
                <a:ext cx="23716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Rectangle 23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4268880" y="266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4"/>
              <p:cNvSpPr txBox="1"/>
              <p:nvPr/>
            </p:nvSpPr>
            <p:spPr>
              <a:xfrm>
                <a:off x="4800600" y="2438280"/>
                <a:ext cx="22096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Rectangle 26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4419720" y="3352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4343400" y="3809880"/>
                <a:ext cx="1647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8"/>
              <p:cNvSpPr txBox="1"/>
              <p:nvPr/>
            </p:nvSpPr>
            <p:spPr>
              <a:xfrm>
                <a:off x="4038480" y="4724280"/>
                <a:ext cx="2590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Rectangle 30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720" y="32756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0" y="38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Уравнения, содержащие знак моду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066680" y="1600200"/>
                <a:ext cx="358164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9"/>
          <p:cNvSpPr/>
          <p:nvPr/>
        </p:nvSpPr>
        <p:spPr>
          <a:xfrm>
            <a:off x="609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1066680" y="3657600"/>
                <a:ext cx="343872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Text Box 12"/>
          <p:cNvSpPr/>
          <p:nvPr/>
        </p:nvSpPr>
        <p:spPr>
          <a:xfrm>
            <a:off x="6858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1447920" y="5105520"/>
                <a:ext cx="45720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5"/>
          <p:cNvSpPr/>
          <p:nvPr/>
        </p:nvSpPr>
        <p:spPr>
          <a:xfrm>
            <a:off x="6858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Уравнения, содержащие знак моду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1905120"/>
            <a:ext cx="7848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стальных случаях основным методом решения таких уравнений явля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од интерв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м ОДЗ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м нули функции подмодульных выражений и разбиваем ими ОДЗ уравнения на интерв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м уравнение на любом из этих интервалов, предварительно раскрыв моду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м уравнения является объединение всех найденны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Решить уравнения (устно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279440" y="1981080"/>
                <a:ext cx="22240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5060880" y="1981080"/>
                <a:ext cx="2278080" cy="381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Неравенства, содержащие знак моду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144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1523880" y="1600200"/>
                <a:ext cx="3505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Text Box 8"/>
          <p:cNvSpPr/>
          <p:nvPr/>
        </p:nvSpPr>
        <p:spPr>
          <a:xfrm>
            <a:off x="9907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600200" y="2971800"/>
                <a:ext cx="1771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a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</m:e>
                      <m:e/>
                    </m:eqAr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1"/>
          <p:cNvSpPr/>
          <p:nvPr/>
        </p:nvSpPr>
        <p:spPr>
          <a:xfrm>
            <a:off x="106668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налогич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3"/>
              <p:cNvSpPr txBox="1"/>
              <p:nvPr/>
            </p:nvSpPr>
            <p:spPr>
              <a:xfrm>
                <a:off x="2971800" y="4038480"/>
                <a:ext cx="3543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3048120" y="4952880"/>
                <a:ext cx="2371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a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4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-1080" y="3169440"/>
            <a:ext cx="4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522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1"/>
          <a:stretch/>
        </p:blipFill>
        <p:spPr>
          <a:xfrm>
            <a:off x="5257800" y="1665360"/>
            <a:ext cx="3362400" cy="96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3609720" cy="676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066680" y="5943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остальных случаях применяются те же методы, что и при решении урав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Решите неравенства (устно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1523880" y="2286000"/>
                <a:ext cx="1623960" cy="31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2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876920" y="2286000"/>
                <a:ext cx="215424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7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10T15:04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