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push.wav" ContentType="audio/x-wav"/>
  <Override PartName="/ppt/media/image25.jpeg" ContentType="image/jpeg"/>
  <Override PartName="/ppt/media/image4.jpeg" ContentType="image/jpeg"/>
  <Override PartName="/ppt/media/image31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15.gif" ContentType="image/gif"/>
  <Override PartName="/ppt/media/image5.jpeg" ContentType="image/jpeg"/>
  <Override PartName="/ppt/media/image37.jpeg" ContentType="image/jpeg"/>
  <Override PartName="/ppt/media/image10.gif" ContentType="image/gif"/>
  <Override PartName="/ppt/media/image12.jpeg" ContentType="image/jpeg"/>
  <Override PartName="/ppt/media/image38.gif" ContentType="image/gif"/>
  <Override PartName="/ppt/media/image40.jpeg" ContentType="image/jpeg"/>
  <Override PartName="/ppt/media/image6.png" ContentType="image/png"/>
  <Override PartName="/ppt/media/wind.wav" ContentType="audio/x-wav"/>
  <Override PartName="/ppt/media/image13.gif" ContentType="image/gif"/>
  <Override PartName="/ppt/media/image16.jpeg" ContentType="image/jpeg"/>
  <Override PartName="/ppt/media/image41.wmf" ContentType="image/x-wmf"/>
  <Override PartName="/ppt/media/image39.jpeg" ContentType="image/jpeg"/>
  <Override PartName="/ppt/media/image8.jpeg" ContentType="image/jpeg"/>
  <Override PartName="/ppt/media/image3.wmf" ContentType="image/x-wmf"/>
  <Override PartName="/ppt/media/image29.jpeg" ContentType="image/jpeg"/>
  <Override PartName="/ppt/media/coin.wav" ContentType="audio/x-wav"/>
  <Override PartName="/ppt/media/image2.jpeg" ContentType="image/jpeg"/>
  <Override PartName="/ppt/media/hammer.wav" ContentType="audio/x-wav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FC2-4B1A-47E6-8124-4B303B11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32F-986F-4AFC-9D80-C78ADAD1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50E-238C-4A32-A364-96EA295D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36E-EF26-49B7-AD0C-1F2E0CF4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6B6-A398-478C-9FE1-E2EB0F59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0A0-3538-4E19-9A6D-C42E0121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C3E-A350-4457-A2FC-CA3B2D92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F83-8D16-4DC0-AC8A-64C0B96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DC2-D368-473D-8A40-35175BBB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11C-549D-4DE1-8B8F-53FB965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AFA-F709-4847-B3FE-8ABBB42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923-147F-4590-ACA5-F7EB304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2534-6EFD-42DC-B33C-B98840C81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2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3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image" Target="../media/image3.wmf"/><Relationship Id="rId12" Type="http://schemas.openxmlformats.org/officeDocument/2006/relationships/audio" Target="../media/chimes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2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2" Type="http://schemas.openxmlformats.org/officeDocument/2006/relationships/hyperlink" Target="file:///E:/works/vneklassnoe/&#1055;&#1088;&#1072;&#1074;&#1076;&#1072;%20&#1086;%20&#1085;&#1072;&#1088;&#1082;&#1086;&#1090;&#1080;&#1082;&#1072;&#1093;/5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наркомания"/>
          <p:cNvPicPr/>
          <p:nvPr/>
        </p:nvPicPr>
        <p:blipFill>
          <a:blip r:embed="rId1"/>
          <a:stretch/>
        </p:blipFill>
        <p:spPr>
          <a:xfrm>
            <a:off x="1042920" y="333360"/>
            <a:ext cx="556272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 rot="651000">
            <a:off x="-19080" y="2692440"/>
            <a:ext cx="804708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092000"/>
                </a:gradFill>
                <a:latin typeface="Impact"/>
              </a:rPr>
              <a:t>Мы против наркоти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092000"/>
              </a:gradFill>
              <a:latin typeface="Impact"/>
              <a:ea typeface="Impact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няя продолжительность жизни регулярно употребляющих наркотики опиатной группы  составляют 5-7 лет с начала употреб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 чему приводит увлечение коноплё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ин из мифов, распространяемых в молодёжной среде, является МИФ О БЕЗВАРЕДНОСТИ МАРИХУАНЫ для здоровья. Хорошо известно, что для создания зависимости от наркотиков наркодельцы подмешивают к «травке» наркотики опиатно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тическое курение марихуаны понижает способность организма сопротивляться воздействию таких опасных бактерий, как стафилоккоки и стрептоккоки. Это ведёт к тому, что ЛЮБАЯ ЦАРАПИНА ПРИВОДИТ К ГНОЙНЫМ ОСЛОЖНЕНИЯМ, А ПРОСТУДА – К ВОСПАЛЕНИЮ ЛЁ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тическое курение марихуаны приводит к снижению массы тела, к замене мышечной ткани жировой. Лень начинает проявляться на психологическом и физическом уровне. Простейшие действия становятся проблемой. В результате ТЕЛО КУРИЛЬЩИКА МАРИХУАНЫ ПЕРЕСТАЁТ ЕГО СЛУШ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вышение артериального давления, температуры тела, тяжесть в конечностях, тошнота, рвота, з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психики, снижение сопротивляемости организма, сердечные прист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н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м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еятель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стоянная сон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запная см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547640" y="260280"/>
            <a:ext cx="597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99000"/>
                  </a:srgbClr>
                </a:solidFill>
                <a:latin typeface="Arial"/>
              </a:rPr>
              <a:t>Кокаин, геро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99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" name="Picture 5" descr="5g"/>
          <p:cNvPicPr/>
          <p:nvPr/>
        </p:nvPicPr>
        <p:blipFill>
          <a:blip r:embed="rId1"/>
          <a:stretch/>
        </p:blipFill>
        <p:spPr>
          <a:xfrm>
            <a:off x="5364000" y="3933720"/>
            <a:ext cx="3529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3970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c0402"/>
                </a:solidFill>
                <a:uFillTx/>
                <a:latin typeface="Arial"/>
              </a:rPr>
              <a:t>Психостимуля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эти препараты представлены в основном в форме порошков или таблеток: эфедрин, эфедрон, меткатион,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фенамин, «Е», ХТ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кокаин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  <a:hlinkClick r:id="rId3"/>
              </a:rPr>
              <a:t>экстаз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первитин (отечественное название), или метамфетамин (международное  название). На жаргоне называется «вин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14"/>
          <p:cNvPicPr/>
          <p:nvPr/>
        </p:nvPicPr>
        <p:blipFill>
          <a:blip r:embed="rId4"/>
          <a:stretch/>
        </p:blipFill>
        <p:spPr>
          <a:xfrm>
            <a:off x="4572000" y="981000"/>
            <a:ext cx="43876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намин, экстази, «Е», ХТС – производятся в виде разноцветных таблеток разнообразной формы, употребляются внутрь; кокаин – белый кристаллический порошок, похожий на питьевую соду. Его чаще всего вдыхают, «нюхают», изредка, растворив в воде, вводят внутривенно; крэк, или «спид», «скорость» - порошкообразный наркотик, его нагревают и вдых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стази – наркотик дискотек. Его употребление приводит к смерти, вызванной перегреванием организма из-за нарушения работы мозгового центра терморегуляции. При регулярном употреблении вызывает состояние похожее на шизофр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рть у людей, принимающих психостимуляторы, чаще всего происходит насильственным путём. ГЛАВНОЙ ПРИЧИНОЙ ЯВЛЯЮТСЯ УБИЙСТВА, САМОУБИЙСТВА И НЕСЧАСТНЫЕ СЛУЧА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c0402"/>
                </a:solidFill>
                <a:latin typeface="Arial"/>
              </a:rPr>
              <a:t>                  </a:t>
            </a:r>
            <a:r>
              <a:rPr b="1" i="1" lang="ru-RU" sz="2400" spc="-1" strike="noStrike" u="sng">
                <a:solidFill>
                  <a:srgbClr val="9c0402"/>
                </a:solidFill>
                <a:uFillTx/>
                <a:latin typeface="Arial"/>
              </a:rPr>
              <a:t>Галлюциногены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параты, изменяющие сознание, искажающие самоощущение. К ним относят грибы род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silutsibum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содержащие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псилоциби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S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1" i="1" lang="ru-RU" sz="2000" spc="-1" strike="noStrike" u="sng">
                <a:solidFill>
                  <a:srgbClr val="9c0402"/>
                </a:solidFill>
                <a:uFillTx/>
                <a:latin typeface="Arial"/>
              </a:rPr>
              <a:t>Снотворно-седативные (успокаивающие) средства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при длительном употреблении и превышении рекомендованных доз может возникнуть психическая и физическая зависимость. Реландром – наиболее распространенный среди наркомано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нотворный препара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Он очень быстро приводит к зависим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rkoman_1"/>
          <p:cNvPicPr/>
          <p:nvPr/>
        </p:nvPicPr>
        <p:blipFill>
          <a:blip r:embed="rId2"/>
          <a:stretch/>
        </p:blipFill>
        <p:spPr>
          <a:xfrm>
            <a:off x="468360" y="3645000"/>
            <a:ext cx="3313080" cy="2995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rkoman"/>
          <p:cNvPicPr/>
          <p:nvPr/>
        </p:nvPicPr>
        <p:blipFill>
          <a:blip r:embed="rId3"/>
          <a:stretch/>
        </p:blipFill>
        <p:spPr>
          <a:xfrm>
            <a:off x="5292720" y="3500280"/>
            <a:ext cx="33847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76720" y="259920"/>
            <a:ext cx="5338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c0402"/>
                </a:solidFill>
                <a:uFillTx/>
                <a:latin typeface="Arial"/>
              </a:rPr>
              <a:t>Летучие наркотически действующие вещества, или ингалянты (ЛНДВ)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ключает в себя группу разнообразных химикатов, которые содержатся в таких товарах народного потребления, как аэрозоли и чистящие составы, бензин, ацетон, клей, краски. Характерный для них признак – способность растворять жиры. Все знают, что их «нюхают», но не все знают, что от этого бывает. Самое страшное, что может произойти при употреблении летучих токсически действующих веществ – «смерть в мешке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ушение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ные боли, головок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ушение обоняния и вкусовых ощу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ечная слаб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ушения пече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егких, поч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 голов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емение рук и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р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галлюц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у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незапная см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692360" y="189000"/>
            <a:ext cx="56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галянты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5" descr="189"/>
          <p:cNvPicPr/>
          <p:nvPr/>
        </p:nvPicPr>
        <p:blipFill>
          <a:blip r:embed="rId1"/>
          <a:stretch/>
        </p:blipFill>
        <p:spPr>
          <a:xfrm>
            <a:off x="4716360" y="3500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Воздействие ингалянтов  на   организм: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галянт очень часто становится «воротами» на пути к употреблению более опасных и «привыкабельных» наркотиков, к примеру, кокаина и крэ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лговременное применение ингалянтов приводит к необратимым изменениям мозга: зрительным галлюцинациям, ухудшение памяти, головной боли,                                                        РАЗРУШЕНИЮ НЕРВНОЙ СИСТЕМЫ: агрессивному поведению, онемению конечностей, параличу и т. 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рушению физического здоровья: аритмии сердца, мышечной слабости, болям в животе, рвоте и носовому кровотечению, непроизвольному моче- и калоиспусканиею.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РУШЕНИЮ РАБОТЫ ПЕЧЕНИ – гепатиту; лёгких – удушью, и т. 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ЕЗАПНОЙ СМЕР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НАУЧИСЬ ГОВОРИТЬ НАРКОТИКАМ «НЕТ»!!!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525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ркотичекий ад – это реальность. Те немногие, кому удалось из него выбраться, призывают тебя: «НАЙДИ В СЕБЕ СИЛЫ СКАЗАТЬ «НЕТ» тому, кто, прикидываясь другом, заманивает тебя в эту ловушку. Когда трудно отказаться от коллективной глупости, скажи себе: «ЗАЧЕМ БЕЖАТЬ СО СТАДОМ? ОСТАНУСЬ СОБОЙ!» И ты не должен извиняться, говоря «нет»! Причин для отказа от разной «дури» - воз и маленькая тележка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лишь ДЕСЯТЬ СПОСОБОВ СКАЗАТЬ «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ark6[1]"/>
          <p:cNvPicPr/>
          <p:nvPr/>
        </p:nvPicPr>
        <p:blipFill>
          <a:blip r:embed="rId1"/>
          <a:stretch/>
        </p:blipFill>
        <p:spPr>
          <a:xfrm>
            <a:off x="324000" y="1484280"/>
            <a:ext cx="4176720" cy="5084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380200" y="75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0" y="189000"/>
            <a:ext cx="864072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c0402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 краю пропасти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9c0402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nark5[1]"/>
          <p:cNvPicPr/>
          <p:nvPr/>
        </p:nvPicPr>
        <p:blipFill>
          <a:blip r:embed="rId2"/>
          <a:stretch/>
        </p:blipFill>
        <p:spPr>
          <a:xfrm>
            <a:off x="5003640" y="1484280"/>
            <a:ext cx="3889440" cy="50403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8172360" y="659772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c0402"/>
                </a:solidFill>
                <a:latin typeface="Arial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ПОЧ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ГЛАВНЫЕ 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НАРКО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СО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ГАЛЕ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6" action="ppaction://hlinksldjump"/>
              </a:rPr>
              <a:t>КАК УБЕ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7" action="ppaction://hlinksldjump"/>
              </a:rPr>
              <a:t>НА КРАЮ ПРОП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8" action="ppaction://hlinksldjump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9" action="ppaction://hlinksldjump"/>
              </a:rPr>
              <a:t>МЫ ПРОТИВ НАРКОТ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10" action="ppaction://hlinksldjump"/>
              </a:rPr>
              <a:t>РИСУНК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971640" y="48690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j0240719"/>
          <p:cNvPicPr/>
          <p:nvPr/>
        </p:nvPicPr>
        <p:blipFill>
          <a:blip r:embed="rId11"/>
          <a:stretch/>
        </p:blipFill>
        <p:spPr>
          <a:xfrm>
            <a:off x="7596360" y="350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46836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259920"/>
            <a:ext cx="4762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мать, содержащая более 12 лет двух своих наркозависимых сыновей. Оба сына ВИЧ-инфицированы и хронические наркоманы. Она была вынуждена бросить работу, чтобы смотрть за сыновьями - она говорит, что это её крест. Они приторговывают наркотой, чтобы выживать и удовлетворять зависимость. Она беспомощна в сложившейся ситуации, и младший сын часто ругает её "плохой матерью, из-за которой всё так вышло" для того, чтобы не терять власти над ней. Она сказала , что хочет умер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2080_6"/>
          <p:cNvPicPr/>
          <p:nvPr/>
        </p:nvPicPr>
        <p:blipFill>
          <a:blip r:embed="rId1"/>
          <a:stretch/>
        </p:blipFill>
        <p:spPr>
          <a:xfrm>
            <a:off x="324000" y="333360"/>
            <a:ext cx="38448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2080_7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2080_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3715920"/>
            <a:ext cx="8291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 - бывший солдат-афганец советской армии. Он говорит, что ширяется потому, что ничего лучшего в его жизни не было. Он, как многие военнослужащие советской армии, подсел на наркотики в Афганист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2080_0"/>
          <p:cNvPicPr/>
          <p:nvPr/>
        </p:nvPicPr>
        <p:blipFill>
          <a:blip r:embed="rId1"/>
          <a:stretch/>
        </p:blipFill>
        <p:spPr>
          <a:xfrm>
            <a:off x="1547640" y="189000"/>
            <a:ext cx="502920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2080_1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12080_3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12080_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12080_42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2080_4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2080_46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nariki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8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nariki2"/>
          <p:cNvPicPr/>
          <p:nvPr/>
        </p:nvPicPr>
        <p:blipFill>
          <a:blip r:embed="rId2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nariki4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76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nariki8"/>
          <p:cNvPicPr/>
          <p:nvPr/>
        </p:nvPicPr>
        <p:blipFill>
          <a:blip r:embed="rId2"/>
          <a:stretch/>
        </p:blipFill>
        <p:spPr>
          <a:xfrm>
            <a:off x="0" y="44280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lakat1"/>
          <p:cNvPicPr/>
          <p:nvPr/>
        </p:nvPicPr>
        <p:blipFill>
          <a:blip r:embed="rId1"/>
          <a:stretch/>
        </p:blipFill>
        <p:spPr>
          <a:xfrm>
            <a:off x="468360" y="1413000"/>
            <a:ext cx="1628640" cy="2543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268360" y="2421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КОМАНИЯ – путь к безумию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lakat2"/>
          <p:cNvPicPr/>
          <p:nvPr/>
        </p:nvPicPr>
        <p:blipFill>
          <a:blip r:embed="rId2"/>
          <a:stretch/>
        </p:blipFill>
        <p:spPr>
          <a:xfrm>
            <a:off x="4643280" y="1413000"/>
            <a:ext cx="1619280" cy="2352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443640" y="1773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 попадайте в путы наркомании!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908000" y="2924280"/>
            <a:ext cx="21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lakat8"/>
          <p:cNvPicPr/>
          <p:nvPr/>
        </p:nvPicPr>
        <p:blipFill>
          <a:blip r:embed="rId3"/>
          <a:stretch/>
        </p:blipFill>
        <p:spPr>
          <a:xfrm>
            <a:off x="468360" y="4149720"/>
            <a:ext cx="1690560" cy="2374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226836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 или враг?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195640" y="544500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68360" y="573408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7308720" y="357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plakat7"/>
          <p:cNvPicPr/>
          <p:nvPr/>
        </p:nvPicPr>
        <p:blipFill>
          <a:blip r:embed="rId4"/>
          <a:stretch/>
        </p:blipFill>
        <p:spPr>
          <a:xfrm>
            <a:off x="4643280" y="4437000"/>
            <a:ext cx="161316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6372360" y="5229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Хорошо подумай!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443640" y="5229360"/>
            <a:ext cx="18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5"/>
          <p:cNvSpPr txBox="1"/>
          <p:nvPr/>
        </p:nvSpPr>
        <p:spPr>
          <a:xfrm>
            <a:off x="395280" y="0"/>
            <a:ext cx="8209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исунки детей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AutoShape 16">
            <a:hlinkClick r:id="" action="ppaction://hlinkshowjump?jump=previousslide"/>
          </p:cNvPr>
          <p:cNvSpPr/>
          <p:nvPr/>
        </p:nvSpPr>
        <p:spPr>
          <a:xfrm>
            <a:off x="8172360" y="6858000"/>
            <a:ext cx="71640" cy="1000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100080"/>
              <a:gd name="textAreaBottom" fmla="*/ 95760 h 100080"/>
            </a:gdLst>
            <a:ahLst/>
            <a:rect l="textAreaLeft" t="textAreaTop" r="textAreaRight" b="textAreaBottom"/>
            <a:pathLst>
              <a:path w="21600" h="30132">
                <a:moveTo>
                  <a:pt x="0" y="0"/>
                </a:moveTo>
                <a:lnTo>
                  <a:pt x="21600" y="0"/>
                </a:lnTo>
                <a:lnTo>
                  <a:pt x="21600" y="30132"/>
                </a:lnTo>
                <a:lnTo>
                  <a:pt x="0" y="30132"/>
                </a:lnTo>
                <a:close/>
              </a:path>
              <a:path fill="lightenLess" w="21600" h="301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2">
                <a:moveTo>
                  <a:pt x="21600" y="0"/>
                </a:moveTo>
                <a:lnTo>
                  <a:pt x="21600" y="30132"/>
                </a:lnTo>
                <a:lnTo>
                  <a:pt x="20200" y="28732"/>
                </a:lnTo>
                <a:lnTo>
                  <a:pt x="20200" y="1400"/>
                </a:lnTo>
                <a:close/>
              </a:path>
              <a:path fill="darkenLess" w="21600" h="30132">
                <a:moveTo>
                  <a:pt x="21600" y="30132"/>
                </a:moveTo>
                <a:lnTo>
                  <a:pt x="0" y="30132"/>
                </a:lnTo>
                <a:lnTo>
                  <a:pt x="1400" y="28732"/>
                </a:lnTo>
                <a:lnTo>
                  <a:pt x="20200" y="28732"/>
                </a:lnTo>
                <a:close/>
              </a:path>
              <a:path fill="lighten" w="21600" h="30132">
                <a:moveTo>
                  <a:pt x="0" y="301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2"/>
                </a:lnTo>
                <a:close/>
              </a:path>
              <a:path fill="darken" w="21600" h="30132">
                <a:moveTo>
                  <a:pt x="3794" y="15066"/>
                </a:moveTo>
                <a:lnTo>
                  <a:pt x="17806" y="8060"/>
                </a:lnTo>
                <a:lnTo>
                  <a:pt x="17806" y="220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8101080" y="6308640"/>
            <a:ext cx="574560" cy="289080"/>
          </a:xfrm>
          <a:custGeom>
            <a:avLst/>
            <a:gdLst>
              <a:gd name="textAreaLeft" fmla="*/ 18720 w 574560"/>
              <a:gd name="textAreaRight" fmla="*/ 555840 w 574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2904" h="21600">
                <a:moveTo>
                  <a:pt x="0" y="0"/>
                </a:moveTo>
                <a:lnTo>
                  <a:pt x="42904" y="0"/>
                </a:lnTo>
                <a:lnTo>
                  <a:pt x="42904" y="21600"/>
                </a:lnTo>
                <a:lnTo>
                  <a:pt x="0" y="21600"/>
                </a:lnTo>
                <a:close/>
              </a:path>
              <a:path fill="lightenLess" w="42904" h="21600">
                <a:moveTo>
                  <a:pt x="0" y="0"/>
                </a:moveTo>
                <a:lnTo>
                  <a:pt x="42904" y="0"/>
                </a:lnTo>
                <a:lnTo>
                  <a:pt x="41504" y="1400"/>
                </a:lnTo>
                <a:lnTo>
                  <a:pt x="1400" y="1400"/>
                </a:lnTo>
                <a:close/>
              </a:path>
              <a:path fill="darken" w="42904" h="21600">
                <a:moveTo>
                  <a:pt x="42904" y="0"/>
                </a:moveTo>
                <a:lnTo>
                  <a:pt x="42904" y="21600"/>
                </a:lnTo>
                <a:lnTo>
                  <a:pt x="41504" y="20200"/>
                </a:lnTo>
                <a:lnTo>
                  <a:pt x="41504" y="1400"/>
                </a:lnTo>
                <a:close/>
              </a:path>
              <a:path fill="darkenLess" w="42904" h="21600">
                <a:moveTo>
                  <a:pt x="42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04" y="20200"/>
                </a:lnTo>
                <a:close/>
              </a:path>
              <a:path fill="lighten" w="42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04" h="21600">
                <a:moveTo>
                  <a:pt x="14446" y="10800"/>
                </a:moveTo>
                <a:lnTo>
                  <a:pt x="28459" y="3794"/>
                </a:lnTo>
                <a:lnTo>
                  <a:pt x="2845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79640" y="26028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234936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4360" y="1700280"/>
            <a:ext cx="813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ти каждый слышал о том, что наркотики - это зло.  И, тем не менее, число тех, кто попадает в паутину этого зла, стремительно растет. Почему? Видимо понимание  того, чем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менн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редны наркотики, как они калеча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ловека и всю его жизнь, есть не у всех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ША ЦЕЛЬ - помочь осознать эту опас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al"/>
          <p:cNvPicPr/>
          <p:nvPr/>
        </p:nvPicPr>
        <p:blipFill>
          <a:blip r:embed="rId1"/>
          <a:stretch/>
        </p:blipFill>
        <p:spPr>
          <a:xfrm>
            <a:off x="1403280" y="0"/>
            <a:ext cx="655344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man1"/>
          <p:cNvPicPr/>
          <p:nvPr/>
        </p:nvPicPr>
        <p:blipFill>
          <a:blip r:embed="rId2"/>
          <a:stretch/>
        </p:blipFill>
        <p:spPr>
          <a:xfrm>
            <a:off x="324000" y="1844640"/>
            <a:ext cx="2172960" cy="2303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 flipV="1" rot="10802400">
            <a:off x="5795640" y="4219920"/>
            <a:ext cx="31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GBengaly"/>
              </a:rPr>
              <a:t>Будь сильным! Не начинай! Откажись от первого укола! Пожалей  себя и своих близких</a:t>
            </a:r>
            <a:r>
              <a:rPr b="0" lang="ru-RU" sz="2000" spc="-1" strike="noStrike">
                <a:solidFill>
                  <a:srgbClr val="800080"/>
                </a:solidFill>
                <a:latin typeface="AGBengaly"/>
              </a:rPr>
              <a:t>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BN: Благотворительая сеть"/>
          <p:cNvPicPr/>
          <p:nvPr/>
        </p:nvPicPr>
        <p:blipFill>
          <a:blip r:embed="rId3"/>
          <a:stretch/>
        </p:blipFill>
        <p:spPr>
          <a:xfrm>
            <a:off x="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наркотики"/>
          <p:cNvPicPr/>
          <p:nvPr/>
        </p:nvPicPr>
        <p:blipFill>
          <a:blip r:embed="rId4"/>
          <a:stretch/>
        </p:blipFill>
        <p:spPr>
          <a:xfrm>
            <a:off x="6370560" y="1413000"/>
            <a:ext cx="277344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Go to fullsize image"/>
          <p:cNvPicPr/>
          <p:nvPr/>
        </p:nvPicPr>
        <p:blipFill>
          <a:blip r:embed="rId5"/>
          <a:stretch/>
        </p:blipFill>
        <p:spPr>
          <a:xfrm>
            <a:off x="324000" y="5229360"/>
            <a:ext cx="21603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1989000"/>
          <a:ext cx="4895640" cy="2225880"/>
        </p:xfrm>
        <a:graphic>
          <a:graphicData uri="http://schemas.openxmlformats.org/drawingml/2006/table">
            <a:tbl>
              <a:tblPr/>
              <a:tblGrid>
                <a:gridCol w="2033640"/>
                <a:gridCol w="2862000"/>
              </a:tblGrid>
              <a:tr h="2531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GBengaly"/>
                        </a:rPr>
                        <a:t>Не превращай свою жизнь в крик отчаяния! Ты не одинок. Есть люди, готовые помочь тебе вернуться к нормальной жизни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5"/>
          <p:cNvSpPr/>
          <p:nvPr/>
        </p:nvSpPr>
        <p:spPr>
          <a:xfrm>
            <a:off x="2627280" y="5445000"/>
            <a:ext cx="446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GBengaly"/>
              </a:rPr>
              <a:t>Остановись! Подумай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GBengaly"/>
              </a:rPr>
              <a:t>Твой шаг ведет к пропасти</a:t>
            </a:r>
            <a:r>
              <a:rPr b="0" lang="ru-RU" sz="2000" spc="-1" strike="noStrike">
                <a:solidFill>
                  <a:srgbClr val="800080"/>
                </a:solidFill>
                <a:latin typeface="AGBengaly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7885080" y="609300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468360" y="299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98006,г. Липецк, ул. Ленинградская, 18. Областной Н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. нарколог – Коростин Михаил Иванови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фоны: 8-074-2 73-06-45 – глав.врач; 73-03-13 – регистратура; 73-06-63 факс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812000" y="6165720"/>
            <a:ext cx="792360" cy="28764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9454" h="21600">
                <a:moveTo>
                  <a:pt x="0" y="0"/>
                </a:moveTo>
                <a:lnTo>
                  <a:pt x="59454" y="0"/>
                </a:lnTo>
                <a:lnTo>
                  <a:pt x="59454" y="21600"/>
                </a:lnTo>
                <a:lnTo>
                  <a:pt x="0" y="21600"/>
                </a:lnTo>
                <a:close/>
              </a:path>
              <a:path fill="lightenLess" w="59454" h="21600">
                <a:moveTo>
                  <a:pt x="0" y="0"/>
                </a:moveTo>
                <a:lnTo>
                  <a:pt x="59454" y="0"/>
                </a:lnTo>
                <a:lnTo>
                  <a:pt x="58054" y="1400"/>
                </a:lnTo>
                <a:lnTo>
                  <a:pt x="1400" y="1400"/>
                </a:lnTo>
                <a:close/>
              </a:path>
              <a:path fill="darken" w="59454" h="21600">
                <a:moveTo>
                  <a:pt x="59454" y="0"/>
                </a:moveTo>
                <a:lnTo>
                  <a:pt x="59454" y="21600"/>
                </a:lnTo>
                <a:lnTo>
                  <a:pt x="58054" y="20200"/>
                </a:lnTo>
                <a:lnTo>
                  <a:pt x="58054" y="1400"/>
                </a:lnTo>
                <a:close/>
              </a:path>
              <a:path fill="darkenLess" w="59454" h="21600">
                <a:moveTo>
                  <a:pt x="5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54" y="20200"/>
                </a:lnTo>
                <a:close/>
              </a:path>
              <a:path fill="lighten" w="5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54" h="21600">
                <a:moveTo>
                  <a:pt x="22721" y="10800"/>
                </a:moveTo>
                <a:lnTo>
                  <a:pt x="36733" y="3794"/>
                </a:lnTo>
                <a:lnTo>
                  <a:pt x="36733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943280" y="155736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135" name="Picture 5" descr="j0211949"/>
          <p:cNvPicPr/>
          <p:nvPr/>
        </p:nvPicPr>
        <p:blipFill>
          <a:blip r:embed="rId1"/>
          <a:stretch/>
        </p:blipFill>
        <p:spPr>
          <a:xfrm>
            <a:off x="4859280" y="3860640"/>
            <a:ext cx="3673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826920" y="260280"/>
            <a:ext cx="777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Мы рождены, чтоб жить достойно.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Нам все для этого дано.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Должны творить, вершить, не быть спокойным, 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Не падать вниз, не оседать на жизненное дно.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Есть в жизни много грязного соблазна.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Наркотик – это страшный грех.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Ты должен прокричать, что это грязно,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Да так , чтобы твой крик дошел до всех.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А если честно, крик твой не поможет,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 и не поможет никакой запрет. 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Весь мир кричать здесь громко должен</a:t>
            </a:r>
            <a:br>
              <a:rPr sz="2800"/>
            </a:b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Война наркотикам, наркотикам здесь входа нет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50920" y="260280"/>
          <a:ext cx="8642160" cy="6410520"/>
        </p:xfrm>
        <a:graphic>
          <a:graphicData uri="http://schemas.openxmlformats.org/drawingml/2006/table">
            <a:tbl>
              <a:tblPr/>
              <a:tblGrid>
                <a:gridCol w="5984640"/>
                <a:gridCol w="2657520"/>
              </a:tblGrid>
              <a:tr h="11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отивы, побуждающие молодежь употреблять нарко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ифровое знач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5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Подражание други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От скуки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Чтобы друзья не считали меня мокрой курицей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Желание забытьс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Психическая трав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Незнание тяжелых последств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) Назначение наркотиков в качестве средств лечен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) «Чтобы придать себе смелость и уверенность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) «Чтобы легче общаться с другими людьми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) Желание испытать чувство эйфории, кайф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461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61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61705"/>
                </a:solidFill>
                <a:latin typeface="Arial"/>
              </a:rPr>
              <a:t>Главная опасность наркотических веществ в том, что после приема появляется непреодолимая тяга к повторному их употреблению, причем наркоман уже не думает о смертельно опасных последствиях, которые таит в себе наркотик. Он становится его рабом, часто слепо следующим за ним в могилу.</a:t>
            </a:r>
            <a:r>
              <a:rPr b="0" lang="ru-RU" sz="2400" spc="-1" strike="noStrike">
                <a:solidFill>
                  <a:srgbClr val="0617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uket"/>
          <p:cNvPicPr/>
          <p:nvPr/>
        </p:nvPicPr>
        <p:blipFill>
          <a:blip r:embed="rId1"/>
          <a:stretch/>
        </p:blipFill>
        <p:spPr>
          <a:xfrm>
            <a:off x="5076720" y="1268280"/>
            <a:ext cx="3848040" cy="5229360"/>
          </a:xfrm>
          <a:prstGeom prst="rect">
            <a:avLst/>
          </a:prstGeom>
          <a:ln w="0">
            <a:noFill/>
          </a:ln>
        </p:spPr>
      </p:pic>
      <p:sp>
        <p:nvSpPr>
          <p:cNvPr id="56" name="WordArt 8"/>
          <p:cNvSpPr txBox="1"/>
          <p:nvPr/>
        </p:nvSpPr>
        <p:spPr>
          <a:xfrm>
            <a:off x="755640" y="0"/>
            <a:ext cx="7777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нарко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57" name="AutoShape 10">
            <a:hlinkClick r:id="rId2" action="ppaction://hlinksldjump"/>
          </p:cNvPr>
          <p:cNvSpPr/>
          <p:nvPr/>
        </p:nvSpPr>
        <p:spPr>
          <a:xfrm>
            <a:off x="8459640" y="6093000"/>
            <a:ext cx="432000" cy="549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49000"/>
              <a:gd name="textAreaBottom" fmla="*/ 521280 h 549000"/>
            </a:gdLst>
            <a:ahLst/>
            <a:rect l="textAreaLeft" t="textAreaTop" r="textAreaRight" b="textAreaBottom"/>
            <a:pathLst>
              <a:path w="21600" h="27445">
                <a:moveTo>
                  <a:pt x="0" y="0"/>
                </a:moveTo>
                <a:lnTo>
                  <a:pt x="21600" y="0"/>
                </a:lnTo>
                <a:lnTo>
                  <a:pt x="21600" y="27445"/>
                </a:lnTo>
                <a:lnTo>
                  <a:pt x="0" y="27445"/>
                </a:lnTo>
                <a:close/>
              </a:path>
              <a:path fill="lightenLess" w="21600" h="274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45">
                <a:moveTo>
                  <a:pt x="21600" y="0"/>
                </a:moveTo>
                <a:lnTo>
                  <a:pt x="21600" y="27445"/>
                </a:lnTo>
                <a:lnTo>
                  <a:pt x="20200" y="26045"/>
                </a:lnTo>
                <a:lnTo>
                  <a:pt x="20200" y="1400"/>
                </a:lnTo>
                <a:close/>
              </a:path>
              <a:path fill="darkenLess" w="21600" h="27445">
                <a:moveTo>
                  <a:pt x="21600" y="27445"/>
                </a:moveTo>
                <a:lnTo>
                  <a:pt x="0" y="27445"/>
                </a:lnTo>
                <a:lnTo>
                  <a:pt x="1400" y="26045"/>
                </a:lnTo>
                <a:lnTo>
                  <a:pt x="20200" y="26045"/>
                </a:lnTo>
                <a:close/>
              </a:path>
              <a:path fill="lighten" w="21600" h="27445">
                <a:moveTo>
                  <a:pt x="0" y="274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45"/>
                </a:lnTo>
                <a:close/>
              </a:path>
              <a:path fill="darken" w="21600" h="27445">
                <a:moveTo>
                  <a:pt x="3794" y="13723"/>
                </a:moveTo>
                <a:lnTo>
                  <a:pt x="17806" y="6716"/>
                </a:lnTo>
                <a:lnTo>
                  <a:pt x="17806" y="2072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3499920"/>
            <a:ext cx="8569080" cy="31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ркомания, как и СПИД, чума ХХ века, не знает границ. Наркоманы встречаются среди всех слоёв общества, в любых возрастных группах, любых учебных заведениях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редний возраст наркоманов 15-25 лет. Стремительное распространение этой опасной болезни – в сочетании с алкоголизмом и табакокурением представляют УГРОЗУ ДЛЯ ВЫЖИВАНИЯ И РАЗВИТИЯ  НАЦИИ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кома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это болезнь, характеризующаяся ПОРАЖЕНИЕМ ЛИЧНОСТИ: РАССТРОЙСТВОМ ПСИХИКИ, ФИЗИЧЕСКИМ И МОРАЛЬНЫМ РАСПАДОМ. Наркоман постепенно утрачивает чувство собственного достоинства, самоуважения, теряет друзей, семью, не может приобрести профессию, бросает учёбу, работу и вовлекается в преступную среду. В результате приносит горе СЕБЕ, СЕМЬЕ И ОКРУЖАЮЩИМ. Он медленно, но неотвратимо разрушает своё т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girl1"/>
          <p:cNvPicPr/>
          <p:nvPr/>
        </p:nvPicPr>
        <p:blipFill>
          <a:blip r:embed="rId1"/>
          <a:stretch/>
        </p:blipFill>
        <p:spPr>
          <a:xfrm>
            <a:off x="1042920" y="260280"/>
            <a:ext cx="53276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Наркомания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болезнь, которая развивается при употреблении наркотиков. Её особенность в том, что физическое и душевное состояние человека, его самочувствие оказываются в постоянной зависимости от приёма наркотика. Его наличия в организме. Больной вынужден периодически принимать наркотик, иначе у него возникает мучительное состояние с резкими болями, судорогами и т. п.. Это мучительное состояние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стиненцией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омкой»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 ведёт к привыканию; Привыкание - к потребности, потребность  - к зависимости, т. е. к болезни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котики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вещества, которые оказывают особое воздействие на весь организм человека, прежде всего на его нервную систему, психическое состояние, на сознание, настроение, вызывая одурманивание, опьянение. Коварство наркотиков в том, что наркоман СЛИШКОМ ПОЗДНО понимает, что это не просто «баловство», а уже настоящая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зависим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 rot="2673600">
            <a:off x="2410920" y="3645000"/>
            <a:ext cx="3311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504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00cc"/>
                </a:solidFill>
                <a:uFillTx/>
                <a:latin typeface="Arial"/>
              </a:rPr>
              <a:t>КАКИЕ БЫВАЮТ НАРКОТИКИ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наркотики и психоактивные вещества можно разделить на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 груп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i="1" lang="ru-RU" sz="2400" spc="-1" strike="noStrike" u="sng">
                <a:solidFill>
                  <a:srgbClr val="9c0402"/>
                </a:solidFill>
                <a:uFillTx/>
                <a:latin typeface="Arial"/>
              </a:rPr>
              <a:t>Опиатные нарко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героин, морфин, кодеин, метадон, опий-сырец, триметил-фентанил – «китайский» нарко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инство из них изготавливаются из мака в подпольных лабораториях наркодельцов.  </a:t>
            </a: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Опиа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бычно используют инъекционно, т. е. посредством ук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i="1" lang="ru-RU" sz="2400" spc="-1" strike="noStrike" u="sng">
                <a:solidFill>
                  <a:srgbClr val="9c0402"/>
                </a:solidFill>
                <a:uFillTx/>
                <a:latin typeface="Arial"/>
              </a:rPr>
              <a:t>Препараты </a:t>
            </a:r>
            <a:r>
              <a:rPr b="0" lang="ru-RU" sz="24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конопли</a:t>
            </a:r>
            <a:r>
              <a:rPr b="1" i="1" lang="ru-RU" sz="2400" spc="-1" strike="noStrike" u="sng">
                <a:solidFill>
                  <a:srgbClr val="9c0402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марихуана, «травка», анаша, «план», «гашиш», или «хэ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1130399--------"/>
          <p:cNvPicPr/>
          <p:nvPr/>
        </p:nvPicPr>
        <p:blipFill>
          <a:blip r:embed="rId3"/>
          <a:stretch/>
        </p:blipFill>
        <p:spPr>
          <a:xfrm>
            <a:off x="5297400" y="981000"/>
            <a:ext cx="384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260280"/>
            <a:ext cx="561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рихуана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1557360"/>
            <a:ext cx="525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нливость, учащенное сердцебиение, покраснение глаз, трудности в ориентировки во време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ухость во рту и в горле, ухудшение памяти и внима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ординац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виж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зникнов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ердечно-сосудистых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нкологическ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болева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"/>
          <p:cNvPicPr/>
          <p:nvPr/>
        </p:nvPicPr>
        <p:blipFill>
          <a:blip r:embed="rId1"/>
          <a:stretch/>
        </p:blipFill>
        <p:spPr>
          <a:xfrm>
            <a:off x="5148360" y="3373560"/>
            <a:ext cx="3816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2:22:25Z</dcterms:created>
  <dc:creator>user</dc:creator>
  <dc:description/>
  <dc:language>en-US</dc:language>
  <cp:lastModifiedBy>Света</cp:lastModifiedBy>
  <dcterms:modified xsi:type="dcterms:W3CDTF">2001-12-31T21:55:59Z</dcterms:modified>
  <cp:revision>86</cp:revision>
  <dc:subject/>
  <dc:title>Слайд 1</dc:title>
</cp:coreProperties>
</file>