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943-8C0B-48DA-8954-ACAA3C79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605-A6C4-4C1B-958B-716E84C5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BBB-1991-4092-8550-5887D60F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800-B2F4-46DF-A20A-2AE72A11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E84-F6AF-4F64-8023-991CB699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776-DFEF-4420-9AAC-AB314A5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0BC-3804-4AB0-A577-1CE23CC7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2CB-6C66-468E-91B3-7303537A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509-6339-4B7A-AB13-B957C247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F13-4BBF-42B1-9A46-F92C0A3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FFD-EB28-4A75-A57B-AFBFAE81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FF5-8117-4547-8369-098BF34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202DE1-FB37-457E-8677-39823F37215F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тклоняющееся (девиантное) поведение и его типы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1523880" y="457200"/>
            <a:ext cx="5943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 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нятие «отклоняющееся поведени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Виды отклоняющегося по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Проявления отклоняющегося поведения на уровн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ой социальной групп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ударственных организа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Особая опасность массовых явлений отклоняющегося поведения (наркомания, терроризм, расовая нетерпимость, религиозный фанатиз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Причины отклоняющегося поведения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533520" y="533520"/>
            <a:ext cx="7696080" cy="10666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Отклоняющееся (девиантное) повед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это повед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соответствующее социальным норм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2"/>
          <p:cNvSpPr/>
          <p:nvPr/>
        </p:nvSpPr>
        <p:spPr>
          <a:xfrm flipH="1">
            <a:off x="2665080" y="1676520"/>
            <a:ext cx="7650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5410080" y="1600200"/>
            <a:ext cx="7621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219320" y="2438280"/>
            <a:ext cx="2895480" cy="6858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итив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724280" y="2438280"/>
            <a:ext cx="2895840" cy="6858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гатив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3657600" y="3581280"/>
            <a:ext cx="1371600" cy="6098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3657600" y="4648320"/>
            <a:ext cx="1371600" cy="6094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3657600" y="5791320"/>
            <a:ext cx="1371600" cy="6094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у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 flipH="1">
            <a:off x="2817360" y="3962520"/>
            <a:ext cx="8413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85800" y="3505320"/>
            <a:ext cx="2133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удаче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сцентричн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ициати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атор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бретатель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 flipH="1">
            <a:off x="1370160" y="5105520"/>
            <a:ext cx="236520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52280" y="6248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наты артистов, спорт. болельщ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5029200" y="38862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5029200" y="4952880"/>
            <a:ext cx="1066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5029200" y="6172200"/>
            <a:ext cx="8380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6019920" y="35053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ступления, правонару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172200" y="4724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оры, скандалы, конфли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6019920" y="57913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юрократия, волокита, корруп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5791320" y="6400800"/>
            <a:ext cx="3047760" cy="30492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щерб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666880" y="8380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обенно опасны массовые явления отклоняющегося повед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3000" y="3048120"/>
            <a:ext cx="6095880" cy="6094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ком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43000" y="3962520"/>
            <a:ext cx="6095880" cy="6094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ор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143000" y="4876920"/>
            <a:ext cx="6095880" cy="6094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овая нетерпим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143000" y="5791320"/>
            <a:ext cx="6095880" cy="6094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игиозный фанат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5638680" y="1676520"/>
            <a:ext cx="1447920" cy="990360"/>
          </a:xfrm>
          <a:custGeom>
            <a:avLst/>
            <a:gdLst>
              <a:gd name="textAreaLeft" fmla="*/ 0 w 1447920"/>
              <a:gd name="textAreaRight" fmla="*/ 409320 w 1447920"/>
              <a:gd name="textAreaTop" fmla="*/ 38088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286000" y="228600"/>
            <a:ext cx="4191120" cy="6858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отклоняющегося повед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1371600"/>
            <a:ext cx="3809880" cy="6094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ая теор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57200" y="2666880"/>
            <a:ext cx="3809880" cy="60984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логическая теор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4191120"/>
            <a:ext cx="3809880" cy="6094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ологическая теор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7200" y="5638680"/>
            <a:ext cx="3809880" cy="60984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льтурологическая теор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572000" y="1066680"/>
            <a:ext cx="3809880" cy="1295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родная предрасполож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нарушениям соц. нор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4495680" y="2514600"/>
            <a:ext cx="3810240" cy="1295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правильное развит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4495680" y="3809880"/>
            <a:ext cx="3886200" cy="13716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вления общественной жизн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изисы, революц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ходные пери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4572000" y="5334120"/>
            <a:ext cx="3809880" cy="1295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фликт меж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подствующей культу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субкультур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аленюк</cp:lastModifiedBy>
  <dcterms:modified xsi:type="dcterms:W3CDTF">2013-10-07T11:00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