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A4B4-15AC-4426-9DBC-DCC4377A95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FE2-8A00-4A35-A937-147D065F669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B52-6E9F-47D9-AA26-CD4AD281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9F5-317A-4ACA-ADD2-592AFD5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1E5-9F14-403A-8D22-66AA12A0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45A-A71B-4931-9F86-17342671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2A12-A74A-459A-9BC6-5EA502FE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F98C-2DAC-48EE-8FC2-8D62B0A5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AD18-310B-4E06-97C4-7067C2B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F81C-C1D5-4859-B531-EA31469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6DB-395D-42AF-ADAF-7075757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D32-AE60-4C08-AF05-4897184D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EAF4-04CE-4520-9421-D32FBC44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682-CCDA-41F1-AC8D-679F46A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2BF-11C3-44EF-B9DA-2E8D3C2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D13-B190-4967-A9E2-020AAB3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11CD-3835-447A-B8C8-166099E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EED-BB8A-4C15-93BE-B1B1931D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E56C-4B03-4C68-A263-228AA19D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50D-BC75-4D67-92E2-62EEF61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64B-AD96-4428-A9D2-7694530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61D-67C3-44B5-9BEF-B049DC3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A32-EAE3-4B75-86BF-C22170C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C85-65F3-42D6-BEBC-ED600EF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356-D030-4ED3-8947-86A3CEF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BD9-275D-4F97-976E-6C37E51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5E4-F4DA-4DF9-803B-A193F458311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9D0-CACC-464B-AAFC-8FE069DBC31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2062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Язык программирования </a:t>
            </a:r>
            <a:r>
              <a:rPr b="0" lang="en-US" sz="4800" spc="-1" strike="noStrike">
                <a:solidFill>
                  <a:srgbClr val="990000"/>
                </a:solidFill>
                <a:latin typeface="Comic Sans MS"/>
              </a:rPr>
              <a:t>    </a:t>
            </a:r>
            <a:br>
              <a:rPr sz="4800"/>
            </a:br>
            <a:r>
              <a:rPr b="0" lang="en-US" sz="48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2a3d7a"/>
                </a:solidFill>
                <a:latin typeface="Comic Sans MS"/>
              </a:rPr>
              <a:t> PASCAL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76212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2001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a32001"/>
                </a:solidFill>
                <a:latin typeface="Comic Sans MS"/>
              </a:rPr>
              <a:t>Типы данных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90720" y="1295280"/>
          <a:ext cx="7772400" cy="488952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Типы</a:t>
                      </a: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данных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Диапаз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значе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Объём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амя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455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b0472"/>
                          </a:solidFill>
                          <a:latin typeface="Tahoma"/>
                        </a:rPr>
                        <a:t>Целый ти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shorti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-128…1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1 </a:t>
                      </a: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Байт со знако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by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0…2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1 Бай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wor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0…655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2 Бай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inte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-32768…3276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2 Байта со знако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longi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-2147483648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21474836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4 Байта со знако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  <a:tr h="455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0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3b0472"/>
                          </a:solidFill>
                          <a:latin typeface="Tahoma"/>
                        </a:rPr>
                        <a:t>Вещественный ти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re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4 </a:t>
                      </a:r>
                      <a:r>
                        <a:rPr b="1" lang="ru-RU" sz="1600" spc="-1" strike="noStrike">
                          <a:solidFill>
                            <a:srgbClr val="2a3d7a"/>
                          </a:solidFill>
                          <a:latin typeface="Courier New"/>
                        </a:rPr>
                        <a:t>или 8 в зависимости от точ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efbdef"/>
                    </a:solidFill>
                  </a:tcPr>
                </a:tc>
              </a:tr>
            </a:tbl>
          </a:graphicData>
        </a:graphic>
      </p:graphicFrame>
      <p:sp>
        <p:nvSpPr>
          <p:cNvPr id="187" name="AutoShape 319">
            <a:hlinkClick r:id="rId1" action="ppaction://hlinksldjump"/>
          </p:cNvPr>
          <p:cNvSpPr/>
          <p:nvPr/>
        </p:nvSpPr>
        <p:spPr>
          <a:xfrm>
            <a:off x="304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нстанты и Переменны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Константа (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const) – </a:t>
            </a:r>
            <a:r>
              <a:rPr b="0" lang="ru-RU" sz="2400" spc="-1" strike="noStrike">
                <a:solidFill>
                  <a:srgbClr val="070605"/>
                </a:solidFill>
                <a:latin typeface="Times New Roman"/>
              </a:rPr>
              <a:t>данная, значение которой не меняется в процессе выполнения программ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Переменная – </a:t>
            </a:r>
            <a:r>
              <a:rPr b="0" lang="ru-RU" sz="2400" spc="-1" strike="noStrike">
                <a:solidFill>
                  <a:srgbClr val="070605"/>
                </a:solidFill>
                <a:latin typeface="Times New Roman"/>
              </a:rPr>
              <a:t>данная, значение которой меняется в процессе выполнения программ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605"/>
                </a:solidFill>
                <a:latin typeface="Times New Roman"/>
              </a:rPr>
              <a:t>Константа и переменная характеризуются ИМЕНЕМ,      ТИПОМ и ЗНАЧЕНИЕМ.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605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70605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Математические функ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43000" y="1219320"/>
          <a:ext cx="7696080" cy="4903560"/>
        </p:xfrm>
        <a:graphic>
          <a:graphicData uri="http://schemas.openxmlformats.org/drawingml/2006/table">
            <a:tbl>
              <a:tblPr/>
              <a:tblGrid>
                <a:gridCol w="3697200"/>
                <a:gridCol w="1811520"/>
                <a:gridCol w="218736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Функ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Тип аргумен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Тип результа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abs(x)- 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модуль 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x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ый или 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ый, 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qr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вадра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//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//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qrt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орен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ые и дробны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sin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сину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ый и 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cos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косину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ый и 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Pi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П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Не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round(x)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округлить до   целог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trunc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ая часть от 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int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целая часть от 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frac(x)-</a:t>
                      </a: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 дробная часть от </a:t>
                      </a:r>
                      <a:r>
                        <a:rPr b="1" lang="en-US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(x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edc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6f5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70605"/>
                          </a:solidFill>
                          <a:latin typeface="Courier New"/>
                        </a:rPr>
                        <a:t>Вещественны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</a:tbl>
          </a:graphicData>
        </a:graphic>
      </p:graphicFrame>
      <p:sp>
        <p:nvSpPr>
          <p:cNvPr id="194" name="AutoShape 103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4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Условный оператор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IF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053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Полная форма условного оператор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                                      </a:t>
            </a:r>
            <a:r>
              <a:rPr b="1" lang="ru-RU" sz="1800" spc="-1" strike="noStrike">
                <a:solidFill>
                  <a:srgbClr val="6e006e"/>
                </a:solidFill>
                <a:latin typeface="Comic Sans MS"/>
              </a:rPr>
              <a:t>Синтаксис: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if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условие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 then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оператор 1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 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else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оператор 2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1.Проверка условия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2. Если условие истинно, то выполняется оператор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после </a:t>
            </a:r>
            <a:r>
              <a:rPr b="0" lang="en-US" sz="1400" spc="-1" strike="noStrike">
                <a:solidFill>
                  <a:srgbClr val="070605"/>
                </a:solidFill>
                <a:latin typeface="Arial Narrow"/>
              </a:rPr>
              <a:t>then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. Если ложно, то выполняется оператор после </a:t>
            </a:r>
            <a:r>
              <a:rPr b="0" lang="en-US" sz="1400" spc="-1" strike="noStrike">
                <a:solidFill>
                  <a:srgbClr val="070605"/>
                </a:solidFill>
                <a:latin typeface="Arial Narrow"/>
              </a:rPr>
              <a:t>else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3. Выполняется оператор следующий за </a:t>
            </a:r>
            <a:r>
              <a:rPr b="0" lang="en-US" sz="1400" spc="-1" strike="noStrike">
                <a:solidFill>
                  <a:srgbClr val="070605"/>
                </a:solidFill>
                <a:latin typeface="Arial Narrow"/>
              </a:rPr>
              <a:t>If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.</a:t>
            </a:r>
            <a:r>
              <a:rPr b="0" lang="en-US" sz="1400" spc="-1" strike="noStrike">
                <a:solidFill>
                  <a:srgbClr val="070605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0605"/>
                </a:solidFill>
                <a:latin typeface="Arial Narrow"/>
              </a:rPr>
              <a:t>             </a:t>
            </a:r>
            <a:r>
              <a:rPr b="0" lang="ru-RU" sz="14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00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438280" y="1371600"/>
            <a:ext cx="609840" cy="457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133720" y="2514600"/>
            <a:ext cx="1371600" cy="762120"/>
          </a:xfrm>
          <a:prstGeom prst="flowChartDecision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Century Gothic"/>
              </a:rPr>
              <a:t>условие</a:t>
            </a:r>
            <a:r>
              <a:rPr b="1" lang="ru-RU" sz="1800" spc="-1" strike="noStrike">
                <a:solidFill>
                  <a:srgbClr val="5b5249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505320" y="3352680"/>
            <a:ext cx="121896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ператор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62120" y="3352680"/>
            <a:ext cx="121896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ператор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819520" y="220968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191120" y="3809880"/>
            <a:ext cx="0" cy="60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1295280" y="388620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2819520" y="44197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3505320" y="2895480"/>
            <a:ext cx="6858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 flipH="1">
            <a:off x="1447560" y="2895480"/>
            <a:ext cx="6858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4191120" y="28954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1676520" y="2514600"/>
            <a:ext cx="304560" cy="304920"/>
          </a:xfrm>
          <a:prstGeom prst="plus">
            <a:avLst>
              <a:gd name="adj" fmla="val 33856"/>
            </a:avLst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3581280" y="2590920"/>
            <a:ext cx="381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295280" y="4419720"/>
            <a:ext cx="15242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2819520" y="4419720"/>
            <a:ext cx="1371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5">
            <a:hlinkClick r:id="" action="ppaction://hlinkshowjump?jump=nextslide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Условный оператор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F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                                              </a:t>
            </a: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Сокращённая форма условного оператора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Синтаксис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                                   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if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условие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then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оператор1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0605"/>
                </a:solidFill>
                <a:latin typeface="Arial Narrow"/>
              </a:rPr>
              <a:t>                                               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32001"/>
                </a:solidFill>
                <a:latin typeface="Comic Sans MS"/>
              </a:rPr>
              <a:t>Если надо выполнить последовательность действий ( несколько операторов), То их надо заключать в операторные скобки. Операторными скобками называется пара зарезервированных слов «</a:t>
            </a:r>
            <a:r>
              <a:rPr b="1" lang="en-US" sz="1600" spc="-1" strike="noStrike">
                <a:solidFill>
                  <a:srgbClr val="a32001"/>
                </a:solidFill>
                <a:latin typeface="Comic Sans MS"/>
              </a:rPr>
              <a:t>begin … end</a:t>
            </a:r>
            <a:r>
              <a:rPr b="1" lang="ru-RU" sz="1600" spc="-1" strike="noStrike">
                <a:solidFill>
                  <a:srgbClr val="a32001"/>
                </a:solidFill>
                <a:latin typeface="Comic Sans MS"/>
              </a:rPr>
              <a:t>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2438280" y="1295280"/>
            <a:ext cx="609840" cy="533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2133720" y="2133720"/>
            <a:ext cx="1143000" cy="609480"/>
          </a:xfrm>
          <a:prstGeom prst="flowChartDecision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Century Gothic"/>
              </a:rPr>
              <a:t>услов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914400" y="2971800"/>
            <a:ext cx="12952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Century Gothic"/>
              </a:rPr>
              <a:t>оператор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 flipH="1">
            <a:off x="1523880" y="2438280"/>
            <a:ext cx="6098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1523880" y="2438280"/>
            <a:ext cx="0" cy="5335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1523880" y="342900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23880" y="3886200"/>
            <a:ext cx="11430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276720" y="2438280"/>
            <a:ext cx="228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3505320" y="2438280"/>
            <a:ext cx="0" cy="1447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 flipH="1">
            <a:off x="2666520" y="3886200"/>
            <a:ext cx="8384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666880" y="388620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1752480" y="2057400"/>
            <a:ext cx="228600" cy="228600"/>
          </a:xfrm>
          <a:prstGeom prst="plus">
            <a:avLst>
              <a:gd name="adj" fmla="val 36806"/>
            </a:avLst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7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3200400" y="2133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икл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ccff"/>
                </a:solidFill>
                <a:uFillTx/>
                <a:latin typeface="Century Gothic"/>
              </a:rPr>
              <a:t>Оператор цикла с параметром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605"/>
                </a:solidFill>
                <a:latin typeface="Century Gothic"/>
              </a:rPr>
              <a:t>   </a:t>
            </a:r>
            <a:r>
              <a:rPr b="0" lang="ru-RU" sz="1600" spc="-1" strike="noStrike">
                <a:solidFill>
                  <a:srgbClr val="070605"/>
                </a:solidFill>
                <a:latin typeface="Century Gothic"/>
              </a:rPr>
              <a:t>Оператор цикла с параметром применяют тогда, когда заранее        известно число повторений одной и той же последовательности    действи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605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Синтаксис: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for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параметр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:= А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to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В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 do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тело цикла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;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</a:t>
            </a: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1.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Вычисляются  значения  выражения А и В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2. Если А</a:t>
            </a:r>
            <a:r>
              <a:rPr b="0" lang="en-US" sz="12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или = В, то параметр последовательно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принимает значения равные А, А+1 … В-1, В и для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каждого из этих значений выполняется тело цикла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3. Если А</a:t>
            </a:r>
            <a:r>
              <a:rPr b="0" lang="en-US" sz="12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В, то тело цикла не выполниться ни разу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                                 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676520" y="3352680"/>
            <a:ext cx="1904760" cy="609840"/>
          </a:xfrm>
          <a:prstGeom prst="flowChartPreparation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Century Gothic"/>
              </a:rPr>
              <a:t>параметр = А,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5800" y="4114800"/>
            <a:ext cx="137160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Century Gothic"/>
              </a:rPr>
              <a:t>тело цикл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590920" y="30481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3581280" y="3657600"/>
            <a:ext cx="3049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3809880" y="3657600"/>
            <a:ext cx="0" cy="11430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2"/>
          <p:cNvSpPr/>
          <p:nvPr/>
        </p:nvSpPr>
        <p:spPr>
          <a:xfrm flipH="1">
            <a:off x="2666520" y="4724280"/>
            <a:ext cx="11430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266688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1371600" y="46483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 flipH="1">
            <a:off x="457200" y="4952880"/>
            <a:ext cx="9144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6"/>
          <p:cNvSpPr/>
          <p:nvPr/>
        </p:nvSpPr>
        <p:spPr>
          <a:xfrm flipV="1">
            <a:off x="533520" y="3047760"/>
            <a:ext cx="0" cy="1904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533520" y="3048120"/>
            <a:ext cx="20574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 flipH="1">
            <a:off x="1371240" y="3657600"/>
            <a:ext cx="3049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1371600" y="365760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1371600" y="3276720"/>
            <a:ext cx="304920" cy="304560"/>
          </a:xfrm>
          <a:prstGeom prst="plus">
            <a:avLst>
              <a:gd name="adj" fmla="val 33856"/>
            </a:avLst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3505320" y="3352680"/>
            <a:ext cx="380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3">
            <a:hlinkClick r:id="" action="ppaction://hlinkshowjump?jump=nextslide"/>
          </p:cNvPr>
          <p:cNvSpPr/>
          <p:nvPr/>
        </p:nvSpPr>
        <p:spPr>
          <a:xfrm>
            <a:off x="8153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25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икл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2001"/>
                </a:solidFill>
                <a:latin typeface="Century Gothic"/>
              </a:rPr>
              <a:t>2.</a:t>
            </a:r>
            <a:r>
              <a:rPr b="1" lang="ru-RU" sz="1800" spc="-1" strike="noStrike">
                <a:solidFill>
                  <a:srgbClr val="33ccff"/>
                </a:solidFill>
                <a:latin typeface="Century Gothic"/>
              </a:rPr>
              <a:t> </a:t>
            </a:r>
            <a:r>
              <a:rPr b="1" lang="ru-RU" sz="1800" spc="-1" strike="noStrike" u="sng">
                <a:solidFill>
                  <a:srgbClr val="33ccff"/>
                </a:solidFill>
                <a:uFillTx/>
                <a:latin typeface="Century Gothic"/>
              </a:rPr>
              <a:t>Оператор цикла с предусловием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605"/>
                </a:solidFill>
                <a:latin typeface="Century Gothic"/>
              </a:rPr>
              <a:t>Оператор цикла с  предусловием  используется тогда, когда  число повторений оператора цикла заранее не известно, а задаётся некоторое условие продолжения     цикла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          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Синтаксис: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while 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 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условие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do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lt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тело цикла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&gt;;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                         </a:t>
            </a:r>
            <a:r>
              <a:rPr b="1" lang="ru-RU" sz="1000" spc="-1" strike="noStrike">
                <a:solidFill>
                  <a:srgbClr val="070605"/>
                </a:solidFill>
                <a:latin typeface="Century Gothic"/>
              </a:rPr>
              <a:t>            </a:t>
            </a: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1.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Проверка условия, записанного после слова </a:t>
            </a:r>
            <a:r>
              <a:rPr b="0" lang="en-US" sz="1200" spc="-1" strike="noStrike">
                <a:solidFill>
                  <a:srgbClr val="070605"/>
                </a:solidFill>
                <a:latin typeface="Century Gothic"/>
              </a:rPr>
              <a:t>while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</a:t>
            </a: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2.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Если оно выполняется, то выполняется тело цикла, затем вновь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проверка условия и т.д.</a:t>
            </a: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</a:t>
            </a:r>
            <a:r>
              <a:rPr b="1" lang="ru-RU" sz="1200" spc="-1" strike="noStrike">
                <a:solidFill>
                  <a:srgbClr val="070605"/>
                </a:solidFill>
                <a:latin typeface="Century Gothic"/>
              </a:rPr>
              <a:t>3.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Как только при проверке окажется, что  условие не соблюдается, то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тело цикла выполняться не будет и программа перейдёт к выпол-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70605"/>
                </a:solidFill>
                <a:latin typeface="Century Gothic"/>
              </a:rPr>
              <a:t>нению следующего оператора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1600200" y="3124080"/>
            <a:ext cx="990720" cy="609840"/>
          </a:xfrm>
          <a:prstGeom prst="flowChartDecision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838080" y="4038480"/>
            <a:ext cx="10670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ло цикл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1371240" y="3429000"/>
            <a:ext cx="228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1371600" y="342900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1371600" y="44956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533520" y="4876920"/>
            <a:ext cx="838080" cy="0"/>
          </a:xfrm>
          <a:prstGeom prst="line">
            <a:avLst/>
          </a:prstGeom>
          <a:ln w="3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V="1">
            <a:off x="609480" y="2819160"/>
            <a:ext cx="0" cy="20574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609480" y="2819520"/>
            <a:ext cx="14479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2057400" y="28195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514600" y="3429000"/>
            <a:ext cx="228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2743200" y="3429000"/>
            <a:ext cx="0" cy="17524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2057040" y="5181480"/>
            <a:ext cx="6858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2057400" y="5181480"/>
            <a:ext cx="0" cy="60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1371600" y="3048120"/>
            <a:ext cx="304920" cy="304560"/>
          </a:xfrm>
          <a:prstGeom prst="plus">
            <a:avLst>
              <a:gd name="adj" fmla="val 33333"/>
            </a:avLst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2438280" y="312408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22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6">
            <a:hlinkClick r:id="" action="ppaction://hlinkshowjump?jump=nextslide"/>
          </p:cNvPr>
          <p:cNvSpPr/>
          <p:nvPr/>
        </p:nvSpPr>
        <p:spPr>
          <a:xfrm>
            <a:off x="8153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икл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Century Gothic"/>
              </a:rPr>
              <a:t>3. 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Century Gothic"/>
              </a:rPr>
              <a:t>Оператор цикла с постусловием. </a:t>
            </a:r>
            <a:r>
              <a:rPr b="1" lang="en-US" sz="1800" spc="-1" strike="noStrike" u="sng">
                <a:solidFill>
                  <a:srgbClr val="00ccff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Comic Sans MS"/>
              </a:rPr>
              <a:t>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Comic Sans MS"/>
              </a:rPr>
              <a:t>Синтаксис: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epeat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&lt;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тело цикла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&gt;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until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&lt;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условие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&gt;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Century Gothic"/>
              </a:rPr>
              <a:t>          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Century Gothic"/>
              </a:rPr>
              <a:t>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ыполняется тело цикла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веряется условие : если оно истинно, то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грамма выходит из цикла; а при невыполнении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условия тело цикла повторяется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Century Gothic"/>
              </a:rPr>
              <a:t>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600200" y="2209680"/>
            <a:ext cx="1143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ло цикл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1600200" y="3124080"/>
            <a:ext cx="1143000" cy="685800"/>
          </a:xfrm>
          <a:prstGeom prst="diamond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2133720" y="182880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2133720" y="26668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1219320" y="34290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V="1">
            <a:off x="1219320" y="1828440"/>
            <a:ext cx="0" cy="1600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219320" y="1828800"/>
            <a:ext cx="9144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2743200" y="34290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3124080" y="3429000"/>
            <a:ext cx="0" cy="6858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8"/>
          <p:cNvSpPr/>
          <p:nvPr/>
        </p:nvSpPr>
        <p:spPr>
          <a:xfrm>
            <a:off x="2819520" y="3048120"/>
            <a:ext cx="228600" cy="228600"/>
          </a:xfrm>
          <a:prstGeom prst="plus">
            <a:avLst>
              <a:gd name="adj" fmla="val 39583"/>
            </a:avLst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447920" y="3200400"/>
            <a:ext cx="228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0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45720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1" action="ppaction://hlinksldjump"/>
              </a:rPr>
              <a:t>История создания языка программирования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Century Gothic"/>
                <a:hlinkClick r:id="rId2" action="ppaction://hlinksldjump"/>
              </a:rPr>
              <a:t>Turbo Pascal</a:t>
            </a: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3" action="ppaction://hlinksldjump"/>
              </a:rPr>
              <a:t>Структура программы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4" action="ppaction://hlinksldjump"/>
              </a:rPr>
              <a:t>Оператор ввода, вывода и присваивания</a:t>
            </a: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5" action="ppaction://hlinksldjump"/>
              </a:rPr>
              <a:t>Графическое представление программ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6" action="ppaction://hlinksldjump"/>
              </a:rPr>
              <a:t>Выполнение оператора ввода данных с клавиатуры</a:t>
            </a: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7" action="ppaction://hlinksldjump"/>
              </a:rPr>
              <a:t>Выполнение оператора вывода данных на монито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8" action="ppaction://hlinksldjump"/>
              </a:rPr>
              <a:t>Типы данных</a:t>
            </a: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9" action="ppaction://hlinksldjump"/>
              </a:rPr>
              <a:t>Объекты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Century Gothic"/>
                <a:hlinkClick r:id="rId10" action="ppaction://hlinksldjump"/>
              </a:rPr>
              <a:t>Pasc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11" action="ppaction://hlinksldjump"/>
              </a:rPr>
              <a:t>Условный оператор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Century Gothic"/>
                <a:hlinkClick r:id="rId12" action="ppaction://hlinksldjump"/>
              </a:rPr>
              <a:t>IF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ae6a"/>
                </a:solidFill>
                <a:uFillTx/>
                <a:latin typeface="Century Gothic"/>
                <a:hlinkClick r:id="rId13" action="ppaction://hlinksldjump"/>
              </a:rPr>
              <a:t>Циклы</a:t>
            </a: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9212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В 1970 году профессор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Century Gothic"/>
              </a:rPr>
              <a:t>Никлаус Вирт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 создал в Цюрихском политехническом университете язык программирования Паскаль (</a:t>
            </a:r>
            <a:r>
              <a:rPr b="0" lang="en-US" sz="2400" spc="-1" strike="noStrike">
                <a:solidFill>
                  <a:srgbClr val="000099"/>
                </a:solidFill>
                <a:latin typeface="Century Gothic"/>
              </a:rPr>
              <a:t>Pascal).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 Создатель языка назвал его в честь Блеза Паскаля – первого конструктора устройств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Он создавался как язык, который, с одной стороны, был бы хорошо приспособлен для обучения программированию, а с другой – давал бы возможность эффективно решать самые разнообразные задачи на современных ЭВМ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38088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543f3"/>
                </a:solidFill>
                <a:latin typeface="Times New Roman"/>
              </a:rPr>
              <a:t>Структура Программ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Arial Narrow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 Narrow"/>
              </a:rPr>
              <a:t>&lt;</a:t>
            </a: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оператор 1</a:t>
            </a:r>
            <a:r>
              <a:rPr b="0" lang="en-US" sz="2000" spc="-1" strike="noStrike">
                <a:solidFill>
                  <a:srgbClr val="070605"/>
                </a:solidFill>
                <a:latin typeface="Arial Narrow"/>
              </a:rPr>
              <a:t> &gt;</a:t>
            </a: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70605"/>
                </a:solidFill>
                <a:latin typeface="Arial Narrow"/>
              </a:rPr>
              <a:t>&lt;</a:t>
            </a: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оператор 2</a:t>
            </a:r>
            <a:r>
              <a:rPr b="0" lang="en-US" sz="2000" spc="-1" strike="noStrike">
                <a:solidFill>
                  <a:srgbClr val="070605"/>
                </a:solidFill>
                <a:latin typeface="Arial Narrow"/>
              </a:rPr>
              <a:t>&gt;</a:t>
            </a: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4191120" y="2133720"/>
            <a:ext cx="2514600" cy="457200"/>
          </a:xfrm>
          <a:prstGeom prst="leftArrow">
            <a:avLst>
              <a:gd name="adj1" fmla="val 50000"/>
              <a:gd name="adj2" fmla="val 146870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Заголовок программ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191120" y="4267080"/>
            <a:ext cx="2057400" cy="457200"/>
          </a:xfrm>
          <a:prstGeom prst="leftArrow">
            <a:avLst>
              <a:gd name="adj1" fmla="val 50000"/>
              <a:gd name="adj2" fmla="val 120167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Раздел оператор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4114800" y="3048120"/>
            <a:ext cx="2819520" cy="457200"/>
          </a:xfrm>
          <a:prstGeom prst="leftArrow">
            <a:avLst>
              <a:gd name="adj1" fmla="val 50000"/>
              <a:gd name="adj2" fmla="val 164680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Раздел описания объект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990720" y="5410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0472"/>
                </a:solidFill>
                <a:latin typeface="Arial Narrow"/>
              </a:rPr>
              <a:t>end</a:t>
            </a:r>
            <a:r>
              <a:rPr b="1" lang="ru-RU" sz="2000" spc="-1" strike="noStrike">
                <a:solidFill>
                  <a:srgbClr val="3b0472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90720" y="380988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0472"/>
                </a:solidFill>
                <a:latin typeface="Arial Narrow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915840" y="21337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0472"/>
                </a:solidFill>
                <a:latin typeface="Arial Narrow"/>
              </a:rPr>
              <a:t>Program &lt;name&gt;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1295280" y="2819520"/>
            <a:ext cx="2210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константы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605"/>
                </a:solidFill>
                <a:latin typeface="Arial Narrow"/>
              </a:rPr>
              <a:t>переменные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7">
            <a:hlinkClick r:id="rId1" action="ppaction://hlinksldjump"/>
          </p:cNvPr>
          <p:cNvSpPr/>
          <p:nvPr/>
        </p:nvSpPr>
        <p:spPr>
          <a:xfrm>
            <a:off x="304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8">
            <a:hlinkClick r:id="" action="ppaction://hlinkshowjump?jump=nextslide"/>
          </p:cNvPr>
          <p:cNvSpPr/>
          <p:nvPr/>
        </p:nvSpPr>
        <p:spPr>
          <a:xfrm>
            <a:off x="80773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9">
            <a:hlinkClick r:id="rId2" action="ppaction://hlinksldjump"/>
          </p:cNvPr>
          <p:cNvSpPr/>
          <p:nvPr/>
        </p:nvSpPr>
        <p:spPr>
          <a:xfrm>
            <a:off x="7848720" y="4648320"/>
            <a:ext cx="990360" cy="304560"/>
          </a:xfrm>
          <a:custGeom>
            <a:avLst/>
            <a:gdLst>
              <a:gd name="textAreaLeft" fmla="*/ 19440 w 990360"/>
              <a:gd name="textAreaRight" fmla="*/ 970920 w 990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a3d7a"/>
                </a:solidFill>
                <a:uFillTx/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йдите сумму двух чисел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program SUMMA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var a,b: real;</a:t>
            </a:r>
            <a:r>
              <a:rPr b="1" lang="ru-RU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begi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readln (a,b)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S:= a+b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writeln (S)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readln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5">
            <a:hlinkClick r:id="rId1" action="ppaction://hlinksldjump"/>
          </p:cNvPr>
          <p:cNvSpPr/>
          <p:nvPr/>
        </p:nvSpPr>
        <p:spPr>
          <a:xfrm>
            <a:off x="380880" y="457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43400" y="1828800"/>
            <a:ext cx="2514600" cy="380880"/>
          </a:xfrm>
          <a:prstGeom prst="leftArrow">
            <a:avLst>
              <a:gd name="adj1" fmla="val 50000"/>
              <a:gd name="adj2" fmla="val 176300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Заголовок программ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191120" y="2514600"/>
            <a:ext cx="2819160" cy="380880"/>
          </a:xfrm>
          <a:prstGeom prst="leftArrow">
            <a:avLst>
              <a:gd name="adj1" fmla="val 50000"/>
              <a:gd name="adj2" fmla="val 197653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Раздел описания объект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733920" y="312408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590920"/>
              <a:gd name="textAreaBottom" fmla="*/ 2537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5"/>
                  <a:pt x="10800" y="1429"/>
                </a:cubicBezTo>
                <a:lnTo>
                  <a:pt x="10800" y="9252"/>
                </a:lnTo>
                <a:cubicBezTo>
                  <a:pt x="10800" y="9967"/>
                  <a:pt x="16200" y="10681"/>
                  <a:pt x="21600" y="10681"/>
                </a:cubicBezTo>
                <a:cubicBezTo>
                  <a:pt x="16200" y="10681"/>
                  <a:pt x="10800" y="11396"/>
                  <a:pt x="10800" y="12110"/>
                </a:cubicBezTo>
                <a:lnTo>
                  <a:pt x="10800" y="20171"/>
                </a:lnTo>
                <a:cubicBezTo>
                  <a:pt x="10800" y="2088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809880" y="243828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4038480" y="18288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191120" y="4267080"/>
            <a:ext cx="2057400" cy="457200"/>
          </a:xfrm>
          <a:prstGeom prst="leftArrow">
            <a:avLst>
              <a:gd name="adj1" fmla="val 50000"/>
              <a:gd name="adj2" fmla="val 120167"/>
            </a:avLst>
          </a:prstGeom>
          <a:solidFill>
            <a:srgbClr val="f2edba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32001"/>
                </a:solidFill>
                <a:latin typeface="Times New Roman"/>
              </a:rPr>
              <a:t>Раздел оператор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3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4">
            <a:hlinkClick r:id="rId2" action="ppaction://hlinksldjump"/>
          </p:cNvPr>
          <p:cNvSpPr/>
          <p:nvPr/>
        </p:nvSpPr>
        <p:spPr>
          <a:xfrm>
            <a:off x="7620120" y="4876920"/>
            <a:ext cx="990360" cy="304560"/>
          </a:xfrm>
          <a:custGeom>
            <a:avLst/>
            <a:gdLst>
              <a:gd name="textAreaLeft" fmla="*/ 19440 w 990360"/>
              <a:gd name="textAreaRight" fmla="*/ 970920 w 990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ператор ввода, вывода, присваивания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Оператор ввода данных с клавиатуры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      </a:t>
            </a:r>
            <a:r>
              <a:rPr b="1" lang="ru-RU" sz="2400" spc="-1" strike="noStrike">
                <a:solidFill>
                  <a:srgbClr val="3b0472"/>
                </a:solidFill>
                <a:latin typeface="Comic Sans MS"/>
              </a:rPr>
              <a:t>Синтаксис: </a:t>
            </a:r>
            <a:r>
              <a:rPr b="1" lang="en-US" sz="2400" spc="-1" strike="noStrike">
                <a:solidFill>
                  <a:srgbClr val="070605"/>
                </a:solidFill>
                <a:latin typeface="Century Gothic"/>
              </a:rPr>
              <a:t>readln (x,y,z);</a:t>
            </a:r>
            <a:r>
              <a:rPr b="0" lang="en-US" sz="2400" spc="-1" strike="noStrike">
                <a:solidFill>
                  <a:srgbClr val="070605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70605"/>
                </a:solidFill>
                <a:latin typeface="Century Gothic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Century Gothic"/>
              </a:rPr>
              <a:t>(x,y,z</a:t>
            </a:r>
            <a:r>
              <a:rPr b="0" lang="ru-RU" sz="1800" spc="-1" strike="noStrike">
                <a:solidFill>
                  <a:srgbClr val="5b524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Century Gothic"/>
              </a:rPr>
              <a:t>–</a:t>
            </a:r>
            <a:r>
              <a:rPr b="0" lang="ru-RU" sz="1800" spc="-1" strike="noStrike">
                <a:solidFill>
                  <a:srgbClr val="5b5249"/>
                </a:solidFill>
                <a:latin typeface="Century Gothic"/>
              </a:rPr>
              <a:t> переменные)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Century Gothic"/>
              </a:rPr>
              <a:t>2. </a:t>
            </a: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Оператор вывода данных на экран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605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3b0472"/>
                </a:solidFill>
                <a:latin typeface="Comic Sans MS"/>
              </a:rPr>
              <a:t>Синтаксис: </a:t>
            </a:r>
            <a:r>
              <a:rPr b="1" lang="en-US" sz="2400" spc="-1" strike="noStrike">
                <a:solidFill>
                  <a:srgbClr val="070605"/>
                </a:solidFill>
                <a:latin typeface="Century Gothic"/>
              </a:rPr>
              <a:t>writeln (‘</a:t>
            </a:r>
            <a:r>
              <a:rPr b="1" lang="ru-RU" sz="2400" spc="-1" strike="noStrike">
                <a:solidFill>
                  <a:srgbClr val="070605"/>
                </a:solidFill>
                <a:latin typeface="Century Gothic"/>
              </a:rPr>
              <a:t>текст</a:t>
            </a:r>
            <a:r>
              <a:rPr b="1" lang="en-US" sz="2400" spc="-1" strike="noStrike">
                <a:solidFill>
                  <a:srgbClr val="070605"/>
                </a:solidFill>
                <a:latin typeface="Century Gothic"/>
              </a:rPr>
              <a:t> ‘,  a,b,  2</a:t>
            </a:r>
            <a:r>
              <a:rPr b="1" lang="ru-RU" sz="24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70605"/>
                </a:solidFill>
                <a:latin typeface="Symbol"/>
                <a:ea typeface="Symbol"/>
              </a:rPr>
              <a:t></a:t>
            </a:r>
            <a:r>
              <a:rPr b="1" lang="ru-RU" sz="2400" spc="-1" strike="noStrike">
                <a:solidFill>
                  <a:srgbClr val="070605"/>
                </a:solidFill>
                <a:latin typeface="Times New Roman"/>
              </a:rPr>
              <a:t> Х+4)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Оператор присваивания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605"/>
                </a:solidFill>
                <a:latin typeface="Arial Narrow"/>
              </a:rPr>
              <a:t>        </a:t>
            </a:r>
            <a:r>
              <a:rPr b="1" lang="ru-RU" sz="2400" spc="-1" strike="noStrike">
                <a:solidFill>
                  <a:srgbClr val="3d0476"/>
                </a:solidFill>
                <a:latin typeface="Comic Sans MS"/>
              </a:rPr>
              <a:t>Синтаксис: </a:t>
            </a:r>
            <a:r>
              <a:rPr b="1" lang="ru-RU" sz="2400" spc="-1" strike="noStrike">
                <a:solidFill>
                  <a:srgbClr val="070605"/>
                </a:solidFill>
                <a:latin typeface="Century Gothic"/>
              </a:rPr>
              <a:t>переменная := выражение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2001"/>
                </a:solidFill>
                <a:latin typeface="Century Gothic"/>
              </a:rPr>
              <a:t>Нельзя присвоить выражению переменную!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D:= sqr(b)-</a:t>
            </a:r>
            <a:r>
              <a:rPr b="1" lang="ru-RU" sz="1800" spc="-1" strike="noStrike">
                <a:solidFill>
                  <a:srgbClr val="070605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70605"/>
                </a:solidFill>
                <a:latin typeface="Century Gothic"/>
              </a:rPr>
              <a:t>4ac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2001"/>
                </a:solidFill>
                <a:latin typeface="Century Gothic"/>
              </a:rPr>
              <a:t> 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0" name="Object 6"/>
          <p:cNvGraphicFramePr/>
          <p:nvPr/>
        </p:nvGraphicFramePr>
        <p:xfrm>
          <a:off x="3276720" y="5410080"/>
          <a:ext cx="15238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10080"/>
                    <a:ext cx="1523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9">
            <a:hlinkClick r:id="" action="ppaction://hlinkshowjump?jump=nextslide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>
            <a:hlinkClick r:id="rId3" action="ppaction://hlinksldjump"/>
          </p:cNvPr>
          <p:cNvSpPr/>
          <p:nvPr/>
        </p:nvSpPr>
        <p:spPr>
          <a:xfrm>
            <a:off x="304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рафическое представление програм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3886200" y="2133720"/>
            <a:ext cx="144792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0605"/>
                </a:solidFill>
                <a:latin typeface="Courier New"/>
              </a:rPr>
              <a:t>начал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657600" y="2819520"/>
            <a:ext cx="1828800" cy="685800"/>
          </a:xfrm>
          <a:prstGeom prst="parallelogram">
            <a:avLst>
              <a:gd name="adj" fmla="val 333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0605"/>
                </a:solidFill>
                <a:latin typeface="Courier New"/>
              </a:rPr>
              <a:t>Ввести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0605"/>
                </a:solidFill>
                <a:latin typeface="Courier New"/>
              </a:rPr>
              <a:t>a,b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733920" y="3733920"/>
            <a:ext cx="175248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0605"/>
                </a:solidFill>
                <a:latin typeface="Courier New"/>
              </a:rPr>
              <a:t>Вычислить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0605"/>
                </a:solidFill>
                <a:latin typeface="Courier New"/>
              </a:rPr>
              <a:t>S</a:t>
            </a:r>
            <a:r>
              <a:rPr b="1" lang="ru-RU" sz="1400" spc="-1" strike="noStrike">
                <a:solidFill>
                  <a:srgbClr val="070605"/>
                </a:solidFill>
                <a:latin typeface="Courier New"/>
              </a:rPr>
              <a:t>:</a:t>
            </a:r>
            <a:r>
              <a:rPr b="1" lang="en-US" sz="1400" spc="-1" strike="noStrike">
                <a:solidFill>
                  <a:srgbClr val="070605"/>
                </a:solidFill>
                <a:latin typeface="Courier New"/>
              </a:rPr>
              <a:t>=a+b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3886200" y="5638680"/>
            <a:ext cx="144792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0605"/>
                </a:solidFill>
                <a:latin typeface="Courier New"/>
              </a:rPr>
              <a:t>Коне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4572000" y="25909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572000" y="54100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25"/>
          <p:cNvGraphicFramePr/>
          <p:nvPr/>
        </p:nvGraphicFramePr>
        <p:xfrm>
          <a:off x="3657600" y="4724280"/>
          <a:ext cx="18288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24280"/>
                    <a:ext cx="1828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26"/>
          <p:cNvSpPr/>
          <p:nvPr/>
        </p:nvSpPr>
        <p:spPr>
          <a:xfrm>
            <a:off x="1295280" y="29718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Оператор</a:t>
            </a: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ввода</a:t>
            </a: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данных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94920" y="4000320"/>
            <a:ext cx="1867320" cy="2289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ac164"/>
            </a:solidFill>
            <a:miter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Оператор присваивани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371600" y="4876920"/>
            <a:ext cx="2133720" cy="609480"/>
          </a:xfrm>
          <a:prstGeom prst="rightArrow">
            <a:avLst>
              <a:gd name="adj1" fmla="val 50000"/>
              <a:gd name="adj2" fmla="val 87522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Оператор вывода данны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на экра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1">
            <a:hlinkClick r:id="" action="ppaction://hlinkshowjump?jump=nextslide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2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3">
            <a:hlinkClick r:id="rId3" action="ppaction://hlinksldjump"/>
          </p:cNvPr>
          <p:cNvSpPr/>
          <p:nvPr/>
        </p:nvSpPr>
        <p:spPr>
          <a:xfrm>
            <a:off x="380880" y="380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Выполнение оператора ввода данных с клавиатуры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 памяти компьютера выделяются три ячейки.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Им присваиваются имена, заданные пользователем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льзователь вводит с клавиатуры  значения переменных через пробел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сле нажатия клавиши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nter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значения переменных заносятся в память компьютера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295280" y="1905120"/>
            <a:ext cx="12956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1676520" y="1295280"/>
            <a:ext cx="533160" cy="3812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6172200" y="1295280"/>
            <a:ext cx="533520" cy="3812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3962520" y="1295280"/>
            <a:ext cx="533160" cy="3812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20"/>
          <p:cNvGraphicFramePr/>
          <p:nvPr/>
        </p:nvGraphicFramePr>
        <p:xfrm>
          <a:off x="2057400" y="3429000"/>
          <a:ext cx="49528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429000"/>
                    <a:ext cx="495288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Line 22"/>
          <p:cNvSpPr/>
          <p:nvPr/>
        </p:nvSpPr>
        <p:spPr>
          <a:xfrm>
            <a:off x="457200" y="3352680"/>
            <a:ext cx="86868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3733920" y="3429000"/>
            <a:ext cx="30456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4419720" y="342900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2438280" y="3429000"/>
            <a:ext cx="53352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1 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6248520" y="3886200"/>
            <a:ext cx="6858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</a:rPr>
              <a:t>E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3429000" y="4343400"/>
            <a:ext cx="182880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352680" y="4343400"/>
            <a:ext cx="205740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5715000" y="1828800"/>
            <a:ext cx="129528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3505320" y="1905120"/>
            <a:ext cx="129528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1447920" y="1981080"/>
            <a:ext cx="9903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3657600" y="198108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5867280" y="1905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0">
            <a:hlinkClick r:id="rId3" action="ppaction://hlinksldjump"/>
          </p:cNvPr>
          <p:cNvSpPr/>
          <p:nvPr/>
        </p:nvSpPr>
        <p:spPr>
          <a:xfrm>
            <a:off x="304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1">
            <a:hlinkClick r:id="" action="ppaction://hlinkshowjump?jump=nextslide"/>
          </p:cNvPr>
          <p:cNvSpPr/>
          <p:nvPr/>
        </p:nvSpPr>
        <p:spPr>
          <a:xfrm>
            <a:off x="822960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2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Выполнение вывода данных на монитор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AutoShape 32">
            <a:hlinkClick r:id="rId1" action="ppaction://hlinksldjump"/>
          </p:cNvPr>
          <p:cNvSpPr/>
          <p:nvPr/>
        </p:nvSpPr>
        <p:spPr>
          <a:xfrm>
            <a:off x="304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3">
            <a:hlinkClick r:id="" action="ppaction://hlinkshowjump?jump=previousslide"/>
          </p:cNvPr>
          <p:cNvSpPr/>
          <p:nvPr/>
        </p:nvSpPr>
        <p:spPr>
          <a:xfrm>
            <a:off x="304920" y="632448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1399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=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qr(b) – 4</a:t>
            </a:r>
            <a:r>
              <a:rPr b="0" lang="en-US" sz="2400" spc="-1" strike="noStrike" baseline="-8000">
                <a:solidFill>
                  <a:srgbClr val="5b5249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2800" spc="-1" strike="noStrike" baseline="-10000">
                <a:solidFill>
                  <a:srgbClr val="5b5249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;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writeln (‘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Дискриминант равен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=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’ D)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79" name="Object 39"/>
          <p:cNvGraphicFramePr/>
          <p:nvPr/>
        </p:nvGraphicFramePr>
        <p:xfrm>
          <a:off x="1447920" y="2133720"/>
          <a:ext cx="701028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33720"/>
                    <a:ext cx="7010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0"/>
          <p:cNvGraphicFramePr/>
          <p:nvPr/>
        </p:nvGraphicFramePr>
        <p:xfrm>
          <a:off x="1447920" y="1828800"/>
          <a:ext cx="7010280" cy="438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701028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41"/>
          <p:cNvSpPr/>
          <p:nvPr/>
        </p:nvSpPr>
        <p:spPr>
          <a:xfrm>
            <a:off x="1219320" y="60199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Компьютер вычисляет значение выражения и помещает его в  определённую ячейку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1371600" y="63244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ит текст-приглашение и значение выражения на монито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46:21Z</dcterms:created>
  <dc:creator>Танечка</dc:creator>
  <dc:description/>
  <dc:language>en-US</dc:language>
  <cp:lastModifiedBy>Полухина</cp:lastModifiedBy>
  <dcterms:modified xsi:type="dcterms:W3CDTF">2014-10-27T19:23:36Z</dcterms:modified>
  <cp:revision>35</cp:revision>
  <dc:subject/>
  <dc:title>Язык программирования  Turbo Pascal</dc:title>
</cp:coreProperties>
</file>