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jpeg" ContentType="image/jpeg"/>
  <Override PartName="/ppt/media/image5.jpeg" ContentType="image/jpeg"/>
  <Override PartName="/ppt/media/image7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0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13.png" ContentType="image/png"/>
  <Override PartName="/ppt/media/image20.gif" ContentType="image/gif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087-C3F0-4425-B93F-3FA08266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2B8-7CC4-4D68-BC0D-4DE6E730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ECF57-1A1C-409D-9D74-BD7CCCA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0B20-9A5F-4A06-A056-09D4143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A1781-C2D2-43D8-A5A3-65136F0F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1588A-5F13-4812-9AFA-0D9AEF8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29963-D9C6-4615-AD4E-E1495B5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32D04-EA75-43E3-8195-3BAFAB9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4534-2F58-4BB1-A84D-27D15AF8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FE756-2DE5-4F64-81C8-31940C1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F2D6A-4D8F-4146-A918-CFEA885A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B41FB-ECA6-4C2A-B714-2BFF3B66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99D-EBE0-449D-9DD5-60FE7483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B04E6-9B1B-4FE5-9734-16E47C24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F97A8-87A9-4FBD-9451-7D0D29E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37C98-EADA-40BB-9CE7-B501810D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3B95D-0DF2-4978-8B92-6968F4E8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05E22-9AAD-47B5-A22C-D50AA767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F071-7BE9-42A0-989E-AC27952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6BB7-1197-4DC6-84B8-C4FCE02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21832-E47D-4470-AFE3-56943CE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69B42-872F-4903-BB11-0372ED98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53AEE-3724-4EBF-866A-BF5E3AE1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83D-CE63-4FD5-B3A2-8966693E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3DBB2-432E-42C8-BA5A-EEC1C2A5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7FF64-6746-4AEB-BA4C-C3055BF2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42F38-AF62-4163-A376-48BE5B1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02393-E0F9-4D44-A3AC-111DA93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2C863-729D-4F72-B529-5C4414DD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9F584-0ECF-44A6-A896-8F64E43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FAAC0-6C11-45EF-ABA0-280CCA61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40F27-997E-48F5-9E4F-765CC7C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0DDDC-4CE5-41C8-B966-F11D8BC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3B30D-E7E7-44FF-A68A-4900EA5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C75-8B91-46D0-917C-D8BA5215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03F87-26DA-4F08-9EF9-8C821D26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46C10-C44D-4832-9C6F-12553FDC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20A47-FAF3-4121-9034-6447638F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060DB-A015-4804-9A33-AEED127F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B6F43-13F3-487F-9130-0904E969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02979-28E8-4529-923F-E98E6C4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4A4CC-B1AD-432C-A9DD-21EFB2C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D08DB-90C1-4602-94EB-F4DD921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2C57A-CC54-4776-BDD7-F23EB1C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A6B2D-2805-4FF2-93D3-E94357D9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A04F-14CB-478E-993A-E660C091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DB2D3-609B-4EF5-8D11-2949981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AF59A-0836-4C76-AFA3-2149D95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2A755-F4F3-4E3E-9CC7-CB94346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26D1B-7E49-4E18-A112-0BBC4071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DF245-428D-40AA-87DA-F210E562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045EB-9980-4931-B283-9F31968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94CF7-68EB-48D4-AD56-B516C25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AC89A-2C0D-4054-9D3E-4E284EA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FF360-41AD-4C51-911F-1DDB86E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DAEBA-0EEC-463D-AC43-7D77FBE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6FC-56D9-4730-BD2F-3E12D3E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8FEA9-FC82-47EA-8838-E87272A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3DF66-233A-4E7A-BE99-2A9AC61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D89B5-79E9-4295-8E39-EB4F264E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73E85-9978-4DE8-A6DF-D2F00E4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D9F3E-3B1E-44D2-9D2F-F40B92CD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1B6B7-7F3B-40F4-AF84-62FB34FF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3A042-35E0-495D-A727-35A42B0F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E084C-D73F-401B-97FE-B181D9B4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F748B-E32F-4C36-83F8-D85A1DF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DCFE8-C5B8-4470-9CB6-4B4089A1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A77F-3E09-4852-8047-FF7836AD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59CBE-2213-47A7-BA6B-CE6096C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3F260-9E5A-4377-B681-D4FC4C80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34F47-0DC3-4634-A1B3-CA722C7B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B9890-D000-4D94-AF82-E2B7EACF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6A532-B668-4E71-834E-3E17BBDF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6FFCF-09F8-4456-98E6-44781EF0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BFF9D-3DC0-41D1-888B-59E5634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37574-F489-41B8-9FFB-B0CD0E54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BDE24-E32A-4D02-A4C7-C69E8674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D504C-83E0-4888-A380-46A0CA02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CBDE-6EED-4B75-9382-83D0291B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E6CF6-D333-4C02-8F7F-91B72D9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185B8-A234-42BA-84EF-7B09D1D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5C3F2-16D9-49FA-B9CB-3CD1681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526A9-8B09-4612-826D-190A971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8FF2C-313B-4ED7-8782-FD7FB91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10667-1A80-48FC-829A-ACE507C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E53BE-E61D-45A9-A81B-83AED66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E0ECE-C5F9-4BFA-9E58-0E71DD9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5E160-3359-4127-9F73-1E2110D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61FFD-2ECE-4065-AA06-67083A0E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9312-693A-42E2-9881-9CEB3BD4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738B9-9F34-4019-A1EF-42A480BF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B029-BFC6-40D6-B445-36A2DC2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CD1-F914-42B0-B752-2BF81B29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0C1B-6CEC-4FEF-85D0-7AC02BE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0D5-A816-4402-9F86-97CD91B8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2E5-68D9-4AE8-8D8C-583C81A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C480-EE76-4397-8AA7-497A9739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8EA-A5D7-45CB-AB5F-99631C4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A4DB-0412-4516-B351-E89192CB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F62C-588A-4FAD-B53A-EEB7E9F3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FB38-2ED0-4661-9D1F-ED153A22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F607-3BD6-4795-96E3-5FE99CA9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6F18-FDA0-4910-B779-6CE990E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0C1-B4E5-423A-9AE8-DCC5C6C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4069-6586-4551-9448-C6CB2D5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6F63-0976-40EF-BE10-4A471AD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A3C4-448E-489E-8961-FDE4046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FF62-F1D4-40D8-BE1F-7E235A6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D50F-8CA6-4826-8A2D-A2F665FF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F9BB-D54F-4AE4-99A0-3392FB51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FD58-3320-4CF5-9CD2-1BCB6F78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D2D4-B326-4F0D-8B99-ECD124C8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4698-7BE2-47CF-BBD6-A25DEDD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CBB3C-EC1A-4523-B458-83E62EFC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581-1095-4484-B4EE-797EF1F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F7C8-E772-4CBB-8FD1-BEF1B8A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30CC-1D93-4E7F-B996-CEA74D74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C449-7246-4ADC-982D-6A2FE1E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E776-5EA3-4F70-88CE-294E3F3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02E9-F1A8-40A8-A51F-0BCE6B9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B82F-BEF5-46CE-AE3D-06EAB33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2E446-DC1C-4BD2-A898-D43E79B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5760-0C6D-4192-8F5C-E2DCF3B1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1DF5-76F4-46B8-B5CE-03A54614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531C-5B26-4910-B2AF-11403264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549-0BF9-40EF-93D5-6BF00142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E4BB-CC36-48F8-A29C-6A348C29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ABEC-756F-40E3-BA73-7C5D86A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14FD-46EA-4FFC-9099-68F56FD9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736B0-90F5-4084-9A4D-149B4D6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64DB4-B68C-4EDF-B05B-384A6CE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FE06-0E02-4026-94DD-69FE3AF9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80D4-079B-4FAE-A2B4-39E39A1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F6CD-F4D8-4C6A-9F6B-CC109F2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12C7-815A-4913-A00F-92B22C76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226C-51CF-42F5-B069-40D39F3B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E2C-045E-419D-86BA-F99E9C65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D4B1-403E-4410-B62C-C55FCB25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0373C-B269-4214-A19A-431D19EA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1143-03F7-41E8-8569-43C9F6F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17D5-FB6C-45F2-B4E5-10156F9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9BEE-7C1B-48D9-BF46-FEFDD41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05375-D7CD-4B16-83F6-25FFEA03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055E-6752-4E5F-B081-8DB62733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AB5E9-9E17-46A0-94EF-6026691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AFEE9-0F75-49BB-95D0-DB60DBC9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793A-69A7-4143-97B3-56AE27B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531-859C-4764-8E0D-1CA303D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B3A3-1505-44A9-BA37-993CF680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18C31-4387-4536-96C1-72C98C8E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A8D6-C8E8-47A5-A3BC-423EB491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FFFE4-F4C2-484B-B900-28110047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5686-6DC3-4A3C-A0CE-92A4039B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B62E-ED4A-4AD7-929E-B81B74AD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439D6-2211-47EE-A766-C4F119ED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3CB4-FCB7-437A-B971-37A6553A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2EBEC-4D24-4CBD-AEB8-0A2F1140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2ED1-029D-41A0-B570-6780FD7C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9C3-0D1C-4CED-87D7-5000A21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230C-925A-4012-861B-79D00F8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FF30-D206-4A8F-B8D7-AB4B044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DC2EF-19F4-43CF-B146-43FB0BE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FB64B-8168-43D5-B0A4-B9478EEC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9255-0D2A-4CD3-9C63-FF243C4D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6F7A-AD56-460F-B12E-550DDE14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18E2E-CB75-48A8-854C-B9DBFADF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19C07-F74F-4D1A-A5BF-5CFEA14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B1F6-F158-4C8D-AE3F-DDEC75B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5CD27-6930-4A95-A47B-1E5AB22F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481-ED34-4BBD-968D-4FE9DE8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8438-F017-45F0-B228-EFF444BB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D95F-CEE6-4357-9BEB-AE95FDC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B9F77-9EA8-4BE5-AAC4-D1491DC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6C25C-9123-4E51-91BD-483225F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78C4F-1131-4B04-9807-AFED74C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3F126-661B-4D53-996B-67FBB28A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9A88-8F8F-4597-B058-026B1452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E029C-6CB9-4484-A18C-91F2180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ECB1A-0DAF-4A17-AF2B-1A1199B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4569E-7CBC-4167-86FC-3BDCFA0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6778-3512-49D0-91DB-37E622699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913" name="Group 3"/>
            <p:cNvGrpSpPr/>
            <p:nvPr/>
          </p:nvGrpSpPr>
          <p:grpSpPr>
            <a:xfrm>
              <a:off x="5408280" y="62640"/>
              <a:ext cx="3621600" cy="6130080"/>
              <a:chOff x="5408280" y="62640"/>
              <a:chExt cx="3621600" cy="6130080"/>
            </a:xfrm>
          </p:grpSpPr>
          <p:sp>
            <p:nvSpPr>
              <p:cNvPr id="914" name="Freeform 4"/>
              <p:cNvSpPr/>
              <p:nvPr/>
            </p:nvSpPr>
            <p:spPr>
              <a:xfrm flipV="1" rot="11970000">
                <a:off x="6581160" y="347760"/>
                <a:ext cx="2116440" cy="2354400"/>
              </a:xfrm>
              <a:custGeom>
                <a:avLst/>
                <a:gdLst>
                  <a:gd name="textAreaLeft" fmla="*/ 0 w 2116440"/>
                  <a:gd name="textAreaRight" fmla="*/ 2116800 w 2116440"/>
                  <a:gd name="textAreaTop" fmla="*/ 360 h 2354400"/>
                  <a:gd name="textAreaBottom" fmla="*/ 2355120 h 23544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5" name="Freeform 5"/>
              <p:cNvSpPr/>
              <p:nvPr/>
            </p:nvSpPr>
            <p:spPr>
              <a:xfrm flipV="1" rot="11970000">
                <a:off x="7421400" y="1958040"/>
                <a:ext cx="906480" cy="8416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6" name="Freeform 6"/>
              <p:cNvSpPr/>
              <p:nvPr/>
            </p:nvSpPr>
            <p:spPr>
              <a:xfrm flipV="1" rot="11970000">
                <a:off x="6824160" y="258948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7" name="Freeform 7"/>
              <p:cNvSpPr/>
              <p:nvPr/>
            </p:nvSpPr>
            <p:spPr>
              <a:xfrm flipV="1" rot="11970000">
                <a:off x="7251840" y="673920"/>
                <a:ext cx="388800" cy="5497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8" name="Freeform 8"/>
              <p:cNvSpPr/>
              <p:nvPr/>
            </p:nvSpPr>
            <p:spPr>
              <a:xfrm flipV="1" rot="11970000">
                <a:off x="7147800" y="2649960"/>
                <a:ext cx="163800" cy="3308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-36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9" name="Freeform 9"/>
              <p:cNvSpPr/>
              <p:nvPr/>
            </p:nvSpPr>
            <p:spPr>
              <a:xfrm flipV="1" rot="11970000">
                <a:off x="7135560" y="124380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20" name="Freeform 10"/>
              <p:cNvSpPr/>
              <p:nvPr/>
            </p:nvSpPr>
            <p:spPr>
              <a:xfrm flipV="1" rot="11970000">
                <a:off x="5938200" y="2934000"/>
                <a:ext cx="523800" cy="32641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4120"/>
                  <a:gd name="textAreaBottom" fmla="*/ 3264120 h 32641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2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2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92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2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3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21"/>
            <p:cNvGrpSpPr/>
            <p:nvPr/>
          </p:nvGrpSpPr>
          <p:grpSpPr>
            <a:xfrm>
              <a:off x="5652720" y="302400"/>
              <a:ext cx="896040" cy="824760"/>
              <a:chOff x="5652720" y="302400"/>
              <a:chExt cx="896040" cy="824760"/>
            </a:xfrm>
          </p:grpSpPr>
          <p:sp>
            <p:nvSpPr>
              <p:cNvPr id="932" name="Freeform 22"/>
              <p:cNvSpPr/>
              <p:nvPr/>
            </p:nvSpPr>
            <p:spPr>
              <a:xfrm rot="14908200">
                <a:off x="5763240" y="79488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33" name="Freeform 23"/>
              <p:cNvSpPr/>
              <p:nvPr/>
            </p:nvSpPr>
            <p:spPr>
              <a:xfrm rot="14908200">
                <a:off x="5713200" y="478440"/>
                <a:ext cx="310320" cy="30060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34" name="Freeform 24"/>
              <p:cNvSpPr/>
              <p:nvPr/>
            </p:nvSpPr>
            <p:spPr>
              <a:xfrm rot="14908200">
                <a:off x="6255720" y="40464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936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38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940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41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42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944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45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46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47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16F-6C0B-477F-8C86-64418704CF6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9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9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1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2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4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5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5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3801-0805-4A17-80C6-611550B2E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Num" idx="3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D2D1-B6A5-4EF8-AD7A-3E73E641A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3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dt" idx="3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1149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1150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1151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9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3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39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99A-4C78-4F61-ABEB-BECF97E7B2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204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205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6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7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8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9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0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11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212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3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4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5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6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7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18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4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4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4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DFB-8FB1-4572-8F0B-B08AF9ECD065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2"/>
          <p:cNvGrpSpPr/>
          <p:nvPr/>
        </p:nvGrpSpPr>
        <p:grpSpPr>
          <a:xfrm>
            <a:off x="2010600" y="245520"/>
            <a:ext cx="6896160" cy="5451480"/>
            <a:chOff x="2010600" y="245520"/>
            <a:chExt cx="6896160" cy="5451480"/>
          </a:xfrm>
        </p:grpSpPr>
        <p:grpSp>
          <p:nvGrpSpPr>
            <p:cNvPr id="1263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264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65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Group 6"/>
            <p:cNvGrpSpPr/>
            <p:nvPr/>
          </p:nvGrpSpPr>
          <p:grpSpPr>
            <a:xfrm>
              <a:off x="2010600" y="245520"/>
              <a:ext cx="6896160" cy="5451480"/>
              <a:chOff x="2010600" y="245520"/>
              <a:chExt cx="6896160" cy="5451480"/>
            </a:xfrm>
          </p:grpSpPr>
          <p:grpSp>
            <p:nvGrpSpPr>
              <p:cNvPr id="1267" name="Group 7"/>
              <p:cNvGrpSpPr/>
              <p:nvPr/>
            </p:nvGrpSpPr>
            <p:grpSpPr>
              <a:xfrm>
                <a:off x="2010600" y="245520"/>
                <a:ext cx="6891480" cy="5451480"/>
                <a:chOff x="2010600" y="245520"/>
                <a:chExt cx="6891480" cy="5451480"/>
              </a:xfrm>
            </p:grpSpPr>
            <p:grpSp>
              <p:nvGrpSpPr>
                <p:cNvPr id="126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6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Oval 10"/>
                  <p:cNvSpPr/>
                  <p:nvPr/>
                </p:nvSpPr>
                <p:spPr>
                  <a:xfrm>
                    <a:off x="5109480" y="223524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1" name="Group 11"/>
                <p:cNvGrpSpPr/>
                <p:nvPr/>
              </p:nvGrpSpPr>
              <p:grpSpPr>
                <a:xfrm>
                  <a:off x="2010600" y="245520"/>
                  <a:ext cx="6891480" cy="5451480"/>
                  <a:chOff x="2010600" y="245520"/>
                  <a:chExt cx="6891480" cy="5451480"/>
                </a:xfrm>
              </p:grpSpPr>
              <p:grpSp>
                <p:nvGrpSpPr>
                  <p:cNvPr id="1272" name="Group 12"/>
                  <p:cNvGrpSpPr/>
                  <p:nvPr/>
                </p:nvGrpSpPr>
                <p:grpSpPr>
                  <a:xfrm>
                    <a:off x="5761800" y="2321640"/>
                    <a:ext cx="2559240" cy="2742480"/>
                    <a:chOff x="5761800" y="2321640"/>
                    <a:chExt cx="2559240" cy="2742480"/>
                  </a:xfrm>
                </p:grpSpPr>
                <p:sp>
                  <p:nvSpPr>
                    <p:cNvPr id="1273" name="Freeform 13"/>
                    <p:cNvSpPr/>
                    <p:nvPr/>
                  </p:nvSpPr>
                  <p:spPr>
                    <a:xfrm rot="2711400">
                      <a:off x="5584680" y="3019320"/>
                      <a:ext cx="2128320" cy="38664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Freeform 14"/>
                    <p:cNvSpPr/>
                    <p:nvPr/>
                  </p:nvSpPr>
                  <p:spPr>
                    <a:xfrm rot="2711400">
                      <a:off x="7135560" y="4146480"/>
                      <a:ext cx="1140120" cy="60192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5" name="Group 15"/>
                  <p:cNvGrpSpPr/>
                  <p:nvPr/>
                </p:nvGrpSpPr>
                <p:grpSpPr>
                  <a:xfrm>
                    <a:off x="5788080" y="2148120"/>
                    <a:ext cx="3040560" cy="2529360"/>
                    <a:chOff x="5788080" y="2148120"/>
                    <a:chExt cx="3040560" cy="2529360"/>
                  </a:xfrm>
                </p:grpSpPr>
                <p:sp>
                  <p:nvSpPr>
                    <p:cNvPr id="1276" name="Freeform 16"/>
                    <p:cNvSpPr/>
                    <p:nvPr/>
                  </p:nvSpPr>
                  <p:spPr>
                    <a:xfrm rot="2103600">
                      <a:off x="5707080" y="2751480"/>
                      <a:ext cx="2235600" cy="42480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7" name="Freeform 17"/>
                    <p:cNvSpPr/>
                    <p:nvPr/>
                  </p:nvSpPr>
                  <p:spPr>
                    <a:xfrm rot="2103600">
                      <a:off x="7544160" y="3720600"/>
                      <a:ext cx="1199880" cy="673200"/>
                    </a:xfrm>
                    <a:custGeom>
                      <a:avLst/>
                      <a:gdLst>
                        <a:gd name="textAreaLeft" fmla="*/ 0 w 1199880"/>
                        <a:gd name="textAreaRight" fmla="*/ 1200240 w 119988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8" name="Group 18"/>
                  <p:cNvGrpSpPr/>
                  <p:nvPr/>
                </p:nvGrpSpPr>
                <p:grpSpPr>
                  <a:xfrm>
                    <a:off x="5776200" y="2065320"/>
                    <a:ext cx="3096360" cy="1992240"/>
                    <a:chOff x="5776200" y="2065320"/>
                    <a:chExt cx="3096360" cy="1992240"/>
                  </a:xfrm>
                </p:grpSpPr>
                <p:sp>
                  <p:nvSpPr>
                    <p:cNvPr id="127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Freeform 20"/>
                    <p:cNvSpPr/>
                    <p:nvPr/>
                  </p:nvSpPr>
                  <p:spPr>
                    <a:xfrm rot="1582800">
                      <a:off x="7653960" y="3246120"/>
                      <a:ext cx="1147680" cy="586800"/>
                    </a:xfrm>
                    <a:custGeom>
                      <a:avLst/>
                      <a:gdLst>
                        <a:gd name="textAreaLeft" fmla="*/ 0 w 1147680"/>
                        <a:gd name="textAreaRight" fmla="*/ 1148040 w 114768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8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4" name="Group 24"/>
                  <p:cNvGrpSpPr/>
                  <p:nvPr/>
                </p:nvGrpSpPr>
                <p:grpSpPr>
                  <a:xfrm>
                    <a:off x="5806080" y="1879920"/>
                    <a:ext cx="2940120" cy="1001520"/>
                    <a:chOff x="5806080" y="1879920"/>
                    <a:chExt cx="2940120" cy="1001520"/>
                  </a:xfrm>
                </p:grpSpPr>
                <p:sp>
                  <p:nvSpPr>
                    <p:cNvPr id="1285" name="Freeform 25"/>
                    <p:cNvSpPr/>
                    <p:nvPr/>
                  </p:nvSpPr>
                  <p:spPr>
                    <a:xfrm rot="463200">
                      <a:off x="5823000" y="2005920"/>
                      <a:ext cx="1904040" cy="384480"/>
                    </a:xfrm>
                    <a:custGeom>
                      <a:avLst/>
                      <a:gdLst>
                        <a:gd name="textAreaLeft" fmla="*/ 0 w 1904040"/>
                        <a:gd name="textAreaRight" fmla="*/ 1904400 w 19040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7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1288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0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1291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7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3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294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6" name="Group 36"/>
                  <p:cNvGrpSpPr/>
                  <p:nvPr/>
                </p:nvGrpSpPr>
                <p:grpSpPr>
                  <a:xfrm>
                    <a:off x="2085120" y="2366640"/>
                    <a:ext cx="3040920" cy="2530080"/>
                    <a:chOff x="2085120" y="2366640"/>
                    <a:chExt cx="3040920" cy="2530080"/>
                  </a:xfrm>
                </p:grpSpPr>
                <p:sp>
                  <p:nvSpPr>
                    <p:cNvPr id="1297" name="Freeform 37"/>
                    <p:cNvSpPr/>
                    <p:nvPr/>
                  </p:nvSpPr>
                  <p:spPr>
                    <a:xfrm flipH="1" rot="19496400">
                      <a:off x="2970360" y="2969640"/>
                      <a:ext cx="2235600" cy="427680"/>
                    </a:xfrm>
                    <a:custGeom>
                      <a:avLst/>
                      <a:gdLst>
                        <a:gd name="textAreaLeft" fmla="*/ 360 w 2235600"/>
                        <a:gd name="textAreaRight" fmla="*/ 2236320 w 223560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8" name="Freeform 38"/>
                    <p:cNvSpPr/>
                    <p:nvPr/>
                  </p:nvSpPr>
                  <p:spPr>
                    <a:xfrm flipH="1" rot="19496400">
                      <a:off x="2169000" y="3939120"/>
                      <a:ext cx="1202400" cy="672840"/>
                    </a:xfrm>
                    <a:custGeom>
                      <a:avLst/>
                      <a:gdLst>
                        <a:gd name="textAreaLeft" fmla="*/ 360 w 1202400"/>
                        <a:gd name="textAreaRight" fmla="*/ 1203120 w 120240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9" name="Group 39"/>
                  <p:cNvGrpSpPr/>
                  <p:nvPr/>
                </p:nvGrpSpPr>
                <p:grpSpPr>
                  <a:xfrm>
                    <a:off x="2040480" y="2283480"/>
                    <a:ext cx="3097440" cy="1992600"/>
                    <a:chOff x="2040480" y="2283480"/>
                    <a:chExt cx="3097440" cy="1992600"/>
                  </a:xfrm>
                </p:grpSpPr>
                <p:sp>
                  <p:nvSpPr>
                    <p:cNvPr id="1300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920" cy="37620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6200"/>
                        <a:gd name="textAreaBottom" fmla="*/ 376560 h 37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Freeform 41"/>
                    <p:cNvSpPr/>
                    <p:nvPr/>
                  </p:nvSpPr>
                  <p:spPr>
                    <a:xfrm flipH="1" rot="20017200">
                      <a:off x="2110320" y="3465360"/>
                      <a:ext cx="1149120" cy="5857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2" name="Group 42"/>
                  <p:cNvGrpSpPr/>
                  <p:nvPr/>
                </p:nvGrpSpPr>
                <p:grpSpPr>
                  <a:xfrm>
                    <a:off x="2010600" y="2188440"/>
                    <a:ext cx="3134520" cy="1608120"/>
                    <a:chOff x="2010600" y="2188440"/>
                    <a:chExt cx="3134520" cy="1608120"/>
                  </a:xfrm>
                </p:grpSpPr>
                <p:sp>
                  <p:nvSpPr>
                    <p:cNvPr id="1303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Freeform 44"/>
                    <p:cNvSpPr/>
                    <p:nvPr/>
                  </p:nvSpPr>
                  <p:spPr>
                    <a:xfrm flipH="1" rot="20520000">
                      <a:off x="2084040" y="2988360"/>
                      <a:ext cx="1110600" cy="6526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52680"/>
                        <a:gd name="textAreaBottom" fmla="*/ 653040 h 652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5" name="Group 45"/>
                  <p:cNvGrpSpPr/>
                  <p:nvPr/>
                </p:nvGrpSpPr>
                <p:grpSpPr>
                  <a:xfrm>
                    <a:off x="2166480" y="2097720"/>
                    <a:ext cx="2940840" cy="1002600"/>
                    <a:chOff x="2166480" y="2097720"/>
                    <a:chExt cx="2940840" cy="1002600"/>
                  </a:xfrm>
                </p:grpSpPr>
                <p:sp>
                  <p:nvSpPr>
                    <p:cNvPr id="1306" name="Freeform 46"/>
                    <p:cNvSpPr/>
                    <p:nvPr/>
                  </p:nvSpPr>
                  <p:spPr>
                    <a:xfrm flipH="1" rot="21136800">
                      <a:off x="3183840" y="2223720"/>
                      <a:ext cx="1905840" cy="38664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" name="Freeform 47"/>
                    <p:cNvSpPr/>
                    <p:nvPr/>
                  </p:nvSpPr>
                  <p:spPr>
                    <a:xfrm flipH="1" rot="21136800">
                      <a:off x="2202120" y="2430720"/>
                      <a:ext cx="1023480" cy="60336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09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1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131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15" name="Freeform 55"/>
                    <p:cNvSpPr/>
                    <p:nvPr/>
                  </p:nvSpPr>
                  <p:spPr>
                    <a:xfrm flipH="1" rot="1278000">
                      <a:off x="3693960" y="1786680"/>
                      <a:ext cx="1521720" cy="266400"/>
                    </a:xfrm>
                    <a:custGeom>
                      <a:avLst/>
                      <a:gdLst>
                        <a:gd name="textAreaLeft" fmla="*/ -360 w 1521720"/>
                        <a:gd name="textAreaRight" fmla="*/ 1521720 w 1521720"/>
                        <a:gd name="textAreaTop" fmla="*/ 0 h 266400"/>
                        <a:gd name="textAreaBottom" fmla="*/ 266760 h 266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7560" cy="415080"/>
                    </a:xfrm>
                    <a:custGeom>
                      <a:avLst/>
                      <a:gdLst>
                        <a:gd name="textAreaLeft" fmla="*/ -360 w 817560"/>
                        <a:gd name="textAreaRight" fmla="*/ 817560 w 81756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7" name="Group 57"/>
                  <p:cNvGrpSpPr/>
                  <p:nvPr/>
                </p:nvGrpSpPr>
                <p:grpSpPr>
                  <a:xfrm>
                    <a:off x="3160800" y="831240"/>
                    <a:ext cx="2171160" cy="1508040"/>
                    <a:chOff x="3160800" y="831240"/>
                    <a:chExt cx="2171160" cy="1508040"/>
                  </a:xfrm>
                </p:grpSpPr>
                <p:sp>
                  <p:nvSpPr>
                    <p:cNvPr id="1318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0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32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3" name="Group 63"/>
                  <p:cNvGrpSpPr/>
                  <p:nvPr/>
                </p:nvGrpSpPr>
                <p:grpSpPr>
                  <a:xfrm>
                    <a:off x="4027680" y="335520"/>
                    <a:ext cx="1459800" cy="1885680"/>
                    <a:chOff x="4027680" y="335520"/>
                    <a:chExt cx="1459800" cy="1885680"/>
                  </a:xfrm>
                </p:grpSpPr>
                <p:sp>
                  <p:nvSpPr>
                    <p:cNvPr id="1324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4680" cy="264960"/>
                    </a:xfrm>
                    <a:custGeom>
                      <a:avLst/>
                      <a:gdLst>
                        <a:gd name="textAreaLeft" fmla="*/ -360 w 1354680"/>
                        <a:gd name="textAreaRight" fmla="*/ 1354680 w 13546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6" name="Group 66"/>
                  <p:cNvGrpSpPr/>
                  <p:nvPr/>
                </p:nvGrpSpPr>
                <p:grpSpPr>
                  <a:xfrm>
                    <a:off x="4448520" y="245520"/>
                    <a:ext cx="1122120" cy="1946520"/>
                    <a:chOff x="4448520" y="245520"/>
                    <a:chExt cx="1122120" cy="1946520"/>
                  </a:xfrm>
                </p:grpSpPr>
                <p:sp>
                  <p:nvSpPr>
                    <p:cNvPr id="1327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1640" cy="414360"/>
                    </a:xfrm>
                    <a:custGeom>
                      <a:avLst/>
                      <a:gdLst>
                        <a:gd name="textAreaLeft" fmla="*/ -360 w 701640"/>
                        <a:gd name="textAreaRight" fmla="*/ 701640 w 7016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9" name="Group 69"/>
                  <p:cNvGrpSpPr/>
                  <p:nvPr/>
                </p:nvGrpSpPr>
                <p:grpSpPr>
                  <a:xfrm>
                    <a:off x="5661360" y="952200"/>
                    <a:ext cx="2317680" cy="1112040"/>
                    <a:chOff x="5661360" y="952200"/>
                    <a:chExt cx="2317680" cy="1112040"/>
                  </a:xfrm>
                </p:grpSpPr>
                <p:sp>
                  <p:nvSpPr>
                    <p:cNvPr id="1330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1" name="Freeform 71"/>
                    <p:cNvSpPr/>
                    <p:nvPr/>
                  </p:nvSpPr>
                  <p:spPr>
                    <a:xfrm rot="20274000">
                      <a:off x="7111800" y="1090440"/>
                      <a:ext cx="818280" cy="419040"/>
                    </a:xfrm>
                    <a:custGeom>
                      <a:avLst/>
                      <a:gdLst>
                        <a:gd name="textAreaLeft" fmla="*/ 0 w 818280"/>
                        <a:gd name="textAreaRight" fmla="*/ 818640 w 81828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2" name="Group 72"/>
                  <p:cNvGrpSpPr/>
                  <p:nvPr/>
                </p:nvGrpSpPr>
                <p:grpSpPr>
                  <a:xfrm>
                    <a:off x="5529240" y="626040"/>
                    <a:ext cx="2199240" cy="1450800"/>
                    <a:chOff x="5529240" y="626040"/>
                    <a:chExt cx="2199240" cy="1450800"/>
                  </a:xfrm>
                </p:grpSpPr>
                <p:sp>
                  <p:nvSpPr>
                    <p:cNvPr id="1333" name="Freeform 73"/>
                    <p:cNvSpPr/>
                    <p:nvPr/>
                  </p:nvSpPr>
                  <p:spPr>
                    <a:xfrm rot="19678800">
                      <a:off x="5483880" y="1429560"/>
                      <a:ext cx="1517400" cy="264960"/>
                    </a:xfrm>
                    <a:custGeom>
                      <a:avLst/>
                      <a:gdLst>
                        <a:gd name="textAreaLeft" fmla="*/ 0 w 1517400"/>
                        <a:gd name="textAreaRight" fmla="*/ 1517760 w 15174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4" name="Freeform 74"/>
                    <p:cNvSpPr/>
                    <p:nvPr/>
                  </p:nvSpPr>
                  <p:spPr>
                    <a:xfrm rot="19678800">
                      <a:off x="6862680" y="810720"/>
                      <a:ext cx="817200" cy="41796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5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>
                      <a:gd name="textAreaLeft" fmla="*/ 360 w 1265040"/>
                      <a:gd name="textAreaRight" fmla="*/ 1265760 w 12650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7" name="Group 77"/>
                  <p:cNvGrpSpPr/>
                  <p:nvPr/>
                </p:nvGrpSpPr>
                <p:grpSpPr>
                  <a:xfrm>
                    <a:off x="5355720" y="270360"/>
                    <a:ext cx="1197000" cy="1901160"/>
                    <a:chOff x="5355720" y="270360"/>
                    <a:chExt cx="1197000" cy="1901160"/>
                  </a:xfrm>
                </p:grpSpPr>
                <p:sp>
                  <p:nvSpPr>
                    <p:cNvPr id="1338" name="Freeform 78"/>
                    <p:cNvSpPr/>
                    <p:nvPr/>
                  </p:nvSpPr>
                  <p:spPr>
                    <a:xfrm rot="17742000">
                      <a:off x="5087160" y="1417320"/>
                      <a:ext cx="1310400" cy="2278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7880"/>
                        <a:gd name="textAreaBottom" fmla="*/ 228240 h 227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Freeform 79"/>
                    <p:cNvSpPr/>
                    <p:nvPr/>
                  </p:nvSpPr>
                  <p:spPr>
                    <a:xfrm rot="17742000">
                      <a:off x="5888880" y="486720"/>
                      <a:ext cx="703080" cy="35424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240"/>
                        <a:gd name="textAreaBottom" fmla="*/ 354600 h 354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0" name="Group 80"/>
                  <p:cNvGrpSpPr/>
                  <p:nvPr/>
                </p:nvGrpSpPr>
                <p:grpSpPr>
                  <a:xfrm>
                    <a:off x="5346360" y="388800"/>
                    <a:ext cx="1893240" cy="1796400"/>
                    <a:chOff x="5346360" y="388800"/>
                    <a:chExt cx="1893240" cy="1796400"/>
                  </a:xfrm>
                </p:grpSpPr>
                <p:sp>
                  <p:nvSpPr>
                    <p:cNvPr id="1341" name="Freeform 81"/>
                    <p:cNvSpPr/>
                    <p:nvPr/>
                  </p:nvSpPr>
                  <p:spPr>
                    <a:xfrm rot="18822600">
                      <a:off x="5245920" y="1388160"/>
                      <a:ext cx="1427040" cy="332640"/>
                    </a:xfrm>
                    <a:custGeom>
                      <a:avLst/>
                      <a:gdLst>
                        <a:gd name="textAreaLeft" fmla="*/ 0 w 1427040"/>
                        <a:gd name="textAreaRight" fmla="*/ 1427400 w 142704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Freeform 82"/>
                    <p:cNvSpPr/>
                    <p:nvPr/>
                  </p:nvSpPr>
                  <p:spPr>
                    <a:xfrm rot="18822600">
                      <a:off x="6401880" y="585000"/>
                      <a:ext cx="767160" cy="522720"/>
                    </a:xfrm>
                    <a:custGeom>
                      <a:avLst/>
                      <a:gdLst>
                        <a:gd name="textAreaLeft" fmla="*/ 0 w 767160"/>
                        <a:gd name="textAreaRight" fmla="*/ 767520 w 767160"/>
                        <a:gd name="textAreaTop" fmla="*/ 0 h 522720"/>
                        <a:gd name="textAreaBottom" fmla="*/ 523080 h 522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3" name="Group 83"/>
                  <p:cNvGrpSpPr/>
                  <p:nvPr/>
                </p:nvGrpSpPr>
                <p:grpSpPr>
                  <a:xfrm>
                    <a:off x="5457960" y="292680"/>
                    <a:ext cx="427680" cy="1795320"/>
                    <a:chOff x="5457960" y="292680"/>
                    <a:chExt cx="427680" cy="1795320"/>
                  </a:xfrm>
                </p:grpSpPr>
                <p:sp>
                  <p:nvSpPr>
                    <p:cNvPr id="1344" name="Freeform 84"/>
                    <p:cNvSpPr/>
                    <p:nvPr/>
                  </p:nvSpPr>
                  <p:spPr>
                    <a:xfrm rot="16696200">
                      <a:off x="5006520" y="1444680"/>
                      <a:ext cx="1177200" cy="106200"/>
                    </a:xfrm>
                    <a:custGeom>
                      <a:avLst/>
                      <a:gdLst>
                        <a:gd name="textAreaLeft" fmla="*/ 0 w 1177200"/>
                        <a:gd name="textAreaRight" fmla="*/ 1177560 w 117720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Freeform 85"/>
                    <p:cNvSpPr/>
                    <p:nvPr/>
                  </p:nvSpPr>
                  <p:spPr>
                    <a:xfrm rot="16696200">
                      <a:off x="5443920" y="533520"/>
                      <a:ext cx="629640" cy="164520"/>
                    </a:xfrm>
                    <a:custGeom>
                      <a:avLst/>
                      <a:gdLst>
                        <a:gd name="textAreaLeft" fmla="*/ 0 w 629640"/>
                        <a:gd name="textAreaRight" fmla="*/ 630000 w 629640"/>
                        <a:gd name="textAreaTop" fmla="*/ 0 h 164520"/>
                        <a:gd name="textAreaBottom" fmla="*/ 164880 h 164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6" name="Group 86"/>
                  <p:cNvGrpSpPr/>
                  <p:nvPr/>
                </p:nvGrpSpPr>
                <p:grpSpPr>
                  <a:xfrm>
                    <a:off x="3062880" y="2531520"/>
                    <a:ext cx="2196360" cy="3002040"/>
                    <a:chOff x="3062880" y="2531520"/>
                    <a:chExt cx="2196360" cy="3002040"/>
                  </a:xfrm>
                </p:grpSpPr>
                <p:sp>
                  <p:nvSpPr>
                    <p:cNvPr id="1347" name="Freeform 87"/>
                    <p:cNvSpPr/>
                    <p:nvPr/>
                  </p:nvSpPr>
                  <p:spPr>
                    <a:xfrm flipH="1" rot="18336000">
                      <a:off x="3418560" y="3317400"/>
                      <a:ext cx="2130120" cy="381960"/>
                    </a:xfrm>
                    <a:custGeom>
                      <a:avLst/>
                      <a:gdLst>
                        <a:gd name="textAreaLeft" fmla="*/ -360 w 2130120"/>
                        <a:gd name="textAreaRight" fmla="*/ 2130120 w 213012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8" name="Freeform 88"/>
                    <p:cNvSpPr/>
                    <p:nvPr/>
                  </p:nvSpPr>
                  <p:spPr>
                    <a:xfrm flipH="1" rot="18336000">
                      <a:off x="3070080" y="4591080"/>
                      <a:ext cx="1140120" cy="605520"/>
                    </a:xfrm>
                    <a:custGeom>
                      <a:avLst/>
                      <a:gdLst>
                        <a:gd name="textAreaLeft" fmla="*/ -360 w 1140120"/>
                        <a:gd name="textAreaRight" fmla="*/ 1140120 w 1140120"/>
                        <a:gd name="textAreaTop" fmla="*/ 0 h 605520"/>
                        <a:gd name="textAreaBottom" fmla="*/ 605520 h 605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9" name="Group 89"/>
                  <p:cNvGrpSpPr/>
                  <p:nvPr/>
                </p:nvGrpSpPr>
                <p:grpSpPr>
                  <a:xfrm>
                    <a:off x="3790800" y="2650680"/>
                    <a:ext cx="1483920" cy="2999520"/>
                    <a:chOff x="3790800" y="2650680"/>
                    <a:chExt cx="1483920" cy="2999520"/>
                  </a:xfrm>
                </p:grpSpPr>
                <p:sp>
                  <p:nvSpPr>
                    <p:cNvPr id="1350" name="Freeform 90"/>
                    <p:cNvSpPr/>
                    <p:nvPr/>
                  </p:nvSpPr>
                  <p:spPr>
                    <a:xfrm flipH="1" rot="17543400">
                      <a:off x="3737160" y="3442320"/>
                      <a:ext cx="1969560" cy="383760"/>
                    </a:xfrm>
                    <a:custGeom>
                      <a:avLst/>
                      <a:gdLst>
                        <a:gd name="textAreaLeft" fmla="*/ -360 w 1969560"/>
                        <a:gd name="textAreaRight" fmla="*/ 1969560 w 1969560"/>
                        <a:gd name="textAreaTop" fmla="*/ 0 h 383760"/>
                        <a:gd name="textAreaBottom" fmla="*/ 384120 h 383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520" cy="60372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2" name="Group 92"/>
                  <p:cNvGrpSpPr/>
                  <p:nvPr/>
                </p:nvGrpSpPr>
                <p:grpSpPr>
                  <a:xfrm>
                    <a:off x="4508280" y="2703600"/>
                    <a:ext cx="875160" cy="2926440"/>
                    <a:chOff x="4508280" y="2703600"/>
                    <a:chExt cx="875160" cy="2926440"/>
                  </a:xfrm>
                </p:grpSpPr>
                <p:sp>
                  <p:nvSpPr>
                    <p:cNvPr id="1353" name="Freeform 93"/>
                    <p:cNvSpPr/>
                    <p:nvPr/>
                  </p:nvSpPr>
                  <p:spPr>
                    <a:xfrm flipH="1" rot="16870800">
                      <a:off x="4089240" y="3489120"/>
                      <a:ext cx="1884960" cy="344880"/>
                    </a:xfrm>
                    <a:custGeom>
                      <a:avLst/>
                      <a:gdLst>
                        <a:gd name="textAreaLeft" fmla="*/ 360 w 1884960"/>
                        <a:gd name="textAreaRight" fmla="*/ 1885680 w 1884960"/>
                        <a:gd name="textAreaTop" fmla="*/ 0 h 344880"/>
                        <a:gd name="textAreaBottom" fmla="*/ 345240 h 344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Freeform 94"/>
                    <p:cNvSpPr/>
                    <p:nvPr/>
                  </p:nvSpPr>
                  <p:spPr>
                    <a:xfrm flipH="1" rot="16870800">
                      <a:off x="4364280" y="4811400"/>
                      <a:ext cx="1011960" cy="539640"/>
                    </a:xfrm>
                    <a:custGeom>
                      <a:avLst/>
                      <a:gdLst>
                        <a:gd name="textAreaLeft" fmla="*/ -360 w 1011960"/>
                        <a:gd name="textAreaRight" fmla="*/ 1011960 w 1011960"/>
                        <a:gd name="textAreaTop" fmla="*/ 0 h 539640"/>
                        <a:gd name="textAreaBottom" fmla="*/ 540000 h 539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5" name="Group 95"/>
                  <p:cNvGrpSpPr/>
                  <p:nvPr/>
                </p:nvGrpSpPr>
                <p:grpSpPr>
                  <a:xfrm>
                    <a:off x="5676480" y="2484000"/>
                    <a:ext cx="2282040" cy="2952360"/>
                    <a:chOff x="5676480" y="2484000"/>
                    <a:chExt cx="2282040" cy="2952360"/>
                  </a:xfrm>
                </p:grpSpPr>
                <p:sp>
                  <p:nvSpPr>
                    <p:cNvPr id="1356" name="Freeform 96"/>
                    <p:cNvSpPr/>
                    <p:nvPr/>
                  </p:nvSpPr>
                  <p:spPr>
                    <a:xfrm rot="3144000">
                      <a:off x="5412600" y="3253320"/>
                      <a:ext cx="2130840" cy="383040"/>
                    </a:xfrm>
                    <a:custGeom>
                      <a:avLst/>
                      <a:gdLst>
                        <a:gd name="textAreaLeft" fmla="*/ 0 w 2130840"/>
                        <a:gd name="textAreaRight" fmla="*/ 2131200 w 21308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Freeform 97"/>
                    <p:cNvSpPr/>
                    <p:nvPr/>
                  </p:nvSpPr>
                  <p:spPr>
                    <a:xfrm rot="3144000">
                      <a:off x="6800760" y="449784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8" name="Group 98"/>
                  <p:cNvGrpSpPr/>
                  <p:nvPr/>
                </p:nvGrpSpPr>
                <p:grpSpPr>
                  <a:xfrm>
                    <a:off x="5648040" y="2593080"/>
                    <a:ext cx="1757880" cy="3032280"/>
                    <a:chOff x="5648040" y="2593080"/>
                    <a:chExt cx="1757880" cy="3032280"/>
                  </a:xfrm>
                </p:grpSpPr>
                <p:sp>
                  <p:nvSpPr>
                    <p:cNvPr id="1359" name="Freeform 99"/>
                    <p:cNvSpPr/>
                    <p:nvPr/>
                  </p:nvSpPr>
                  <p:spPr>
                    <a:xfrm rot="3745200">
                      <a:off x="5265720" y="3395160"/>
                      <a:ext cx="2034720" cy="370440"/>
                    </a:xfrm>
                    <a:custGeom>
                      <a:avLst/>
                      <a:gdLst>
                        <a:gd name="textAreaLeft" fmla="*/ 0 w 2034720"/>
                        <a:gd name="textAreaRight" fmla="*/ 2035080 w 203472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Freeform 100"/>
                    <p:cNvSpPr/>
                    <p:nvPr/>
                  </p:nvSpPr>
                  <p:spPr>
                    <a:xfrm rot="3745200">
                      <a:off x="6353640" y="4721400"/>
                      <a:ext cx="1089360" cy="575640"/>
                    </a:xfrm>
                    <a:custGeom>
                      <a:avLst/>
                      <a:gdLst>
                        <a:gd name="textAreaLeft" fmla="*/ 0 w 1089360"/>
                        <a:gd name="textAreaRight" fmla="*/ 1089720 w 108936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1" name="Group 101"/>
                  <p:cNvGrpSpPr/>
                  <p:nvPr/>
                </p:nvGrpSpPr>
                <p:grpSpPr>
                  <a:xfrm>
                    <a:off x="5576400" y="2710800"/>
                    <a:ext cx="1225800" cy="2986200"/>
                    <a:chOff x="5576400" y="2710800"/>
                    <a:chExt cx="1225800" cy="2986200"/>
                  </a:xfrm>
                </p:grpSpPr>
                <p:sp>
                  <p:nvSpPr>
                    <p:cNvPr id="1362" name="Freeform 102"/>
                    <p:cNvSpPr/>
                    <p:nvPr/>
                  </p:nvSpPr>
                  <p:spPr>
                    <a:xfrm rot="4286400">
                      <a:off x="5046840" y="3542400"/>
                      <a:ext cx="1972080" cy="30168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1680"/>
                        <a:gd name="textAreaBottom" fmla="*/ 302040 h 301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Freeform 103"/>
                    <p:cNvSpPr/>
                    <p:nvPr/>
                  </p:nvSpPr>
                  <p:spPr>
                    <a:xfrm rot="4286400">
                      <a:off x="5879160" y="4882320"/>
                      <a:ext cx="1059480" cy="47376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3760"/>
                        <a:gd name="textAreaBottom" fmla="*/ 474120 h 473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4" name="Group 104"/>
                  <p:cNvGrpSpPr/>
                  <p:nvPr/>
                </p:nvGrpSpPr>
                <p:grpSpPr>
                  <a:xfrm>
                    <a:off x="5521320" y="2840400"/>
                    <a:ext cx="697680" cy="2777760"/>
                    <a:chOff x="5521320" y="2840400"/>
                    <a:chExt cx="697680" cy="2777760"/>
                  </a:xfrm>
                </p:grpSpPr>
                <p:sp>
                  <p:nvSpPr>
                    <p:cNvPr id="1365" name="Freeform 105"/>
                    <p:cNvSpPr/>
                    <p:nvPr/>
                  </p:nvSpPr>
                  <p:spPr>
                    <a:xfrm rot="4898400">
                      <a:off x="4899600" y="3604680"/>
                      <a:ext cx="1811160" cy="30780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7800"/>
                        <a:gd name="textAreaBottom" fmla="*/ 308160 h 307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Freeform 106"/>
                    <p:cNvSpPr/>
                    <p:nvPr/>
                  </p:nvSpPr>
                  <p:spPr>
                    <a:xfrm rot="4898400">
                      <a:off x="5426640" y="4864680"/>
                      <a:ext cx="972720" cy="47520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200"/>
                        <a:gd name="textAreaBottom" fmla="*/ 475560 h 475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7" name="Group 107"/>
                  <p:cNvGrpSpPr/>
                  <p:nvPr/>
                </p:nvGrpSpPr>
                <p:grpSpPr>
                  <a:xfrm>
                    <a:off x="4961160" y="2887560"/>
                    <a:ext cx="663480" cy="2717640"/>
                    <a:chOff x="4961160" y="2887560"/>
                    <a:chExt cx="663480" cy="2717640"/>
                  </a:xfrm>
                </p:grpSpPr>
                <p:sp>
                  <p:nvSpPr>
                    <p:cNvPr id="1368" name="Freeform 108"/>
                    <p:cNvSpPr/>
                    <p:nvPr/>
                  </p:nvSpPr>
                  <p:spPr>
                    <a:xfrm rot="5755200">
                      <a:off x="4532040" y="3664800"/>
                      <a:ext cx="1771920" cy="23112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Freeform 109"/>
                    <p:cNvSpPr/>
                    <p:nvPr/>
                  </p:nvSpPr>
                  <p:spPr>
                    <a:xfrm rot="5755200">
                      <a:off x="4713840" y="4933080"/>
                      <a:ext cx="950760" cy="36072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0720"/>
                        <a:gd name="textAreaBottom" fmla="*/ 361080 h 360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70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1371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1372" name="Arc 112"/>
                  <p:cNvSpPr/>
                  <p:nvPr/>
                </p:nvSpPr>
                <p:spPr>
                  <a:xfrm flipV="1">
                    <a:off x="5740560" y="857880"/>
                    <a:ext cx="3166200" cy="2523960"/>
                  </a:xfrm>
                  <a:custGeom>
                    <a:avLst/>
                    <a:gdLst>
                      <a:gd name="textAreaLeft" fmla="*/ 0 w 3166200"/>
                      <a:gd name="textAreaRight" fmla="*/ 3166560 w 31662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Arc 113"/>
                  <p:cNvSpPr/>
                  <p:nvPr/>
                </p:nvSpPr>
                <p:spPr>
                  <a:xfrm flipH="1">
                    <a:off x="2561760" y="2270520"/>
                    <a:ext cx="2487960" cy="2933280"/>
                  </a:xfrm>
                  <a:custGeom>
                    <a:avLst/>
                    <a:gdLst>
                      <a:gd name="textAreaLeft" fmla="*/ -360 w 2487960"/>
                      <a:gd name="textAreaRight" fmla="*/ 2487960 w 248796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Arc 114"/>
                  <p:cNvSpPr/>
                  <p:nvPr/>
                </p:nvSpPr>
                <p:spPr>
                  <a:xfrm>
                    <a:off x="5818320" y="1752840"/>
                    <a:ext cx="1758600" cy="2934360"/>
                  </a:xfrm>
                  <a:custGeom>
                    <a:avLst/>
                    <a:gdLst>
                      <a:gd name="textAreaLeft" fmla="*/ 0 w 1758600"/>
                      <a:gd name="textAreaRight" fmla="*/ 1758960 w 17586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Arc 116"/>
                  <p:cNvSpPr/>
                  <p:nvPr/>
                </p:nvSpPr>
                <p:spPr>
                  <a:xfrm flipH="1">
                    <a:off x="305928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Arc 117"/>
                  <p:cNvSpPr/>
                  <p:nvPr/>
                </p:nvSpPr>
                <p:spPr>
                  <a:xfrm>
                    <a:off x="5493240" y="1875960"/>
                    <a:ext cx="938880" cy="2840760"/>
                  </a:xfrm>
                  <a:custGeom>
                    <a:avLst/>
                    <a:gdLst>
                      <a:gd name="textAreaLeft" fmla="*/ 0 w 938880"/>
                      <a:gd name="textAreaRight" fmla="*/ 939240 w 93888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Freeform 118"/>
                  <p:cNvSpPr/>
                  <p:nvPr/>
                </p:nvSpPr>
                <p:spPr>
                  <a:xfrm flipH="1">
                    <a:off x="4303080" y="836280"/>
                    <a:ext cx="513720" cy="1879200"/>
                  </a:xfrm>
                  <a:custGeom>
                    <a:avLst/>
                    <a:gdLst>
                      <a:gd name="textAreaLeft" fmla="*/ -360 w 513720"/>
                      <a:gd name="textAreaRight" fmla="*/ 513720 w 51372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9" name="Freeform 119"/>
                <p:cNvSpPr/>
                <p:nvPr/>
              </p:nvSpPr>
              <p:spPr>
                <a:xfrm rot="20253000">
                  <a:off x="6126120" y="2181600"/>
                  <a:ext cx="547200" cy="1031760"/>
                </a:xfrm>
                <a:custGeom>
                  <a:avLst/>
                  <a:gdLst>
                    <a:gd name="textAreaLeft" fmla="*/ 0 w 547200"/>
                    <a:gd name="textAreaRight" fmla="*/ 547560 w 54720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0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381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2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3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4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5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6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7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8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89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90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91" name="Freeform 131"/>
              <p:cNvSpPr/>
              <p:nvPr/>
            </p:nvSpPr>
            <p:spPr>
              <a:xfrm>
                <a:off x="7513920" y="3109320"/>
                <a:ext cx="1242000" cy="197316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160"/>
                  <a:gd name="textAreaBottom" fmla="*/ 1973520 h 19731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92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93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94" name="Freeform 134"/>
              <p:cNvSpPr/>
              <p:nvPr/>
            </p:nvSpPr>
            <p:spPr>
              <a:xfrm flipH="1" rot="1347000">
                <a:off x="4183920" y="2156040"/>
                <a:ext cx="542880" cy="103212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7BE-DFDE-4BE2-9862-9B34963A307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9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0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1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12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1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2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FAB-CF30-49C7-BFA2-6A236F6FEC8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1633-50EE-48BB-8703-F44490EB1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CED0-AB95-4773-8963-7907897F2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3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E6C5-EBED-410A-948E-AC9F2109F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342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343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4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6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7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0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51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53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40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0E2A-57B6-4C89-8418-0D0B13FCBE7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41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6A9-A498-42ED-ACF2-5BB8CA93B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49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9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9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50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0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506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507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51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51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516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519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522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525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528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>
                      <a:gd name="textAreaLeft" fmla="*/ 360 w 879120"/>
                      <a:gd name="textAreaRight" fmla="*/ 879840 w 879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>
                      <a:gd name="textAreaLeft" fmla="*/ -360 w 471960"/>
                      <a:gd name="textAreaRight" fmla="*/ 471960 w 4719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531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>
                      <a:gd name="textAreaLeft" fmla="*/ 360 w 928800"/>
                      <a:gd name="textAreaRight" fmla="*/ 929520 w 9288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>
                      <a:gd name="textAreaLeft" fmla="*/ -360 w 499320"/>
                      <a:gd name="textAreaRight" fmla="*/ 499320 w 49932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534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53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120"/>
                      <a:gd name="textAreaBottom" fmla="*/ 267480 h 267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40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43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4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4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55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5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5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0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561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>
                      <a:gd name="textAreaLeft" fmla="*/ -360 w 541080"/>
                      <a:gd name="textAreaRight" fmla="*/ 541080 w 5410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56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567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572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>
                      <a:gd name="textAreaLeft" fmla="*/ 0 w 542520"/>
                      <a:gd name="textAreaRight" fmla="*/ 542880 w 5425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7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7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581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>
                      <a:gd name="textAreaLeft" fmla="*/ -360 w 889560"/>
                      <a:gd name="textAreaRight" fmla="*/ 889560 w 8895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584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>
                      <a:gd name="textAreaLeft" fmla="*/ -360 w 823320"/>
                      <a:gd name="textAreaRight" fmla="*/ 823320 w 823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>
                      <a:gd name="textAreaLeft" fmla="*/ 360 w 436320"/>
                      <a:gd name="textAreaRight" fmla="*/ 437040 w 4363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8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9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59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59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599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>
                      <a:gd name="textAreaLeft" fmla="*/ 0 w 752400"/>
                      <a:gd name="textAreaRight" fmla="*/ 752760 w 75240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>
                      <a:gd name="textAreaLeft" fmla="*/ 0 w 407160"/>
                      <a:gd name="textAreaRight" fmla="*/ 407520 w 40716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602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>
                      <a:gd name="textAreaLeft" fmla="*/ 0 w 740160"/>
                      <a:gd name="textAreaRight" fmla="*/ 740520 w 74016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>
                      <a:gd name="textAreaLeft" fmla="*/ 0 w 396360"/>
                      <a:gd name="textAreaRight" fmla="*/ 396720 w 39636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6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1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C6C-B9F5-4475-A580-568286B7935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68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69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0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1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2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3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4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5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6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7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8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9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0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1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2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3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6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9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3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4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5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6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7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8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9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3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4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5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6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7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8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8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9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0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1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6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9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0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3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4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5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1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2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5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6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7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3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4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5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6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9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0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1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4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5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7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3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4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8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9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0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1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2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3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4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5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6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7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8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9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0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1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2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3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4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5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6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7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8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9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0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1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2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3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4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5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6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47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848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9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0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1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2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53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854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5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6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7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8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9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0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1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2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3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4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5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6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7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8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9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870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C38-99DC-4332-BE86-B2D67760F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yandex.ru/yandsearch?source=wiz&amp;fp=9&amp;img_url=http%3A%2F%2Fexternal.ak.fbcdn.net%2Fsafe_image.php%3Fd%3DAQA5I5jGMRSb98wG%26w%3D100%26h%3D300%26url%3Dhttp%253A%252F%252Fupload.wikimedia.org%252Fwikipedia%252Fcommons%252F0%252F0e%252FMilk_glass.jpg%26fallback%3Dhub_likes%26prefix%3Ds&amp;uinfo=ww-1266-wh-593-fw-1041-fh-448-pd-1&amp;p=9&amp;text=&#1082;&#1072;&#1088;&#1090;&#1080;&#1085;&#1082;&#1080;%20&#1084;&#1086;&#1083;&#1086;&#1082;&#1072;&amp;noreask=1&amp;pos=298&amp;rpt=simage&amp;lr=66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13/13102_or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yandsearch?p=3&amp;text=&#1087;&#1086;&#1083;&#1100;&#1079;&#1072;%20&#1084;&#1086;&#1083;&#1086;&#1082;&#1072;&amp;fp=3&amp;img_url=http%3A%2F%2Fstatic3.depositphotos.com%2F1003809%2F187%2Fi%2F110%2Fdepositphotos_1875681-Milk.jpg&amp;pos=104&amp;uinfo=ww-1266-wh-593-fw-1041-fh-448-pd-1&amp;rpt=simage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82;&#1072;&#1088;&#1090;&#1080;&#1085;&#1082;&#1080;%20&#1082;&#1088;&#1072;&#1089;&#1080;&#1074;&#1099;&#1077;%20&#1087;&#1088;&#1086;%20&#1084;&#1086;&#1083;&#1086;&#1082;&#1086;&amp;fp=4&amp;img_url=http%3A%2F%2Fs2.goodfon.ru%2Fwallpaper%2Fpreviews%2F379173-sm.jpg&amp;pos=143&amp;uinfo=ww-1266-wh-593-fw-1041-fh-448-pd-1&amp;rpt=simage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yandex.ru/yandsearch?p=7&amp;text=&#1082;&#1072;&#1088;&#1090;&#1080;&#1085;&#1082;&#1080;%20&#1082;&#1088;&#1072;&#1089;&#1080;&#1074;&#1099;&#1077;%20&#1087;&#1088;&#1086;%20&#1084;&#1086;&#1083;&#1086;&#1082;&#1086;&amp;fp=7&amp;img_url=http%3A%2F%2Fwww.ellf.ru%2Fuploads%2Fposts%2F2011-03%2Fthumbs%2F1300060144_13.jpg&amp;pos=212&amp;uinfo=ww-1266-wh-593-fw-1041-fh-448-pd-1&amp;rpt=simage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59;&#1087;&#1077;&#1088;&#1080;&#1079;&#1086;&#1074;&#1072;&#1085;&#1085;&#1086;&#1077;%20&#1084;&#1086;&#1083;&#1086;&#1082;&#1086;&amp;fp=1&amp;img_url=http%3A%2F%2Ffs01.androidpit.info%2Fass%2Fx60%2F7041460-1349137341817-210x140.jpg&amp;pos=32&amp;uinfo=ww-1266-wh-593-fw-1041-fh-448-pd-1&amp;rpt=simage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-360" y="1197000"/>
            <a:ext cx="4011480" cy="1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04176"/>
                </a:solidFill>
                <a:latin typeface="Times New Roman"/>
              </a:rPr>
              <a:t>       </a:t>
            </a:r>
            <a:r>
              <a:rPr b="1" lang="ru-RU" sz="4100" spc="-1" strike="noStrike">
                <a:solidFill>
                  <a:srgbClr val="3fff9f"/>
                </a:solidFill>
                <a:latin typeface="Times New Roman"/>
              </a:rPr>
              <a:t>Пейте,            </a:t>
            </a:r>
            <a:br>
              <a:rPr sz="4100"/>
            </a:br>
            <a:r>
              <a:rPr b="1" lang="ru-RU" sz="4100" spc="-1" strike="noStrike">
                <a:solidFill>
                  <a:srgbClr val="3fff9f"/>
                </a:solidFill>
                <a:latin typeface="Times New Roman"/>
              </a:rPr>
              <a:t>      дети,     </a:t>
            </a:r>
            <a:br>
              <a:rPr sz="4100"/>
            </a:br>
            <a:r>
              <a:rPr b="1" lang="ru-RU" sz="4100" spc="-1" strike="noStrike">
                <a:solidFill>
                  <a:srgbClr val="3fff9f"/>
                </a:solidFill>
                <a:latin typeface="Times New Roman"/>
              </a:rPr>
              <a:t>           молоко -</a:t>
            </a:r>
            <a:endParaRPr b="0" lang="en-US" sz="41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5435280" y="3789360"/>
            <a:ext cx="352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ff9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fff9f"/>
                </a:solidFill>
                <a:latin typeface="Times New Roman"/>
              </a:rPr>
              <a:t>будете здоровы </a:t>
            </a:r>
            <a:r>
              <a:rPr b="1" lang="ru-RU" sz="5400" spc="-1" strike="noStrike">
                <a:solidFill>
                  <a:srgbClr val="c09e4a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38" name="Picture 7" descr="Стакан молока"/>
          <p:cNvPicPr/>
          <p:nvPr/>
        </p:nvPicPr>
        <p:blipFill>
          <a:blip r:embed="rId1"/>
          <a:stretch/>
        </p:blipFill>
        <p:spPr>
          <a:xfrm>
            <a:off x="5724360" y="836640"/>
            <a:ext cx="2370240" cy="237024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7" descr="http://im5-tub-ru.yandex.net/i?id=517212048-18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3141720"/>
            <a:ext cx="2376360" cy="2509920"/>
          </a:xfrm>
          <a:prstGeom prst="rect">
            <a:avLst/>
          </a:prstGeom>
          <a:ln w="0">
            <a:noFill/>
          </a:ln>
        </p:spPr>
      </p:pic>
      <p:grpSp>
        <p:nvGrpSpPr>
          <p:cNvPr id="1440" name="5-конечная звезда 6"/>
          <p:cNvGrpSpPr/>
          <p:nvPr/>
        </p:nvGrpSpPr>
        <p:grpSpPr>
          <a:xfrm>
            <a:off x="4224240" y="2816280"/>
            <a:ext cx="1122480" cy="1189080"/>
            <a:chOff x="4224240" y="2816280"/>
            <a:chExt cx="1122480" cy="1189080"/>
          </a:xfrm>
        </p:grpSpPr>
        <p:pic>
          <p:nvPicPr>
            <p:cNvPr id="1441" name="5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4224240" y="2816280"/>
              <a:ext cx="11224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2" name=""/>
            <p:cNvSpPr/>
            <p:nvPr/>
          </p:nvSpPr>
          <p:spPr>
            <a:xfrm>
              <a:off x="4595760" y="3265560"/>
              <a:ext cx="3841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04176"/>
                </a:solidFill>
                <a:latin typeface="Times New Roman"/>
              </a:rPr>
              <a:t>Микрофлора молока  </a:t>
            </a:r>
            <a:endParaRPr b="0" lang="en-US" sz="35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Молоко может представлять благоприятную среду для размножения микробов, если в нём будет отсутствовать всякая другая микрофлора (стерильное молоко),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ли быть в недостаточном количестве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0" name="Picture 4" descr="i"/>
          <p:cNvPicPr/>
          <p:nvPr/>
        </p:nvPicPr>
        <p:blipFill>
          <a:blip r:embed="rId1"/>
          <a:stretch/>
        </p:blipFill>
        <p:spPr>
          <a:xfrm>
            <a:off x="4067280" y="1700280"/>
            <a:ext cx="460836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ко-аллер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часто аллергия на молоко сочетается с аллергией на все молочные продукты, в том числе и кисломолочные, на козье молоко, а также на любые колбасные изделия, включающие говядину или телятину, белый хлеб и выпечку, коровью шерсть.  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Picture 8" descr="1263547981_0005-011-korova"/>
          <p:cNvPicPr/>
          <p:nvPr/>
        </p:nvPicPr>
        <p:blipFill>
          <a:blip r:embed="rId1"/>
          <a:stretch/>
        </p:blipFill>
        <p:spPr>
          <a:xfrm>
            <a:off x="5003640" y="1341360"/>
            <a:ext cx="3106800" cy="21510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5" descr="j0282753"/>
          <p:cNvPicPr/>
          <p:nvPr/>
        </p:nvPicPr>
        <p:blipFill>
          <a:blip r:embed="rId2"/>
          <a:stretch/>
        </p:blipFill>
        <p:spPr>
          <a:xfrm>
            <a:off x="5435640" y="3860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дным детям вредно коровье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114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око коровы создано для кормления теля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лята растут очень быстро, прибавляя по 20-25 кг в меся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бенок прибавляет в весе 1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коровьем молоке в 4 раза больше кальция и фосфора и в 3 раза больше белка, чем в грудном моло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этому коровье молоко не всегда усваивается ребен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5" descr="Короваироь"/>
          <p:cNvPicPr/>
          <p:nvPr/>
        </p:nvPicPr>
        <p:blipFill>
          <a:blip r:embed="rId1"/>
          <a:stretch/>
        </p:blipFill>
        <p:spPr>
          <a:xfrm>
            <a:off x="5580000" y="1557360"/>
            <a:ext cx="2995560" cy="4392720"/>
          </a:xfrm>
          <a:prstGeom prst="rect">
            <a:avLst/>
          </a:prstGeom>
          <a:ln w="0">
            <a:noFill/>
          </a:ln>
        </p:spPr>
      </p:pic>
      <p:grpSp>
        <p:nvGrpSpPr>
          <p:cNvPr id="1488" name="Знак запрета 4"/>
          <p:cNvGrpSpPr/>
          <p:nvPr/>
        </p:nvGrpSpPr>
        <p:grpSpPr>
          <a:xfrm>
            <a:off x="4584600" y="3176640"/>
            <a:ext cx="835200" cy="730080"/>
            <a:chOff x="4584600" y="3176640"/>
            <a:chExt cx="835200" cy="730080"/>
          </a:xfrm>
        </p:grpSpPr>
        <p:pic>
          <p:nvPicPr>
            <p:cNvPr id="1489" name="Знак запрета 4" descr=""/>
            <p:cNvPicPr/>
            <p:nvPr/>
          </p:nvPicPr>
          <p:blipFill>
            <a:blip r:embed="rId2"/>
            <a:stretch/>
          </p:blipFill>
          <p:spPr>
            <a:xfrm>
              <a:off x="4584600" y="3176640"/>
              <a:ext cx="83520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"/>
            <p:cNvSpPr/>
            <p:nvPr/>
          </p:nvSpPr>
          <p:spPr>
            <a:xfrm>
              <a:off x="4749840" y="3303720"/>
              <a:ext cx="509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сё-таки молоко коровы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лучший продук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4259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ок молока, необходим для укрепления мышц и восстановления их после тяжелой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чный жир и углевод лактоза дают энергию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 соли (фосфор, кальций) укрепляют кости и производят свежую к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3" name="Picture 7" descr="мульт"/>
          <p:cNvPicPr/>
          <p:nvPr/>
        </p:nvPicPr>
        <p:blipFill>
          <a:blip r:embed="rId1"/>
          <a:stretch/>
        </p:blipFill>
        <p:spPr>
          <a:xfrm>
            <a:off x="5219640" y="256536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ьза мо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374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 - это слабый возбудитель желудочной секр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 усиливает выведение жидкости из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о помогает при атеросклероз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онических заболеваниях печени и желчного пузыр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 снижает давление у гипертоников, уменьшает риск заболеваний: инфаркта и инсульта и сахарного диабет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ет при бессон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6" name="Picture 7" descr="13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9000"/>
            <a:ext cx="2136960" cy="28796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7" descr="http://im0-tub-ru.yandex.net/i?id=526374643-3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141720"/>
            <a:ext cx="320220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чные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гащены лактулозой, и предназначены для быстрой и устойчивой нормализации «родной» полезной кишечной микрофлоры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активизируют жизнедеятельность бифидобактерий и подавляют патогенные микроорган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уют укреплению к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жительно влияют на функции желудочно-кишечного тракта, устраняет запоры и другие расстройства кишеч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изируют иммунную систему человека.                                                                    К молочным продуктам относятся: сыр, кефир, мороженое, творог, масло, сметана, йогурт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0" name="Picture 4" descr="img404"/>
          <p:cNvPicPr/>
          <p:nvPr/>
        </p:nvPicPr>
        <p:blipFill>
          <a:blip r:embed="rId1"/>
          <a:stretch/>
        </p:blipFill>
        <p:spPr>
          <a:xfrm>
            <a:off x="4894200" y="3198960"/>
            <a:ext cx="3446640" cy="282384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5" descr="j0283655"/>
          <p:cNvPicPr/>
          <p:nvPr/>
        </p:nvPicPr>
        <p:blipFill>
          <a:blip r:embed="rId2"/>
          <a:stretch/>
        </p:blipFill>
        <p:spPr>
          <a:xfrm>
            <a:off x="5292720" y="1197000"/>
            <a:ext cx="1120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755640" y="263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Arial Black"/>
              </a:rPr>
              <a:t>ПЕЙТЕ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9966ff"/>
                </a:solidFill>
                <a:latin typeface="Arial Black"/>
              </a:rPr>
              <a:t>ДЕТИ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Arial Black"/>
              </a:rPr>
              <a:t>МОЛОКО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Arial Black"/>
              </a:rPr>
              <a:t>БУДЕТЕ ЗДОРОВЫ !!!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4" name="Picture 5" descr="http://im6-tub-ru.yandex.net/i?id=117453739-4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7" descr="http://im1-tub-ru.yandex.net/i?id=79148313-4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5157720"/>
            <a:ext cx="1871640" cy="1433520"/>
          </a:xfrm>
          <a:prstGeom prst="rect">
            <a:avLst/>
          </a:prstGeom>
          <a:ln w="0">
            <a:noFill/>
          </a:ln>
        </p:spPr>
      </p:pic>
      <p:cxnSp>
        <p:nvCxnSpPr>
          <p:cNvPr id="1506" name="Скругленная соединительная линия 6"/>
          <p:cNvCxnSpPr/>
          <p:nvPr/>
        </p:nvCxnSpPr>
        <p:spPr>
          <a:xfrm flipH="1" flipV="1" rot="5400000">
            <a:off x="3347640" y="6020640"/>
            <a:ext cx="1080" cy="1080"/>
          </a:xfrm>
          <a:prstGeom prst="curvedConnector5">
            <a:avLst>
              <a:gd name="adj1" fmla="val 0"/>
              <a:gd name="adj2" fmla="val 50000"/>
              <a:gd name="adj3" fmla="val 50000"/>
            </a:avLst>
          </a:prstGeom>
          <a:ln w="9360">
            <a:solidFill>
              <a:srgbClr val="ffcc00"/>
            </a:solidFill>
            <a:miter/>
          </a:ln>
        </p:spPr>
      </p:cxnSp>
      <p:pic>
        <p:nvPicPr>
          <p:cNvPr id="1507" name="Picture 9" descr="http://im2-tub-ru.yandex.net/i?id=167225370-05-72&amp;n=21"/>
          <p:cNvPicPr/>
          <p:nvPr/>
        </p:nvPicPr>
        <p:blipFill>
          <a:blip r:embed="rId5"/>
          <a:stretch/>
        </p:blipFill>
        <p:spPr>
          <a:xfrm>
            <a:off x="6443640" y="5229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1" descr="http://im4-tub-ru.yandex.net/i?id=229098389-05-72&amp;n=21"/>
          <p:cNvPicPr/>
          <p:nvPr/>
        </p:nvPicPr>
        <p:blipFill>
          <a:blip r:embed="rId6"/>
          <a:stretch/>
        </p:blipFill>
        <p:spPr>
          <a:xfrm>
            <a:off x="3564000" y="515772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509" name="Улыбающееся лицо 14"/>
          <p:cNvSpPr/>
          <p:nvPr/>
        </p:nvSpPr>
        <p:spPr>
          <a:xfrm>
            <a:off x="755640" y="3284640"/>
            <a:ext cx="1152360" cy="1081080"/>
          </a:xfrm>
          <a:prstGeom prst="smileyFace">
            <a:avLst>
              <a:gd name="adj" fmla="val 9282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Сердце 15"/>
          <p:cNvSpPr/>
          <p:nvPr/>
        </p:nvSpPr>
        <p:spPr>
          <a:xfrm>
            <a:off x="8028000" y="4292640"/>
            <a:ext cx="936720" cy="792000"/>
          </a:xfrm>
          <a:custGeom>
            <a:avLst/>
            <a:gdLst>
              <a:gd name="textAreaLeft" fmla="*/ 155880 w 936720"/>
              <a:gd name="textAreaRight" fmla="*/ 780840 w 93672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936104" h="792088">
                <a:moveTo>
                  <a:pt x="468052" y="198022"/>
                </a:moveTo>
                <a:cubicBezTo>
                  <a:pt x="663074" y="-264029"/>
                  <a:pt x="1423658" y="198022"/>
                  <a:pt x="468052" y="792088"/>
                </a:cubicBezTo>
                <a:cubicBezTo>
                  <a:pt x="-487554" y="198022"/>
                  <a:pt x="273030" y="-264029"/>
                  <a:pt x="468052" y="198022"/>
                </a:cubicBezTo>
                <a:close/>
              </a:path>
            </a:pathLst>
          </a:custGeom>
          <a:solidFill>
            <a:srgbClr val="af273e"/>
          </a:solidFill>
          <a:ln w="25560">
            <a:solidFill>
              <a:srgbClr val="801a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Н. И. Орлов. "Пищевые отравления и их профилактика"                                                                   2.Изд-во Медгиз, М., 1952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CR Detskiysad.Ru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3.Ht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www.tiensmed.ru/news/post new9839.html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Банникова, Л. А. Микробиологические основы молочного производства.                                                5. ГОСТ 9225-84. Молоко и молочные продукты.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1042560" y="1412640"/>
            <a:ext cx="381492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Существует единственный пищевой продукт, который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в естественных условиях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перетекает  из одного живого организма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в другой;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этот уникальный продукт - молоко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44" name="Picture 6" descr="id119236_w190"/>
          <p:cNvPicPr/>
          <p:nvPr/>
        </p:nvPicPr>
        <p:blipFill>
          <a:blip r:embed="rId1"/>
          <a:stretch/>
        </p:blipFill>
        <p:spPr>
          <a:xfrm>
            <a:off x="5148360" y="1773360"/>
            <a:ext cx="3659040" cy="2752560"/>
          </a:xfrm>
          <a:prstGeom prst="rect">
            <a:avLst/>
          </a:prstGeom>
          <a:ln w="0">
            <a:noFill/>
          </a:ln>
        </p:spPr>
      </p:pic>
      <p:sp>
        <p:nvSpPr>
          <p:cNvPr id="1445" name="Солнце 4"/>
          <p:cNvSpPr/>
          <p:nvPr/>
        </p:nvSpPr>
        <p:spPr>
          <a:xfrm>
            <a:off x="4284720" y="765000"/>
            <a:ext cx="1224000" cy="935280"/>
          </a:xfrm>
          <a:prstGeom prst="sun">
            <a:avLst>
              <a:gd name="adj" fmla="val 25000"/>
            </a:avLst>
          </a:prstGeom>
          <a:solidFill>
            <a:srgbClr val="cacaff"/>
          </a:solidFill>
          <a:ln w="38160">
            <a:solidFill>
              <a:srgbClr val="e1f4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6" name="Улыбающееся лицо 5"/>
          <p:cNvSpPr/>
          <p:nvPr/>
        </p:nvSpPr>
        <p:spPr>
          <a:xfrm>
            <a:off x="4140360" y="4653000"/>
            <a:ext cx="936360" cy="936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1b1d1"/>
              </a:gs>
              <a:gs pos="100000">
                <a:srgbClr val="eaeaf3"/>
              </a:gs>
            </a:gsLst>
            <a:lin ang="16200000"/>
          </a:gradFill>
          <a:ln w="9360">
            <a:solidFill>
              <a:srgbClr val="00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Облако 3"/>
          <p:cNvSpPr/>
          <p:nvPr/>
        </p:nvSpPr>
        <p:spPr>
          <a:xfrm>
            <a:off x="6084720" y="3213000"/>
            <a:ext cx="2448000" cy="1871640"/>
          </a:xfrm>
          <a:custGeom>
            <a:avLst/>
            <a:gdLst>
              <a:gd name="textAreaLeft" fmla="*/ 337320 w 2448000"/>
              <a:gd name="textAreaRight" fmla="*/ 1936800 w 2448000"/>
              <a:gd name="textAreaTop" fmla="*/ 282600 h 1871640"/>
              <a:gd name="textAreaBottom" fmla="*/ 1502280 h 1871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efee8"/>
          </a:solidFill>
          <a:ln w="38160">
            <a:solidFill>
              <a:srgbClr val="fefed6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04176"/>
                </a:solidFill>
                <a:latin typeface="Times New Roman"/>
              </a:rPr>
              <a:t>Химический состав молока :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Всего в молоке обнаружено около 100 биологически важных веществ. белков 3,5%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жиров 3,4%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молочного сахара 4,6%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минеральных солей (золы) 0,75%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воды 87,8%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аскорбиновой кислоты  6,6—18,9 мг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тиамина 370—485 мкг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никотиновой кислоты 1500 мкг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рибофлавина 952—1580 мкг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витамина А 0,1—0,35 мг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каротина 0,08—0,23 мг на 1 л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ферменты: фосфатаза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              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пероксидаза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              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редуктаза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амилаза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липаза и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8383ad"/>
                </a:solidFill>
                <a:latin typeface="Times New Roman"/>
              </a:rPr>
              <a:t>каталаза.</a:t>
            </a:r>
            <a:br>
              <a:rPr sz="1800"/>
            </a:b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Молок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теризова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таминизирова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рилизова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еризованное , сгущеное молоко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3" name="Picture 4" descr="корова и ст молока"/>
          <p:cNvPicPr/>
          <p:nvPr/>
        </p:nvPicPr>
        <p:blipFill>
          <a:blip r:embed="rId1"/>
          <a:stretch/>
        </p:blipFill>
        <p:spPr>
          <a:xfrm>
            <a:off x="900000" y="2060640"/>
            <a:ext cx="1871640" cy="13968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" descr="коробка"/>
          <p:cNvPicPr/>
          <p:nvPr/>
        </p:nvPicPr>
        <p:blipFill>
          <a:blip r:embed="rId2"/>
          <a:stretch/>
        </p:blipFill>
        <p:spPr>
          <a:xfrm>
            <a:off x="7885080" y="2060640"/>
            <a:ext cx="866880" cy="139068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7" descr="img_11064"/>
          <p:cNvPicPr/>
          <p:nvPr/>
        </p:nvPicPr>
        <p:blipFill>
          <a:blip r:embed="rId3"/>
          <a:stretch/>
        </p:blipFill>
        <p:spPr>
          <a:xfrm>
            <a:off x="1547640" y="4365720"/>
            <a:ext cx="1344960" cy="13446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8" descr="сгущенка"/>
          <p:cNvPicPr/>
          <p:nvPr/>
        </p:nvPicPr>
        <p:blipFill>
          <a:blip r:embed="rId4"/>
          <a:stretch/>
        </p:blipFill>
        <p:spPr>
          <a:xfrm>
            <a:off x="5580000" y="4292640"/>
            <a:ext cx="1905120" cy="143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астеризованное моло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692360" y="1341360"/>
            <a:ext cx="6775200" cy="25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получают при нагревании до температуры более 65 °С (не доводя до кипения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продукт обеззараживается и  большинство болезнетворных бактерий при данной температуре погибаю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Picture 4" descr="img_11064"/>
          <p:cNvPicPr/>
          <p:nvPr/>
        </p:nvPicPr>
        <p:blipFill>
          <a:blip r:embed="rId1"/>
          <a:stretch/>
        </p:blipFill>
        <p:spPr>
          <a:xfrm>
            <a:off x="3486240" y="2919240"/>
            <a:ext cx="2890800" cy="2891160"/>
          </a:xfrm>
          <a:prstGeom prst="rect">
            <a:avLst/>
          </a:prstGeom>
          <a:ln w="0">
            <a:noFill/>
          </a:ln>
        </p:spPr>
      </p:pic>
      <p:grpSp>
        <p:nvGrpSpPr>
          <p:cNvPr id="1460" name="7-конечная звезда 4"/>
          <p:cNvGrpSpPr/>
          <p:nvPr/>
        </p:nvGrpSpPr>
        <p:grpSpPr>
          <a:xfrm>
            <a:off x="7248600" y="3249720"/>
            <a:ext cx="1700280" cy="1547640"/>
            <a:chOff x="7248600" y="3249720"/>
            <a:chExt cx="1700280" cy="1547640"/>
          </a:xfrm>
        </p:grpSpPr>
        <p:pic>
          <p:nvPicPr>
            <p:cNvPr id="1461" name="7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7248600" y="3249720"/>
              <a:ext cx="170028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2" name=""/>
            <p:cNvSpPr/>
            <p:nvPr/>
          </p:nvSpPr>
          <p:spPr>
            <a:xfrm>
              <a:off x="7661160" y="3570120"/>
              <a:ext cx="87948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63" name="Сердце 7"/>
          <p:cNvGrpSpPr/>
          <p:nvPr/>
        </p:nvGrpSpPr>
        <p:grpSpPr>
          <a:xfrm>
            <a:off x="7534440" y="3693960"/>
            <a:ext cx="1055520" cy="890640"/>
            <a:chOff x="7534440" y="3693960"/>
            <a:chExt cx="1055520" cy="890640"/>
          </a:xfrm>
        </p:grpSpPr>
        <p:pic>
          <p:nvPicPr>
            <p:cNvPr id="1464" name="Сердце 7" descr=""/>
            <p:cNvPicPr/>
            <p:nvPr/>
          </p:nvPicPr>
          <p:blipFill>
            <a:blip r:embed="rId3"/>
            <a:stretch/>
          </p:blipFill>
          <p:spPr>
            <a:xfrm>
              <a:off x="7534440" y="3693960"/>
              <a:ext cx="10555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51880" y="3914640"/>
              <a:ext cx="623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ованное мо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 при нагревании до 100 °С и вы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происходит полное уничтожение всех микроорганизмов и их спор, в том числе и полез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ются молочные жиры, а белок изменяется так, что образуются ядовитые продукты.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Picture 4" descr="коробка"/>
          <p:cNvPicPr/>
          <p:nvPr/>
        </p:nvPicPr>
        <p:blipFill>
          <a:blip r:embed="rId1"/>
          <a:stretch/>
        </p:blipFill>
        <p:spPr>
          <a:xfrm>
            <a:off x="3348000" y="3645000"/>
            <a:ext cx="19130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перизованное молоко (UHT) - молоко длительного 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1692360" y="1268280"/>
            <a:ext cx="67752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ют в течение нескольких секунд при повышение температуры более 135 °С.            При этом минеральные вещества почти не теряются . И витамины можно обнаружить, хотя и в меньше  м количестве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Picture 7" descr="http://im2-tub-ru.yandex.net/i?id=385695374-5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213000"/>
            <a:ext cx="3960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556000" y="1125360"/>
            <a:ext cx="56973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Витаминизированное детское молок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258920" y="2349360"/>
            <a:ext cx="36734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изводится из высококачественного натурального коровьего молока, которое подвергается высокотемпературной обработке и обогащено витаминами А и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4" name="Picture 5" descr="iCA2VWF1M"/>
          <p:cNvPicPr/>
          <p:nvPr/>
        </p:nvPicPr>
        <p:blipFill>
          <a:blip r:embed="rId1"/>
          <a:stretch/>
        </p:blipFill>
        <p:spPr>
          <a:xfrm>
            <a:off x="5292720" y="2421000"/>
            <a:ext cx="2982960" cy="36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…</a:t>
            </a: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Сгущенное молоко…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цесс получения представляет собой мощное вторжение в структуру молока…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им молоком  можно насытиться,  прибавить в весе, поскольку в нем  содержится энергия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о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Жизн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в нем нет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7" name="Picture 4" descr="сгущенка"/>
          <p:cNvPicPr/>
          <p:nvPr/>
        </p:nvPicPr>
        <p:blipFill>
          <a:blip r:embed="rId1"/>
          <a:stretch/>
        </p:blipFill>
        <p:spPr>
          <a:xfrm>
            <a:off x="5651640" y="3860640"/>
            <a:ext cx="29509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0:08:55Z</dcterms:created>
  <dc:creator>User</dc:creator>
  <dc:description/>
  <dc:language>en-US</dc:language>
  <cp:lastModifiedBy>Admin</cp:lastModifiedBy>
  <dcterms:modified xsi:type="dcterms:W3CDTF">2014-01-11T08:10:47Z</dcterms:modified>
  <cp:revision>92</cp:revision>
  <dc:subject/>
  <dc:title>Молоко</dc:title>
</cp:coreProperties>
</file>