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gif" ContentType="image/gif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9604-0DF4-4C73-B45F-590B43DA4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1F6B-8C7D-4A79-AF06-AAD72BB6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B6055D-A682-4B5B-B445-C5C1BB66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60FDF1-2E94-4A2E-BBFB-EB22F822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C4ABF-D7A2-4A96-8D8C-A1D41EEF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06597B-7268-4EBB-9D20-CC27E8EC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79C0B0-DA50-46B8-875E-B263D572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AF113A-C4C3-4F47-B58C-C8A0C204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241A80-54CD-4653-A3E9-18ADEFB7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B4747B-1F74-4A77-A24B-8930CC6EC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9C2D5A-9349-4251-91A7-D9B8A655D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5C00-55E8-4151-9FCF-B83178BA8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8AF1-5447-45E8-890C-61AA13C74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F45D-832E-44A6-8F80-1F81F888D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9714-B2C1-4412-9C2A-D7882E95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328E-CC65-434A-A031-15819B07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AB71-BFAD-4ACA-9298-0D07FE6E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A5F1-9E1F-42E9-8D2A-CAD66F2F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AD37-3260-493F-8C88-44B705AE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21B7-AEFE-406D-91D3-D10DDCB7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D566-24BE-42F6-8DE9-9F106344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80A3-59FF-4C16-8E1F-413ABF82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FD84-A0FE-40E6-B14B-1369DE41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1A56-DD92-46E3-8753-06C18251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444C-BC30-4650-9A82-31B9677E4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22C7-8BA4-442F-9695-6DD6FADC3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3D6A5-DC78-40D2-9B94-C1294FEF6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D42B7-1CBC-4C20-B1BA-FA836D06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444EE-78CE-4FE2-9625-A85F1203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ADFE8-1614-4BAF-AB31-39987543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64171-92F9-4435-A7DB-F34CD420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4A34-AB42-44A2-A3C4-90D87C57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AD2BC-3B23-419A-B817-529A5EEE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2E0FD-EEA1-469C-91EE-9FC909BF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ADE6D-E47E-472A-8727-5FE8A765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C5EE7-27FC-45E4-A0DF-6D08CD6A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F2468-AFAC-4FEA-8B72-E5BDE9A0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62624-9DCB-437E-A307-56A54EFA1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05C88-8B40-41CC-BBF1-51934CAAE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B13BD-0A8D-481E-A51F-A60341345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B7A27-356E-44A0-8B71-3D890DD9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A5C93-BF33-453E-A25F-6FCAFC0F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B85D-A652-4266-AD40-971E423B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66EA9-9240-4611-BDAD-D34BB62E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70CEF-1868-4CAF-869E-F8102BA6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123A7-2537-446D-BE3D-16AB94BE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B9443-8762-426B-9DBB-59D9E4F4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6D809-4EA6-402C-A399-2EE083AA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E8A23-5083-4A19-AF57-EEB9A65F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BB238-8F0B-407A-8860-D07230FE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B16EC-D805-4DEC-A111-BCC7A0E1C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24E33-F29D-4C2F-8C00-E772CD0A2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E9CF0-7179-4346-84F5-FD9AF04F3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D0B0-897F-4ECB-B86B-DD5FB094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0B579-42C0-4677-8E5F-099D239E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43E7C-CE09-4735-A6CA-C1EB23C8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A8B61-F9D7-448D-82E2-93AF9FA0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894C6-BC90-4AD6-B421-DA04FF9A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C5B74-93B9-49E2-957D-A1032035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4D2BA-B640-4F6B-81DB-ECFFB8C3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01A88-2D0D-4BAE-8192-B377D2C9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7AA47-647A-4310-87D1-62ACD683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E2F4B-320C-42BF-A065-5C1CEE8D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F1575-2343-4AD3-8EBB-495424711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D0D2-B1E1-45A8-9599-548DE664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26BCC-FA00-49F8-869E-37F19D7B2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682F2-D253-438C-9BA7-8484D5D8F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2134A-F2F2-45D9-8B9E-9BB80B79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B4A26-7800-44C5-8A7D-13A9EC1A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D8CA7-8C46-46B4-B36D-655BD791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2EA5E-9DE7-454A-93FA-AFD3B223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FDDFF-5F6E-4211-AD6C-7FA38617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09E25-578C-4F44-841C-D969AF42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B1EB8-F6A1-459B-B4BF-5B4BFF77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52FCD-060D-4817-A0C0-EFCCBE9A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F5BD-21BB-44AC-A740-79F5AC5B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CAE12-470C-47F6-905B-1A24DDC7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4AE90-9068-42E3-9F34-5AAB4DE43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5657A-E0DA-42CF-8C1A-FE191770A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09B55-27C4-4A76-80EC-1EAD34E3C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7819C-FDE6-48F1-A4D6-20050CFC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766B2-0AE9-468B-8B2E-EDBFBD61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D2ED5-A1F8-4B74-8A3B-B4A9D064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F3703-15B4-4905-A184-A86A9FDF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6789C-8CE3-409C-8BA4-28996EAF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16923-37C4-4B6C-85F1-5F831A5E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DD04-672E-4D36-9799-72C40B2D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320E2-1845-4DDC-AD53-4A5075D2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B23B5-F01D-4DA0-BCF3-92AF3CED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6C648-7743-40FA-AAD3-3D833AE0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047E2-EF81-409C-885A-A11FCCE46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67604-4297-4161-B910-5BD4E293F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BCA39-7B08-4CB8-8EBF-4D05FA0BE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F7D4B-10F3-4426-805B-2506A80F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4D431-DC46-4E91-84C1-CEB5FF30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B3F5F-40A8-4363-B46A-BCF53B3F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4FBF1-074D-4553-9CD8-66127AFF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6082-59D6-45DC-892B-63B037B6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70210-45C7-49B3-A839-3354C807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B22E9-55DC-45C2-8CEA-792BF289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64ABA-88A5-41B8-AC5D-50951388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A4F67-9750-4FD8-A84B-4CD2AB50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BD96E-E26B-40D8-82BF-3E8AC4D2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64EF1-537A-44CD-9388-48A9DA3DD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12C95-F022-44AF-A15D-63D0BEF6C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37AFF7-B3BD-486D-B481-F33936E39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17714-019B-4299-9061-F7156E66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F3347-0BB1-462B-BAC5-677312DA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94b6d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2a0b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2a0b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2a0b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9414-887F-4C9F-AB32-F17CD715C46F}" type="slidenum">
              <a:rPr b="0" lang="en-US" sz="1200" spc="-1" strike="noStrike">
                <a:solidFill>
                  <a:srgbClr val="82a0b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94b6d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2a0b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2a0b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2a0b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18BE-D946-40DC-BF85-869551DA682B}" type="slidenum">
              <a:rPr b="0" lang="en-US" sz="1200" spc="-1" strike="noStrike">
                <a:solidFill>
                  <a:srgbClr val="82a0b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94b6d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2a0b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2a0b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2a0b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3169-45F8-4E9F-B71F-F7B508EF05F6}" type="slidenum">
              <a:rPr b="0" lang="en-US" sz="1200" spc="-1" strike="noStrike">
                <a:solidFill>
                  <a:srgbClr val="82a0b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94b6d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2a0b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2a0b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2a0b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3DEA-FAD5-4268-8419-852057255BB5}" type="slidenum">
              <a:rPr b="0" lang="en-US" sz="1200" spc="-1" strike="noStrike">
                <a:solidFill>
                  <a:srgbClr val="82a0b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94b6d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2a0b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2a0b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2a0b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64AE-A24C-4AD0-8920-D470426DE635}" type="slidenum">
              <a:rPr b="0" lang="en-US" sz="1200" spc="-1" strike="noStrike">
                <a:solidFill>
                  <a:srgbClr val="82a0b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94b6d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2a0b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2a0b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2a0b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9775-AACC-4725-834F-BC6DEF82E3F5}" type="slidenum">
              <a:rPr b="0" lang="en-US" sz="1200" spc="-1" strike="noStrike">
                <a:solidFill>
                  <a:srgbClr val="82a0b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94b6d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2a0b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2a0b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2a0b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6208-D432-4720-9325-6E87425E72A3}" type="slidenum">
              <a:rPr b="0" lang="en-US" sz="1200" spc="-1" strike="noStrike">
                <a:solidFill>
                  <a:srgbClr val="82a0b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94b6d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2a0b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2a0b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2a0b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1292-D80F-4FA0-BC42-342C185997F5}" type="slidenum">
              <a:rPr b="0" lang="en-US" sz="1200" spc="-1" strike="noStrike">
                <a:solidFill>
                  <a:srgbClr val="82a0b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94b6d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2a0b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2a0b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2a0b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1071-4F0A-4C00-9EF0-7DC4433D5DF7}" type="slidenum">
              <a:rPr b="0" lang="en-US" sz="1200" spc="-1" strike="noStrike">
                <a:solidFill>
                  <a:srgbClr val="82a0b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4.jpeg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" Target="slide2.xml"/><Relationship Id="rId5" Type="http://schemas.openxmlformats.org/officeDocument/2006/relationships/slide" Target="slide10.xml"/><Relationship Id="rId6" Type="http://schemas.openxmlformats.org/officeDocument/2006/relationships/slide" Target="slide9.xml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4.jpeg"/><Relationship Id="rId4" Type="http://schemas.openxmlformats.org/officeDocument/2006/relationships/slide" Target="slide2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4.jpeg"/><Relationship Id="rId4" Type="http://schemas.openxmlformats.org/officeDocument/2006/relationships/slide" Target="slide2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4.jpeg"/><Relationship Id="rId4" Type="http://schemas.openxmlformats.org/officeDocument/2006/relationships/slide" Target="slide2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4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" Target="slide8.xml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Равнобедренный треугольник 4"/>
          <p:cNvSpPr/>
          <p:nvPr/>
        </p:nvSpPr>
        <p:spPr>
          <a:xfrm>
            <a:off x="1258920" y="765000"/>
            <a:ext cx="6842160" cy="4680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a764a"/>
              </a:gs>
              <a:gs pos="50000">
                <a:srgbClr val="9fff9f"/>
              </a:gs>
              <a:gs pos="100000">
                <a:srgbClr val="4a764a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971280" y="3357720"/>
            <a:ext cx="705636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00000"/>
                </a:solidFill>
                <a:uFillTx/>
                <a:latin typeface="Franklin Gothic Book"/>
              </a:rPr>
              <a:t>Применение тригонометрии  в геометрических задачах</a:t>
            </a:r>
            <a:endParaRPr b="0" lang="en-US" sz="3600" spc="-1" strike="noStrike">
              <a:solidFill>
                <a:srgbClr val="775f55"/>
              </a:solidFill>
              <a:latin typeface="Franklin Gothic Book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Book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395280" cy="6892920"/>
          </a:xfrm>
          <a:prstGeom prst="rect">
            <a:avLst/>
          </a:prstGeom>
          <a:ln w="0">
            <a:noFill/>
          </a:ln>
        </p:spPr>
      </p:pic>
      <p:pic>
        <p:nvPicPr>
          <p:cNvPr id="402" name="Прямоугольник 5" descr=""/>
          <p:cNvPicPr/>
          <p:nvPr/>
        </p:nvPicPr>
        <p:blipFill>
          <a:blip r:embed="rId3"/>
          <a:stretch/>
        </p:blipFill>
        <p:spPr>
          <a:xfrm>
            <a:off x="4943520" y="1206360"/>
            <a:ext cx="3724200" cy="920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03" name="Object 2"/>
              <p:cNvSpPr txBox="1"/>
              <p:nvPr/>
            </p:nvSpPr>
            <p:spPr>
              <a:xfrm>
                <a:off x="3635280" y="4365720"/>
                <a:ext cx="223380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BA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30"/>
              <p:cNvSpPr txBox="1"/>
              <p:nvPr/>
            </p:nvSpPr>
            <p:spPr>
              <a:xfrm>
                <a:off x="1871640" y="4437000"/>
                <a:ext cx="543708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9000"/>
                            </p:stCondLst>
                            <p:childTnLst>
                              <p:par>
                                <p:cTn id="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Заголовок 1" descr=""/>
          <p:cNvPicPr/>
          <p:nvPr/>
        </p:nvPicPr>
        <p:blipFill>
          <a:blip r:embed="rId2"/>
          <a:stretch/>
        </p:blipFill>
        <p:spPr>
          <a:xfrm>
            <a:off x="450720" y="-6480"/>
            <a:ext cx="8699760" cy="106056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 txBox="1"/>
          <p:nvPr/>
        </p:nvSpPr>
        <p:spPr>
          <a:xfrm>
            <a:off x="547200" y="1052280"/>
            <a:ext cx="8596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Franklin Gothic Book"/>
              </a:rPr>
              <a:t>1.  В равнобедренном треугольнике углы при основании равны.</a:t>
            </a:r>
            <a:endParaRPr b="0" lang="en-US" sz="2000" spc="-1" strike="noStrike">
              <a:solidFill>
                <a:srgbClr val="775f55"/>
              </a:solidFill>
              <a:latin typeface="Franklin Gothic Book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Franklin Gothic Book"/>
              </a:rPr>
              <a:t>2.  В равнобедренном треугольнике высота, проведенная к основанию, является  и медианой, и биссектрисой.</a:t>
            </a:r>
            <a:endParaRPr b="0" lang="en-US" sz="2000" spc="-1" strike="noStrike">
              <a:solidFill>
                <a:srgbClr val="775f55"/>
              </a:solidFill>
              <a:latin typeface="Franklin Gothic Book"/>
            </a:endParaRPr>
          </a:p>
        </p:txBody>
      </p:sp>
      <p:pic>
        <p:nvPicPr>
          <p:cNvPr id="759" name="Picture 2" descr="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0" y="0"/>
            <a:ext cx="395280" cy="6892920"/>
          </a:xfrm>
          <a:prstGeom prst="rect">
            <a:avLst/>
          </a:prstGeom>
          <a:ln w="0">
            <a:noFill/>
          </a:ln>
        </p:spPr>
      </p:pic>
      <p:sp>
        <p:nvSpPr>
          <p:cNvPr id="760" name="Управляющая кнопка: справка 4"/>
          <p:cNvSpPr/>
          <p:nvPr/>
        </p:nvSpPr>
        <p:spPr>
          <a:xfrm>
            <a:off x="1332000" y="33336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88" h="21600">
                <a:moveTo>
                  <a:pt x="14649" y="14281"/>
                </a:moveTo>
                <a:lnTo>
                  <a:pt x="14649" y="12323"/>
                </a:lnTo>
                <a:cubicBezTo>
                  <a:pt x="14649" y="11496"/>
                  <a:pt x="14980" y="10800"/>
                  <a:pt x="15581" y="10800"/>
                </a:cubicBezTo>
                <a:cubicBezTo>
                  <a:pt x="16712" y="10800"/>
                  <a:pt x="17609" y="9434"/>
                  <a:pt x="17609" y="7849"/>
                </a:cubicBezTo>
                <a:cubicBezTo>
                  <a:pt x="17609" y="5534"/>
                  <a:pt x="15755" y="3794"/>
                  <a:pt x="13544" y="3794"/>
                </a:cubicBezTo>
                <a:cubicBezTo>
                  <a:pt x="11333" y="3794"/>
                  <a:pt x="9662" y="5534"/>
                  <a:pt x="9662" y="7849"/>
                </a:cubicBezTo>
                <a:lnTo>
                  <a:pt x="11516" y="7849"/>
                </a:lnTo>
                <a:cubicBezTo>
                  <a:pt x="11516" y="6709"/>
                  <a:pt x="12439" y="5821"/>
                  <a:pt x="13544" y="5821"/>
                </a:cubicBezTo>
                <a:cubicBezTo>
                  <a:pt x="14649" y="5821"/>
                  <a:pt x="15581" y="6709"/>
                  <a:pt x="15581" y="7849"/>
                </a:cubicBezTo>
                <a:cubicBezTo>
                  <a:pt x="15581" y="8589"/>
                  <a:pt x="15111" y="9320"/>
                  <a:pt x="14649" y="9320"/>
                </a:cubicBezTo>
                <a:cubicBezTo>
                  <a:pt x="13544" y="9320"/>
                  <a:pt x="12439" y="10800"/>
                  <a:pt x="12439" y="12323"/>
                </a:cubicBezTo>
                <a:lnTo>
                  <a:pt x="12439" y="14281"/>
                </a:lnTo>
                <a:close/>
              </a:path>
            </a:pathLst>
          </a:cu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Управляющая кнопка: возврат 5">
            <a:hlinkClick r:id="" action="ppaction://hlinkshowjump?jump=previousslide"/>
          </p:cNvPr>
          <p:cNvSpPr/>
          <p:nvPr/>
        </p:nvSpPr>
        <p:spPr>
          <a:xfrm>
            <a:off x="8496360" y="6308640"/>
            <a:ext cx="647640" cy="333360"/>
          </a:xfrm>
          <a:custGeom>
            <a:avLst/>
            <a:gdLst>
              <a:gd name="textAreaLeft" fmla="*/ 21600 w 647640"/>
              <a:gd name="textAreaRight" fmla="*/ 626040 w 647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1942" h="21600">
                <a:moveTo>
                  <a:pt x="0" y="0"/>
                </a:moveTo>
                <a:lnTo>
                  <a:pt x="41942" y="0"/>
                </a:lnTo>
                <a:lnTo>
                  <a:pt x="41942" y="21600"/>
                </a:lnTo>
                <a:lnTo>
                  <a:pt x="0" y="21600"/>
                </a:lnTo>
                <a:close/>
              </a:path>
              <a:path fill="lightenLess" w="41942" h="21600">
                <a:moveTo>
                  <a:pt x="0" y="0"/>
                </a:moveTo>
                <a:lnTo>
                  <a:pt x="41942" y="0"/>
                </a:lnTo>
                <a:lnTo>
                  <a:pt x="40542" y="1400"/>
                </a:lnTo>
                <a:lnTo>
                  <a:pt x="1400" y="1400"/>
                </a:lnTo>
                <a:close/>
              </a:path>
              <a:path fill="darken" w="41942" h="21600">
                <a:moveTo>
                  <a:pt x="41942" y="0"/>
                </a:moveTo>
                <a:lnTo>
                  <a:pt x="41942" y="21600"/>
                </a:lnTo>
                <a:lnTo>
                  <a:pt x="40542" y="20200"/>
                </a:lnTo>
                <a:lnTo>
                  <a:pt x="40542" y="1400"/>
                </a:lnTo>
                <a:close/>
              </a:path>
              <a:path fill="darkenLess" w="41942" h="21600">
                <a:moveTo>
                  <a:pt x="41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42" y="20200"/>
                </a:lnTo>
                <a:close/>
              </a:path>
              <a:path fill="lighten" w="41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942" h="21600">
                <a:moveTo>
                  <a:pt x="13964" y="7493"/>
                </a:moveTo>
                <a:lnTo>
                  <a:pt x="17472" y="7493"/>
                </a:lnTo>
                <a:lnTo>
                  <a:pt x="17472" y="12828"/>
                </a:lnTo>
                <a:cubicBezTo>
                  <a:pt x="17472" y="13751"/>
                  <a:pt x="18273" y="14482"/>
                  <a:pt x="19308" y="14482"/>
                </a:cubicBezTo>
                <a:lnTo>
                  <a:pt x="20971" y="14482"/>
                </a:lnTo>
                <a:cubicBezTo>
                  <a:pt x="22007" y="14482"/>
                  <a:pt x="22807" y="13751"/>
                  <a:pt x="22807" y="12828"/>
                </a:cubicBezTo>
                <a:lnTo>
                  <a:pt x="22807" y="7493"/>
                </a:lnTo>
                <a:lnTo>
                  <a:pt x="20971" y="7493"/>
                </a:lnTo>
                <a:lnTo>
                  <a:pt x="24478" y="3985"/>
                </a:lnTo>
                <a:lnTo>
                  <a:pt x="28151" y="7493"/>
                </a:lnTo>
                <a:lnTo>
                  <a:pt x="26315" y="7493"/>
                </a:lnTo>
                <a:lnTo>
                  <a:pt x="26315" y="12828"/>
                </a:lnTo>
                <a:cubicBezTo>
                  <a:pt x="26315" y="15596"/>
                  <a:pt x="23739" y="18155"/>
                  <a:pt x="20971" y="18155"/>
                </a:cubicBezTo>
                <a:lnTo>
                  <a:pt x="19308" y="18155"/>
                </a:lnTo>
                <a:cubicBezTo>
                  <a:pt x="16541" y="18155"/>
                  <a:pt x="13964" y="15596"/>
                  <a:pt x="13964" y="12828"/>
                </a:cubicBezTo>
                <a:close/>
              </a:path>
            </a:pathLst>
          </a:cu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Равнобедренный треугольник 6"/>
          <p:cNvSpPr/>
          <p:nvPr/>
        </p:nvSpPr>
        <p:spPr>
          <a:xfrm>
            <a:off x="826920" y="2852640"/>
            <a:ext cx="1441440" cy="2016360"/>
          </a:xfrm>
          <a:prstGeom prst="triangle">
            <a:avLst>
              <a:gd name="adj" fmla="val 50000"/>
            </a:avLst>
          </a:prstGeom>
          <a:solidFill>
            <a:srgbClr val="92d050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Прямая соединительная линия 8"/>
          <p:cNvSpPr/>
          <p:nvPr/>
        </p:nvSpPr>
        <p:spPr>
          <a:xfrm>
            <a:off x="1547640" y="2852640"/>
            <a:ext cx="0" cy="20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Прямоугольник 9"/>
          <p:cNvSpPr/>
          <p:nvPr/>
        </p:nvSpPr>
        <p:spPr>
          <a:xfrm>
            <a:off x="534240" y="47242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Прямоугольник 10"/>
          <p:cNvSpPr/>
          <p:nvPr/>
        </p:nvSpPr>
        <p:spPr>
          <a:xfrm>
            <a:off x="1337760" y="486900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Прямоугольник 11"/>
          <p:cNvSpPr/>
          <p:nvPr/>
        </p:nvSpPr>
        <p:spPr>
          <a:xfrm>
            <a:off x="1411560" y="2492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Прямоугольник 12"/>
          <p:cNvSpPr/>
          <p:nvPr/>
        </p:nvSpPr>
        <p:spPr>
          <a:xfrm>
            <a:off x="2275920" y="4653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Прямоугольник 13"/>
          <p:cNvSpPr/>
          <p:nvPr/>
        </p:nvSpPr>
        <p:spPr>
          <a:xfrm>
            <a:off x="3541680" y="2421000"/>
            <a:ext cx="37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СР – высота, медиана, биссектри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Прямоугольник 14"/>
          <p:cNvSpPr/>
          <p:nvPr/>
        </p:nvSpPr>
        <p:spPr>
          <a:xfrm>
            <a:off x="2050920" y="2997360"/>
            <a:ext cx="70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Медиана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треугольника, проведенная из данной вершины - отрезок   прямой, соединяющий эту вершину с серединой противолежащей   стороны треуг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Прямоугольник 15"/>
          <p:cNvSpPr/>
          <p:nvPr/>
        </p:nvSpPr>
        <p:spPr>
          <a:xfrm>
            <a:off x="3581280" y="4508640"/>
            <a:ext cx="43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ысот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СР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азделил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∆ АВС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а два рав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рямоугольных треуг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1" name="Прямая со стрелкой 17"/>
          <p:cNvCxnSpPr>
            <a:endCxn id="768" idx="2"/>
          </p:cNvCxnSpPr>
          <p:nvPr/>
        </p:nvCxnSpPr>
        <p:spPr>
          <a:xfrm flipV="1">
            <a:off x="2842920" y="2790000"/>
            <a:ext cx="2561400" cy="1342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8" dur="indefinite" restart="never" nodeType="tmRoot">
          <p:childTnLst>
            <p:seq>
              <p:cTn id="1219" dur="indefinite" nodeType="mainSeq">
                <p:childTnLst>
                  <p:par>
                    <p:cTn id="1220" fill="hold">
                      <p:stCondLst>
                        <p:cond delay="0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4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8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2" dur="5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5" dur="2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9000"/>
                            </p:stCondLst>
                            <p:childTnLst>
                              <p:par>
                                <p:cTn id="1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9" dur="5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2" name="Заголовок 1" descr=""/>
          <p:cNvPicPr/>
          <p:nvPr/>
        </p:nvPicPr>
        <p:blipFill>
          <a:blip r:embed="rId2"/>
          <a:stretch/>
        </p:blipFill>
        <p:spPr>
          <a:xfrm>
            <a:off x="450720" y="-6480"/>
            <a:ext cx="8699760" cy="1060560"/>
          </a:xfrm>
          <a:prstGeom prst="rect">
            <a:avLst/>
          </a:prstGeom>
          <a:ln w="0">
            <a:noFill/>
          </a:ln>
        </p:spPr>
      </p:pic>
      <p:sp>
        <p:nvSpPr>
          <p:cNvPr id="773" name=""/>
          <p:cNvSpPr txBox="1"/>
          <p:nvPr/>
        </p:nvSpPr>
        <p:spPr>
          <a:xfrm>
            <a:off x="899640" y="1052280"/>
            <a:ext cx="8091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Franklin Gothic Book"/>
              </a:rPr>
              <a:t>Основное тригонометрическое тождество</a:t>
            </a:r>
            <a:endParaRPr b="0" lang="en-US" sz="2800" spc="-1" strike="noStrike">
              <a:solidFill>
                <a:srgbClr val="775f55"/>
              </a:solidFill>
              <a:latin typeface="Franklin Gothic Book"/>
            </a:endParaRPr>
          </a:p>
        </p:txBody>
      </p:sp>
      <p:pic>
        <p:nvPicPr>
          <p:cNvPr id="774" name="Picture 2" descr="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0" y="0"/>
            <a:ext cx="395280" cy="6892920"/>
          </a:xfrm>
          <a:prstGeom prst="rect">
            <a:avLst/>
          </a:prstGeom>
          <a:ln w="0">
            <a:noFill/>
          </a:ln>
        </p:spPr>
      </p:pic>
      <p:sp>
        <p:nvSpPr>
          <p:cNvPr id="775" name="Управляющая кнопка: домой 4"/>
          <p:cNvSpPr/>
          <p:nvPr/>
        </p:nvSpPr>
        <p:spPr>
          <a:xfrm>
            <a:off x="7740720" y="6524640"/>
            <a:ext cx="503280" cy="333360"/>
          </a:xfrm>
          <a:custGeom>
            <a:avLst/>
            <a:gdLst>
              <a:gd name="textAreaLeft" fmla="*/ 21600 w 503280"/>
              <a:gd name="textAreaRight" fmla="*/ 481680 w 503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2598" h="21600">
                <a:moveTo>
                  <a:pt x="0" y="0"/>
                </a:moveTo>
                <a:lnTo>
                  <a:pt x="32598" y="0"/>
                </a:lnTo>
                <a:lnTo>
                  <a:pt x="32598" y="21600"/>
                </a:lnTo>
                <a:lnTo>
                  <a:pt x="0" y="21600"/>
                </a:lnTo>
                <a:close/>
              </a:path>
              <a:path fill="lightenLess" w="32598" h="21600">
                <a:moveTo>
                  <a:pt x="0" y="0"/>
                </a:moveTo>
                <a:lnTo>
                  <a:pt x="32598" y="0"/>
                </a:lnTo>
                <a:lnTo>
                  <a:pt x="31198" y="1400"/>
                </a:lnTo>
                <a:lnTo>
                  <a:pt x="1400" y="1400"/>
                </a:lnTo>
                <a:close/>
              </a:path>
              <a:path fill="darken" w="32598" h="21600">
                <a:moveTo>
                  <a:pt x="32598" y="0"/>
                </a:moveTo>
                <a:lnTo>
                  <a:pt x="32598" y="21600"/>
                </a:lnTo>
                <a:lnTo>
                  <a:pt x="31198" y="20200"/>
                </a:lnTo>
                <a:lnTo>
                  <a:pt x="31198" y="1400"/>
                </a:lnTo>
                <a:close/>
              </a:path>
              <a:path fill="darkenLess" w="32598" h="21600">
                <a:moveTo>
                  <a:pt x="325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8" y="20200"/>
                </a:lnTo>
                <a:close/>
              </a:path>
              <a:path fill="lighten" w="325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8" h="21600">
                <a:moveTo>
                  <a:pt x="16299" y="3837"/>
                </a:moveTo>
                <a:lnTo>
                  <a:pt x="18875" y="6448"/>
                </a:lnTo>
                <a:lnTo>
                  <a:pt x="18875" y="4707"/>
                </a:lnTo>
                <a:lnTo>
                  <a:pt x="20651" y="4707"/>
                </a:lnTo>
                <a:lnTo>
                  <a:pt x="20651" y="8224"/>
                </a:lnTo>
                <a:lnTo>
                  <a:pt x="23262" y="10800"/>
                </a:lnTo>
                <a:lnTo>
                  <a:pt x="21608" y="10800"/>
                </a:lnTo>
                <a:lnTo>
                  <a:pt x="21608" y="17989"/>
                </a:lnTo>
                <a:lnTo>
                  <a:pt x="10990" y="17989"/>
                </a:lnTo>
                <a:lnTo>
                  <a:pt x="10990" y="10800"/>
                </a:lnTo>
                <a:lnTo>
                  <a:pt x="9336" y="10800"/>
                </a:lnTo>
                <a:close/>
              </a:path>
              <a:path fill="darkenLess" w="32598" h="21600">
                <a:moveTo>
                  <a:pt x="18875" y="6448"/>
                </a:moveTo>
                <a:lnTo>
                  <a:pt x="18875" y="4707"/>
                </a:lnTo>
                <a:lnTo>
                  <a:pt x="20651" y="4707"/>
                </a:lnTo>
                <a:lnTo>
                  <a:pt x="20651" y="8224"/>
                </a:lnTo>
                <a:close/>
              </a:path>
              <a:path fill="darkenLess" w="32598" h="21600">
                <a:moveTo>
                  <a:pt x="15376" y="14299"/>
                </a:moveTo>
                <a:lnTo>
                  <a:pt x="17222" y="14299"/>
                </a:lnTo>
                <a:lnTo>
                  <a:pt x="17222" y="17989"/>
                </a:lnTo>
                <a:lnTo>
                  <a:pt x="21608" y="17989"/>
                </a:lnTo>
                <a:lnTo>
                  <a:pt x="21608" y="10800"/>
                </a:lnTo>
                <a:lnTo>
                  <a:pt x="10990" y="10800"/>
                </a:lnTo>
                <a:lnTo>
                  <a:pt x="10990" y="17989"/>
                </a:lnTo>
                <a:lnTo>
                  <a:pt x="15376" y="17989"/>
                </a:lnTo>
                <a:close/>
              </a:path>
            </a:pathLst>
          </a:cu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2"/>
          <p:cNvSpPr/>
          <p:nvPr/>
        </p:nvSpPr>
        <p:spPr>
          <a:xfrm>
            <a:off x="1547640" y="1557360"/>
            <a:ext cx="4632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7" name="Object 3"/>
              <p:cNvSpPr txBox="1"/>
              <p:nvPr/>
            </p:nvSpPr>
            <p:spPr>
              <a:xfrm>
                <a:off x="2959200" y="1789200"/>
                <a:ext cx="3009960" cy="17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α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8" name="Управляющая кнопка: возврат 8">
            <a:hlinkClick r:id="" action="ppaction://hlinkshowjump?jump=previousslide"/>
          </p:cNvPr>
          <p:cNvSpPr/>
          <p:nvPr/>
        </p:nvSpPr>
        <p:spPr>
          <a:xfrm>
            <a:off x="8496360" y="6524640"/>
            <a:ext cx="647640" cy="333360"/>
          </a:xfrm>
          <a:custGeom>
            <a:avLst/>
            <a:gdLst>
              <a:gd name="textAreaLeft" fmla="*/ 21600 w 647640"/>
              <a:gd name="textAreaRight" fmla="*/ 626040 w 647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1942" h="21600">
                <a:moveTo>
                  <a:pt x="0" y="0"/>
                </a:moveTo>
                <a:lnTo>
                  <a:pt x="41942" y="0"/>
                </a:lnTo>
                <a:lnTo>
                  <a:pt x="41942" y="21600"/>
                </a:lnTo>
                <a:lnTo>
                  <a:pt x="0" y="21600"/>
                </a:lnTo>
                <a:close/>
              </a:path>
              <a:path fill="lightenLess" w="41942" h="21600">
                <a:moveTo>
                  <a:pt x="0" y="0"/>
                </a:moveTo>
                <a:lnTo>
                  <a:pt x="41942" y="0"/>
                </a:lnTo>
                <a:lnTo>
                  <a:pt x="40542" y="1400"/>
                </a:lnTo>
                <a:lnTo>
                  <a:pt x="1400" y="1400"/>
                </a:lnTo>
                <a:close/>
              </a:path>
              <a:path fill="darken" w="41942" h="21600">
                <a:moveTo>
                  <a:pt x="41942" y="0"/>
                </a:moveTo>
                <a:lnTo>
                  <a:pt x="41942" y="21600"/>
                </a:lnTo>
                <a:lnTo>
                  <a:pt x="40542" y="20200"/>
                </a:lnTo>
                <a:lnTo>
                  <a:pt x="40542" y="1400"/>
                </a:lnTo>
                <a:close/>
              </a:path>
              <a:path fill="darkenLess" w="41942" h="21600">
                <a:moveTo>
                  <a:pt x="41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42" y="20200"/>
                </a:lnTo>
                <a:close/>
              </a:path>
              <a:path fill="lighten" w="41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942" h="21600">
                <a:moveTo>
                  <a:pt x="13964" y="7493"/>
                </a:moveTo>
                <a:lnTo>
                  <a:pt x="17472" y="7493"/>
                </a:lnTo>
                <a:lnTo>
                  <a:pt x="17472" y="12828"/>
                </a:lnTo>
                <a:cubicBezTo>
                  <a:pt x="17472" y="13751"/>
                  <a:pt x="18273" y="14482"/>
                  <a:pt x="19308" y="14482"/>
                </a:cubicBezTo>
                <a:lnTo>
                  <a:pt x="20971" y="14482"/>
                </a:lnTo>
                <a:cubicBezTo>
                  <a:pt x="22007" y="14482"/>
                  <a:pt x="22807" y="13751"/>
                  <a:pt x="22807" y="12828"/>
                </a:cubicBezTo>
                <a:lnTo>
                  <a:pt x="22807" y="7493"/>
                </a:lnTo>
                <a:lnTo>
                  <a:pt x="20971" y="7493"/>
                </a:lnTo>
                <a:lnTo>
                  <a:pt x="24478" y="3985"/>
                </a:lnTo>
                <a:lnTo>
                  <a:pt x="28151" y="7493"/>
                </a:lnTo>
                <a:lnTo>
                  <a:pt x="26315" y="7493"/>
                </a:lnTo>
                <a:lnTo>
                  <a:pt x="26315" y="12828"/>
                </a:lnTo>
                <a:cubicBezTo>
                  <a:pt x="26315" y="15596"/>
                  <a:pt x="23739" y="18155"/>
                  <a:pt x="20971" y="18155"/>
                </a:cubicBezTo>
                <a:lnTo>
                  <a:pt x="19308" y="18155"/>
                </a:lnTo>
                <a:cubicBezTo>
                  <a:pt x="16541" y="18155"/>
                  <a:pt x="13964" y="15596"/>
                  <a:pt x="13964" y="12828"/>
                </a:cubicBezTo>
                <a:close/>
              </a:path>
            </a:pathLst>
          </a:cu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Object 9"/>
              <p:cNvSpPr txBox="1"/>
              <p:nvPr/>
            </p:nvSpPr>
            <p:spPr>
              <a:xfrm>
                <a:off x="3059280" y="4076640"/>
                <a:ext cx="2625480" cy="16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α</m:t>
                            </m:r>
                          </m:den>
                        </m:f>
                      </m:e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t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α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0" name="Прямоугольник 10"/>
          <p:cNvSpPr/>
          <p:nvPr/>
        </p:nvSpPr>
        <p:spPr>
          <a:xfrm>
            <a:off x="2637360" y="19890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alibri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Прямоугольник 11"/>
          <p:cNvSpPr/>
          <p:nvPr/>
        </p:nvSpPr>
        <p:spPr>
          <a:xfrm>
            <a:off x="2637360" y="42926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alibri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Управляющая кнопка: сведения 11"/>
          <p:cNvSpPr/>
          <p:nvPr/>
        </p:nvSpPr>
        <p:spPr>
          <a:xfrm>
            <a:off x="1187280" y="26028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5890" h="21600">
                <a:moveTo>
                  <a:pt x="12945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5890" h="21600">
                <a:moveTo>
                  <a:pt x="10369" y="8224"/>
                </a:moveTo>
                <a:lnTo>
                  <a:pt x="14233" y="8224"/>
                </a:lnTo>
                <a:lnTo>
                  <a:pt x="14233" y="15221"/>
                </a:lnTo>
                <a:lnTo>
                  <a:pt x="15521" y="15221"/>
                </a:lnTo>
                <a:lnTo>
                  <a:pt x="15521" y="16144"/>
                </a:lnTo>
                <a:lnTo>
                  <a:pt x="10369" y="16144"/>
                </a:lnTo>
                <a:lnTo>
                  <a:pt x="10369" y="15221"/>
                </a:lnTo>
                <a:lnTo>
                  <a:pt x="11657" y="15221"/>
                </a:lnTo>
                <a:lnTo>
                  <a:pt x="11657" y="9129"/>
                </a:lnTo>
                <a:lnTo>
                  <a:pt x="10369" y="9129"/>
                </a:lnTo>
                <a:close/>
              </a:path>
            </a:pathLst>
          </a:cu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0" dur="indefinite" restart="never" nodeType="tmRoot">
          <p:childTnLst>
            <p:seq>
              <p:cTn id="1241" dur="indefinite" nodeType="mainSeq">
                <p:childTnLst>
                  <p:par>
                    <p:cTn id="1242" fill="hold">
                      <p:stCondLst>
                        <p:cond delay="0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2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2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" dur="2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Заголовок 1" descr=""/>
          <p:cNvPicPr/>
          <p:nvPr/>
        </p:nvPicPr>
        <p:blipFill>
          <a:blip r:embed="rId2"/>
          <a:stretch/>
        </p:blipFill>
        <p:spPr>
          <a:xfrm>
            <a:off x="3176640" y="2341440"/>
            <a:ext cx="2913120" cy="944640"/>
          </a:xfrm>
          <a:prstGeom prst="rect">
            <a:avLst/>
          </a:prstGeom>
          <a:ln w="0">
            <a:noFill/>
          </a:ln>
        </p:spPr>
      </p:pic>
      <p:sp>
        <p:nvSpPr>
          <p:cNvPr id="784" name=""/>
          <p:cNvSpPr txBox="1"/>
          <p:nvPr/>
        </p:nvSpPr>
        <p:spPr>
          <a:xfrm>
            <a:off x="1042560" y="3068280"/>
            <a:ext cx="6985080" cy="9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Monotype Corsiva"/>
              </a:rPr>
              <a:t>Еще есть время подготовиться!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pic>
        <p:nvPicPr>
          <p:cNvPr id="785" name="Picture 2" descr="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0" y="0"/>
            <a:ext cx="395280" cy="68929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3" descr="08764"/>
          <p:cNvPicPr/>
          <p:nvPr/>
        </p:nvPicPr>
        <p:blipFill>
          <a:blip r:embed="rId4"/>
          <a:stretch/>
        </p:blipFill>
        <p:spPr>
          <a:xfrm>
            <a:off x="3635280" y="4076640"/>
            <a:ext cx="1873440" cy="1679760"/>
          </a:xfrm>
          <a:prstGeom prst="rect">
            <a:avLst/>
          </a:prstGeom>
          <a:ln w="0">
            <a:noFill/>
          </a:ln>
        </p:spPr>
      </p:pic>
      <p:sp>
        <p:nvSpPr>
          <p:cNvPr id="787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317080" y="6237360"/>
            <a:ext cx="610920" cy="404640"/>
          </a:xfrm>
          <a:custGeom>
            <a:avLst/>
            <a:gdLst>
              <a:gd name="textAreaLeft" fmla="*/ 25920 w 610920"/>
              <a:gd name="textAreaRight" fmla="*/ 585000 w 610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2602" h="21600">
                <a:moveTo>
                  <a:pt x="0" y="0"/>
                </a:moveTo>
                <a:lnTo>
                  <a:pt x="32602" y="0"/>
                </a:lnTo>
                <a:lnTo>
                  <a:pt x="32602" y="21600"/>
                </a:lnTo>
                <a:lnTo>
                  <a:pt x="0" y="21600"/>
                </a:lnTo>
                <a:close/>
              </a:path>
              <a:path fill="lightenLess" w="32602" h="21600">
                <a:moveTo>
                  <a:pt x="0" y="0"/>
                </a:moveTo>
                <a:lnTo>
                  <a:pt x="32602" y="0"/>
                </a:lnTo>
                <a:lnTo>
                  <a:pt x="31202" y="1400"/>
                </a:lnTo>
                <a:lnTo>
                  <a:pt x="1400" y="1400"/>
                </a:lnTo>
                <a:close/>
              </a:path>
              <a:path fill="darken" w="32602" h="21600">
                <a:moveTo>
                  <a:pt x="32602" y="0"/>
                </a:moveTo>
                <a:lnTo>
                  <a:pt x="32602" y="21600"/>
                </a:lnTo>
                <a:lnTo>
                  <a:pt x="31202" y="20200"/>
                </a:lnTo>
                <a:lnTo>
                  <a:pt x="31202" y="1400"/>
                </a:lnTo>
                <a:close/>
              </a:path>
              <a:path fill="darkenLess" w="32602" h="21600">
                <a:moveTo>
                  <a:pt x="32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02" y="20200"/>
                </a:lnTo>
                <a:close/>
              </a:path>
              <a:path fill="lighten" w="32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02" h="21600">
                <a:moveTo>
                  <a:pt x="9294" y="3794"/>
                </a:moveTo>
                <a:lnTo>
                  <a:pt x="23307" y="10800"/>
                </a:lnTo>
                <a:lnTo>
                  <a:pt x="9294" y="17806"/>
                </a:lnTo>
                <a:close/>
              </a:path>
            </a:pathLst>
          </a:custGeom>
          <a:solidFill>
            <a:srgbClr val="e6dedb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Управляющая кнопка: домой 6"/>
          <p:cNvSpPr/>
          <p:nvPr/>
        </p:nvSpPr>
        <p:spPr>
          <a:xfrm>
            <a:off x="752472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12591" y="3837"/>
                </a:moveTo>
                <a:lnTo>
                  <a:pt x="15167" y="6448"/>
                </a:lnTo>
                <a:lnTo>
                  <a:pt x="15167" y="4707"/>
                </a:lnTo>
                <a:lnTo>
                  <a:pt x="16943" y="4707"/>
                </a:lnTo>
                <a:lnTo>
                  <a:pt x="16943" y="8224"/>
                </a:lnTo>
                <a:lnTo>
                  <a:pt x="19554" y="10800"/>
                </a:lnTo>
                <a:lnTo>
                  <a:pt x="17900" y="10800"/>
                </a:lnTo>
                <a:lnTo>
                  <a:pt x="17900" y="17989"/>
                </a:lnTo>
                <a:lnTo>
                  <a:pt x="7282" y="17989"/>
                </a:lnTo>
                <a:lnTo>
                  <a:pt x="7282" y="10800"/>
                </a:lnTo>
                <a:lnTo>
                  <a:pt x="5628" y="10800"/>
                </a:lnTo>
                <a:close/>
              </a:path>
              <a:path fill="darkenLess" w="25182" h="21600">
                <a:moveTo>
                  <a:pt x="15167" y="6448"/>
                </a:moveTo>
                <a:lnTo>
                  <a:pt x="15167" y="4707"/>
                </a:lnTo>
                <a:lnTo>
                  <a:pt x="16943" y="4707"/>
                </a:lnTo>
                <a:lnTo>
                  <a:pt x="16943" y="8224"/>
                </a:lnTo>
                <a:close/>
              </a:path>
              <a:path fill="darkenLess" w="25182" h="21600">
                <a:moveTo>
                  <a:pt x="11668" y="14299"/>
                </a:moveTo>
                <a:lnTo>
                  <a:pt x="13514" y="14299"/>
                </a:lnTo>
                <a:lnTo>
                  <a:pt x="13514" y="17989"/>
                </a:lnTo>
                <a:lnTo>
                  <a:pt x="17900" y="17989"/>
                </a:lnTo>
                <a:lnTo>
                  <a:pt x="17900" y="10800"/>
                </a:lnTo>
                <a:lnTo>
                  <a:pt x="7282" y="10800"/>
                </a:lnTo>
                <a:lnTo>
                  <a:pt x="7282" y="17989"/>
                </a:lnTo>
                <a:lnTo>
                  <a:pt x="11668" y="17989"/>
                </a:lnTo>
                <a:close/>
              </a:path>
            </a:pathLst>
          </a:custGeom>
          <a:solidFill>
            <a:srgbClr val="e6dedb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Скругленный прямоугольник 49"/>
          <p:cNvSpPr/>
          <p:nvPr/>
        </p:nvSpPr>
        <p:spPr>
          <a:xfrm>
            <a:off x="3132000" y="1989000"/>
            <a:ext cx="1368720" cy="503280"/>
          </a:xfrm>
          <a:prstGeom prst="roundRect">
            <a:avLst>
              <a:gd name="adj" fmla="val 16667"/>
            </a:avLst>
          </a:prstGeom>
          <a:solidFill>
            <a:srgbClr val="99ffcc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Object 3"/>
              <p:cNvSpPr txBox="1"/>
              <p:nvPr/>
            </p:nvSpPr>
            <p:spPr>
              <a:xfrm>
                <a:off x="2097000" y="1916280"/>
                <a:ext cx="434808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BA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ВАС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АВС</m:t>
                        </m:r>
                        <m:r>
                          <m:t xml:space="preserve">,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07" name="Заголовок 1" descr=""/>
          <p:cNvPicPr/>
          <p:nvPr/>
        </p:nvPicPr>
        <p:blipFill>
          <a:blip r:embed="rId2"/>
          <a:stretch/>
        </p:blipFill>
        <p:spPr>
          <a:xfrm>
            <a:off x="219240" y="0"/>
            <a:ext cx="8924760" cy="11635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95280" y="1052280"/>
            <a:ext cx="87487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В треугольнике ABC  АС=ВС=27, AH — высота, </a:t>
            </a:r>
            <a:endParaRPr b="0" lang="en-US" sz="2400" spc="-1" strike="noStrike">
              <a:solidFill>
                <a:srgbClr val="775f55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Найдите BH.</a:t>
            </a:r>
            <a:endParaRPr b="0" lang="en-US" sz="2400" spc="-1" strike="noStrike">
              <a:solidFill>
                <a:srgbClr val="775f55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2"/>
              <p:cNvSpPr txBox="1"/>
              <p:nvPr/>
            </p:nvSpPr>
            <p:spPr>
              <a:xfrm>
                <a:off x="6732720" y="907920"/>
                <a:ext cx="16603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BA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0" name="Равнобедренный треугольник 4"/>
          <p:cNvSpPr/>
          <p:nvPr/>
        </p:nvSpPr>
        <p:spPr>
          <a:xfrm>
            <a:off x="539640" y="2060640"/>
            <a:ext cx="1656000" cy="22320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13"/>
          <p:cNvSpPr/>
          <p:nvPr/>
        </p:nvSpPr>
        <p:spPr>
          <a:xfrm>
            <a:off x="426240" y="422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Franklin Gothic Book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14"/>
          <p:cNvSpPr/>
          <p:nvPr/>
        </p:nvSpPr>
        <p:spPr>
          <a:xfrm>
            <a:off x="2016720" y="42210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Franklin Gothic Boo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оугольник 15"/>
          <p:cNvSpPr/>
          <p:nvPr/>
        </p:nvSpPr>
        <p:spPr>
          <a:xfrm>
            <a:off x="1221480" y="17715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Franklin Gothic Boo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оугольник 16"/>
          <p:cNvSpPr/>
          <p:nvPr/>
        </p:nvSpPr>
        <p:spPr>
          <a:xfrm>
            <a:off x="1977480" y="335592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Franklin Gothic Book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4"/>
              <p:cNvSpPr txBox="1"/>
              <p:nvPr/>
            </p:nvSpPr>
            <p:spPr>
              <a:xfrm>
                <a:off x="2411280" y="2997360"/>
                <a:ext cx="618012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ВСР</m:t>
                        </m:r>
                        <m:r>
                          <m:rPr>
                            <m:lit/>
                            <m:nor/>
                          </m:rPr>
                          <m:t xml:space="preserve">:sin</m:t>
                        </m:r>
                        <m:r>
                          <m:rPr>
                            <m:lit/>
                            <m:nor/>
                          </m:rPr>
                          <m:t xml:space="preserve">АВС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С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СВ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С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х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⇒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6" name="Прямая соединительная линия 20"/>
          <p:cNvSpPr/>
          <p:nvPr/>
        </p:nvSpPr>
        <p:spPr>
          <a:xfrm flipH="1">
            <a:off x="1366560" y="2141640"/>
            <a:ext cx="14040" cy="2151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24"/>
          <p:cNvSpPr/>
          <p:nvPr/>
        </p:nvSpPr>
        <p:spPr>
          <a:xfrm>
            <a:off x="1220040" y="4292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Franklin Gothic Book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0" y="0"/>
            <a:ext cx="395280" cy="6892920"/>
          </a:xfrm>
          <a:prstGeom prst="rect">
            <a:avLst/>
          </a:prstGeom>
          <a:ln w="0">
            <a:noFill/>
          </a:ln>
        </p:spPr>
      </p:pic>
      <p:sp>
        <p:nvSpPr>
          <p:cNvPr id="419" name="Прямоугольник 18"/>
          <p:cNvSpPr/>
          <p:nvPr/>
        </p:nvSpPr>
        <p:spPr>
          <a:xfrm>
            <a:off x="3969360" y="1628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способ реш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Object 17"/>
              <p:cNvSpPr txBox="1"/>
              <p:nvPr/>
            </p:nvSpPr>
            <p:spPr>
              <a:xfrm>
                <a:off x="2411280" y="4076640"/>
                <a:ext cx="65199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РВ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9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18"/>
              <p:cNvSpPr txBox="1"/>
              <p:nvPr/>
            </p:nvSpPr>
            <p:spPr>
              <a:xfrm>
                <a:off x="2411280" y="4581360"/>
                <a:ext cx="59580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АВН</m:t>
                        </m:r>
                        <m:r>
                          <m:rPr>
                            <m:lit/>
                            <m:nor/>
                          </m:rPr>
                          <m:t xml:space="preserve">:sin</m:t>
                        </m:r>
                        <m:r>
                          <m:rPr>
                            <m:lit/>
                            <m:nor/>
                          </m:rPr>
                          <m:t xml:space="preserve">АВС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АН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АН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х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АН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2" name="Прямоугольный треугольник 21"/>
          <p:cNvSpPr/>
          <p:nvPr/>
        </p:nvSpPr>
        <p:spPr>
          <a:xfrm>
            <a:off x="1403280" y="2060640"/>
            <a:ext cx="792360" cy="2232000"/>
          </a:xfrm>
          <a:prstGeom prst="rtTriangle">
            <a:avLst/>
          </a:prstGeom>
          <a:solidFill>
            <a:srgbClr val="f6c57e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ая соединительная линия 6"/>
          <p:cNvSpPr/>
          <p:nvPr/>
        </p:nvSpPr>
        <p:spPr>
          <a:xfrm flipV="1">
            <a:off x="611280" y="3703320"/>
            <a:ext cx="1393560" cy="51732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оугольник 22"/>
          <p:cNvSpPr/>
          <p:nvPr/>
        </p:nvSpPr>
        <p:spPr>
          <a:xfrm>
            <a:off x="1701000" y="2924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оугольник 23"/>
          <p:cNvSpPr/>
          <p:nvPr/>
        </p:nvSpPr>
        <p:spPr>
          <a:xfrm>
            <a:off x="693000" y="299736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22"/>
          <p:cNvSpPr/>
          <p:nvPr/>
        </p:nvSpPr>
        <p:spPr>
          <a:xfrm>
            <a:off x="1129680" y="314172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Object 23"/>
              <p:cNvSpPr txBox="1"/>
              <p:nvPr/>
            </p:nvSpPr>
            <p:spPr>
              <a:xfrm>
                <a:off x="2411280" y="5229360"/>
                <a:ext cx="4824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ВН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АВ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АН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6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6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6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9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8" name="Прямоугольный треугольник 24"/>
          <p:cNvSpPr/>
          <p:nvPr/>
        </p:nvSpPr>
        <p:spPr>
          <a:xfrm rot="9517200">
            <a:off x="630000" y="3962520"/>
            <a:ext cx="1546200" cy="650880"/>
          </a:xfrm>
          <a:prstGeom prst="rtTriangle">
            <a:avLst/>
          </a:prstGeom>
          <a:solidFill>
            <a:srgbClr val="92d050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28"/>
          <p:cNvSpPr/>
          <p:nvPr/>
        </p:nvSpPr>
        <p:spPr>
          <a:xfrm>
            <a:off x="7702560" y="5661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Ответ: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Управляющая кнопка: далее 29">
            <a:hlinkClick r:id="" action="ppaction://hlinkshowjump?jump=nextslide"/>
          </p:cNvPr>
          <p:cNvSpPr/>
          <p:nvPr/>
        </p:nvSpPr>
        <p:spPr>
          <a:xfrm>
            <a:off x="8604360" y="6597720"/>
            <a:ext cx="539640" cy="260280"/>
          </a:xfrm>
          <a:custGeom>
            <a:avLst/>
            <a:gdLst>
              <a:gd name="textAreaLeft" fmla="*/ 16560 w 539640"/>
              <a:gd name="textAreaRight" fmla="*/ 523080 w 5396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44751" h="21600">
                <a:moveTo>
                  <a:pt x="0" y="0"/>
                </a:moveTo>
                <a:lnTo>
                  <a:pt x="44751" y="0"/>
                </a:lnTo>
                <a:lnTo>
                  <a:pt x="44751" y="21600"/>
                </a:lnTo>
                <a:lnTo>
                  <a:pt x="0" y="21600"/>
                </a:lnTo>
                <a:close/>
              </a:path>
              <a:path fill="lightenLess" w="44751" h="21600">
                <a:moveTo>
                  <a:pt x="0" y="0"/>
                </a:moveTo>
                <a:lnTo>
                  <a:pt x="44751" y="0"/>
                </a:lnTo>
                <a:lnTo>
                  <a:pt x="43351" y="1400"/>
                </a:lnTo>
                <a:lnTo>
                  <a:pt x="1400" y="1400"/>
                </a:lnTo>
                <a:close/>
              </a:path>
              <a:path fill="darken" w="44751" h="21600">
                <a:moveTo>
                  <a:pt x="44751" y="0"/>
                </a:moveTo>
                <a:lnTo>
                  <a:pt x="44751" y="21600"/>
                </a:lnTo>
                <a:lnTo>
                  <a:pt x="43351" y="20200"/>
                </a:lnTo>
                <a:lnTo>
                  <a:pt x="43351" y="1400"/>
                </a:lnTo>
                <a:close/>
              </a:path>
              <a:path fill="darkenLess" w="44751" h="21600">
                <a:moveTo>
                  <a:pt x="447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351" y="20200"/>
                </a:lnTo>
                <a:close/>
              </a:path>
              <a:path fill="lighten" w="447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751" h="21600">
                <a:moveTo>
                  <a:pt x="15369" y="3794"/>
                </a:moveTo>
                <a:lnTo>
                  <a:pt x="29382" y="10800"/>
                </a:lnTo>
                <a:lnTo>
                  <a:pt x="15369" y="17806"/>
                </a:lnTo>
                <a:close/>
              </a:path>
            </a:pathLst>
          </a:cu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Овал 26"/>
          <p:cNvSpPr/>
          <p:nvPr/>
        </p:nvSpPr>
        <p:spPr>
          <a:xfrm>
            <a:off x="4643280" y="3284640"/>
            <a:ext cx="107964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Овал 27"/>
          <p:cNvSpPr/>
          <p:nvPr/>
        </p:nvSpPr>
        <p:spPr>
          <a:xfrm>
            <a:off x="5867280" y="3068640"/>
            <a:ext cx="86364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Левая фигурная скобка 28"/>
          <p:cNvSpPr/>
          <p:nvPr/>
        </p:nvSpPr>
        <p:spPr>
          <a:xfrm rot="16200000">
            <a:off x="1258920" y="4005000"/>
            <a:ext cx="288720" cy="1584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1584360"/>
              <a:gd name="textAreaBottom" fmla="*/ 157716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4"/>
                  <a:pt x="10800" y="328"/>
                </a:cubicBezTo>
                <a:lnTo>
                  <a:pt x="10800" y="10261"/>
                </a:lnTo>
                <a:cubicBezTo>
                  <a:pt x="10800" y="10425"/>
                  <a:pt x="5400" y="10589"/>
                  <a:pt x="0" y="10589"/>
                </a:cubicBezTo>
                <a:cubicBezTo>
                  <a:pt x="5400" y="10589"/>
                  <a:pt x="10800" y="10753"/>
                  <a:pt x="10800" y="10917"/>
                </a:cubicBezTo>
                <a:lnTo>
                  <a:pt x="10800" y="21272"/>
                </a:lnTo>
                <a:cubicBezTo>
                  <a:pt x="10800" y="21436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5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оугольник 30"/>
          <p:cNvSpPr/>
          <p:nvPr/>
        </p:nvSpPr>
        <p:spPr>
          <a:xfrm>
            <a:off x="1042920" y="4941720"/>
            <a:ext cx="6494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5ea4"/>
                </a:solidFill>
                <a:latin typeface="Franklin Gothic Book"/>
              </a:rPr>
              <a:t>18√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Управляющая кнопка: домой 31">
            <a:hlinkClick r:id="rId4" action="ppaction://hlinksldjump"/>
          </p:cNvPr>
          <p:cNvSpPr/>
          <p:nvPr/>
        </p:nvSpPr>
        <p:spPr>
          <a:xfrm>
            <a:off x="7740720" y="6524640"/>
            <a:ext cx="503280" cy="333360"/>
          </a:xfrm>
          <a:custGeom>
            <a:avLst/>
            <a:gdLst>
              <a:gd name="textAreaLeft" fmla="*/ 21600 w 503280"/>
              <a:gd name="textAreaRight" fmla="*/ 481680 w 503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2598" h="21600">
                <a:moveTo>
                  <a:pt x="0" y="0"/>
                </a:moveTo>
                <a:lnTo>
                  <a:pt x="32598" y="0"/>
                </a:lnTo>
                <a:lnTo>
                  <a:pt x="32598" y="21600"/>
                </a:lnTo>
                <a:lnTo>
                  <a:pt x="0" y="21600"/>
                </a:lnTo>
                <a:close/>
              </a:path>
              <a:path fill="lightenLess" w="32598" h="21600">
                <a:moveTo>
                  <a:pt x="0" y="0"/>
                </a:moveTo>
                <a:lnTo>
                  <a:pt x="32598" y="0"/>
                </a:lnTo>
                <a:lnTo>
                  <a:pt x="31198" y="1400"/>
                </a:lnTo>
                <a:lnTo>
                  <a:pt x="1400" y="1400"/>
                </a:lnTo>
                <a:close/>
              </a:path>
              <a:path fill="darken" w="32598" h="21600">
                <a:moveTo>
                  <a:pt x="32598" y="0"/>
                </a:moveTo>
                <a:lnTo>
                  <a:pt x="32598" y="21600"/>
                </a:lnTo>
                <a:lnTo>
                  <a:pt x="31198" y="20200"/>
                </a:lnTo>
                <a:lnTo>
                  <a:pt x="31198" y="1400"/>
                </a:lnTo>
                <a:close/>
              </a:path>
              <a:path fill="darkenLess" w="32598" h="21600">
                <a:moveTo>
                  <a:pt x="325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8" y="20200"/>
                </a:lnTo>
                <a:close/>
              </a:path>
              <a:path fill="lighten" w="325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8" h="21600">
                <a:moveTo>
                  <a:pt x="16299" y="3837"/>
                </a:moveTo>
                <a:lnTo>
                  <a:pt x="18875" y="6448"/>
                </a:lnTo>
                <a:lnTo>
                  <a:pt x="18875" y="4707"/>
                </a:lnTo>
                <a:lnTo>
                  <a:pt x="20651" y="4707"/>
                </a:lnTo>
                <a:lnTo>
                  <a:pt x="20651" y="8224"/>
                </a:lnTo>
                <a:lnTo>
                  <a:pt x="23262" y="10800"/>
                </a:lnTo>
                <a:lnTo>
                  <a:pt x="21608" y="10800"/>
                </a:lnTo>
                <a:lnTo>
                  <a:pt x="21608" y="17989"/>
                </a:lnTo>
                <a:lnTo>
                  <a:pt x="10990" y="17989"/>
                </a:lnTo>
                <a:lnTo>
                  <a:pt x="10990" y="10800"/>
                </a:lnTo>
                <a:lnTo>
                  <a:pt x="9336" y="10800"/>
                </a:lnTo>
                <a:close/>
              </a:path>
              <a:path fill="darkenLess" w="32598" h="21600">
                <a:moveTo>
                  <a:pt x="18875" y="6448"/>
                </a:moveTo>
                <a:lnTo>
                  <a:pt x="18875" y="4707"/>
                </a:lnTo>
                <a:lnTo>
                  <a:pt x="20651" y="4707"/>
                </a:lnTo>
                <a:lnTo>
                  <a:pt x="20651" y="8224"/>
                </a:lnTo>
                <a:close/>
              </a:path>
              <a:path fill="darkenLess" w="32598" h="21600">
                <a:moveTo>
                  <a:pt x="15376" y="14299"/>
                </a:moveTo>
                <a:lnTo>
                  <a:pt x="17222" y="14299"/>
                </a:lnTo>
                <a:lnTo>
                  <a:pt x="17222" y="17989"/>
                </a:lnTo>
                <a:lnTo>
                  <a:pt x="21608" y="17989"/>
                </a:lnTo>
                <a:lnTo>
                  <a:pt x="21608" y="10800"/>
                </a:lnTo>
                <a:lnTo>
                  <a:pt x="10990" y="10800"/>
                </a:lnTo>
                <a:lnTo>
                  <a:pt x="10990" y="17989"/>
                </a:lnTo>
                <a:lnTo>
                  <a:pt x="15376" y="17989"/>
                </a:lnTo>
                <a:close/>
              </a:path>
            </a:pathLst>
          </a:cu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оугольник 32"/>
          <p:cNvSpPr/>
          <p:nvPr/>
        </p:nvSpPr>
        <p:spPr>
          <a:xfrm rot="20392800">
            <a:off x="1004760" y="3723120"/>
            <a:ext cx="5158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Franklin Gothic Book"/>
              </a:rPr>
              <a:t>12√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оугольник 33"/>
          <p:cNvSpPr/>
          <p:nvPr/>
        </p:nvSpPr>
        <p:spPr>
          <a:xfrm>
            <a:off x="4267440" y="6165720"/>
            <a:ext cx="278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мотри 2 способ реш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34"/>
          <p:cNvSpPr/>
          <p:nvPr/>
        </p:nvSpPr>
        <p:spPr>
          <a:xfrm>
            <a:off x="6443640" y="198900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∆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ВС - равнобедр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оугольник 35"/>
          <p:cNvSpPr/>
          <p:nvPr/>
        </p:nvSpPr>
        <p:spPr>
          <a:xfrm>
            <a:off x="2765880" y="2565360"/>
            <a:ext cx="465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Р – высота в равнобедренном треугольн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Управляющая кнопка: справка 36">
            <a:hlinkClick r:id="rId5" action="ppaction://hlinksldjump"/>
          </p:cNvPr>
          <p:cNvSpPr/>
          <p:nvPr/>
        </p:nvSpPr>
        <p:spPr>
          <a:xfrm>
            <a:off x="8244000" y="256536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88" h="21600">
                <a:moveTo>
                  <a:pt x="14649" y="14281"/>
                </a:moveTo>
                <a:lnTo>
                  <a:pt x="14649" y="12323"/>
                </a:lnTo>
                <a:cubicBezTo>
                  <a:pt x="14649" y="11496"/>
                  <a:pt x="14980" y="10800"/>
                  <a:pt x="15581" y="10800"/>
                </a:cubicBezTo>
                <a:cubicBezTo>
                  <a:pt x="16712" y="10800"/>
                  <a:pt x="17609" y="9434"/>
                  <a:pt x="17609" y="7849"/>
                </a:cubicBezTo>
                <a:cubicBezTo>
                  <a:pt x="17609" y="5534"/>
                  <a:pt x="15755" y="3794"/>
                  <a:pt x="13544" y="3794"/>
                </a:cubicBezTo>
                <a:cubicBezTo>
                  <a:pt x="11333" y="3794"/>
                  <a:pt x="9662" y="5534"/>
                  <a:pt x="9662" y="7849"/>
                </a:cubicBezTo>
                <a:lnTo>
                  <a:pt x="11516" y="7849"/>
                </a:lnTo>
                <a:cubicBezTo>
                  <a:pt x="11516" y="6709"/>
                  <a:pt x="12439" y="5821"/>
                  <a:pt x="13544" y="5821"/>
                </a:cubicBezTo>
                <a:cubicBezTo>
                  <a:pt x="14649" y="5821"/>
                  <a:pt x="15581" y="6709"/>
                  <a:pt x="15581" y="7849"/>
                </a:cubicBezTo>
                <a:cubicBezTo>
                  <a:pt x="15581" y="8589"/>
                  <a:pt x="15111" y="9320"/>
                  <a:pt x="14649" y="9320"/>
                </a:cubicBezTo>
                <a:cubicBezTo>
                  <a:pt x="13544" y="9320"/>
                  <a:pt x="12439" y="10800"/>
                  <a:pt x="12439" y="12323"/>
                </a:cubicBezTo>
                <a:lnTo>
                  <a:pt x="12439" y="14281"/>
                </a:lnTo>
                <a:close/>
              </a:path>
            </a:pathLst>
          </a:cu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Управляющая кнопка: документ 37">
            <a:hlinkClick r:id="rId6" action="ppaction://hlinksldjump"/>
          </p:cNvPr>
          <p:cNvSpPr/>
          <p:nvPr/>
        </p:nvSpPr>
        <p:spPr>
          <a:xfrm>
            <a:off x="6156360" y="1628640"/>
            <a:ext cx="360360" cy="28764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7054" h="21600">
                <a:moveTo>
                  <a:pt x="0" y="0"/>
                </a:moveTo>
                <a:lnTo>
                  <a:pt x="27054" y="0"/>
                </a:lnTo>
                <a:lnTo>
                  <a:pt x="27054" y="21600"/>
                </a:lnTo>
                <a:lnTo>
                  <a:pt x="0" y="21600"/>
                </a:lnTo>
                <a:close/>
              </a:path>
              <a:path fill="lightenLess" w="27054" h="21600">
                <a:moveTo>
                  <a:pt x="0" y="0"/>
                </a:moveTo>
                <a:lnTo>
                  <a:pt x="27054" y="0"/>
                </a:lnTo>
                <a:lnTo>
                  <a:pt x="25654" y="1400"/>
                </a:lnTo>
                <a:lnTo>
                  <a:pt x="1400" y="1400"/>
                </a:lnTo>
                <a:close/>
              </a:path>
              <a:path fill="darken" w="27054" h="21600">
                <a:moveTo>
                  <a:pt x="27054" y="0"/>
                </a:moveTo>
                <a:lnTo>
                  <a:pt x="27054" y="21600"/>
                </a:lnTo>
                <a:lnTo>
                  <a:pt x="25654" y="20200"/>
                </a:lnTo>
                <a:lnTo>
                  <a:pt x="25654" y="1400"/>
                </a:lnTo>
                <a:close/>
              </a:path>
              <a:path fill="darkenLess" w="27054" h="21600">
                <a:moveTo>
                  <a:pt x="27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54" y="20200"/>
                </a:lnTo>
                <a:close/>
              </a:path>
              <a:path fill="lighten" w="27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7054" h="21600">
                <a:moveTo>
                  <a:pt x="8000" y="3985"/>
                </a:moveTo>
                <a:lnTo>
                  <a:pt x="14998" y="3985"/>
                </a:lnTo>
                <a:lnTo>
                  <a:pt x="19054" y="7484"/>
                </a:lnTo>
                <a:lnTo>
                  <a:pt x="19054" y="17615"/>
                </a:lnTo>
                <a:lnTo>
                  <a:pt x="8000" y="17615"/>
                </a:lnTo>
                <a:close/>
              </a:path>
              <a:path fill="darken" w="27054" h="21600">
                <a:moveTo>
                  <a:pt x="14998" y="3985"/>
                </a:moveTo>
                <a:lnTo>
                  <a:pt x="19054" y="7484"/>
                </a:lnTo>
                <a:lnTo>
                  <a:pt x="14998" y="7484"/>
                </a:lnTo>
                <a:close/>
              </a:path>
            </a:pathLst>
          </a:cu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оугольник 39"/>
          <p:cNvSpPr/>
          <p:nvPr/>
        </p:nvSpPr>
        <p:spPr>
          <a:xfrm rot="15153600">
            <a:off x="1522440" y="357480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Выноска 2 41"/>
          <p:cNvSpPr/>
          <p:nvPr/>
        </p:nvSpPr>
        <p:spPr>
          <a:xfrm rot="10800000">
            <a:off x="4716360" y="2997360"/>
            <a:ext cx="952560" cy="318960"/>
          </a:xfrm>
          <a:prstGeom prst="borderCallout2">
            <a:avLst>
              <a:gd name="adj1" fmla="val 18750"/>
              <a:gd name="adj2" fmla="val -8333"/>
              <a:gd name="adj3" fmla="val 126606"/>
              <a:gd name="adj4" fmla="val -21388"/>
              <a:gd name="adj5" fmla="val 41810"/>
              <a:gd name="adj6" fmla="val -260333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4" name="Прямая со стрелкой 43"/>
          <p:cNvCxnSpPr/>
          <p:nvPr/>
        </p:nvCxnSpPr>
        <p:spPr>
          <a:xfrm flipH="1">
            <a:off x="1547280" y="5013360"/>
            <a:ext cx="2664720" cy="72000"/>
          </a:xfrm>
          <a:prstGeom prst="straightConnector1">
            <a:avLst/>
          </a:prstGeom>
          <a:ln w="28440">
            <a:solidFill>
              <a:srgbClr val="008e40"/>
            </a:solidFill>
            <a:miter/>
            <a:tailEnd len="med" type="arrow" w="med"/>
          </a:ln>
        </p:spPr>
      </p:cxnSp>
      <p:sp>
        <p:nvSpPr>
          <p:cNvPr id="445" name="Овал 48"/>
          <p:cNvSpPr/>
          <p:nvPr/>
        </p:nvSpPr>
        <p:spPr>
          <a:xfrm>
            <a:off x="8317080" y="4076640"/>
            <a:ext cx="647640" cy="432000"/>
          </a:xfrm>
          <a:prstGeom prst="ellipse">
            <a:avLst/>
          </a:prstGeom>
          <a:noFill/>
          <a:ln w="38160">
            <a:solidFill>
              <a:srgbClr val="008e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оугольник 53"/>
          <p:cNvSpPr/>
          <p:nvPr/>
        </p:nvSpPr>
        <p:spPr>
          <a:xfrm>
            <a:off x="2388960" y="3716280"/>
            <a:ext cx="59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Используем теорему Пифагора для прямоугольного ∆СРВ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56"/>
          <p:cNvSpPr/>
          <p:nvPr/>
        </p:nvSpPr>
        <p:spPr>
          <a:xfrm>
            <a:off x="482400" y="5373720"/>
            <a:ext cx="132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о теор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ифаго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44"/>
          <p:cNvSpPr/>
          <p:nvPr/>
        </p:nvSpPr>
        <p:spPr>
          <a:xfrm>
            <a:off x="717480" y="6237360"/>
            <a:ext cx="325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В˂НВ  ═&gt; ∆АВС - тупоуго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3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3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" dur="3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0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9000"/>
                            </p:stCondLst>
                            <p:childTnLst>
                              <p:par>
                                <p:cTn id="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3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5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" dur="5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70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80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8" dur="30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8000"/>
                            </p:stCondLst>
                            <p:childTnLst>
                              <p:par>
                                <p:cTn id="1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8500"/>
                            </p:stCondLst>
                            <p:childTnLst>
                              <p:par>
                                <p:cTn id="1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3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Скругленный прямоугольник 40"/>
          <p:cNvSpPr/>
          <p:nvPr/>
        </p:nvSpPr>
        <p:spPr>
          <a:xfrm>
            <a:off x="8101080" y="3068640"/>
            <a:ext cx="431640" cy="64764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647640"/>
              <a:gd name="textAreaBottom" fmla="*/ 626760 h 647640"/>
            </a:gdLst>
            <a:ahLst/>
            <a:rect l="textAreaLeft" t="textAreaTop" r="textAreaRight" b="textAreaBottom"/>
            <a:pathLst>
              <a:path w="21600" h="32400">
                <a:moveTo>
                  <a:pt x="3600" y="0"/>
                </a:moveTo>
                <a:arcTo wR="3600" hR="3600" stAng="16200000" swAng="-5400000"/>
                <a:lnTo>
                  <a:pt x="0" y="28800"/>
                </a:lnTo>
                <a:arcTo wR="3600" hR="3600" stAng="10800000" swAng="-5400000"/>
                <a:lnTo>
                  <a:pt x="18000" y="32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Скругленный прямоугольник 39"/>
          <p:cNvSpPr/>
          <p:nvPr/>
        </p:nvSpPr>
        <p:spPr>
          <a:xfrm>
            <a:off x="5508720" y="3213000"/>
            <a:ext cx="792000" cy="36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Заголовок 1" descr=""/>
          <p:cNvPicPr/>
          <p:nvPr/>
        </p:nvPicPr>
        <p:blipFill>
          <a:blip r:embed="rId2"/>
          <a:stretch/>
        </p:blipFill>
        <p:spPr>
          <a:xfrm>
            <a:off x="219240" y="0"/>
            <a:ext cx="8924760" cy="116352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468000" y="105264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В треугольнике ABC  АС=ВС=27, AH — высота,                          </a:t>
            </a:r>
            <a:endParaRPr b="0" lang="en-US" sz="2400" spc="-1" strike="noStrike">
              <a:solidFill>
                <a:srgbClr val="775f55"/>
              </a:solidFill>
              <a:latin typeface="Franklin Gothic Book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Найдите BH.</a:t>
            </a:r>
            <a:endParaRPr b="0" lang="en-US" sz="2400" spc="-1" strike="noStrike">
              <a:solidFill>
                <a:srgbClr val="775f55"/>
              </a:solidFill>
              <a:latin typeface="Franklin Gothic Book"/>
            </a:endParaRPr>
          </a:p>
        </p:txBody>
      </p:sp>
      <p:pic>
        <p:nvPicPr>
          <p:cNvPr id="453" name="Picture 2" descr="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0" y="0"/>
            <a:ext cx="395280" cy="6892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54" name="Object 2"/>
              <p:cNvSpPr txBox="1"/>
              <p:nvPr/>
            </p:nvSpPr>
            <p:spPr>
              <a:xfrm>
                <a:off x="6659640" y="907920"/>
                <a:ext cx="16603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BA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5" name="Равнобедренный треугольник 7"/>
          <p:cNvSpPr/>
          <p:nvPr/>
        </p:nvSpPr>
        <p:spPr>
          <a:xfrm>
            <a:off x="539640" y="2276640"/>
            <a:ext cx="1656000" cy="22320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13"/>
          <p:cNvSpPr/>
          <p:nvPr/>
        </p:nvSpPr>
        <p:spPr>
          <a:xfrm>
            <a:off x="426240" y="4437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Franklin Gothic Book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14"/>
          <p:cNvSpPr/>
          <p:nvPr/>
        </p:nvSpPr>
        <p:spPr>
          <a:xfrm>
            <a:off x="2016720" y="44370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Franklin Gothic Boo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15"/>
          <p:cNvSpPr/>
          <p:nvPr/>
        </p:nvSpPr>
        <p:spPr>
          <a:xfrm>
            <a:off x="1221480" y="19875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Franklin Gothic Boo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16"/>
          <p:cNvSpPr/>
          <p:nvPr/>
        </p:nvSpPr>
        <p:spPr>
          <a:xfrm>
            <a:off x="1977480" y="357192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Franklin Gothic Book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4"/>
          <p:cNvSpPr/>
          <p:nvPr/>
        </p:nvSpPr>
        <p:spPr>
          <a:xfrm>
            <a:off x="1220040" y="4508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Franklin Gothic Book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Object 3"/>
              <p:cNvSpPr txBox="1"/>
              <p:nvPr/>
            </p:nvSpPr>
            <p:spPr>
              <a:xfrm>
                <a:off x="3614760" y="2230560"/>
                <a:ext cx="36147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BA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AB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(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ВАС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АВС 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5"/>
              <p:cNvSpPr txBox="1"/>
              <p:nvPr/>
            </p:nvSpPr>
            <p:spPr>
              <a:xfrm>
                <a:off x="3995640" y="2852640"/>
                <a:ext cx="208620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BA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ABC;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3" name="Прямоугольник 15"/>
          <p:cNvSpPr/>
          <p:nvPr/>
        </p:nvSpPr>
        <p:spPr>
          <a:xfrm>
            <a:off x="2286000" y="296712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16"/>
          <p:cNvSpPr/>
          <p:nvPr/>
        </p:nvSpPr>
        <p:spPr>
          <a:xfrm>
            <a:off x="1116000" y="593424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Управляющая кнопка: далее 17">
            <a:hlinkClick r:id="" action="ppaction://hlinkshowjump?jump=nextslide"/>
          </p:cNvPr>
          <p:cNvSpPr/>
          <p:nvPr/>
        </p:nvSpPr>
        <p:spPr>
          <a:xfrm>
            <a:off x="8604360" y="6597720"/>
            <a:ext cx="539640" cy="260280"/>
          </a:xfrm>
          <a:custGeom>
            <a:avLst/>
            <a:gdLst>
              <a:gd name="textAreaLeft" fmla="*/ 16560 w 539640"/>
              <a:gd name="textAreaRight" fmla="*/ 523080 w 5396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44751" h="21600">
                <a:moveTo>
                  <a:pt x="0" y="0"/>
                </a:moveTo>
                <a:lnTo>
                  <a:pt x="44751" y="0"/>
                </a:lnTo>
                <a:lnTo>
                  <a:pt x="44751" y="21600"/>
                </a:lnTo>
                <a:lnTo>
                  <a:pt x="0" y="21600"/>
                </a:lnTo>
                <a:close/>
              </a:path>
              <a:path fill="lightenLess" w="44751" h="21600">
                <a:moveTo>
                  <a:pt x="0" y="0"/>
                </a:moveTo>
                <a:lnTo>
                  <a:pt x="44751" y="0"/>
                </a:lnTo>
                <a:lnTo>
                  <a:pt x="43351" y="1400"/>
                </a:lnTo>
                <a:lnTo>
                  <a:pt x="1400" y="1400"/>
                </a:lnTo>
                <a:close/>
              </a:path>
              <a:path fill="darken" w="44751" h="21600">
                <a:moveTo>
                  <a:pt x="44751" y="0"/>
                </a:moveTo>
                <a:lnTo>
                  <a:pt x="44751" y="21600"/>
                </a:lnTo>
                <a:lnTo>
                  <a:pt x="43351" y="20200"/>
                </a:lnTo>
                <a:lnTo>
                  <a:pt x="43351" y="1400"/>
                </a:lnTo>
                <a:close/>
              </a:path>
              <a:path fill="darkenLess" w="44751" h="21600">
                <a:moveTo>
                  <a:pt x="447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351" y="20200"/>
                </a:lnTo>
                <a:close/>
              </a:path>
              <a:path fill="lighten" w="447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751" h="21600">
                <a:moveTo>
                  <a:pt x="15369" y="3794"/>
                </a:moveTo>
                <a:lnTo>
                  <a:pt x="29382" y="10800"/>
                </a:lnTo>
                <a:lnTo>
                  <a:pt x="15369" y="17806"/>
                </a:lnTo>
                <a:close/>
              </a:path>
            </a:pathLst>
          </a:cu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Управляющая кнопка: домой 18">
            <a:hlinkClick r:id="rId4" action="ppaction://hlinksldjump"/>
          </p:cNvPr>
          <p:cNvSpPr/>
          <p:nvPr/>
        </p:nvSpPr>
        <p:spPr>
          <a:xfrm>
            <a:off x="7740720" y="6524640"/>
            <a:ext cx="503280" cy="333360"/>
          </a:xfrm>
          <a:custGeom>
            <a:avLst/>
            <a:gdLst>
              <a:gd name="textAreaLeft" fmla="*/ 21600 w 503280"/>
              <a:gd name="textAreaRight" fmla="*/ 481680 w 503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2598" h="21600">
                <a:moveTo>
                  <a:pt x="0" y="0"/>
                </a:moveTo>
                <a:lnTo>
                  <a:pt x="32598" y="0"/>
                </a:lnTo>
                <a:lnTo>
                  <a:pt x="32598" y="21600"/>
                </a:lnTo>
                <a:lnTo>
                  <a:pt x="0" y="21600"/>
                </a:lnTo>
                <a:close/>
              </a:path>
              <a:path fill="lightenLess" w="32598" h="21600">
                <a:moveTo>
                  <a:pt x="0" y="0"/>
                </a:moveTo>
                <a:lnTo>
                  <a:pt x="32598" y="0"/>
                </a:lnTo>
                <a:lnTo>
                  <a:pt x="31198" y="1400"/>
                </a:lnTo>
                <a:lnTo>
                  <a:pt x="1400" y="1400"/>
                </a:lnTo>
                <a:close/>
              </a:path>
              <a:path fill="darken" w="32598" h="21600">
                <a:moveTo>
                  <a:pt x="32598" y="0"/>
                </a:moveTo>
                <a:lnTo>
                  <a:pt x="32598" y="21600"/>
                </a:lnTo>
                <a:lnTo>
                  <a:pt x="31198" y="20200"/>
                </a:lnTo>
                <a:lnTo>
                  <a:pt x="31198" y="1400"/>
                </a:lnTo>
                <a:close/>
              </a:path>
              <a:path fill="darkenLess" w="32598" h="21600">
                <a:moveTo>
                  <a:pt x="325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8" y="20200"/>
                </a:lnTo>
                <a:close/>
              </a:path>
              <a:path fill="lighten" w="325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8" h="21600">
                <a:moveTo>
                  <a:pt x="16299" y="3837"/>
                </a:moveTo>
                <a:lnTo>
                  <a:pt x="18875" y="6448"/>
                </a:lnTo>
                <a:lnTo>
                  <a:pt x="18875" y="4707"/>
                </a:lnTo>
                <a:lnTo>
                  <a:pt x="20651" y="4707"/>
                </a:lnTo>
                <a:lnTo>
                  <a:pt x="20651" y="8224"/>
                </a:lnTo>
                <a:lnTo>
                  <a:pt x="23262" y="10800"/>
                </a:lnTo>
                <a:lnTo>
                  <a:pt x="21608" y="10800"/>
                </a:lnTo>
                <a:lnTo>
                  <a:pt x="21608" y="17989"/>
                </a:lnTo>
                <a:lnTo>
                  <a:pt x="10990" y="17989"/>
                </a:lnTo>
                <a:lnTo>
                  <a:pt x="10990" y="10800"/>
                </a:lnTo>
                <a:lnTo>
                  <a:pt x="9336" y="10800"/>
                </a:lnTo>
                <a:close/>
              </a:path>
              <a:path fill="darkenLess" w="32598" h="21600">
                <a:moveTo>
                  <a:pt x="18875" y="6448"/>
                </a:moveTo>
                <a:lnTo>
                  <a:pt x="18875" y="4707"/>
                </a:lnTo>
                <a:lnTo>
                  <a:pt x="20651" y="4707"/>
                </a:lnTo>
                <a:lnTo>
                  <a:pt x="20651" y="8224"/>
                </a:lnTo>
                <a:close/>
              </a:path>
              <a:path fill="darkenLess" w="32598" h="21600">
                <a:moveTo>
                  <a:pt x="15376" y="14299"/>
                </a:moveTo>
                <a:lnTo>
                  <a:pt x="17222" y="14299"/>
                </a:lnTo>
                <a:lnTo>
                  <a:pt x="17222" y="17989"/>
                </a:lnTo>
                <a:lnTo>
                  <a:pt x="21608" y="17989"/>
                </a:lnTo>
                <a:lnTo>
                  <a:pt x="21608" y="10800"/>
                </a:lnTo>
                <a:lnTo>
                  <a:pt x="10990" y="10800"/>
                </a:lnTo>
                <a:lnTo>
                  <a:pt x="10990" y="17989"/>
                </a:lnTo>
                <a:lnTo>
                  <a:pt x="15376" y="17989"/>
                </a:lnTo>
                <a:close/>
              </a:path>
            </a:pathLst>
          </a:cu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оугольник 19"/>
          <p:cNvSpPr/>
          <p:nvPr/>
        </p:nvSpPr>
        <p:spPr>
          <a:xfrm>
            <a:off x="4112280" y="177336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 способ реш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20"/>
          <p:cNvSpPr/>
          <p:nvPr/>
        </p:nvSpPr>
        <p:spPr>
          <a:xfrm>
            <a:off x="1776960" y="328464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21"/>
          <p:cNvSpPr/>
          <p:nvPr/>
        </p:nvSpPr>
        <p:spPr>
          <a:xfrm>
            <a:off x="625320" y="328464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Object 19"/>
              <p:cNvSpPr txBox="1"/>
              <p:nvPr/>
            </p:nvSpPr>
            <p:spPr>
              <a:xfrm>
                <a:off x="3705120" y="4869000"/>
                <a:ext cx="4110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Δ АВН:cos АВС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ВН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ВН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ВН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20"/>
              <p:cNvSpPr txBox="1"/>
              <p:nvPr/>
            </p:nvSpPr>
            <p:spPr>
              <a:xfrm>
                <a:off x="3276720" y="2997360"/>
                <a:ext cx="51591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osABC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2" name="Прямая соединительная линия 13"/>
          <p:cNvSpPr/>
          <p:nvPr/>
        </p:nvSpPr>
        <p:spPr>
          <a:xfrm flipH="1">
            <a:off x="1366560" y="2357280"/>
            <a:ext cx="14040" cy="2151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Прямоугольный треугольник 25"/>
          <p:cNvSpPr/>
          <p:nvPr/>
        </p:nvSpPr>
        <p:spPr>
          <a:xfrm>
            <a:off x="1403280" y="2276640"/>
            <a:ext cx="792360" cy="2232000"/>
          </a:xfrm>
          <a:prstGeom prst="rtTriangle">
            <a:avLst/>
          </a:pr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Прямая соединительная линия 8"/>
          <p:cNvSpPr/>
          <p:nvPr/>
        </p:nvSpPr>
        <p:spPr>
          <a:xfrm flipV="1">
            <a:off x="611280" y="3932280"/>
            <a:ext cx="1368360" cy="50472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Object 4"/>
              <p:cNvSpPr txBox="1"/>
              <p:nvPr/>
            </p:nvSpPr>
            <p:spPr>
              <a:xfrm>
                <a:off x="3051000" y="3957480"/>
                <a:ext cx="5446800" cy="101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Δ ВСР:cos АВС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РВ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СВ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РВ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РВ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6" name="Левая фигурная скобка 28"/>
          <p:cNvSpPr/>
          <p:nvPr/>
        </p:nvSpPr>
        <p:spPr>
          <a:xfrm rot="16200000">
            <a:off x="1258920" y="4076280"/>
            <a:ext cx="289080" cy="1584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7200 h 1584360"/>
              <a:gd name="textAreaBottom" fmla="*/ 157716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4"/>
                  <a:pt x="10800" y="328"/>
                </a:cubicBezTo>
                <a:lnTo>
                  <a:pt x="10800" y="10261"/>
                </a:lnTo>
                <a:cubicBezTo>
                  <a:pt x="10800" y="10425"/>
                  <a:pt x="5400" y="10589"/>
                  <a:pt x="0" y="10589"/>
                </a:cubicBezTo>
                <a:cubicBezTo>
                  <a:pt x="5400" y="10589"/>
                  <a:pt x="10800" y="10753"/>
                  <a:pt x="10800" y="10917"/>
                </a:cubicBezTo>
                <a:lnTo>
                  <a:pt x="10800" y="21272"/>
                </a:lnTo>
                <a:cubicBezTo>
                  <a:pt x="10800" y="21436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5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Прямоугольник 29"/>
          <p:cNvSpPr/>
          <p:nvPr/>
        </p:nvSpPr>
        <p:spPr>
          <a:xfrm>
            <a:off x="1113480" y="4941720"/>
            <a:ext cx="543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5ea4"/>
                </a:solidFill>
                <a:latin typeface="Franklin Gothic Book"/>
              </a:rPr>
              <a:t>18√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оугольный треугольник 24"/>
          <p:cNvSpPr/>
          <p:nvPr/>
        </p:nvSpPr>
        <p:spPr>
          <a:xfrm rot="9460200">
            <a:off x="604440" y="4190760"/>
            <a:ext cx="1544760" cy="647640"/>
          </a:xfrm>
          <a:prstGeom prst="rtTriangle">
            <a:avLst/>
          </a:prstGeom>
          <a:solidFill>
            <a:srgbClr val="92d050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Управляющая кнопка: сведения 31">
            <a:hlinkClick r:id="rId5" action="ppaction://hlinksldjump"/>
          </p:cNvPr>
          <p:cNvSpPr/>
          <p:nvPr/>
        </p:nvSpPr>
        <p:spPr>
          <a:xfrm>
            <a:off x="2411280" y="242100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5890" h="21600">
                <a:moveTo>
                  <a:pt x="12945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5890" h="21600">
                <a:moveTo>
                  <a:pt x="10369" y="8224"/>
                </a:moveTo>
                <a:lnTo>
                  <a:pt x="14233" y="8224"/>
                </a:lnTo>
                <a:lnTo>
                  <a:pt x="14233" y="15221"/>
                </a:lnTo>
                <a:lnTo>
                  <a:pt x="15521" y="15221"/>
                </a:lnTo>
                <a:lnTo>
                  <a:pt x="15521" y="16144"/>
                </a:lnTo>
                <a:lnTo>
                  <a:pt x="10369" y="16144"/>
                </a:lnTo>
                <a:lnTo>
                  <a:pt x="10369" y="15221"/>
                </a:lnTo>
                <a:lnTo>
                  <a:pt x="11657" y="15221"/>
                </a:lnTo>
                <a:lnTo>
                  <a:pt x="11657" y="9129"/>
                </a:lnTo>
                <a:lnTo>
                  <a:pt x="10369" y="9129"/>
                </a:lnTo>
                <a:close/>
              </a:path>
            </a:pathLst>
          </a:cu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оугольник 32"/>
          <p:cNvSpPr/>
          <p:nvPr/>
        </p:nvSpPr>
        <p:spPr>
          <a:xfrm>
            <a:off x="7680240" y="558972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Ответ: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оугольник 34"/>
          <p:cNvSpPr/>
          <p:nvPr/>
        </p:nvSpPr>
        <p:spPr>
          <a:xfrm>
            <a:off x="2756160" y="6021360"/>
            <a:ext cx="278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мотри 3 способ реш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Овал 35"/>
          <p:cNvSpPr/>
          <p:nvPr/>
        </p:nvSpPr>
        <p:spPr>
          <a:xfrm>
            <a:off x="4356000" y="2133720"/>
            <a:ext cx="1295640" cy="71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Овал 36"/>
          <p:cNvSpPr/>
          <p:nvPr/>
        </p:nvSpPr>
        <p:spPr>
          <a:xfrm>
            <a:off x="4427640" y="3213000"/>
            <a:ext cx="93492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Овал 37"/>
          <p:cNvSpPr/>
          <p:nvPr/>
        </p:nvSpPr>
        <p:spPr>
          <a:xfrm>
            <a:off x="6875640" y="3068640"/>
            <a:ext cx="36036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Скругленный прямоугольник 38"/>
          <p:cNvSpPr/>
          <p:nvPr/>
        </p:nvSpPr>
        <p:spPr>
          <a:xfrm>
            <a:off x="4284720" y="5013360"/>
            <a:ext cx="792000" cy="288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Скругленный прямоугольник 41"/>
          <p:cNvSpPr/>
          <p:nvPr/>
        </p:nvSpPr>
        <p:spPr>
          <a:xfrm>
            <a:off x="6443640" y="4869000"/>
            <a:ext cx="432000" cy="64764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647640"/>
              <a:gd name="textAreaBottom" fmla="*/ 626760 h 647640"/>
            </a:gdLst>
            <a:ahLst/>
            <a:rect l="textAreaLeft" t="textAreaTop" r="textAreaRight" b="textAreaBottom"/>
            <a:pathLst>
              <a:path w="21600" h="32373">
                <a:moveTo>
                  <a:pt x="3600" y="0"/>
                </a:moveTo>
                <a:arcTo wR="3600" hR="3600" stAng="16200000" swAng="-5400000"/>
                <a:lnTo>
                  <a:pt x="0" y="28773"/>
                </a:lnTo>
                <a:arcTo wR="3600" hR="3600" stAng="10800000" swAng="-5400000"/>
                <a:lnTo>
                  <a:pt x="18000" y="323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Скругленный прямоугольник 42"/>
          <p:cNvSpPr/>
          <p:nvPr/>
        </p:nvSpPr>
        <p:spPr>
          <a:xfrm>
            <a:off x="3708360" y="4076640"/>
            <a:ext cx="865080" cy="358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Скругленный прямоугольник 43"/>
          <p:cNvSpPr/>
          <p:nvPr/>
        </p:nvSpPr>
        <p:spPr>
          <a:xfrm>
            <a:off x="5580000" y="3933720"/>
            <a:ext cx="503280" cy="64764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647640"/>
              <a:gd name="textAreaBottom" fmla="*/ 623160 h 647640"/>
            </a:gdLst>
            <a:ahLst/>
            <a:rect l="textAreaLeft" t="textAreaTop" r="textAreaRight" b="textAreaBottom"/>
            <a:pathLst>
              <a:path w="21600" h="27791">
                <a:moveTo>
                  <a:pt x="3600" y="0"/>
                </a:moveTo>
                <a:arcTo wR="3600" hR="3600" stAng="16200000" swAng="-5400000"/>
                <a:lnTo>
                  <a:pt x="0" y="24191"/>
                </a:lnTo>
                <a:arcTo wR="3600" hR="3600" stAng="10800000" swAng="-5400000"/>
                <a:lnTo>
                  <a:pt x="18000" y="277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рямоугольник 44"/>
          <p:cNvSpPr/>
          <p:nvPr/>
        </p:nvSpPr>
        <p:spPr>
          <a:xfrm>
            <a:off x="780120" y="5589720"/>
            <a:ext cx="325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В˂НВ  ═&gt; ∆АВС - тупоуго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Счетверенная стрелка 45"/>
          <p:cNvSpPr/>
          <p:nvPr/>
        </p:nvSpPr>
        <p:spPr>
          <a:xfrm rot="18520800">
            <a:off x="5456520" y="4131720"/>
            <a:ext cx="330120" cy="393840"/>
          </a:xfrm>
          <a:custGeom>
            <a:avLst/>
            <a:gdLst>
              <a:gd name="textAreaLeft" fmla="*/ 37080 w 330120"/>
              <a:gd name="textAreaRight" fmla="*/ 293040 w 330120"/>
              <a:gd name="textAreaTop" fmla="*/ 190440 h 393840"/>
              <a:gd name="textAreaBottom" fmla="*/ 203400 h 393840"/>
            </a:gdLst>
            <a:ahLst/>
            <a:rect l="textAreaLeft" t="textAreaTop" r="textAreaRight" b="textAreaBottom"/>
            <a:pathLst>
              <a:path w="330200" h="393700">
                <a:moveTo>
                  <a:pt x="0" y="196850"/>
                </a:moveTo>
                <a:lnTo>
                  <a:pt x="74295" y="183655"/>
                </a:lnTo>
                <a:lnTo>
                  <a:pt x="74295" y="190253"/>
                </a:lnTo>
                <a:lnTo>
                  <a:pt x="158503" y="190253"/>
                </a:lnTo>
                <a:lnTo>
                  <a:pt x="158503" y="74295"/>
                </a:lnTo>
                <a:lnTo>
                  <a:pt x="151905" y="74295"/>
                </a:lnTo>
                <a:lnTo>
                  <a:pt x="165100" y="0"/>
                </a:lnTo>
                <a:lnTo>
                  <a:pt x="178295" y="74295"/>
                </a:lnTo>
                <a:lnTo>
                  <a:pt x="171697" y="74295"/>
                </a:lnTo>
                <a:lnTo>
                  <a:pt x="171697" y="190253"/>
                </a:lnTo>
                <a:lnTo>
                  <a:pt x="255905" y="190253"/>
                </a:lnTo>
                <a:lnTo>
                  <a:pt x="255905" y="183655"/>
                </a:lnTo>
                <a:lnTo>
                  <a:pt x="330200" y="196850"/>
                </a:lnTo>
                <a:lnTo>
                  <a:pt x="255905" y="210045"/>
                </a:lnTo>
                <a:lnTo>
                  <a:pt x="255905" y="203447"/>
                </a:lnTo>
                <a:lnTo>
                  <a:pt x="171697" y="203447"/>
                </a:lnTo>
                <a:lnTo>
                  <a:pt x="171697" y="319405"/>
                </a:lnTo>
                <a:lnTo>
                  <a:pt x="178295" y="319405"/>
                </a:lnTo>
                <a:lnTo>
                  <a:pt x="165100" y="393700"/>
                </a:lnTo>
                <a:lnTo>
                  <a:pt x="151905" y="319405"/>
                </a:lnTo>
                <a:lnTo>
                  <a:pt x="158503" y="319405"/>
                </a:lnTo>
                <a:lnTo>
                  <a:pt x="158503" y="203447"/>
                </a:lnTo>
                <a:lnTo>
                  <a:pt x="74295" y="203447"/>
                </a:lnTo>
                <a:lnTo>
                  <a:pt x="74295" y="210045"/>
                </a:lnTo>
                <a:close/>
              </a:path>
            </a:pathLst>
          </a:custGeom>
          <a:solidFill>
            <a:srgbClr val="94b6d2"/>
          </a:solidFill>
          <a:ln w="25560">
            <a:solidFill>
              <a:srgbClr val="2107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Счетверенная стрелка 46"/>
          <p:cNvSpPr/>
          <p:nvPr/>
        </p:nvSpPr>
        <p:spPr>
          <a:xfrm rot="19009800">
            <a:off x="6172200" y="5024160"/>
            <a:ext cx="406440" cy="417600"/>
          </a:xfrm>
          <a:custGeom>
            <a:avLst/>
            <a:gdLst/>
            <a:ahLst/>
            <a:rect l="l" t="t" r="r" b="b"/>
            <a:pathLst>
              <a:path w="406400" h="417512">
                <a:moveTo>
                  <a:pt x="0" y="208756"/>
                </a:moveTo>
                <a:lnTo>
                  <a:pt x="91440" y="201916"/>
                </a:lnTo>
                <a:lnTo>
                  <a:pt x="91440" y="208756"/>
                </a:lnTo>
                <a:lnTo>
                  <a:pt x="203200" y="208756"/>
                </a:lnTo>
                <a:lnTo>
                  <a:pt x="203200" y="91440"/>
                </a:lnTo>
                <a:lnTo>
                  <a:pt x="196360" y="91440"/>
                </a:lnTo>
                <a:lnTo>
                  <a:pt x="203200" y="0"/>
                </a:lnTo>
                <a:lnTo>
                  <a:pt x="210040" y="91440"/>
                </a:lnTo>
                <a:lnTo>
                  <a:pt x="203200" y="91440"/>
                </a:lnTo>
                <a:lnTo>
                  <a:pt x="203200" y="208756"/>
                </a:lnTo>
                <a:lnTo>
                  <a:pt x="314960" y="208756"/>
                </a:lnTo>
                <a:lnTo>
                  <a:pt x="314960" y="201916"/>
                </a:lnTo>
                <a:lnTo>
                  <a:pt x="406400" y="208756"/>
                </a:lnTo>
                <a:lnTo>
                  <a:pt x="314960" y="215596"/>
                </a:lnTo>
                <a:lnTo>
                  <a:pt x="314960" y="208756"/>
                </a:lnTo>
                <a:lnTo>
                  <a:pt x="203200" y="208756"/>
                </a:lnTo>
                <a:lnTo>
                  <a:pt x="203200" y="326072"/>
                </a:lnTo>
                <a:lnTo>
                  <a:pt x="210040" y="326072"/>
                </a:lnTo>
                <a:lnTo>
                  <a:pt x="203200" y="417512"/>
                </a:lnTo>
                <a:lnTo>
                  <a:pt x="196360" y="326072"/>
                </a:lnTo>
                <a:lnTo>
                  <a:pt x="203200" y="326072"/>
                </a:lnTo>
                <a:lnTo>
                  <a:pt x="203200" y="208756"/>
                </a:lnTo>
                <a:lnTo>
                  <a:pt x="91440" y="208756"/>
                </a:lnTo>
                <a:lnTo>
                  <a:pt x="91440" y="215596"/>
                </a:lnTo>
                <a:close/>
              </a:path>
            </a:pathLst>
          </a:custGeom>
          <a:solidFill>
            <a:srgbClr val="94b6d2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" dur="3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9" dur="5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6000"/>
                            </p:stCondLst>
                            <p:childTnLst>
                              <p:par>
                                <p:cTn id="2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90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5" dur="5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4" dur="1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9fefb"/>
                                      </p:to>
                                    </p:animClr>
                                    <p:animClr clrSpc="rgb">
                                      <p:cBhvr>
                                        <p:cTn id="265" dur="1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9fefb"/>
                                      </p:to>
                                    </p:animClr>
                                    <p:set>
                                      <p:cBhvr>
                                        <p:cTn id="266" dur="1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1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9fefb"/>
                                      </p:to>
                                    </p:animClr>
                                    <p:animClr clrSpc="rgb">
                                      <p:cBhvr>
                                        <p:cTn id="274" dur="1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9fefb"/>
                                      </p:to>
                                    </p:animClr>
                                    <p:set>
                                      <p:cBhvr>
                                        <p:cTn id="275" dur="1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7000"/>
                            </p:stCondLst>
                            <p:childTnLst>
                              <p:par>
                                <p:cTn id="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8000"/>
                            </p:stCondLst>
                            <p:childTnLst>
                              <p:par>
                                <p:cTn id="2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8" dur="3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1500"/>
                            </p:stCondLst>
                            <p:childTnLst>
                              <p:par>
                                <p:cTn id="2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7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Заголовок 1" descr=""/>
          <p:cNvPicPr/>
          <p:nvPr/>
        </p:nvPicPr>
        <p:blipFill>
          <a:blip r:embed="rId2"/>
          <a:stretch/>
        </p:blipFill>
        <p:spPr>
          <a:xfrm>
            <a:off x="225360" y="-6480"/>
            <a:ext cx="8925120" cy="116532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 txBox="1"/>
          <p:nvPr/>
        </p:nvSpPr>
        <p:spPr>
          <a:xfrm>
            <a:off x="395280" y="1052640"/>
            <a:ext cx="8748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В треугольнике ABC  АС=ВС=27, AH — высота,                          . </a:t>
            </a:r>
            <a:endParaRPr b="0" lang="en-US" sz="2400" spc="-1" strike="noStrike">
              <a:solidFill>
                <a:srgbClr val="775f55"/>
              </a:solidFill>
              <a:latin typeface="Franklin Gothic Book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Найдите BH.</a:t>
            </a:r>
            <a:endParaRPr b="0" lang="en-US" sz="2400" spc="-1" strike="noStrike">
              <a:solidFill>
                <a:srgbClr val="775f55"/>
              </a:solidFill>
              <a:latin typeface="Franklin Gothic Book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5f55"/>
              </a:solidFill>
              <a:latin typeface="Franklin Gothic Book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0" y="0"/>
            <a:ext cx="395280" cy="6892920"/>
          </a:xfrm>
          <a:prstGeom prst="rect">
            <a:avLst/>
          </a:prstGeom>
          <a:ln w="0">
            <a:noFill/>
          </a:ln>
        </p:spPr>
      </p:pic>
      <p:sp>
        <p:nvSpPr>
          <p:cNvPr id="495" name="Управляющая кнопка: домой 4">
            <a:hlinkClick r:id="rId4" action="ppaction://hlinksldjump"/>
          </p:cNvPr>
          <p:cNvSpPr/>
          <p:nvPr/>
        </p:nvSpPr>
        <p:spPr>
          <a:xfrm>
            <a:off x="7740720" y="6524640"/>
            <a:ext cx="503280" cy="333360"/>
          </a:xfrm>
          <a:custGeom>
            <a:avLst/>
            <a:gdLst>
              <a:gd name="textAreaLeft" fmla="*/ 21600 w 503280"/>
              <a:gd name="textAreaRight" fmla="*/ 481680 w 503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2598" h="21600">
                <a:moveTo>
                  <a:pt x="0" y="0"/>
                </a:moveTo>
                <a:lnTo>
                  <a:pt x="32598" y="0"/>
                </a:lnTo>
                <a:lnTo>
                  <a:pt x="32598" y="21600"/>
                </a:lnTo>
                <a:lnTo>
                  <a:pt x="0" y="21600"/>
                </a:lnTo>
                <a:close/>
              </a:path>
              <a:path fill="lightenLess" w="32598" h="21600">
                <a:moveTo>
                  <a:pt x="0" y="0"/>
                </a:moveTo>
                <a:lnTo>
                  <a:pt x="32598" y="0"/>
                </a:lnTo>
                <a:lnTo>
                  <a:pt x="31198" y="1400"/>
                </a:lnTo>
                <a:lnTo>
                  <a:pt x="1400" y="1400"/>
                </a:lnTo>
                <a:close/>
              </a:path>
              <a:path fill="darken" w="32598" h="21600">
                <a:moveTo>
                  <a:pt x="32598" y="0"/>
                </a:moveTo>
                <a:lnTo>
                  <a:pt x="32598" y="21600"/>
                </a:lnTo>
                <a:lnTo>
                  <a:pt x="31198" y="20200"/>
                </a:lnTo>
                <a:lnTo>
                  <a:pt x="31198" y="1400"/>
                </a:lnTo>
                <a:close/>
              </a:path>
              <a:path fill="darkenLess" w="32598" h="21600">
                <a:moveTo>
                  <a:pt x="325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8" y="20200"/>
                </a:lnTo>
                <a:close/>
              </a:path>
              <a:path fill="lighten" w="325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8" h="21600">
                <a:moveTo>
                  <a:pt x="16299" y="3837"/>
                </a:moveTo>
                <a:lnTo>
                  <a:pt x="18875" y="6448"/>
                </a:lnTo>
                <a:lnTo>
                  <a:pt x="18875" y="4707"/>
                </a:lnTo>
                <a:lnTo>
                  <a:pt x="20651" y="4707"/>
                </a:lnTo>
                <a:lnTo>
                  <a:pt x="20651" y="8224"/>
                </a:lnTo>
                <a:lnTo>
                  <a:pt x="23262" y="10800"/>
                </a:lnTo>
                <a:lnTo>
                  <a:pt x="21608" y="10800"/>
                </a:lnTo>
                <a:lnTo>
                  <a:pt x="21608" y="17989"/>
                </a:lnTo>
                <a:lnTo>
                  <a:pt x="10990" y="17989"/>
                </a:lnTo>
                <a:lnTo>
                  <a:pt x="10990" y="10800"/>
                </a:lnTo>
                <a:lnTo>
                  <a:pt x="9336" y="10800"/>
                </a:lnTo>
                <a:close/>
              </a:path>
              <a:path fill="darkenLess" w="32598" h="21600">
                <a:moveTo>
                  <a:pt x="18875" y="6448"/>
                </a:moveTo>
                <a:lnTo>
                  <a:pt x="18875" y="4707"/>
                </a:lnTo>
                <a:lnTo>
                  <a:pt x="20651" y="4707"/>
                </a:lnTo>
                <a:lnTo>
                  <a:pt x="20651" y="8224"/>
                </a:lnTo>
                <a:close/>
              </a:path>
              <a:path fill="darkenLess" w="32598" h="21600">
                <a:moveTo>
                  <a:pt x="15376" y="14299"/>
                </a:moveTo>
                <a:lnTo>
                  <a:pt x="17222" y="14299"/>
                </a:lnTo>
                <a:lnTo>
                  <a:pt x="17222" y="17989"/>
                </a:lnTo>
                <a:lnTo>
                  <a:pt x="21608" y="17989"/>
                </a:lnTo>
                <a:lnTo>
                  <a:pt x="21608" y="10800"/>
                </a:lnTo>
                <a:lnTo>
                  <a:pt x="10990" y="10800"/>
                </a:lnTo>
                <a:lnTo>
                  <a:pt x="10990" y="17989"/>
                </a:lnTo>
                <a:lnTo>
                  <a:pt x="15376" y="17989"/>
                </a:lnTo>
                <a:close/>
              </a:path>
            </a:pathLst>
          </a:cu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604360" y="6597720"/>
            <a:ext cx="539640" cy="260280"/>
          </a:xfrm>
          <a:custGeom>
            <a:avLst/>
            <a:gdLst>
              <a:gd name="textAreaLeft" fmla="*/ 16560 w 539640"/>
              <a:gd name="textAreaRight" fmla="*/ 523080 w 5396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44751" h="21600">
                <a:moveTo>
                  <a:pt x="0" y="0"/>
                </a:moveTo>
                <a:lnTo>
                  <a:pt x="44751" y="0"/>
                </a:lnTo>
                <a:lnTo>
                  <a:pt x="44751" y="21600"/>
                </a:lnTo>
                <a:lnTo>
                  <a:pt x="0" y="21600"/>
                </a:lnTo>
                <a:close/>
              </a:path>
              <a:path fill="lightenLess" w="44751" h="21600">
                <a:moveTo>
                  <a:pt x="0" y="0"/>
                </a:moveTo>
                <a:lnTo>
                  <a:pt x="44751" y="0"/>
                </a:lnTo>
                <a:lnTo>
                  <a:pt x="43351" y="1400"/>
                </a:lnTo>
                <a:lnTo>
                  <a:pt x="1400" y="1400"/>
                </a:lnTo>
                <a:close/>
              </a:path>
              <a:path fill="darken" w="44751" h="21600">
                <a:moveTo>
                  <a:pt x="44751" y="0"/>
                </a:moveTo>
                <a:lnTo>
                  <a:pt x="44751" y="21600"/>
                </a:lnTo>
                <a:lnTo>
                  <a:pt x="43351" y="20200"/>
                </a:lnTo>
                <a:lnTo>
                  <a:pt x="43351" y="1400"/>
                </a:lnTo>
                <a:close/>
              </a:path>
              <a:path fill="darkenLess" w="44751" h="21600">
                <a:moveTo>
                  <a:pt x="447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351" y="20200"/>
                </a:lnTo>
                <a:close/>
              </a:path>
              <a:path fill="lighten" w="447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751" h="21600">
                <a:moveTo>
                  <a:pt x="15369" y="3794"/>
                </a:moveTo>
                <a:lnTo>
                  <a:pt x="29382" y="10800"/>
                </a:lnTo>
                <a:lnTo>
                  <a:pt x="15369" y="17806"/>
                </a:lnTo>
                <a:close/>
              </a:path>
            </a:pathLst>
          </a:cu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Object 2"/>
              <p:cNvSpPr txBox="1"/>
              <p:nvPr/>
            </p:nvSpPr>
            <p:spPr>
              <a:xfrm>
                <a:off x="6875640" y="907920"/>
                <a:ext cx="16603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BA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Object 3"/>
              <p:cNvSpPr txBox="1"/>
              <p:nvPr/>
            </p:nvSpPr>
            <p:spPr>
              <a:xfrm>
                <a:off x="2457360" y="1916280"/>
                <a:ext cx="434808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BA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ВАС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АВС</m:t>
                        </m:r>
                        <m:r>
                          <m:t xml:space="preserve">;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9" name="Прямоугольник 15"/>
          <p:cNvSpPr/>
          <p:nvPr/>
        </p:nvSpPr>
        <p:spPr>
          <a:xfrm>
            <a:off x="4112280" y="1628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 способ реш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Object 6"/>
              <p:cNvSpPr txBox="1"/>
              <p:nvPr/>
            </p:nvSpPr>
            <p:spPr>
              <a:xfrm>
                <a:off x="6084720" y="5033880"/>
                <a:ext cx="30592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АВН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ctgАВС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ВН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АH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х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х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Object 7"/>
              <p:cNvSpPr txBox="1"/>
              <p:nvPr/>
            </p:nvSpPr>
            <p:spPr>
              <a:xfrm>
                <a:off x="5664240" y="3209760"/>
                <a:ext cx="16020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Object 4"/>
              <p:cNvSpPr txBox="1"/>
              <p:nvPr/>
            </p:nvSpPr>
            <p:spPr>
              <a:xfrm>
                <a:off x="2843280" y="4005360"/>
                <a:ext cx="3932280" cy="23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t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АВС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t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t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tgABC</m:t>
                        </m:r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503" name="Прямоугольник 15"/>
          <p:cNvSpPr/>
          <p:nvPr/>
        </p:nvSpPr>
        <p:spPr>
          <a:xfrm>
            <a:off x="9114840" y="35798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Franklin Gothic Boo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Равнобедренный треугольник 39"/>
          <p:cNvSpPr/>
          <p:nvPr/>
        </p:nvSpPr>
        <p:spPr>
          <a:xfrm>
            <a:off x="539640" y="2276640"/>
            <a:ext cx="1656000" cy="22320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оугольник 13"/>
          <p:cNvSpPr/>
          <p:nvPr/>
        </p:nvSpPr>
        <p:spPr>
          <a:xfrm>
            <a:off x="426240" y="4437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Franklin Gothic Book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оугольник 14"/>
          <p:cNvSpPr/>
          <p:nvPr/>
        </p:nvSpPr>
        <p:spPr>
          <a:xfrm>
            <a:off x="2016720" y="44370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Franklin Gothic Boo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6"/>
          <p:cNvSpPr/>
          <p:nvPr/>
        </p:nvSpPr>
        <p:spPr>
          <a:xfrm>
            <a:off x="1977480" y="357192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Franklin Gothic Book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24"/>
          <p:cNvSpPr/>
          <p:nvPr/>
        </p:nvSpPr>
        <p:spPr>
          <a:xfrm>
            <a:off x="1220040" y="4508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Franklin Gothic Book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44"/>
          <p:cNvSpPr/>
          <p:nvPr/>
        </p:nvSpPr>
        <p:spPr>
          <a:xfrm>
            <a:off x="1776960" y="328464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45"/>
          <p:cNvSpPr/>
          <p:nvPr/>
        </p:nvSpPr>
        <p:spPr>
          <a:xfrm>
            <a:off x="625320" y="328464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ая соединительная линия 48"/>
          <p:cNvSpPr/>
          <p:nvPr/>
        </p:nvSpPr>
        <p:spPr>
          <a:xfrm flipV="1">
            <a:off x="611280" y="3932280"/>
            <a:ext cx="1368360" cy="50472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Левая фигурная скобка 49"/>
          <p:cNvSpPr/>
          <p:nvPr/>
        </p:nvSpPr>
        <p:spPr>
          <a:xfrm rot="3955200">
            <a:off x="1074960" y="3245400"/>
            <a:ext cx="257040" cy="1500120"/>
          </a:xfrm>
          <a:custGeom>
            <a:avLst/>
            <a:gdLst>
              <a:gd name="textAreaLeft" fmla="*/ 164160 w 257040"/>
              <a:gd name="textAreaRight" fmla="*/ 257400 w 257040"/>
              <a:gd name="textAreaTop" fmla="*/ 6480 h 1500120"/>
              <a:gd name="textAreaBottom" fmla="*/ 1493640 h 150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5"/>
                  <a:pt x="10800" y="309"/>
                </a:cubicBezTo>
                <a:lnTo>
                  <a:pt x="10800" y="10280"/>
                </a:lnTo>
                <a:cubicBezTo>
                  <a:pt x="10800" y="10435"/>
                  <a:pt x="5400" y="10589"/>
                  <a:pt x="0" y="10589"/>
                </a:cubicBezTo>
                <a:cubicBezTo>
                  <a:pt x="5400" y="10589"/>
                  <a:pt x="10800" y="10744"/>
                  <a:pt x="10800" y="10898"/>
                </a:cubicBezTo>
                <a:lnTo>
                  <a:pt x="10800" y="21291"/>
                </a:lnTo>
                <a:cubicBezTo>
                  <a:pt x="10800" y="21446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5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оугольник 50"/>
          <p:cNvSpPr/>
          <p:nvPr/>
        </p:nvSpPr>
        <p:spPr>
          <a:xfrm rot="20545800">
            <a:off x="859320" y="3575160"/>
            <a:ext cx="543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5ea4"/>
                </a:solidFill>
                <a:latin typeface="Franklin Gothic Book"/>
              </a:rPr>
              <a:t>12√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Управляющая кнопка: сведения 64">
            <a:hlinkClick r:id="rId5" action="ppaction://hlinksldjump"/>
          </p:cNvPr>
          <p:cNvSpPr/>
          <p:nvPr/>
        </p:nvSpPr>
        <p:spPr>
          <a:xfrm>
            <a:off x="5796000" y="335772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1293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5868" h="21600">
                <a:moveTo>
                  <a:pt x="1293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5868" h="21600">
                <a:moveTo>
                  <a:pt x="10358" y="8224"/>
                </a:moveTo>
                <a:lnTo>
                  <a:pt x="14222" y="8224"/>
                </a:lnTo>
                <a:lnTo>
                  <a:pt x="14222" y="15221"/>
                </a:lnTo>
                <a:lnTo>
                  <a:pt x="15510" y="15221"/>
                </a:lnTo>
                <a:lnTo>
                  <a:pt x="15510" y="16144"/>
                </a:lnTo>
                <a:lnTo>
                  <a:pt x="10358" y="16144"/>
                </a:lnTo>
                <a:lnTo>
                  <a:pt x="10358" y="15221"/>
                </a:lnTo>
                <a:lnTo>
                  <a:pt x="11646" y="15221"/>
                </a:lnTo>
                <a:lnTo>
                  <a:pt x="11646" y="9129"/>
                </a:lnTo>
                <a:lnTo>
                  <a:pt x="10358" y="9129"/>
                </a:lnTo>
                <a:close/>
              </a:path>
            </a:pathLst>
          </a:cu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Object 30"/>
              <p:cNvSpPr txBox="1"/>
              <p:nvPr/>
            </p:nvSpPr>
            <p:spPr>
              <a:xfrm>
                <a:off x="2916360" y="3284640"/>
                <a:ext cx="26524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6" name="Прямоугольный треугольник 30"/>
          <p:cNvSpPr/>
          <p:nvPr/>
        </p:nvSpPr>
        <p:spPr>
          <a:xfrm rot="9385200">
            <a:off x="582480" y="4165560"/>
            <a:ext cx="1541520" cy="681120"/>
          </a:xfrm>
          <a:prstGeom prst="rtTriangle">
            <a:avLst/>
          </a:pr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Прямая соединительная линия 46"/>
          <p:cNvSpPr/>
          <p:nvPr/>
        </p:nvSpPr>
        <p:spPr>
          <a:xfrm flipH="1">
            <a:off x="1366560" y="2357280"/>
            <a:ext cx="14040" cy="2151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Object 18"/>
              <p:cNvSpPr txBox="1"/>
              <p:nvPr/>
            </p:nvSpPr>
            <p:spPr>
              <a:xfrm>
                <a:off x="2556000" y="2565360"/>
                <a:ext cx="61023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АВН</m:t>
                        </m:r>
                        <m:r>
                          <m:rPr>
                            <m:lit/>
                            <m:nor/>
                          </m:rPr>
                          <m:t xml:space="preserve">:sin</m:t>
                        </m:r>
                        <m:r>
                          <m:rPr>
                            <m:lit/>
                            <m:nor/>
                          </m:rPr>
                          <m:t xml:space="preserve">АВС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АН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х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АН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den>
                        </m:f>
                        <m:r>
                          <m:t xml:space="preserve">⇒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АН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9" name="Прямоугольник 32"/>
          <p:cNvSpPr/>
          <p:nvPr/>
        </p:nvSpPr>
        <p:spPr>
          <a:xfrm>
            <a:off x="1217880" y="1989000"/>
            <a:ext cx="3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0" name="Object 33"/>
              <p:cNvSpPr txBox="1"/>
              <p:nvPr/>
            </p:nvSpPr>
            <p:spPr>
              <a:xfrm>
                <a:off x="1042920" y="5680080"/>
                <a:ext cx="43927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B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H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B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ad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Object 34"/>
              <p:cNvSpPr txBox="1"/>
              <p:nvPr/>
            </p:nvSpPr>
            <p:spPr>
              <a:xfrm>
                <a:off x="3132000" y="6308640"/>
                <a:ext cx="21114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H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⋅</m:t>
                    </m:r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2" name="Прямоугольник 36"/>
          <p:cNvSpPr/>
          <p:nvPr/>
        </p:nvSpPr>
        <p:spPr>
          <a:xfrm>
            <a:off x="7680240" y="587700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Ответ: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Овал 40"/>
          <p:cNvSpPr/>
          <p:nvPr/>
        </p:nvSpPr>
        <p:spPr>
          <a:xfrm>
            <a:off x="5003640" y="2852640"/>
            <a:ext cx="115272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ямая соединительная линия 42"/>
          <p:cNvSpPr/>
          <p:nvPr/>
        </p:nvSpPr>
        <p:spPr>
          <a:xfrm>
            <a:off x="6372360" y="3068640"/>
            <a:ext cx="100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Овал 43"/>
          <p:cNvSpPr/>
          <p:nvPr/>
        </p:nvSpPr>
        <p:spPr>
          <a:xfrm>
            <a:off x="4859280" y="2565360"/>
            <a:ext cx="1368360" cy="287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6" name="Соединительная линия уступом 51"/>
          <p:cNvCxnSpPr/>
          <p:nvPr/>
        </p:nvCxnSpPr>
        <p:spPr>
          <a:xfrm flipH="1" flipV="1" rot="5400000">
            <a:off x="3420000" y="3356280"/>
            <a:ext cx="2017080" cy="288000"/>
          </a:xfrm>
          <a:prstGeom prst="bentConnector3">
            <a:avLst>
              <a:gd name="adj1" fmla="val 50000"/>
            </a:avLst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27" name="Соединительная линия уступом 53"/>
          <p:cNvCxnSpPr/>
          <p:nvPr/>
        </p:nvCxnSpPr>
        <p:spPr>
          <a:xfrm flipV="1" rot="10800000">
            <a:off x="5866560" y="4940640"/>
            <a:ext cx="2882160" cy="288360"/>
          </a:xfrm>
          <a:prstGeom prst="bentConnector3">
            <a:avLst>
              <a:gd name="adj1" fmla="val 49993"/>
            </a:avLst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28" name="Овал 54"/>
          <p:cNvSpPr/>
          <p:nvPr/>
        </p:nvSpPr>
        <p:spPr>
          <a:xfrm>
            <a:off x="1692360" y="6021360"/>
            <a:ext cx="122400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9" name="Прямая со стрелкой 56"/>
          <p:cNvCxnSpPr>
            <a:endCxn id="513" idx="2"/>
          </p:cNvCxnSpPr>
          <p:nvPr/>
        </p:nvCxnSpPr>
        <p:spPr>
          <a:xfrm flipH="1" flipV="1">
            <a:off x="1178640" y="3880800"/>
            <a:ext cx="80280" cy="221220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arrow" w="med"/>
          </a:ln>
        </p:spPr>
      </p:cxnSp>
      <p:sp>
        <p:nvSpPr>
          <p:cNvPr id="530" name="Прямая соединительная линия 59"/>
          <p:cNvSpPr/>
          <p:nvPr/>
        </p:nvSpPr>
        <p:spPr>
          <a:xfrm>
            <a:off x="7596360" y="2997360"/>
            <a:ext cx="100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Овал 60"/>
          <p:cNvSpPr/>
          <p:nvPr/>
        </p:nvSpPr>
        <p:spPr>
          <a:xfrm>
            <a:off x="3276720" y="5805360"/>
            <a:ext cx="107928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2" name="Прямая со стрелкой 62"/>
          <p:cNvCxnSpPr/>
          <p:nvPr/>
        </p:nvCxnSpPr>
        <p:spPr>
          <a:xfrm flipV="1">
            <a:off x="4572000" y="6165360"/>
            <a:ext cx="505440" cy="2167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3" name="Овал 63"/>
          <p:cNvSpPr/>
          <p:nvPr/>
        </p:nvSpPr>
        <p:spPr>
          <a:xfrm>
            <a:off x="1763640" y="5661000"/>
            <a:ext cx="122400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" dur="5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7000"/>
                            </p:stCondLst>
                            <p:childTnLst>
                              <p:par>
                                <p:cTn id="3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7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2" dur="5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7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2" dur="5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0"/>
                            </p:stCondLst>
                            <p:childTnLst>
                              <p:par>
                                <p:cTn id="3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4" dur="5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0"/>
                            </p:stCondLst>
                            <p:childTnLst>
                              <p:par>
                                <p:cTn id="37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8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6000"/>
                            </p:stCondLst>
                            <p:childTnLst>
                              <p:par>
                                <p:cTn id="3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1" dur="5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8000"/>
                            </p:stCondLst>
                            <p:childTnLst>
                              <p:par>
                                <p:cTn id="40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5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9000"/>
                            </p:stCondLst>
                            <p:childTnLst>
                              <p:par>
                                <p:cTn id="4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Прямоугольный треугольник 24"/>
          <p:cNvSpPr/>
          <p:nvPr/>
        </p:nvSpPr>
        <p:spPr>
          <a:xfrm rot="9517200">
            <a:off x="624960" y="3970080"/>
            <a:ext cx="1509840" cy="619200"/>
          </a:xfrm>
          <a:prstGeom prst="rtTriangle">
            <a:avLst/>
          </a:prstGeom>
          <a:solidFill>
            <a:srgbClr val="92d050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Прямоугольный треугольник 74"/>
          <p:cNvSpPr/>
          <p:nvPr/>
        </p:nvSpPr>
        <p:spPr>
          <a:xfrm rot="14963400">
            <a:off x="46800" y="2413080"/>
            <a:ext cx="1795320" cy="1501920"/>
          </a:xfrm>
          <a:prstGeom prst="rtTriangle">
            <a:avLst/>
          </a:prstGeom>
          <a:solidFill>
            <a:srgbClr val="94b6d2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Скругленный прямоугольник 49"/>
          <p:cNvSpPr/>
          <p:nvPr/>
        </p:nvSpPr>
        <p:spPr>
          <a:xfrm>
            <a:off x="3203640" y="3213000"/>
            <a:ext cx="1368360" cy="503280"/>
          </a:xfrm>
          <a:prstGeom prst="roundRect">
            <a:avLst>
              <a:gd name="adj" fmla="val 16667"/>
            </a:avLst>
          </a:prstGeom>
          <a:solidFill>
            <a:srgbClr val="99ffcc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Object 3"/>
              <p:cNvSpPr txBox="1"/>
              <p:nvPr/>
            </p:nvSpPr>
            <p:spPr>
              <a:xfrm>
                <a:off x="2411280" y="3141720"/>
                <a:ext cx="40338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BA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AB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ВАС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АВС,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38" name="Заголовок 1" descr=""/>
          <p:cNvPicPr/>
          <p:nvPr/>
        </p:nvPicPr>
        <p:blipFill>
          <a:blip r:embed="rId2"/>
          <a:stretch/>
        </p:blipFill>
        <p:spPr>
          <a:xfrm>
            <a:off x="225360" y="-6480"/>
            <a:ext cx="8925120" cy="116532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 txBox="1"/>
          <p:nvPr/>
        </p:nvSpPr>
        <p:spPr>
          <a:xfrm>
            <a:off x="395280" y="981000"/>
            <a:ext cx="8748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В треугольнике ABC  АС=ВС=27, AH — высота, </a:t>
            </a:r>
            <a:endParaRPr b="0" lang="en-US" sz="2400" spc="-1" strike="noStrike">
              <a:solidFill>
                <a:srgbClr val="775f55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Найдите BH.</a:t>
            </a:r>
            <a:endParaRPr b="0" lang="en-US" sz="2400" spc="-1" strike="noStrike">
              <a:solidFill>
                <a:srgbClr val="775f55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Object 2"/>
              <p:cNvSpPr txBox="1"/>
              <p:nvPr/>
            </p:nvSpPr>
            <p:spPr>
              <a:xfrm>
                <a:off x="6732720" y="907920"/>
                <a:ext cx="16603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BA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1" name="Равнобедренный треугольник 4"/>
          <p:cNvSpPr/>
          <p:nvPr/>
        </p:nvSpPr>
        <p:spPr>
          <a:xfrm>
            <a:off x="539640" y="2060640"/>
            <a:ext cx="1656000" cy="22320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Прямоугольник 13"/>
          <p:cNvSpPr/>
          <p:nvPr/>
        </p:nvSpPr>
        <p:spPr>
          <a:xfrm>
            <a:off x="426240" y="422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Franklin Gothic Book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Прямоугольник 14"/>
          <p:cNvSpPr/>
          <p:nvPr/>
        </p:nvSpPr>
        <p:spPr>
          <a:xfrm>
            <a:off x="2016720" y="42210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Franklin Gothic Boo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рямоугольник 15"/>
          <p:cNvSpPr/>
          <p:nvPr/>
        </p:nvSpPr>
        <p:spPr>
          <a:xfrm>
            <a:off x="1221480" y="17715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Franklin Gothic Boo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Прямоугольник 16"/>
          <p:cNvSpPr/>
          <p:nvPr/>
        </p:nvSpPr>
        <p:spPr>
          <a:xfrm>
            <a:off x="1905840" y="342900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Franklin Gothic Book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Прямоугольник 24"/>
          <p:cNvSpPr/>
          <p:nvPr/>
        </p:nvSpPr>
        <p:spPr>
          <a:xfrm>
            <a:off x="1222200" y="42926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2" descr="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0" y="0"/>
            <a:ext cx="395280" cy="6892920"/>
          </a:xfrm>
          <a:prstGeom prst="rect">
            <a:avLst/>
          </a:prstGeom>
          <a:ln w="0">
            <a:noFill/>
          </a:ln>
        </p:spPr>
      </p:pic>
      <p:sp>
        <p:nvSpPr>
          <p:cNvPr id="548" name="Прямоугольник 18"/>
          <p:cNvSpPr/>
          <p:nvPr/>
        </p:nvSpPr>
        <p:spPr>
          <a:xfrm>
            <a:off x="3995640" y="148428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 способ реш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Прямая соединительная линия 6"/>
          <p:cNvSpPr/>
          <p:nvPr/>
        </p:nvSpPr>
        <p:spPr>
          <a:xfrm flipV="1">
            <a:off x="611280" y="3716280"/>
            <a:ext cx="1358640" cy="50472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Прямоугольник 22"/>
          <p:cNvSpPr/>
          <p:nvPr/>
        </p:nvSpPr>
        <p:spPr>
          <a:xfrm>
            <a:off x="1701000" y="2924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Прямоугольник 23"/>
          <p:cNvSpPr/>
          <p:nvPr/>
        </p:nvSpPr>
        <p:spPr>
          <a:xfrm>
            <a:off x="693000" y="299736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Прямоугольник 28"/>
          <p:cNvSpPr/>
          <p:nvPr/>
        </p:nvSpPr>
        <p:spPr>
          <a:xfrm>
            <a:off x="7702560" y="6093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Ответ: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Управляющая кнопка: далее 29">
            <a:hlinkClick r:id="" action="ppaction://hlinkshowjump?jump=nextslide"/>
          </p:cNvPr>
          <p:cNvSpPr/>
          <p:nvPr/>
        </p:nvSpPr>
        <p:spPr>
          <a:xfrm>
            <a:off x="8604360" y="6597720"/>
            <a:ext cx="539640" cy="260280"/>
          </a:xfrm>
          <a:custGeom>
            <a:avLst/>
            <a:gdLst>
              <a:gd name="textAreaLeft" fmla="*/ 16560 w 539640"/>
              <a:gd name="textAreaRight" fmla="*/ 523080 w 5396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44751" h="21600">
                <a:moveTo>
                  <a:pt x="0" y="0"/>
                </a:moveTo>
                <a:lnTo>
                  <a:pt x="44751" y="0"/>
                </a:lnTo>
                <a:lnTo>
                  <a:pt x="44751" y="21600"/>
                </a:lnTo>
                <a:lnTo>
                  <a:pt x="0" y="21600"/>
                </a:lnTo>
                <a:close/>
              </a:path>
              <a:path fill="lightenLess" w="44751" h="21600">
                <a:moveTo>
                  <a:pt x="0" y="0"/>
                </a:moveTo>
                <a:lnTo>
                  <a:pt x="44751" y="0"/>
                </a:lnTo>
                <a:lnTo>
                  <a:pt x="43351" y="1400"/>
                </a:lnTo>
                <a:lnTo>
                  <a:pt x="1400" y="1400"/>
                </a:lnTo>
                <a:close/>
              </a:path>
              <a:path fill="darken" w="44751" h="21600">
                <a:moveTo>
                  <a:pt x="44751" y="0"/>
                </a:moveTo>
                <a:lnTo>
                  <a:pt x="44751" y="21600"/>
                </a:lnTo>
                <a:lnTo>
                  <a:pt x="43351" y="20200"/>
                </a:lnTo>
                <a:lnTo>
                  <a:pt x="43351" y="1400"/>
                </a:lnTo>
                <a:close/>
              </a:path>
              <a:path fill="darkenLess" w="44751" h="21600">
                <a:moveTo>
                  <a:pt x="447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351" y="20200"/>
                </a:lnTo>
                <a:close/>
              </a:path>
              <a:path fill="lighten" w="447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751" h="21600">
                <a:moveTo>
                  <a:pt x="15369" y="3794"/>
                </a:moveTo>
                <a:lnTo>
                  <a:pt x="29382" y="10800"/>
                </a:lnTo>
                <a:lnTo>
                  <a:pt x="15369" y="17806"/>
                </a:lnTo>
                <a:close/>
              </a:path>
            </a:pathLst>
          </a:cu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Овал 26"/>
          <p:cNvSpPr/>
          <p:nvPr/>
        </p:nvSpPr>
        <p:spPr>
          <a:xfrm>
            <a:off x="6659640" y="4149720"/>
            <a:ext cx="93672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Овал 27"/>
          <p:cNvSpPr/>
          <p:nvPr/>
        </p:nvSpPr>
        <p:spPr>
          <a:xfrm>
            <a:off x="2340000" y="2781360"/>
            <a:ext cx="144000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Управляющая кнопка: домой 31">
            <a:hlinkClick r:id="rId4" action="ppaction://hlinksldjump"/>
          </p:cNvPr>
          <p:cNvSpPr/>
          <p:nvPr/>
        </p:nvSpPr>
        <p:spPr>
          <a:xfrm>
            <a:off x="7740720" y="6524640"/>
            <a:ext cx="503280" cy="333360"/>
          </a:xfrm>
          <a:custGeom>
            <a:avLst/>
            <a:gdLst>
              <a:gd name="textAreaLeft" fmla="*/ 21600 w 503280"/>
              <a:gd name="textAreaRight" fmla="*/ 481680 w 503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2598" h="21600">
                <a:moveTo>
                  <a:pt x="0" y="0"/>
                </a:moveTo>
                <a:lnTo>
                  <a:pt x="32598" y="0"/>
                </a:lnTo>
                <a:lnTo>
                  <a:pt x="32598" y="21600"/>
                </a:lnTo>
                <a:lnTo>
                  <a:pt x="0" y="21600"/>
                </a:lnTo>
                <a:close/>
              </a:path>
              <a:path fill="lightenLess" w="32598" h="21600">
                <a:moveTo>
                  <a:pt x="0" y="0"/>
                </a:moveTo>
                <a:lnTo>
                  <a:pt x="32598" y="0"/>
                </a:lnTo>
                <a:lnTo>
                  <a:pt x="31198" y="1400"/>
                </a:lnTo>
                <a:lnTo>
                  <a:pt x="1400" y="1400"/>
                </a:lnTo>
                <a:close/>
              </a:path>
              <a:path fill="darken" w="32598" h="21600">
                <a:moveTo>
                  <a:pt x="32598" y="0"/>
                </a:moveTo>
                <a:lnTo>
                  <a:pt x="32598" y="21600"/>
                </a:lnTo>
                <a:lnTo>
                  <a:pt x="31198" y="20200"/>
                </a:lnTo>
                <a:lnTo>
                  <a:pt x="31198" y="1400"/>
                </a:lnTo>
                <a:close/>
              </a:path>
              <a:path fill="darkenLess" w="32598" h="21600">
                <a:moveTo>
                  <a:pt x="325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8" y="20200"/>
                </a:lnTo>
                <a:close/>
              </a:path>
              <a:path fill="lighten" w="325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8" h="21600">
                <a:moveTo>
                  <a:pt x="16299" y="3837"/>
                </a:moveTo>
                <a:lnTo>
                  <a:pt x="18875" y="6448"/>
                </a:lnTo>
                <a:lnTo>
                  <a:pt x="18875" y="4707"/>
                </a:lnTo>
                <a:lnTo>
                  <a:pt x="20651" y="4707"/>
                </a:lnTo>
                <a:lnTo>
                  <a:pt x="20651" y="8224"/>
                </a:lnTo>
                <a:lnTo>
                  <a:pt x="23262" y="10800"/>
                </a:lnTo>
                <a:lnTo>
                  <a:pt x="21608" y="10800"/>
                </a:lnTo>
                <a:lnTo>
                  <a:pt x="21608" y="17989"/>
                </a:lnTo>
                <a:lnTo>
                  <a:pt x="10990" y="17989"/>
                </a:lnTo>
                <a:lnTo>
                  <a:pt x="10990" y="10800"/>
                </a:lnTo>
                <a:lnTo>
                  <a:pt x="9336" y="10800"/>
                </a:lnTo>
                <a:close/>
              </a:path>
              <a:path fill="darkenLess" w="32598" h="21600">
                <a:moveTo>
                  <a:pt x="18875" y="6448"/>
                </a:moveTo>
                <a:lnTo>
                  <a:pt x="18875" y="4707"/>
                </a:lnTo>
                <a:lnTo>
                  <a:pt x="20651" y="4707"/>
                </a:lnTo>
                <a:lnTo>
                  <a:pt x="20651" y="8224"/>
                </a:lnTo>
                <a:close/>
              </a:path>
              <a:path fill="darkenLess" w="32598" h="21600">
                <a:moveTo>
                  <a:pt x="15376" y="14299"/>
                </a:moveTo>
                <a:lnTo>
                  <a:pt x="17222" y="14299"/>
                </a:lnTo>
                <a:lnTo>
                  <a:pt x="17222" y="17989"/>
                </a:lnTo>
                <a:lnTo>
                  <a:pt x="21608" y="17989"/>
                </a:lnTo>
                <a:lnTo>
                  <a:pt x="21608" y="10800"/>
                </a:lnTo>
                <a:lnTo>
                  <a:pt x="10990" y="10800"/>
                </a:lnTo>
                <a:lnTo>
                  <a:pt x="10990" y="17989"/>
                </a:lnTo>
                <a:lnTo>
                  <a:pt x="15376" y="17989"/>
                </a:lnTo>
                <a:close/>
              </a:path>
            </a:pathLst>
          </a:cu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34"/>
          <p:cNvSpPr/>
          <p:nvPr/>
        </p:nvSpPr>
        <p:spPr>
          <a:xfrm>
            <a:off x="3924360" y="28526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∆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ВС - равнобедр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Управляющая кнопка: документ 37">
            <a:hlinkClick r:id="rId5" action="ppaction://hlinksldjump"/>
          </p:cNvPr>
          <p:cNvSpPr/>
          <p:nvPr/>
        </p:nvSpPr>
        <p:spPr>
          <a:xfrm>
            <a:off x="7812000" y="3068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7088" h="21600">
                <a:moveTo>
                  <a:pt x="8017" y="3985"/>
                </a:moveTo>
                <a:lnTo>
                  <a:pt x="15015" y="3985"/>
                </a:lnTo>
                <a:lnTo>
                  <a:pt x="19071" y="7484"/>
                </a:lnTo>
                <a:lnTo>
                  <a:pt x="19071" y="17615"/>
                </a:lnTo>
                <a:lnTo>
                  <a:pt x="8017" y="17615"/>
                </a:lnTo>
                <a:close/>
              </a:path>
              <a:path fill="darken" w="27088" h="21600">
                <a:moveTo>
                  <a:pt x="15015" y="3985"/>
                </a:moveTo>
                <a:lnTo>
                  <a:pt x="19071" y="7484"/>
                </a:lnTo>
                <a:lnTo>
                  <a:pt x="15015" y="7484"/>
                </a:lnTo>
                <a:close/>
              </a:path>
            </a:pathLst>
          </a:cu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39"/>
          <p:cNvSpPr/>
          <p:nvPr/>
        </p:nvSpPr>
        <p:spPr>
          <a:xfrm rot="15153600">
            <a:off x="1522440" y="357480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Овал 48"/>
          <p:cNvSpPr/>
          <p:nvPr/>
        </p:nvSpPr>
        <p:spPr>
          <a:xfrm>
            <a:off x="2987640" y="5373720"/>
            <a:ext cx="504720" cy="647640"/>
          </a:xfrm>
          <a:prstGeom prst="ellipse">
            <a:avLst/>
          </a:prstGeom>
          <a:noFill/>
          <a:ln w="38160">
            <a:solidFill>
              <a:srgbClr val="008e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44"/>
          <p:cNvSpPr/>
          <p:nvPr/>
        </p:nvSpPr>
        <p:spPr>
          <a:xfrm>
            <a:off x="2491560" y="1773360"/>
            <a:ext cx="30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адо найти ВН.   Пусть ВН = 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оугольник 45"/>
          <p:cNvSpPr/>
          <p:nvPr/>
        </p:nvSpPr>
        <p:spPr>
          <a:xfrm>
            <a:off x="2052720" y="3789360"/>
            <a:ext cx="26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оугольник 46"/>
          <p:cNvSpPr/>
          <p:nvPr/>
        </p:nvSpPr>
        <p:spPr>
          <a:xfrm>
            <a:off x="6015600" y="17733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Тогда СН = 27 - 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оугольник 47"/>
          <p:cNvSpPr/>
          <p:nvPr/>
        </p:nvSpPr>
        <p:spPr>
          <a:xfrm rot="15544800">
            <a:off x="1609200" y="279900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7 - 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Прямоугольник 50"/>
          <p:cNvSpPr/>
          <p:nvPr/>
        </p:nvSpPr>
        <p:spPr>
          <a:xfrm>
            <a:off x="2069280" y="2133720"/>
            <a:ext cx="676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СН – прямоугольный. Используя теорему Пифагора выразим 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Прямоугольник 52"/>
          <p:cNvSpPr/>
          <p:nvPr/>
        </p:nvSpPr>
        <p:spPr>
          <a:xfrm>
            <a:off x="2365200" y="2565360"/>
            <a:ext cx="172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Н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= АС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Прямоугольник 54"/>
          <p:cNvSpPr/>
          <p:nvPr/>
        </p:nvSpPr>
        <p:spPr>
          <a:xfrm>
            <a:off x="4169880" y="2565360"/>
            <a:ext cx="197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Н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= 2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(27-х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Прямоугольник 55"/>
          <p:cNvSpPr/>
          <p:nvPr/>
        </p:nvSpPr>
        <p:spPr>
          <a:xfrm>
            <a:off x="6049440" y="2565360"/>
            <a:ext cx="250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Н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= 2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2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+ 54х -х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Прямая соединительная линия 58"/>
          <p:cNvSpPr/>
          <p:nvPr/>
        </p:nvSpPr>
        <p:spPr>
          <a:xfrm flipV="1">
            <a:off x="6803280" y="2565000"/>
            <a:ext cx="144360" cy="35892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Прямая соединительная линия 61"/>
          <p:cNvSpPr/>
          <p:nvPr/>
        </p:nvSpPr>
        <p:spPr>
          <a:xfrm flipV="1">
            <a:off x="7308720" y="2565000"/>
            <a:ext cx="138240" cy="35892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Прямоугольник 73"/>
          <p:cNvSpPr/>
          <p:nvPr/>
        </p:nvSpPr>
        <p:spPr>
          <a:xfrm>
            <a:off x="2360160" y="285264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Н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= 54х - х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Прямоугольник 75"/>
          <p:cNvSpPr/>
          <p:nvPr/>
        </p:nvSpPr>
        <p:spPr>
          <a:xfrm>
            <a:off x="2424240" y="3716280"/>
            <a:ext cx="20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ассмотрим ∆ АВ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Прямоугольник 77"/>
          <p:cNvSpPr/>
          <p:nvPr/>
        </p:nvSpPr>
        <p:spPr>
          <a:xfrm>
            <a:off x="4870440" y="3716280"/>
            <a:ext cx="17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йдём с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В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Дуга 78"/>
          <p:cNvSpPr/>
          <p:nvPr/>
        </p:nvSpPr>
        <p:spPr>
          <a:xfrm rot="16200000">
            <a:off x="1908000" y="4005000"/>
            <a:ext cx="576000" cy="576360"/>
          </a:xfrm>
          <a:custGeom>
            <a:avLst/>
            <a:gdLst>
              <a:gd name="textAreaLeft" fmla="*/ 331560 w 576000"/>
              <a:gd name="textAreaRight" fmla="*/ 545040 w 576000"/>
              <a:gd name="textAreaTop" fmla="*/ 3240 h 576360"/>
              <a:gd name="textAreaBottom" fmla="*/ 158040 h 576360"/>
            </a:gdLst>
            <a:ahLst/>
            <a:rect l="textAreaLeft" t="textAreaTop" r="textAreaRight" b="textAreaBottom"/>
            <a:pathLst>
              <a:path stroke="0" w="576262" h="576263">
                <a:moveTo>
                  <a:pt x="331820" y="3332"/>
                </a:moveTo>
                <a:lnTo>
                  <a:pt x="331820" y="3332"/>
                </a:lnTo>
                <a:arcTo wR="288131" hR="288132" stAng="-4876721" swAng="3266591"/>
                <a:lnTo>
                  <a:pt x="288131" y="288132"/>
                </a:lnTo>
                <a:close/>
              </a:path>
              <a:path fill="none" w="576262" h="576263">
                <a:moveTo>
                  <a:pt x="331820" y="3332"/>
                </a:moveTo>
                <a:lnTo>
                  <a:pt x="331820" y="3332"/>
                </a:lnTo>
                <a:arcTo wR="288131" hR="288132" stAng="-4876721" swAng="3266591"/>
              </a:path>
            </a:pathLst>
          </a:custGeom>
          <a:solidFill>
            <a:srgbClr val="c00000"/>
          </a:solidFill>
          <a:ln w="10080">
            <a:solidFill>
              <a:srgbClr val="94b6d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Object 9"/>
              <p:cNvSpPr txBox="1"/>
              <p:nvPr/>
            </p:nvSpPr>
            <p:spPr>
              <a:xfrm>
                <a:off x="2484360" y="4076640"/>
                <a:ext cx="22320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оsABH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AB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76" name="Управляющая кнопка: сведения 80">
            <a:hlinkClick r:id="rId6" action="ppaction://hlinksldjump"/>
          </p:cNvPr>
          <p:cNvSpPr/>
          <p:nvPr/>
        </p:nvSpPr>
        <p:spPr>
          <a:xfrm>
            <a:off x="7020000" y="3645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1293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5868" h="21600">
                <a:moveTo>
                  <a:pt x="1293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5868" h="21600">
                <a:moveTo>
                  <a:pt x="10358" y="8224"/>
                </a:moveTo>
                <a:lnTo>
                  <a:pt x="14222" y="8224"/>
                </a:lnTo>
                <a:lnTo>
                  <a:pt x="14222" y="15221"/>
                </a:lnTo>
                <a:lnTo>
                  <a:pt x="15510" y="15221"/>
                </a:lnTo>
                <a:lnTo>
                  <a:pt x="15510" y="16144"/>
                </a:lnTo>
                <a:lnTo>
                  <a:pt x="10358" y="16144"/>
                </a:lnTo>
                <a:lnTo>
                  <a:pt x="10358" y="15221"/>
                </a:lnTo>
                <a:lnTo>
                  <a:pt x="11646" y="15221"/>
                </a:lnTo>
                <a:lnTo>
                  <a:pt x="11646" y="9129"/>
                </a:lnTo>
                <a:lnTo>
                  <a:pt x="10358" y="9129"/>
                </a:lnTo>
                <a:close/>
              </a:path>
            </a:pathLst>
          </a:cu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Object 10"/>
              <p:cNvSpPr txBox="1"/>
              <p:nvPr/>
            </p:nvSpPr>
            <p:spPr>
              <a:xfrm>
                <a:off x="2448000" y="4437000"/>
                <a:ext cx="248436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ABH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Object 11"/>
              <p:cNvSpPr txBox="1"/>
              <p:nvPr/>
            </p:nvSpPr>
            <p:spPr>
              <a:xfrm>
                <a:off x="3780000" y="5516640"/>
                <a:ext cx="17888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tgABH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Object 12"/>
              <p:cNvSpPr txBox="1"/>
              <p:nvPr/>
            </p:nvSpPr>
            <p:spPr>
              <a:xfrm>
                <a:off x="790560" y="5229360"/>
                <a:ext cx="270180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ABH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AB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ABH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Object 13"/>
              <p:cNvSpPr txBox="1"/>
              <p:nvPr/>
            </p:nvSpPr>
            <p:spPr>
              <a:xfrm>
                <a:off x="5641920" y="4132440"/>
                <a:ext cx="189072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то      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4х-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581" name="Соединительная линия уступом 89"/>
          <p:cNvCxnSpPr>
            <a:endCxn id="558" idx="0"/>
          </p:cNvCxnSpPr>
          <p:nvPr/>
        </p:nvCxnSpPr>
        <p:spPr>
          <a:xfrm flipV="1">
            <a:off x="5076720" y="3212640"/>
            <a:ext cx="2736000" cy="2448720"/>
          </a:xfrm>
          <a:prstGeom prst="bentConnector3">
            <a:avLst>
              <a:gd name="adj1" fmla="val 12198"/>
            </a:avLst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82" name="Овал 97"/>
          <p:cNvSpPr/>
          <p:nvPr/>
        </p:nvSpPr>
        <p:spPr>
          <a:xfrm>
            <a:off x="6156360" y="4149720"/>
            <a:ext cx="431640" cy="647640"/>
          </a:xfrm>
          <a:prstGeom prst="ellipse">
            <a:avLst/>
          </a:prstGeom>
          <a:noFill/>
          <a:ln w="38160">
            <a:solidFill>
              <a:srgbClr val="357f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Object 14"/>
              <p:cNvSpPr txBox="1"/>
              <p:nvPr/>
            </p:nvSpPr>
            <p:spPr>
              <a:xfrm>
                <a:off x="5435640" y="4869000"/>
                <a:ext cx="2405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54х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х     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4" name="Прямоугольник 99"/>
          <p:cNvSpPr/>
          <p:nvPr/>
        </p:nvSpPr>
        <p:spPr>
          <a:xfrm>
            <a:off x="5602680" y="5300640"/>
            <a:ext cx="170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(54х –х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 = 4х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Прямоугольник 103"/>
          <p:cNvSpPr/>
          <p:nvPr/>
        </p:nvSpPr>
        <p:spPr>
          <a:xfrm>
            <a:off x="7391160" y="5300640"/>
            <a:ext cx="15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х(9х – 270)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Прямоугольник 104"/>
          <p:cNvSpPr/>
          <p:nvPr/>
        </p:nvSpPr>
        <p:spPr>
          <a:xfrm>
            <a:off x="5674320" y="5661000"/>
            <a:ext cx="156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х ≠ 0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gt; х = 3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Object 16"/>
              <p:cNvSpPr txBox="1"/>
              <p:nvPr/>
            </p:nvSpPr>
            <p:spPr>
              <a:xfrm>
                <a:off x="971640" y="3645000"/>
                <a:ext cx="73656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cxnSp>
        <p:nvCxnSpPr>
          <p:cNvPr id="588" name="Соединительная линия уступом 109"/>
          <p:cNvCxnSpPr/>
          <p:nvPr/>
        </p:nvCxnSpPr>
        <p:spPr>
          <a:xfrm flipH="1" flipV="1" rot="5400000">
            <a:off x="3778560" y="3860280"/>
            <a:ext cx="721440" cy="432360"/>
          </a:xfrm>
          <a:prstGeom prst="bentConnector3">
            <a:avLst>
              <a:gd name="adj1" fmla="val 49975"/>
            </a:avLst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89" name="Овал 118"/>
          <p:cNvSpPr/>
          <p:nvPr/>
        </p:nvSpPr>
        <p:spPr>
          <a:xfrm>
            <a:off x="2411280" y="5229360"/>
            <a:ext cx="505080" cy="5032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Овал 119"/>
          <p:cNvSpPr/>
          <p:nvPr/>
        </p:nvSpPr>
        <p:spPr>
          <a:xfrm>
            <a:off x="2411280" y="5732640"/>
            <a:ext cx="505080" cy="57600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Овал 120"/>
          <p:cNvSpPr/>
          <p:nvPr/>
        </p:nvSpPr>
        <p:spPr>
          <a:xfrm>
            <a:off x="4427640" y="4437000"/>
            <a:ext cx="504720" cy="72072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7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2" dur="3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000"/>
                            </p:stCondLst>
                            <p:childTnLst>
                              <p:par>
                                <p:cTn id="4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4000"/>
                            </p:stCondLst>
                            <p:childTnLst>
                              <p:par>
                                <p:cTn id="4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1" dur="3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7000"/>
                            </p:stCondLst>
                            <p:childTnLst>
                              <p:par>
                                <p:cTn id="436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5" dur="5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6000"/>
                            </p:stCondLst>
                            <p:childTnLst>
                              <p:par>
                                <p:cTn id="4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3" dur="5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7" dur="5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4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7300"/>
                            </p:stCondLst>
                            <p:childTnLst>
                              <p:par>
                                <p:cTn id="4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4" dur="5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2300"/>
                            </p:stCondLst>
                            <p:childTnLst>
                              <p:par>
                                <p:cTn id="4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2800"/>
                            </p:stCondLst>
                            <p:childTnLst>
                              <p:par>
                                <p:cTn id="4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5" dur="5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7800"/>
                            </p:stCondLst>
                            <p:childTnLst>
                              <p:par>
                                <p:cTn id="4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4" dur="3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3000"/>
                            </p:stCondLst>
                            <p:childTnLst>
                              <p:par>
                                <p:cTn id="4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8" dur="5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8000"/>
                            </p:stCondLst>
                            <p:childTnLst>
                              <p:par>
                                <p:cTn id="5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4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5" dur="500" autoRev="1" fill="hold"/>
                                        <p:tgtEl>
                                          <p:spTgt spid="5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9000"/>
                            </p:stCondLst>
                            <p:childTnLst>
                              <p:par>
                                <p:cTn id="5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6" dur="3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3000"/>
                            </p:stCondLst>
                            <p:childTnLst>
                              <p:par>
                                <p:cTn id="5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4" dur="3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7000"/>
                            </p:stCondLst>
                            <p:childTnLst>
                              <p:par>
                                <p:cTn id="5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8000"/>
                            </p:stCondLst>
                            <p:childTnLst>
                              <p:par>
                                <p:cTn id="5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7" dur="5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5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1" dur="5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8000"/>
                            </p:stCondLst>
                            <p:childTnLst>
                              <p:par>
                                <p:cTn id="54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8500"/>
                            </p:stCondLst>
                            <p:childTnLst>
                              <p:par>
                                <p:cTn id="547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4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5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5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6" dur="5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3" dur="500" autoRev="1" fill="hold"/>
                                        <p:tgtEl>
                                          <p:spTgt spid="5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6000"/>
                            </p:stCondLst>
                            <p:childTnLst>
                              <p:par>
                                <p:cTn id="5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5" dur="3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8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579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0"/>
                            </p:stCondLst>
                            <p:childTnLst>
                              <p:par>
                                <p:cTn id="5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6" dur="5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0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5" dur="5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0"/>
                            </p:stCondLst>
                            <p:childTnLst>
                              <p:par>
                                <p:cTn id="60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9" dur="5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3" dur="5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5000"/>
                            </p:stCondLst>
                            <p:childTnLst>
                              <p:par>
                                <p:cTn id="61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7" dur="5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20000"/>
                            </p:stCondLst>
                            <p:childTnLst>
                              <p:par>
                                <p:cTn id="6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Скругленный прямоугольник 111"/>
          <p:cNvSpPr/>
          <p:nvPr/>
        </p:nvSpPr>
        <p:spPr>
          <a:xfrm>
            <a:off x="7308720" y="4724280"/>
            <a:ext cx="1150920" cy="217440"/>
          </a:xfrm>
          <a:prstGeom prst="roundRect">
            <a:avLst>
              <a:gd name="adj" fmla="val 16667"/>
            </a:avLst>
          </a:prstGeom>
          <a:solidFill>
            <a:srgbClr val="b6df89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Скругленный прямоугольник 110"/>
          <p:cNvSpPr/>
          <p:nvPr/>
        </p:nvSpPr>
        <p:spPr>
          <a:xfrm>
            <a:off x="1979640" y="5157720"/>
            <a:ext cx="1368360" cy="287280"/>
          </a:xfrm>
          <a:prstGeom prst="roundRect">
            <a:avLst>
              <a:gd name="adj" fmla="val 16667"/>
            </a:avLst>
          </a:prstGeom>
          <a:solidFill>
            <a:srgbClr val="b6df89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Скругленный прямоугольник 109"/>
          <p:cNvSpPr/>
          <p:nvPr/>
        </p:nvSpPr>
        <p:spPr>
          <a:xfrm>
            <a:off x="6372360" y="4724280"/>
            <a:ext cx="431640" cy="289080"/>
          </a:xfrm>
          <a:prstGeom prst="roundRect">
            <a:avLst>
              <a:gd name="adj" fmla="val 16667"/>
            </a:avLst>
          </a:prstGeom>
          <a:solidFill>
            <a:srgbClr val="b6df89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Скругленный прямоугольник 107"/>
          <p:cNvSpPr/>
          <p:nvPr/>
        </p:nvSpPr>
        <p:spPr>
          <a:xfrm>
            <a:off x="5580000" y="3357720"/>
            <a:ext cx="360360" cy="215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Заголовок 1" descr=""/>
          <p:cNvPicPr/>
          <p:nvPr/>
        </p:nvPicPr>
        <p:blipFill>
          <a:blip r:embed="rId2"/>
          <a:stretch/>
        </p:blipFill>
        <p:spPr>
          <a:xfrm>
            <a:off x="219240" y="0"/>
            <a:ext cx="8924760" cy="116352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 txBox="1"/>
          <p:nvPr/>
        </p:nvSpPr>
        <p:spPr>
          <a:xfrm>
            <a:off x="395280" y="1052280"/>
            <a:ext cx="87487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В треугольнике ABC  АС=ВС=27, AH — высота, </a:t>
            </a:r>
            <a:endParaRPr b="0" lang="en-US" sz="2400" spc="-1" strike="noStrike">
              <a:solidFill>
                <a:srgbClr val="775f55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Найдите BH.</a:t>
            </a:r>
            <a:endParaRPr b="0" lang="en-US" sz="2400" spc="-1" strike="noStrike">
              <a:solidFill>
                <a:srgbClr val="775f55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8" name="Object 2"/>
              <p:cNvSpPr txBox="1"/>
              <p:nvPr/>
            </p:nvSpPr>
            <p:spPr>
              <a:xfrm>
                <a:off x="6732720" y="907920"/>
                <a:ext cx="16603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BA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9" name="Равнобедренный треугольник 4"/>
          <p:cNvSpPr/>
          <p:nvPr/>
        </p:nvSpPr>
        <p:spPr>
          <a:xfrm>
            <a:off x="539640" y="3716280"/>
            <a:ext cx="4319640" cy="1441440"/>
          </a:xfrm>
          <a:prstGeom prst="triangle">
            <a:avLst>
              <a:gd name="adj" fmla="val 5034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рямоугольник 13"/>
          <p:cNvSpPr/>
          <p:nvPr/>
        </p:nvSpPr>
        <p:spPr>
          <a:xfrm>
            <a:off x="391320" y="508464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Franklin Gothic Book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рямоугольник 14"/>
          <p:cNvSpPr/>
          <p:nvPr/>
        </p:nvSpPr>
        <p:spPr>
          <a:xfrm>
            <a:off x="4790160" y="494172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Franklin Gothic Boo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оугольник 15"/>
          <p:cNvSpPr/>
          <p:nvPr/>
        </p:nvSpPr>
        <p:spPr>
          <a:xfrm>
            <a:off x="2699640" y="3429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Franklin Gothic Boo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оугольник 16"/>
          <p:cNvSpPr/>
          <p:nvPr/>
        </p:nvSpPr>
        <p:spPr>
          <a:xfrm>
            <a:off x="1761480" y="278136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Franklin Gothic Book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2" descr="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-1044720" y="-34920"/>
            <a:ext cx="395280" cy="6892920"/>
          </a:xfrm>
          <a:prstGeom prst="rect">
            <a:avLst/>
          </a:prstGeom>
          <a:ln w="0">
            <a:noFill/>
          </a:ln>
        </p:spPr>
      </p:pic>
      <p:sp>
        <p:nvSpPr>
          <p:cNvPr id="605" name="Прямоугольник 18"/>
          <p:cNvSpPr/>
          <p:nvPr/>
        </p:nvSpPr>
        <p:spPr>
          <a:xfrm>
            <a:off x="3938400" y="1628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 способ реш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рямоугольник 22"/>
          <p:cNvSpPr/>
          <p:nvPr/>
        </p:nvSpPr>
        <p:spPr>
          <a:xfrm>
            <a:off x="3717000" y="414972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оугольный треугольник 24"/>
          <p:cNvSpPr/>
          <p:nvPr/>
        </p:nvSpPr>
        <p:spPr>
          <a:xfrm rot="7549200">
            <a:off x="506520" y="3926520"/>
            <a:ext cx="2368440" cy="954360"/>
          </a:xfrm>
          <a:prstGeom prst="rtTriangle">
            <a:avLst/>
          </a:prstGeom>
          <a:solidFill>
            <a:srgbClr val="92d050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оугольник 28"/>
          <p:cNvSpPr/>
          <p:nvPr/>
        </p:nvSpPr>
        <p:spPr>
          <a:xfrm>
            <a:off x="7702560" y="6021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Ответ: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Управляющая кнопка: далее 29">
            <a:hlinkClick r:id="" action="ppaction://hlinkshowjump?jump=nextslide"/>
          </p:cNvPr>
          <p:cNvSpPr/>
          <p:nvPr/>
        </p:nvSpPr>
        <p:spPr>
          <a:xfrm>
            <a:off x="8604360" y="6597720"/>
            <a:ext cx="539640" cy="260280"/>
          </a:xfrm>
          <a:custGeom>
            <a:avLst/>
            <a:gdLst>
              <a:gd name="textAreaLeft" fmla="*/ 16560 w 539640"/>
              <a:gd name="textAreaRight" fmla="*/ 523080 w 5396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44751" h="21600">
                <a:moveTo>
                  <a:pt x="0" y="0"/>
                </a:moveTo>
                <a:lnTo>
                  <a:pt x="44751" y="0"/>
                </a:lnTo>
                <a:lnTo>
                  <a:pt x="44751" y="21600"/>
                </a:lnTo>
                <a:lnTo>
                  <a:pt x="0" y="21600"/>
                </a:lnTo>
                <a:close/>
              </a:path>
              <a:path fill="lightenLess" w="44751" h="21600">
                <a:moveTo>
                  <a:pt x="0" y="0"/>
                </a:moveTo>
                <a:lnTo>
                  <a:pt x="44751" y="0"/>
                </a:lnTo>
                <a:lnTo>
                  <a:pt x="43351" y="1400"/>
                </a:lnTo>
                <a:lnTo>
                  <a:pt x="1400" y="1400"/>
                </a:lnTo>
                <a:close/>
              </a:path>
              <a:path fill="darken" w="44751" h="21600">
                <a:moveTo>
                  <a:pt x="44751" y="0"/>
                </a:moveTo>
                <a:lnTo>
                  <a:pt x="44751" y="21600"/>
                </a:lnTo>
                <a:lnTo>
                  <a:pt x="43351" y="20200"/>
                </a:lnTo>
                <a:lnTo>
                  <a:pt x="43351" y="1400"/>
                </a:lnTo>
                <a:close/>
              </a:path>
              <a:path fill="darkenLess" w="44751" h="21600">
                <a:moveTo>
                  <a:pt x="447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351" y="20200"/>
                </a:lnTo>
                <a:close/>
              </a:path>
              <a:path fill="lighten" w="447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751" h="21600">
                <a:moveTo>
                  <a:pt x="15369" y="3794"/>
                </a:moveTo>
                <a:lnTo>
                  <a:pt x="29382" y="10800"/>
                </a:lnTo>
                <a:lnTo>
                  <a:pt x="15369" y="17806"/>
                </a:lnTo>
                <a:close/>
              </a:path>
            </a:pathLst>
          </a:cu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Левая фигурная скобка 28"/>
          <p:cNvSpPr/>
          <p:nvPr/>
        </p:nvSpPr>
        <p:spPr>
          <a:xfrm rot="7616400">
            <a:off x="3503160" y="2057400"/>
            <a:ext cx="430200" cy="3487680"/>
          </a:xfrm>
          <a:custGeom>
            <a:avLst/>
            <a:gdLst>
              <a:gd name="textAreaLeft" fmla="*/ 275040 w 430200"/>
              <a:gd name="textAreaRight" fmla="*/ 430560 w 430200"/>
              <a:gd name="textAreaTop" fmla="*/ 11160 h 3487680"/>
              <a:gd name="textAreaBottom" fmla="*/ 3476520 h 3487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1"/>
                  <a:pt x="10800" y="222"/>
                </a:cubicBezTo>
                <a:lnTo>
                  <a:pt x="10800" y="10367"/>
                </a:lnTo>
                <a:cubicBezTo>
                  <a:pt x="10800" y="10478"/>
                  <a:pt x="5400" y="10589"/>
                  <a:pt x="0" y="10589"/>
                </a:cubicBezTo>
                <a:cubicBezTo>
                  <a:pt x="5400" y="10589"/>
                  <a:pt x="10800" y="10700"/>
                  <a:pt x="10800" y="10811"/>
                </a:cubicBezTo>
                <a:lnTo>
                  <a:pt x="10800" y="21378"/>
                </a:lnTo>
                <a:cubicBezTo>
                  <a:pt x="10800" y="2148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5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Управляющая кнопка: домой 31">
            <a:hlinkClick r:id="rId4" action="ppaction://hlinksldjump"/>
          </p:cNvPr>
          <p:cNvSpPr/>
          <p:nvPr/>
        </p:nvSpPr>
        <p:spPr>
          <a:xfrm>
            <a:off x="7740720" y="6524640"/>
            <a:ext cx="503280" cy="333360"/>
          </a:xfrm>
          <a:custGeom>
            <a:avLst/>
            <a:gdLst>
              <a:gd name="textAreaLeft" fmla="*/ 21600 w 503280"/>
              <a:gd name="textAreaRight" fmla="*/ 481680 w 503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2598" h="21600">
                <a:moveTo>
                  <a:pt x="0" y="0"/>
                </a:moveTo>
                <a:lnTo>
                  <a:pt x="32598" y="0"/>
                </a:lnTo>
                <a:lnTo>
                  <a:pt x="32598" y="21600"/>
                </a:lnTo>
                <a:lnTo>
                  <a:pt x="0" y="21600"/>
                </a:lnTo>
                <a:close/>
              </a:path>
              <a:path fill="lightenLess" w="32598" h="21600">
                <a:moveTo>
                  <a:pt x="0" y="0"/>
                </a:moveTo>
                <a:lnTo>
                  <a:pt x="32598" y="0"/>
                </a:lnTo>
                <a:lnTo>
                  <a:pt x="31198" y="1400"/>
                </a:lnTo>
                <a:lnTo>
                  <a:pt x="1400" y="1400"/>
                </a:lnTo>
                <a:close/>
              </a:path>
              <a:path fill="darken" w="32598" h="21600">
                <a:moveTo>
                  <a:pt x="32598" y="0"/>
                </a:moveTo>
                <a:lnTo>
                  <a:pt x="32598" y="21600"/>
                </a:lnTo>
                <a:lnTo>
                  <a:pt x="31198" y="20200"/>
                </a:lnTo>
                <a:lnTo>
                  <a:pt x="31198" y="1400"/>
                </a:lnTo>
                <a:close/>
              </a:path>
              <a:path fill="darkenLess" w="32598" h="21600">
                <a:moveTo>
                  <a:pt x="325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8" y="20200"/>
                </a:lnTo>
                <a:close/>
              </a:path>
              <a:path fill="lighten" w="325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8" h="21600">
                <a:moveTo>
                  <a:pt x="16299" y="3837"/>
                </a:moveTo>
                <a:lnTo>
                  <a:pt x="18875" y="6448"/>
                </a:lnTo>
                <a:lnTo>
                  <a:pt x="18875" y="4707"/>
                </a:lnTo>
                <a:lnTo>
                  <a:pt x="20651" y="4707"/>
                </a:lnTo>
                <a:lnTo>
                  <a:pt x="20651" y="8224"/>
                </a:lnTo>
                <a:lnTo>
                  <a:pt x="23262" y="10800"/>
                </a:lnTo>
                <a:lnTo>
                  <a:pt x="21608" y="10800"/>
                </a:lnTo>
                <a:lnTo>
                  <a:pt x="21608" y="17989"/>
                </a:lnTo>
                <a:lnTo>
                  <a:pt x="10990" y="17989"/>
                </a:lnTo>
                <a:lnTo>
                  <a:pt x="10990" y="10800"/>
                </a:lnTo>
                <a:lnTo>
                  <a:pt x="9336" y="10800"/>
                </a:lnTo>
                <a:close/>
              </a:path>
              <a:path fill="darkenLess" w="32598" h="21600">
                <a:moveTo>
                  <a:pt x="18875" y="6448"/>
                </a:moveTo>
                <a:lnTo>
                  <a:pt x="18875" y="4707"/>
                </a:lnTo>
                <a:lnTo>
                  <a:pt x="20651" y="4707"/>
                </a:lnTo>
                <a:lnTo>
                  <a:pt x="20651" y="8224"/>
                </a:lnTo>
                <a:close/>
              </a:path>
              <a:path fill="darkenLess" w="32598" h="21600">
                <a:moveTo>
                  <a:pt x="15376" y="14299"/>
                </a:moveTo>
                <a:lnTo>
                  <a:pt x="17222" y="14299"/>
                </a:lnTo>
                <a:lnTo>
                  <a:pt x="17222" y="17989"/>
                </a:lnTo>
                <a:lnTo>
                  <a:pt x="21608" y="17989"/>
                </a:lnTo>
                <a:lnTo>
                  <a:pt x="21608" y="10800"/>
                </a:lnTo>
                <a:lnTo>
                  <a:pt x="10990" y="10800"/>
                </a:lnTo>
                <a:lnTo>
                  <a:pt x="10990" y="17989"/>
                </a:lnTo>
                <a:lnTo>
                  <a:pt x="15376" y="17989"/>
                </a:lnTo>
                <a:close/>
              </a:path>
            </a:pathLst>
          </a:cu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оугольник 39"/>
          <p:cNvSpPr/>
          <p:nvPr/>
        </p:nvSpPr>
        <p:spPr>
          <a:xfrm rot="13413600">
            <a:off x="1607040" y="3093840"/>
            <a:ext cx="6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ая соединительная линия 45"/>
          <p:cNvSpPr/>
          <p:nvPr/>
        </p:nvSpPr>
        <p:spPr>
          <a:xfrm flipH="1" flipV="1">
            <a:off x="1979280" y="3213000"/>
            <a:ext cx="2808360" cy="191304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Прямая соединительная линия 47"/>
          <p:cNvSpPr/>
          <p:nvPr/>
        </p:nvSpPr>
        <p:spPr>
          <a:xfrm flipV="1">
            <a:off x="539640" y="3213000"/>
            <a:ext cx="1440000" cy="19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оугольник 59"/>
          <p:cNvSpPr/>
          <p:nvPr/>
        </p:nvSpPr>
        <p:spPr>
          <a:xfrm>
            <a:off x="2485440" y="2997360"/>
            <a:ext cx="26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Правая фигурная скобка 60"/>
          <p:cNvSpPr/>
          <p:nvPr/>
        </p:nvSpPr>
        <p:spPr>
          <a:xfrm rot="18427800">
            <a:off x="2351880" y="2824560"/>
            <a:ext cx="191880" cy="847800"/>
          </a:xfrm>
          <a:custGeom>
            <a:avLst/>
            <a:gdLst>
              <a:gd name="textAreaLeft" fmla="*/ 0 w 191880"/>
              <a:gd name="textAreaRight" fmla="*/ 69120 w 191880"/>
              <a:gd name="textAreaTop" fmla="*/ 4680 h 847800"/>
              <a:gd name="textAreaBottom" fmla="*/ 843120 h 84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4"/>
                  <a:pt x="10800" y="408"/>
                </a:cubicBezTo>
                <a:lnTo>
                  <a:pt x="10800" y="9740"/>
                </a:lnTo>
                <a:cubicBezTo>
                  <a:pt x="10800" y="9944"/>
                  <a:pt x="16200" y="10148"/>
                  <a:pt x="21600" y="10148"/>
                </a:cubicBezTo>
                <a:cubicBezTo>
                  <a:pt x="16200" y="10148"/>
                  <a:pt x="10800" y="10352"/>
                  <a:pt x="10800" y="10556"/>
                </a:cubicBezTo>
                <a:lnTo>
                  <a:pt x="10800" y="21192"/>
                </a:lnTo>
                <a:cubicBezTo>
                  <a:pt x="10800" y="21396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рямоугольник 61"/>
          <p:cNvSpPr/>
          <p:nvPr/>
        </p:nvSpPr>
        <p:spPr>
          <a:xfrm rot="1252200">
            <a:off x="3676320" y="3369960"/>
            <a:ext cx="5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7+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Прямоугольник 62"/>
          <p:cNvSpPr/>
          <p:nvPr/>
        </p:nvSpPr>
        <p:spPr>
          <a:xfrm>
            <a:off x="918720" y="1989000"/>
            <a:ext cx="28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усть СН = х, то ВН = 27 + х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оугольник 63"/>
          <p:cNvSpPr/>
          <p:nvPr/>
        </p:nvSpPr>
        <p:spPr>
          <a:xfrm>
            <a:off x="4211640" y="198900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 ∆ АСН: АН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= АС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Прямоугольник 64"/>
          <p:cNvSpPr/>
          <p:nvPr/>
        </p:nvSpPr>
        <p:spPr>
          <a:xfrm>
            <a:off x="7429320" y="19890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Н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= 2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х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Прямоугольник 65"/>
          <p:cNvSpPr/>
          <p:nvPr/>
        </p:nvSpPr>
        <p:spPr>
          <a:xfrm>
            <a:off x="3222720" y="2349360"/>
            <a:ext cx="153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Н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= 729 - х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Object 8"/>
              <p:cNvSpPr txBox="1"/>
              <p:nvPr/>
            </p:nvSpPr>
            <p:spPr>
              <a:xfrm>
                <a:off x="5076720" y="2349360"/>
                <a:ext cx="13716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Н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29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Object 9"/>
              <p:cNvSpPr txBox="1"/>
              <p:nvPr/>
            </p:nvSpPr>
            <p:spPr>
              <a:xfrm>
                <a:off x="770040" y="3645000"/>
                <a:ext cx="79992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29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Object 3"/>
              <p:cNvSpPr txBox="1"/>
              <p:nvPr/>
            </p:nvSpPr>
            <p:spPr>
              <a:xfrm>
                <a:off x="4284720" y="2637000"/>
                <a:ext cx="35100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BA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AB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;  </m:t>
                    </m:r>
                    <m:r>
                      <m:t xml:space="preserve">(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ВАС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АВС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5" name="Прямоугольный треугольник 93"/>
          <p:cNvSpPr/>
          <p:nvPr/>
        </p:nvSpPr>
        <p:spPr>
          <a:xfrm rot="7482600">
            <a:off x="1509480" y="3440160"/>
            <a:ext cx="2379600" cy="3433680"/>
          </a:xfrm>
          <a:prstGeom prst="rtTriangle">
            <a:avLst/>
          </a:prstGeom>
          <a:noFill/>
          <a:ln w="57240">
            <a:solidFill>
              <a:srgbClr val="2107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Object 16"/>
              <p:cNvSpPr txBox="1"/>
              <p:nvPr/>
            </p:nvSpPr>
            <p:spPr>
              <a:xfrm>
                <a:off x="2050920" y="5229360"/>
                <a:ext cx="115272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5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27" name="Прямоугольник 95"/>
          <p:cNvSpPr/>
          <p:nvPr/>
        </p:nvSpPr>
        <p:spPr>
          <a:xfrm>
            <a:off x="6831000" y="306864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В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=АН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+ НВ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Прямоугольник 97"/>
          <p:cNvSpPr/>
          <p:nvPr/>
        </p:nvSpPr>
        <p:spPr>
          <a:xfrm>
            <a:off x="6476040" y="3357720"/>
            <a:ext cx="24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В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=729 - х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+ (27 + х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Object 18"/>
              <p:cNvSpPr txBox="1"/>
              <p:nvPr/>
            </p:nvSpPr>
            <p:spPr>
              <a:xfrm>
                <a:off x="6084720" y="4365720"/>
                <a:ext cx="287820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729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х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29-х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4х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58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0" name="Прямоугольник 99"/>
          <p:cNvSpPr/>
          <p:nvPr/>
        </p:nvSpPr>
        <p:spPr>
          <a:xfrm>
            <a:off x="5937120" y="3716280"/>
            <a:ext cx="29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В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=729 - х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+ 729 + 54х + х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Прямоугольник 100"/>
          <p:cNvSpPr/>
          <p:nvPr/>
        </p:nvSpPr>
        <p:spPr>
          <a:xfrm>
            <a:off x="5867280" y="4005360"/>
            <a:ext cx="17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В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=54х +145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2" name="Object 19"/>
              <p:cNvSpPr txBox="1"/>
              <p:nvPr/>
            </p:nvSpPr>
            <p:spPr>
              <a:xfrm>
                <a:off x="4572000" y="2997360"/>
                <a:ext cx="151128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ABC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АН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3" name="Прямоугольник 23"/>
          <p:cNvSpPr/>
          <p:nvPr/>
        </p:nvSpPr>
        <p:spPr>
          <a:xfrm>
            <a:off x="1485000" y="414972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Object 21"/>
              <p:cNvSpPr txBox="1"/>
              <p:nvPr/>
            </p:nvSpPr>
            <p:spPr>
              <a:xfrm>
                <a:off x="579600" y="5661000"/>
                <a:ext cx="13618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9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4х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5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5" name="Дуга 104"/>
          <p:cNvSpPr/>
          <p:nvPr/>
        </p:nvSpPr>
        <p:spPr>
          <a:xfrm>
            <a:off x="900000" y="4797360"/>
            <a:ext cx="358920" cy="647640"/>
          </a:xfrm>
          <a:custGeom>
            <a:avLst/>
            <a:gdLst>
              <a:gd name="textAreaLeft" fmla="*/ 179640 w 358920"/>
              <a:gd name="textAreaRight" fmla="*/ 358920 w 358920"/>
              <a:gd name="textAreaTop" fmla="*/ 0 h 647640"/>
              <a:gd name="textAreaBottom" fmla="*/ 324000 h 647640"/>
            </a:gdLst>
            <a:ahLst/>
            <a:rect l="textAreaLeft" t="textAreaTop" r="textAreaRight" b="textAreaBottom"/>
            <a:pathLst>
              <a:path stroke="0" w="358775" h="647700">
                <a:moveTo>
                  <a:pt x="179388" y="0"/>
                </a:moveTo>
                <a:lnTo>
                  <a:pt x="179388" y="0"/>
                </a:lnTo>
                <a:arcTo wR="179388" hR="323850" stAng="-5400000" swAng="5400000"/>
                <a:lnTo>
                  <a:pt x="179388" y="323850"/>
                </a:lnTo>
                <a:close/>
              </a:path>
              <a:path fill="none" w="358775" h="647700">
                <a:moveTo>
                  <a:pt x="179388" y="0"/>
                </a:moveTo>
                <a:lnTo>
                  <a:pt x="179388" y="0"/>
                </a:lnTo>
                <a:arcTo wR="179388" hR="323850" stAng="-5400000" swAng="5400000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Дуга 105"/>
          <p:cNvSpPr/>
          <p:nvPr/>
        </p:nvSpPr>
        <p:spPr>
          <a:xfrm rot="16601400">
            <a:off x="4063680" y="4860360"/>
            <a:ext cx="576360" cy="503280"/>
          </a:xfrm>
          <a:custGeom>
            <a:avLst/>
            <a:gdLst>
              <a:gd name="textAreaLeft" fmla="*/ 213840 w 576360"/>
              <a:gd name="textAreaRight" fmla="*/ 564120 w 576360"/>
              <a:gd name="textAreaTop" fmla="*/ 0 h 503280"/>
              <a:gd name="textAreaBottom" fmla="*/ 178200 h 503280"/>
            </a:gdLst>
            <a:ahLst/>
            <a:rect l="textAreaLeft" t="textAreaTop" r="textAreaRight" b="textAreaBottom"/>
            <a:pathLst>
              <a:path stroke="0" w="576262" h="503237">
                <a:moveTo>
                  <a:pt x="213751" y="8528"/>
                </a:moveTo>
                <a:lnTo>
                  <a:pt x="213751" y="8528"/>
                </a:lnTo>
                <a:arcTo wR="288131" hR="251619" stAng="-6420771" swAng="5525320"/>
                <a:lnTo>
                  <a:pt x="288131" y="251619"/>
                </a:lnTo>
                <a:close/>
              </a:path>
              <a:path fill="none" w="576262" h="503237">
                <a:moveTo>
                  <a:pt x="213751" y="8528"/>
                </a:moveTo>
                <a:lnTo>
                  <a:pt x="213751" y="8528"/>
                </a:lnTo>
                <a:arcTo wR="288131" hR="251619" stAng="-6420771" swAng="5525320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Овал 106"/>
          <p:cNvSpPr/>
          <p:nvPr/>
        </p:nvSpPr>
        <p:spPr>
          <a:xfrm>
            <a:off x="5940360" y="2637000"/>
            <a:ext cx="287280" cy="57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8" name="Object 22"/>
              <p:cNvSpPr txBox="1"/>
              <p:nvPr/>
            </p:nvSpPr>
            <p:spPr>
              <a:xfrm>
                <a:off x="5580000" y="2997360"/>
                <a:ext cx="5396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АН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9" name="Овал 112"/>
          <p:cNvSpPr/>
          <p:nvPr/>
        </p:nvSpPr>
        <p:spPr>
          <a:xfrm>
            <a:off x="8675640" y="4365720"/>
            <a:ext cx="217440" cy="647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Прямоугольник 113"/>
          <p:cNvSpPr/>
          <p:nvPr/>
        </p:nvSpPr>
        <p:spPr>
          <a:xfrm>
            <a:off x="7308720" y="4292640"/>
            <a:ext cx="1656000" cy="792000"/>
          </a:xfrm>
          <a:prstGeom prst="rect">
            <a:avLst/>
          </a:prstGeom>
          <a:noFill/>
          <a:ln w="38160">
            <a:solidFill>
              <a:srgbClr val="2107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Умножение 114"/>
          <p:cNvSpPr/>
          <p:nvPr/>
        </p:nvSpPr>
        <p:spPr>
          <a:xfrm>
            <a:off x="1403280" y="5805360"/>
            <a:ext cx="504720" cy="360360"/>
          </a:xfrm>
          <a:custGeom>
            <a:avLst/>
            <a:gdLst>
              <a:gd name="textAreaLeft" fmla="*/ 120960 w 504720"/>
              <a:gd name="textAreaRight" fmla="*/ 383760 w 504720"/>
              <a:gd name="textAreaTop" fmla="*/ 86400 h 360360"/>
              <a:gd name="textAreaBottom" fmla="*/ 273960 h 360360"/>
            </a:gdLst>
            <a:ahLst/>
            <a:rect l="textAreaLeft" t="textAreaTop" r="textAreaRight" b="textAreaBottom"/>
            <a:pathLst>
              <a:path w="504825" h="360362">
                <a:moveTo>
                  <a:pt x="121246" y="86550"/>
                </a:moveTo>
                <a:lnTo>
                  <a:pt x="121246" y="86550"/>
                </a:lnTo>
                <a:lnTo>
                  <a:pt x="252413" y="180181"/>
                </a:lnTo>
                <a:lnTo>
                  <a:pt x="383579" y="86550"/>
                </a:lnTo>
                <a:lnTo>
                  <a:pt x="383579" y="86550"/>
                </a:lnTo>
                <a:lnTo>
                  <a:pt x="252412" y="180181"/>
                </a:lnTo>
                <a:lnTo>
                  <a:pt x="383579" y="273812"/>
                </a:lnTo>
                <a:lnTo>
                  <a:pt x="383579" y="273812"/>
                </a:lnTo>
                <a:lnTo>
                  <a:pt x="252413" y="180181"/>
                </a:lnTo>
                <a:lnTo>
                  <a:pt x="121246" y="273812"/>
                </a:lnTo>
                <a:lnTo>
                  <a:pt x="121246" y="273812"/>
                </a:lnTo>
                <a:lnTo>
                  <a:pt x="252413" y="180181"/>
                </a:lnTo>
                <a:close/>
              </a:path>
            </a:pathLst>
          </a:custGeom>
          <a:solidFill>
            <a:srgbClr val="94b6d2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Прямоугольник 115"/>
          <p:cNvSpPr/>
          <p:nvPr/>
        </p:nvSpPr>
        <p:spPr>
          <a:xfrm>
            <a:off x="2072880" y="5805360"/>
            <a:ext cx="24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729-х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9 =4(54х+1458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Прямоугольник 116"/>
          <p:cNvSpPr/>
          <p:nvPr/>
        </p:nvSpPr>
        <p:spPr>
          <a:xfrm>
            <a:off x="4740480" y="580536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+ 24х -81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Прямоугольник 117"/>
          <p:cNvSpPr/>
          <p:nvPr/>
        </p:nvSpPr>
        <p:spPr>
          <a:xfrm>
            <a:off x="578520" y="6308640"/>
            <a:ext cx="493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 теореме Виета: х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= -27(постор.корень) и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х</a:t>
            </a:r>
            <a:r>
              <a:rPr b="1" lang="ru-RU" sz="1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= 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Прямоугольник 118"/>
          <p:cNvSpPr/>
          <p:nvPr/>
        </p:nvSpPr>
        <p:spPr>
          <a:xfrm>
            <a:off x="5895720" y="630864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Н = 27+3 =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Прямая соединительная линия 120"/>
          <p:cNvSpPr/>
          <p:nvPr/>
        </p:nvSpPr>
        <p:spPr>
          <a:xfrm flipH="1">
            <a:off x="7020000" y="3789360"/>
            <a:ext cx="21600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Прямая соединительная линия 122"/>
          <p:cNvSpPr/>
          <p:nvPr/>
        </p:nvSpPr>
        <p:spPr>
          <a:xfrm flipH="1">
            <a:off x="8532720" y="3716280"/>
            <a:ext cx="216000" cy="28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9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000"/>
                            </p:stCondLst>
                            <p:childTnLst>
                              <p:par>
                                <p:cTn id="6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3" dur="5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7000"/>
                            </p:stCondLst>
                            <p:childTnLst>
                              <p:par>
                                <p:cTn id="6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9000"/>
                            </p:stCondLst>
                            <p:childTnLst>
                              <p:par>
                                <p:cTn id="6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6" dur="5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0"/>
                            </p:stCondLst>
                            <p:childTnLst>
                              <p:par>
                                <p:cTn id="6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5" dur="5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7750"/>
                            </p:stCondLst>
                            <p:childTnLst>
                              <p:par>
                                <p:cTn id="66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8750"/>
                            </p:stCondLst>
                            <p:childTnLst>
                              <p:par>
                                <p:cTn id="674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67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7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7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7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6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50"/>
                            </p:stCondLst>
                            <p:childTnLst>
                              <p:par>
                                <p:cTn id="6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4" dur="5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550"/>
                            </p:stCondLst>
                            <p:childTnLst>
                              <p:par>
                                <p:cTn id="6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8" dur="5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0550"/>
                            </p:stCondLst>
                            <p:childTnLst>
                              <p:par>
                                <p:cTn id="7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9" dur="5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6000"/>
                            </p:stCondLst>
                            <p:childTnLst>
                              <p:par>
                                <p:cTn id="71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9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0" dur="1000" autoRev="1" fill="hold"/>
                                        <p:tgtEl>
                                          <p:spTgt spid="5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8000"/>
                            </p:stCondLst>
                            <p:childTnLst>
                              <p:par>
                                <p:cTn id="7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4" dur="250" autoRev="1" fill="hold"/>
                                        <p:tgtEl>
                                          <p:spTgt spid="5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7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2000"/>
                            </p:stCondLst>
                            <p:childTnLst>
                              <p:par>
                                <p:cTn id="7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6" dur="5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5" dur="5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500"/>
                            </p:stCondLst>
                            <p:childTnLst>
                              <p:par>
                                <p:cTn id="74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4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5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5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5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6500"/>
                            </p:stCondLst>
                            <p:childTnLst>
                              <p:par>
                                <p:cTn id="75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5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5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5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5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7150"/>
                            </p:stCondLst>
                            <p:childTnLst>
                              <p:par>
                                <p:cTn id="7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3" dur="5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8" dur="5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2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5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5500"/>
                            </p:stCondLst>
                            <p:childTnLst>
                              <p:par>
                                <p:cTn id="7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9" dur="5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10500"/>
                            </p:stCondLst>
                            <p:childTnLst>
                              <p:par>
                                <p:cTn id="7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0" dur="5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5000"/>
                            </p:stCondLst>
                            <p:childTnLst>
                              <p:par>
                                <p:cTn id="7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2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64 -0.0104 L -0.03889 0.04555 C -0.0467 0.05757 -0.05104 0.07491 -0.05104 0.09318 C -0.05104 0.11422 -0.0467 0.1311 -0.03889 0.14289 L -0.00364 0.19931 E">
                                      <p:cBhvr>
                                        <p:cTn id="798" dur="2000" fill="hold"/>
                                        <p:tgtEl>
                                          <p:spTgt spid="6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7000"/>
                            </p:stCondLst>
                            <p:childTnLst>
                              <p:par>
                                <p:cTn id="8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9000"/>
                            </p:stCondLst>
                            <p:childTnLst>
                              <p:par>
                                <p:cTn id="8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8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2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81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6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000"/>
                            </p:stCondLst>
                            <p:childTnLst>
                              <p:par>
                                <p:cTn id="8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8" dur="5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3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000"/>
                            </p:stCondLst>
                            <p:childTnLst>
                              <p:par>
                                <p:cTn id="8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6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3000"/>
                            </p:stCondLst>
                            <p:childTnLst>
                              <p:par>
                                <p:cTn id="8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1" dur="5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6" dur="5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1" dur="5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5000"/>
                            </p:stCondLst>
                            <p:childTnLst>
                              <p:par>
                                <p:cTn id="85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5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57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58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6300"/>
                            </p:stCondLst>
                            <p:childTnLst>
                              <p:par>
                                <p:cTn id="8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2" dur="3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9300"/>
                            </p:stCondLst>
                            <p:childTnLst>
                              <p:par>
                                <p:cTn id="8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Скругленный прямоугольник 56"/>
          <p:cNvSpPr/>
          <p:nvPr/>
        </p:nvSpPr>
        <p:spPr>
          <a:xfrm>
            <a:off x="4427640" y="4797360"/>
            <a:ext cx="1081080" cy="792360"/>
          </a:xfrm>
          <a:prstGeom prst="roundRect">
            <a:avLst>
              <a:gd name="adj" fmla="val 16667"/>
            </a:avLst>
          </a:prstGeom>
          <a:solidFill>
            <a:srgbClr val="5bd4ff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Прямоугольный треугольник 24"/>
          <p:cNvSpPr/>
          <p:nvPr/>
        </p:nvSpPr>
        <p:spPr>
          <a:xfrm rot="9460200">
            <a:off x="602640" y="4195080"/>
            <a:ext cx="1579320" cy="647640"/>
          </a:xfrm>
          <a:prstGeom prst="rtTriangl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Выноска 3 66"/>
          <p:cNvSpPr/>
          <p:nvPr/>
        </p:nvSpPr>
        <p:spPr>
          <a:xfrm>
            <a:off x="1619280" y="5661000"/>
            <a:ext cx="108108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0972" y="-37775"/>
                </a:moveTo>
                <a:lnTo>
                  <a:pt x="-5399" y="-4493"/>
                </a:lnTo>
                <a:lnTo>
                  <a:pt x="-18888" y="12607"/>
                </a:lnTo>
                <a:lnTo>
                  <a:pt x="-1200" y="19004"/>
                </a:lnTo>
              </a:path>
            </a:pathLst>
          </a:custGeom>
          <a:solidFill>
            <a:srgbClr val="d5db8b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Выноска 3 65"/>
          <p:cNvSpPr/>
          <p:nvPr/>
        </p:nvSpPr>
        <p:spPr>
          <a:xfrm>
            <a:off x="2556000" y="3645000"/>
            <a:ext cx="129528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5848" y="-3145"/>
                </a:lnTo>
                <a:lnTo>
                  <a:pt x="2895" y="-16621"/>
                </a:lnTo>
                <a:lnTo>
                  <a:pt x="51409" y="-25062"/>
                </a:lnTo>
              </a:path>
            </a:pathLst>
          </a:custGeom>
          <a:solidFill>
            <a:srgbClr val="d5db8b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Скругленный прямоугольник 40"/>
          <p:cNvSpPr/>
          <p:nvPr/>
        </p:nvSpPr>
        <p:spPr>
          <a:xfrm>
            <a:off x="7667640" y="3068640"/>
            <a:ext cx="431640" cy="64764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647640"/>
              <a:gd name="textAreaBottom" fmla="*/ 626760 h 647640"/>
            </a:gdLst>
            <a:ahLst/>
            <a:rect l="textAreaLeft" t="textAreaTop" r="textAreaRight" b="textAreaBottom"/>
            <a:pathLst>
              <a:path w="21600" h="32400">
                <a:moveTo>
                  <a:pt x="3600" y="0"/>
                </a:moveTo>
                <a:arcTo wR="3600" hR="3600" stAng="16200000" swAng="-5400000"/>
                <a:lnTo>
                  <a:pt x="0" y="28800"/>
                </a:lnTo>
                <a:arcTo wR="3600" hR="3600" stAng="10800000" swAng="-5400000"/>
                <a:lnTo>
                  <a:pt x="18000" y="32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Скругленный прямоугольник 39"/>
          <p:cNvSpPr/>
          <p:nvPr/>
        </p:nvSpPr>
        <p:spPr>
          <a:xfrm>
            <a:off x="5148360" y="3213000"/>
            <a:ext cx="792000" cy="36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468000" y="1052280"/>
            <a:ext cx="867564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В треугольнике ABC  АС=ВС=12, AH — высота,                          </a:t>
            </a:r>
            <a:endParaRPr b="0" lang="en-US" sz="2400" spc="-1" strike="noStrike">
              <a:solidFill>
                <a:srgbClr val="775f55"/>
              </a:solidFill>
              <a:latin typeface="Franklin Gothic Book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Найдите BH.</a:t>
            </a:r>
            <a:endParaRPr b="0" lang="en-US" sz="2400" spc="-1" strike="noStrike">
              <a:solidFill>
                <a:srgbClr val="775f55"/>
              </a:solidFill>
              <a:latin typeface="Franklin Gothic Book"/>
            </a:endParaRPr>
          </a:p>
        </p:txBody>
      </p:sp>
      <p:pic>
        <p:nvPicPr>
          <p:cNvPr id="655" name="Picture 2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395280" cy="6892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56" name="Object 2"/>
              <p:cNvSpPr txBox="1"/>
              <p:nvPr/>
            </p:nvSpPr>
            <p:spPr>
              <a:xfrm>
                <a:off x="6804000" y="907920"/>
                <a:ext cx="16606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BA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7" name="Равнобедренный треугольник 7"/>
          <p:cNvSpPr/>
          <p:nvPr/>
        </p:nvSpPr>
        <p:spPr>
          <a:xfrm>
            <a:off x="539640" y="2276640"/>
            <a:ext cx="1656000" cy="22320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Прямоугольник 13"/>
          <p:cNvSpPr/>
          <p:nvPr/>
        </p:nvSpPr>
        <p:spPr>
          <a:xfrm>
            <a:off x="426240" y="4437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Franklin Gothic Book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Прямоугольник 14"/>
          <p:cNvSpPr/>
          <p:nvPr/>
        </p:nvSpPr>
        <p:spPr>
          <a:xfrm>
            <a:off x="2016720" y="44370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Franklin Gothic Boo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Прямоугольник 15"/>
          <p:cNvSpPr/>
          <p:nvPr/>
        </p:nvSpPr>
        <p:spPr>
          <a:xfrm>
            <a:off x="1221480" y="19875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Franklin Gothic Boo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Прямоугольник 16"/>
          <p:cNvSpPr/>
          <p:nvPr/>
        </p:nvSpPr>
        <p:spPr>
          <a:xfrm>
            <a:off x="1977480" y="357192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Franklin Gothic Book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Прямоугольник 24"/>
          <p:cNvSpPr/>
          <p:nvPr/>
        </p:nvSpPr>
        <p:spPr>
          <a:xfrm>
            <a:off x="1220040" y="4508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Franklin Gothic Book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3" name="Object 3"/>
              <p:cNvSpPr txBox="1"/>
              <p:nvPr/>
            </p:nvSpPr>
            <p:spPr>
              <a:xfrm>
                <a:off x="3508200" y="1773360"/>
                <a:ext cx="376560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BA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AB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(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ВАС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АВС 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4" name="Прямоугольник 16"/>
          <p:cNvSpPr/>
          <p:nvPr/>
        </p:nvSpPr>
        <p:spPr>
          <a:xfrm>
            <a:off x="1044720" y="614988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Управляющая кнопка: далее 17">
            <a:hlinkClick r:id="rId3" action="ppaction://hlinksldjump"/>
          </p:cNvPr>
          <p:cNvSpPr/>
          <p:nvPr/>
        </p:nvSpPr>
        <p:spPr>
          <a:xfrm>
            <a:off x="8604360" y="6597720"/>
            <a:ext cx="539640" cy="260280"/>
          </a:xfrm>
          <a:custGeom>
            <a:avLst/>
            <a:gdLst>
              <a:gd name="textAreaLeft" fmla="*/ 16560 w 539640"/>
              <a:gd name="textAreaRight" fmla="*/ 523080 w 5396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44751" h="21600">
                <a:moveTo>
                  <a:pt x="0" y="0"/>
                </a:moveTo>
                <a:lnTo>
                  <a:pt x="44751" y="0"/>
                </a:lnTo>
                <a:lnTo>
                  <a:pt x="44751" y="21600"/>
                </a:lnTo>
                <a:lnTo>
                  <a:pt x="0" y="21600"/>
                </a:lnTo>
                <a:close/>
              </a:path>
              <a:path fill="lightenLess" w="44751" h="21600">
                <a:moveTo>
                  <a:pt x="0" y="0"/>
                </a:moveTo>
                <a:lnTo>
                  <a:pt x="44751" y="0"/>
                </a:lnTo>
                <a:lnTo>
                  <a:pt x="43351" y="1400"/>
                </a:lnTo>
                <a:lnTo>
                  <a:pt x="1400" y="1400"/>
                </a:lnTo>
                <a:close/>
              </a:path>
              <a:path fill="darken" w="44751" h="21600">
                <a:moveTo>
                  <a:pt x="44751" y="0"/>
                </a:moveTo>
                <a:lnTo>
                  <a:pt x="44751" y="21600"/>
                </a:lnTo>
                <a:lnTo>
                  <a:pt x="43351" y="20200"/>
                </a:lnTo>
                <a:lnTo>
                  <a:pt x="43351" y="1400"/>
                </a:lnTo>
                <a:close/>
              </a:path>
              <a:path fill="darkenLess" w="44751" h="21600">
                <a:moveTo>
                  <a:pt x="447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351" y="20200"/>
                </a:lnTo>
                <a:close/>
              </a:path>
              <a:path fill="lighten" w="447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751" h="21600">
                <a:moveTo>
                  <a:pt x="15369" y="3794"/>
                </a:moveTo>
                <a:lnTo>
                  <a:pt x="29382" y="10800"/>
                </a:lnTo>
                <a:lnTo>
                  <a:pt x="15369" y="17806"/>
                </a:lnTo>
                <a:close/>
              </a:path>
            </a:pathLst>
          </a:cu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Управляющая кнопка: домой 18"/>
          <p:cNvSpPr/>
          <p:nvPr/>
        </p:nvSpPr>
        <p:spPr>
          <a:xfrm>
            <a:off x="7740720" y="6524640"/>
            <a:ext cx="503280" cy="333360"/>
          </a:xfrm>
          <a:custGeom>
            <a:avLst/>
            <a:gdLst>
              <a:gd name="textAreaLeft" fmla="*/ 21600 w 503280"/>
              <a:gd name="textAreaRight" fmla="*/ 481680 w 503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2598" h="21600">
                <a:moveTo>
                  <a:pt x="0" y="0"/>
                </a:moveTo>
                <a:lnTo>
                  <a:pt x="32598" y="0"/>
                </a:lnTo>
                <a:lnTo>
                  <a:pt x="32598" y="21600"/>
                </a:lnTo>
                <a:lnTo>
                  <a:pt x="0" y="21600"/>
                </a:lnTo>
                <a:close/>
              </a:path>
              <a:path fill="lightenLess" w="32598" h="21600">
                <a:moveTo>
                  <a:pt x="0" y="0"/>
                </a:moveTo>
                <a:lnTo>
                  <a:pt x="32598" y="0"/>
                </a:lnTo>
                <a:lnTo>
                  <a:pt x="31198" y="1400"/>
                </a:lnTo>
                <a:lnTo>
                  <a:pt x="1400" y="1400"/>
                </a:lnTo>
                <a:close/>
              </a:path>
              <a:path fill="darken" w="32598" h="21600">
                <a:moveTo>
                  <a:pt x="32598" y="0"/>
                </a:moveTo>
                <a:lnTo>
                  <a:pt x="32598" y="21600"/>
                </a:lnTo>
                <a:lnTo>
                  <a:pt x="31198" y="20200"/>
                </a:lnTo>
                <a:lnTo>
                  <a:pt x="31198" y="1400"/>
                </a:lnTo>
                <a:close/>
              </a:path>
              <a:path fill="darkenLess" w="32598" h="21600">
                <a:moveTo>
                  <a:pt x="325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8" y="20200"/>
                </a:lnTo>
                <a:close/>
              </a:path>
              <a:path fill="lighten" w="325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8" h="21600">
                <a:moveTo>
                  <a:pt x="16299" y="3837"/>
                </a:moveTo>
                <a:lnTo>
                  <a:pt x="18875" y="6448"/>
                </a:lnTo>
                <a:lnTo>
                  <a:pt x="18875" y="4707"/>
                </a:lnTo>
                <a:lnTo>
                  <a:pt x="20651" y="4707"/>
                </a:lnTo>
                <a:lnTo>
                  <a:pt x="20651" y="8224"/>
                </a:lnTo>
                <a:lnTo>
                  <a:pt x="23262" y="10800"/>
                </a:lnTo>
                <a:lnTo>
                  <a:pt x="21608" y="10800"/>
                </a:lnTo>
                <a:lnTo>
                  <a:pt x="21608" y="17989"/>
                </a:lnTo>
                <a:lnTo>
                  <a:pt x="10990" y="17989"/>
                </a:lnTo>
                <a:lnTo>
                  <a:pt x="10990" y="10800"/>
                </a:lnTo>
                <a:lnTo>
                  <a:pt x="9336" y="10800"/>
                </a:lnTo>
                <a:close/>
              </a:path>
              <a:path fill="darkenLess" w="32598" h="21600">
                <a:moveTo>
                  <a:pt x="18875" y="6448"/>
                </a:moveTo>
                <a:lnTo>
                  <a:pt x="18875" y="4707"/>
                </a:lnTo>
                <a:lnTo>
                  <a:pt x="20651" y="4707"/>
                </a:lnTo>
                <a:lnTo>
                  <a:pt x="20651" y="8224"/>
                </a:lnTo>
                <a:close/>
              </a:path>
              <a:path fill="darkenLess" w="32598" h="21600">
                <a:moveTo>
                  <a:pt x="15376" y="14299"/>
                </a:moveTo>
                <a:lnTo>
                  <a:pt x="17222" y="14299"/>
                </a:lnTo>
                <a:lnTo>
                  <a:pt x="17222" y="17989"/>
                </a:lnTo>
                <a:lnTo>
                  <a:pt x="21608" y="17989"/>
                </a:lnTo>
                <a:lnTo>
                  <a:pt x="21608" y="10800"/>
                </a:lnTo>
                <a:lnTo>
                  <a:pt x="10990" y="10800"/>
                </a:lnTo>
                <a:lnTo>
                  <a:pt x="10990" y="17989"/>
                </a:lnTo>
                <a:lnTo>
                  <a:pt x="15376" y="17989"/>
                </a:lnTo>
                <a:close/>
              </a:path>
            </a:pathLst>
          </a:cu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Прямоугольник 20"/>
          <p:cNvSpPr/>
          <p:nvPr/>
        </p:nvSpPr>
        <p:spPr>
          <a:xfrm>
            <a:off x="1765800" y="328464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Прямоугольник 21"/>
          <p:cNvSpPr/>
          <p:nvPr/>
        </p:nvSpPr>
        <p:spPr>
          <a:xfrm>
            <a:off x="613440" y="328464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Object 19"/>
              <p:cNvSpPr txBox="1"/>
              <p:nvPr/>
            </p:nvSpPr>
            <p:spPr>
              <a:xfrm>
                <a:off x="1009800" y="5661000"/>
                <a:ext cx="4181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Δ АВН: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ВН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ВН</m:t>
                    </m:r>
                    <m:r>
                      <m:t xml:space="preserve">=</m:t>
                    </m:r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ВН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Object 20"/>
              <p:cNvSpPr txBox="1"/>
              <p:nvPr/>
            </p:nvSpPr>
            <p:spPr>
              <a:xfrm>
                <a:off x="2843280" y="2997360"/>
                <a:ext cx="51940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ABC  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osABC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1" name="Прямая соединительная линия 8"/>
          <p:cNvSpPr/>
          <p:nvPr/>
        </p:nvSpPr>
        <p:spPr>
          <a:xfrm flipV="1">
            <a:off x="539640" y="3931920"/>
            <a:ext cx="1440000" cy="58716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2" name="Object 4"/>
              <p:cNvSpPr txBox="1"/>
              <p:nvPr/>
            </p:nvSpPr>
            <p:spPr>
              <a:xfrm>
                <a:off x="2484360" y="4869000"/>
                <a:ext cx="541512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Δ ВСР:  соsАВС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РВ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С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РВ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РВ</m:t>
                    </m:r>
                    <m:r>
                      <m:t xml:space="preserve">=</m:t>
                    </m:r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73" name="Левая фигурная скобка 28"/>
          <p:cNvSpPr/>
          <p:nvPr/>
        </p:nvSpPr>
        <p:spPr>
          <a:xfrm rot="16200000">
            <a:off x="1258920" y="4076280"/>
            <a:ext cx="289080" cy="1584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7200 h 1584360"/>
              <a:gd name="textAreaBottom" fmla="*/ 157716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4"/>
                  <a:pt x="10800" y="328"/>
                </a:cubicBezTo>
                <a:lnTo>
                  <a:pt x="10800" y="10261"/>
                </a:lnTo>
                <a:cubicBezTo>
                  <a:pt x="10800" y="10425"/>
                  <a:pt x="5400" y="10589"/>
                  <a:pt x="0" y="10589"/>
                </a:cubicBezTo>
                <a:cubicBezTo>
                  <a:pt x="5400" y="10589"/>
                  <a:pt x="10800" y="10753"/>
                  <a:pt x="10800" y="10917"/>
                </a:cubicBezTo>
                <a:lnTo>
                  <a:pt x="10800" y="21272"/>
                </a:lnTo>
                <a:cubicBezTo>
                  <a:pt x="10800" y="21436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5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Прямоугольник 29"/>
          <p:cNvSpPr/>
          <p:nvPr/>
        </p:nvSpPr>
        <p:spPr>
          <a:xfrm>
            <a:off x="1113480" y="4941720"/>
            <a:ext cx="543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5ea4"/>
                </a:solidFill>
                <a:latin typeface="Franklin Gothic Book"/>
              </a:rPr>
              <a:t>12√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Прямоугольник 32"/>
          <p:cNvSpPr/>
          <p:nvPr/>
        </p:nvSpPr>
        <p:spPr>
          <a:xfrm>
            <a:off x="7891920" y="616572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Ответ: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Овал 35"/>
          <p:cNvSpPr/>
          <p:nvPr/>
        </p:nvSpPr>
        <p:spPr>
          <a:xfrm>
            <a:off x="4356000" y="1701720"/>
            <a:ext cx="1295640" cy="719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Овал 36"/>
          <p:cNvSpPr/>
          <p:nvPr/>
        </p:nvSpPr>
        <p:spPr>
          <a:xfrm>
            <a:off x="4067280" y="3213000"/>
            <a:ext cx="93492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Овал 37"/>
          <p:cNvSpPr/>
          <p:nvPr/>
        </p:nvSpPr>
        <p:spPr>
          <a:xfrm>
            <a:off x="6443640" y="3068640"/>
            <a:ext cx="36036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Скругленный прямоугольник 42"/>
          <p:cNvSpPr/>
          <p:nvPr/>
        </p:nvSpPr>
        <p:spPr>
          <a:xfrm>
            <a:off x="3059280" y="5084640"/>
            <a:ext cx="865080" cy="358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Скругленный прямоугольник 43"/>
          <p:cNvSpPr/>
          <p:nvPr/>
        </p:nvSpPr>
        <p:spPr>
          <a:xfrm>
            <a:off x="5003640" y="4869000"/>
            <a:ext cx="503280" cy="64764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647640"/>
              <a:gd name="textAreaBottom" fmla="*/ 623160 h 647640"/>
            </a:gdLst>
            <a:ahLst/>
            <a:rect l="textAreaLeft" t="textAreaTop" r="textAreaRight" b="textAreaBottom"/>
            <a:pathLst>
              <a:path w="21600" h="27791">
                <a:moveTo>
                  <a:pt x="3600" y="0"/>
                </a:moveTo>
                <a:arcTo wR="3600" hR="3600" stAng="16200000" swAng="-5400000"/>
                <a:lnTo>
                  <a:pt x="0" y="24191"/>
                </a:lnTo>
                <a:arcTo wR="3600" hR="3600" stAng="10800000" swAng="-5400000"/>
                <a:lnTo>
                  <a:pt x="18000" y="277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Дуга 44"/>
          <p:cNvSpPr/>
          <p:nvPr/>
        </p:nvSpPr>
        <p:spPr>
          <a:xfrm>
            <a:off x="468360" y="4149720"/>
            <a:ext cx="503280" cy="647640"/>
          </a:xfrm>
          <a:custGeom>
            <a:avLst/>
            <a:gdLst>
              <a:gd name="textAreaLeft" fmla="*/ 176040 w 503280"/>
              <a:gd name="textAreaRight" fmla="*/ 503640 w 503280"/>
              <a:gd name="textAreaTop" fmla="*/ 0 h 647640"/>
              <a:gd name="textAreaBottom" fmla="*/ 374040 h 647640"/>
            </a:gdLst>
            <a:ahLst/>
            <a:rect l="textAreaLeft" t="textAreaTop" r="textAreaRight" b="textAreaBottom"/>
            <a:pathLst>
              <a:path stroke="0" w="503237" h="647700">
                <a:moveTo>
                  <a:pt x="176074" y="14941"/>
                </a:moveTo>
                <a:lnTo>
                  <a:pt x="176074" y="14940"/>
                </a:lnTo>
                <a:arcTo wR="251619" hR="323850" stAng="-6224522" swAng="6911489"/>
                <a:lnTo>
                  <a:pt x="251619" y="323850"/>
                </a:lnTo>
                <a:close/>
              </a:path>
              <a:path fill="none" w="503237" h="647700">
                <a:moveTo>
                  <a:pt x="176074" y="14941"/>
                </a:moveTo>
                <a:lnTo>
                  <a:pt x="176074" y="14940"/>
                </a:lnTo>
                <a:arcTo wR="251619" hR="323850" stAng="-6224522" swAng="6911489"/>
              </a:path>
            </a:pathLst>
          </a:custGeom>
          <a:noFill/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Дуга 45"/>
          <p:cNvSpPr/>
          <p:nvPr/>
        </p:nvSpPr>
        <p:spPr>
          <a:xfrm rot="14513400">
            <a:off x="1873800" y="4067280"/>
            <a:ext cx="500040" cy="593640"/>
          </a:xfrm>
          <a:custGeom>
            <a:avLst/>
            <a:gdLst>
              <a:gd name="textAreaLeft" fmla="*/ 264960 w 500040"/>
              <a:gd name="textAreaRight" fmla="*/ 500400 w 500040"/>
              <a:gd name="textAreaTop" fmla="*/ 360 h 593640"/>
              <a:gd name="textAreaBottom" fmla="*/ 352440 h 593640"/>
            </a:gdLst>
            <a:ahLst/>
            <a:rect l="textAreaLeft" t="textAreaTop" r="textAreaRight" b="textAreaBottom"/>
            <a:pathLst>
              <a:path stroke="0" w="500063" h="593725">
                <a:moveTo>
                  <a:pt x="264816" y="519"/>
                </a:moveTo>
                <a:lnTo>
                  <a:pt x="264816" y="519"/>
                </a:lnTo>
                <a:arcTo wR="250032" hR="296863" stAng="-5228640" swAng="5995489"/>
                <a:lnTo>
                  <a:pt x="250032" y="296863"/>
                </a:lnTo>
                <a:close/>
              </a:path>
              <a:path fill="none" w="500063" h="593725">
                <a:moveTo>
                  <a:pt x="264816" y="519"/>
                </a:moveTo>
                <a:lnTo>
                  <a:pt x="264816" y="519"/>
                </a:lnTo>
                <a:arcTo wR="250032" hR="296863" stAng="-5228640" swAng="5995489"/>
              </a:path>
            </a:pathLst>
          </a:custGeom>
          <a:noFill/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Прямоугольник 46"/>
          <p:cNvSpPr/>
          <p:nvPr/>
        </p:nvSpPr>
        <p:spPr>
          <a:xfrm>
            <a:off x="1403280" y="3860640"/>
            <a:ext cx="1857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Object 42"/>
              <p:cNvSpPr txBox="1"/>
              <p:nvPr/>
            </p:nvSpPr>
            <p:spPr>
              <a:xfrm>
                <a:off x="2041560" y="2276640"/>
                <a:ext cx="21794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AB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ABH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Object 43"/>
              <p:cNvSpPr txBox="1"/>
              <p:nvPr/>
            </p:nvSpPr>
            <p:spPr>
              <a:xfrm>
                <a:off x="5567400" y="2349360"/>
                <a:ext cx="12859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ABН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6" name="Прямоугольник 49"/>
          <p:cNvSpPr/>
          <p:nvPr/>
        </p:nvSpPr>
        <p:spPr>
          <a:xfrm>
            <a:off x="4648680" y="242100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Ит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Прямая со стрелкой 51"/>
          <p:cNvCxnSpPr/>
          <p:nvPr/>
        </p:nvCxnSpPr>
        <p:spPr>
          <a:xfrm flipH="1" flipV="1">
            <a:off x="6084000" y="2707560"/>
            <a:ext cx="1801080" cy="36108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688" name="Object 44"/>
              <p:cNvSpPr txBox="1"/>
              <p:nvPr/>
            </p:nvSpPr>
            <p:spPr>
              <a:xfrm>
                <a:off x="2583000" y="3645000"/>
                <a:ext cx="13842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В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9" name="Прямоугольник 55"/>
          <p:cNvSpPr/>
          <p:nvPr/>
        </p:nvSpPr>
        <p:spPr>
          <a:xfrm>
            <a:off x="2862720" y="4437000"/>
            <a:ext cx="48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айдем АВ. Рассмотрим прямоугольный ∆ВСР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Прямоугольный треугольник 25"/>
          <p:cNvSpPr/>
          <p:nvPr/>
        </p:nvSpPr>
        <p:spPr>
          <a:xfrm>
            <a:off x="1403280" y="2349360"/>
            <a:ext cx="792360" cy="2159280"/>
          </a:xfrm>
          <a:prstGeom prst="rtTriangle">
            <a:avLst/>
          </a:pr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Управляющая кнопка: документ 61"/>
          <p:cNvSpPr/>
          <p:nvPr/>
        </p:nvSpPr>
        <p:spPr>
          <a:xfrm>
            <a:off x="7451640" y="242100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7088" h="21600">
                <a:moveTo>
                  <a:pt x="8017" y="3985"/>
                </a:moveTo>
                <a:lnTo>
                  <a:pt x="15015" y="3985"/>
                </a:lnTo>
                <a:lnTo>
                  <a:pt x="19071" y="7484"/>
                </a:lnTo>
                <a:lnTo>
                  <a:pt x="19071" y="17615"/>
                </a:lnTo>
                <a:lnTo>
                  <a:pt x="8017" y="17615"/>
                </a:lnTo>
                <a:close/>
              </a:path>
              <a:path fill="darken" w="27088" h="21600">
                <a:moveTo>
                  <a:pt x="15015" y="3985"/>
                </a:moveTo>
                <a:lnTo>
                  <a:pt x="19071" y="7484"/>
                </a:lnTo>
                <a:lnTo>
                  <a:pt x="15015" y="7484"/>
                </a:lnTo>
                <a:close/>
              </a:path>
            </a:pathLst>
          </a:cu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Управляющая кнопка: сведения 67"/>
          <p:cNvSpPr/>
          <p:nvPr/>
        </p:nvSpPr>
        <p:spPr>
          <a:xfrm>
            <a:off x="8459640" y="314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5890" h="21600">
                <a:moveTo>
                  <a:pt x="12945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5890" h="21600">
                <a:moveTo>
                  <a:pt x="10369" y="8224"/>
                </a:moveTo>
                <a:lnTo>
                  <a:pt x="14233" y="8224"/>
                </a:lnTo>
                <a:lnTo>
                  <a:pt x="14233" y="15221"/>
                </a:lnTo>
                <a:lnTo>
                  <a:pt x="15521" y="15221"/>
                </a:lnTo>
                <a:lnTo>
                  <a:pt x="15521" y="16144"/>
                </a:lnTo>
                <a:lnTo>
                  <a:pt x="10369" y="16144"/>
                </a:lnTo>
                <a:lnTo>
                  <a:pt x="10369" y="15221"/>
                </a:lnTo>
                <a:lnTo>
                  <a:pt x="11657" y="15221"/>
                </a:lnTo>
                <a:lnTo>
                  <a:pt x="11657" y="9129"/>
                </a:lnTo>
                <a:lnTo>
                  <a:pt x="10369" y="9129"/>
                </a:lnTo>
                <a:close/>
              </a:path>
            </a:pathLst>
          </a:cu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Прямая соединительная линия 13"/>
          <p:cNvSpPr/>
          <p:nvPr/>
        </p:nvSpPr>
        <p:spPr>
          <a:xfrm flipH="1">
            <a:off x="1366560" y="2357280"/>
            <a:ext cx="14040" cy="2151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4" name="Прямая со стрелкой 69"/>
          <p:cNvCxnSpPr/>
          <p:nvPr/>
        </p:nvCxnSpPr>
        <p:spPr>
          <a:xfrm flipV="1">
            <a:off x="5579640" y="1557000"/>
            <a:ext cx="1513800" cy="28800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95" name="Прямоугольный треугольник 52"/>
          <p:cNvSpPr/>
          <p:nvPr/>
        </p:nvSpPr>
        <p:spPr>
          <a:xfrm rot="9460200">
            <a:off x="602640" y="4225320"/>
            <a:ext cx="1562040" cy="647640"/>
          </a:xfrm>
          <a:prstGeom prst="rtTriangl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Прямоугольник 50"/>
          <p:cNvSpPr/>
          <p:nvPr/>
        </p:nvSpPr>
        <p:spPr>
          <a:xfrm>
            <a:off x="5532840" y="5805360"/>
            <a:ext cx="325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В˂НВ  ═&gt; ∆АВС - тупоуго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Прямоугольник 53"/>
          <p:cNvSpPr/>
          <p:nvPr/>
        </p:nvSpPr>
        <p:spPr>
          <a:xfrm>
            <a:off x="3224160" y="6308640"/>
            <a:ext cx="32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 способ решение этой 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Счетверенная стрелка 57"/>
          <p:cNvSpPr/>
          <p:nvPr/>
        </p:nvSpPr>
        <p:spPr>
          <a:xfrm rot="18953400">
            <a:off x="4708080" y="5047920"/>
            <a:ext cx="459000" cy="372960"/>
          </a:xfrm>
          <a:custGeom>
            <a:avLst/>
            <a:gdLst>
              <a:gd name="textAreaLeft" fmla="*/ 18720 w 459000"/>
              <a:gd name="textAreaRight" fmla="*/ 440280 w 459000"/>
              <a:gd name="textAreaTop" fmla="*/ 183240 h 372960"/>
              <a:gd name="textAreaBottom" fmla="*/ 189720 h 372960"/>
            </a:gdLst>
            <a:ahLst/>
            <a:rect l="textAreaLeft" t="textAreaTop" r="textAreaRight" b="textAreaBottom"/>
            <a:pathLst>
              <a:path w="458788" h="373063">
                <a:moveTo>
                  <a:pt x="0" y="186532"/>
                </a:moveTo>
                <a:lnTo>
                  <a:pt x="83939" y="172489"/>
                </a:lnTo>
                <a:lnTo>
                  <a:pt x="83939" y="183392"/>
                </a:lnTo>
                <a:lnTo>
                  <a:pt x="226255" y="183392"/>
                </a:lnTo>
                <a:lnTo>
                  <a:pt x="226255" y="83939"/>
                </a:lnTo>
                <a:lnTo>
                  <a:pt x="215352" y="83939"/>
                </a:lnTo>
                <a:lnTo>
                  <a:pt x="229394" y="0"/>
                </a:lnTo>
                <a:lnTo>
                  <a:pt x="243436" y="83939"/>
                </a:lnTo>
                <a:lnTo>
                  <a:pt x="232533" y="83939"/>
                </a:lnTo>
                <a:lnTo>
                  <a:pt x="232533" y="183392"/>
                </a:lnTo>
                <a:lnTo>
                  <a:pt x="374849" y="183392"/>
                </a:lnTo>
                <a:lnTo>
                  <a:pt x="374849" y="172489"/>
                </a:lnTo>
                <a:lnTo>
                  <a:pt x="458788" y="186532"/>
                </a:lnTo>
                <a:lnTo>
                  <a:pt x="374849" y="200574"/>
                </a:lnTo>
                <a:lnTo>
                  <a:pt x="374849" y="189671"/>
                </a:lnTo>
                <a:lnTo>
                  <a:pt x="232533" y="189671"/>
                </a:lnTo>
                <a:lnTo>
                  <a:pt x="232533" y="289124"/>
                </a:lnTo>
                <a:lnTo>
                  <a:pt x="243436" y="289124"/>
                </a:lnTo>
                <a:lnTo>
                  <a:pt x="229394" y="373063"/>
                </a:lnTo>
                <a:lnTo>
                  <a:pt x="215352" y="289124"/>
                </a:lnTo>
                <a:lnTo>
                  <a:pt x="226255" y="289124"/>
                </a:lnTo>
                <a:lnTo>
                  <a:pt x="226255" y="189671"/>
                </a:lnTo>
                <a:lnTo>
                  <a:pt x="83939" y="189671"/>
                </a:lnTo>
                <a:lnTo>
                  <a:pt x="83939" y="20057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55"/>
          <p:cNvSpPr/>
          <p:nvPr/>
        </p:nvSpPr>
        <p:spPr>
          <a:xfrm>
            <a:off x="324000" y="18900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0000"/>
                </a:solidFill>
                <a:latin typeface="Franklin Gothic Book"/>
              </a:rPr>
              <a:t>2.1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4" dur="5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0"/>
                            </p:stCondLst>
                            <p:childTnLst>
                              <p:par>
                                <p:cTn id="8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1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5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7000"/>
                            </p:stCondLst>
                            <p:childTnLst>
                              <p:par>
                                <p:cTn id="8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9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4" dur="5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5000"/>
                            </p:stCondLst>
                            <p:childTnLst>
                              <p:par>
                                <p:cTn id="8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8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7000"/>
                            </p:stCondLst>
                            <p:childTnLst>
                              <p:par>
                                <p:cTn id="9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2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9000"/>
                            </p:stCondLst>
                            <p:childTnLst>
                              <p:par>
                                <p:cTn id="9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6" dur="3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0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5" dur="5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5000"/>
                            </p:stCondLst>
                            <p:childTnLst>
                              <p:par>
                                <p:cTn id="9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500"/>
                            </p:stCondLst>
                            <p:childTnLst>
                              <p:par>
                                <p:cTn id="9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7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8" dur="500" autoRev="1" fill="hold"/>
                                        <p:tgtEl>
                                          <p:spTgt spid="6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1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7500"/>
                            </p:stCondLst>
                            <p:childTnLst>
                              <p:par>
                                <p:cTn id="9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5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8500"/>
                            </p:stCondLst>
                            <p:childTnLst>
                              <p:par>
                                <p:cTn id="9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9" dur="3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11500"/>
                            </p:stCondLst>
                            <p:childTnLst>
                              <p:par>
                                <p:cTn id="9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3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8" dur="5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5000"/>
                            </p:stCondLst>
                            <p:childTnLst>
                              <p:par>
                                <p:cTn id="9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2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6000"/>
                            </p:stCondLst>
                            <p:childTnLst>
                              <p:par>
                                <p:cTn id="9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6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2000"/>
                            </p:stCondLst>
                            <p:childTnLst>
                              <p:par>
                                <p:cTn id="9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5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7000"/>
                            </p:stCondLst>
                            <p:childTnLst>
                              <p:par>
                                <p:cTn id="96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0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3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6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0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3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6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9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9000"/>
                            </p:stCondLst>
                            <p:childTnLst>
                              <p:par>
                                <p:cTn id="9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2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11000"/>
                            </p:stCondLst>
                            <p:childTnLst>
                              <p:par>
                                <p:cTn id="9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7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13000"/>
                            </p:stCondLst>
                            <p:childTnLst>
                              <p:par>
                                <p:cTn id="9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1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5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5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9" dur="5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5" dur="1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9fefb"/>
                                      </p:to>
                                    </p:animClr>
                                    <p:animClr clrSpc="rgb">
                                      <p:cBhvr>
                                        <p:cTn id="1026" dur="1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9fefb"/>
                                      </p:to>
                                    </p:animClr>
                                    <p:set>
                                      <p:cBhvr>
                                        <p:cTn id="1027" dur="1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4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9fefb"/>
                                      </p:to>
                                    </p:animClr>
                                    <p:animClr clrSpc="rgb">
                                      <p:cBhvr>
                                        <p:cTn id="1035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9fefb"/>
                                      </p:to>
                                    </p:animClr>
                                    <p:set>
                                      <p:cBhvr>
                                        <p:cTn id="1036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3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3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5" dur="3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4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468000" y="1052280"/>
            <a:ext cx="867564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В треугольнике ABC  АС=ВС=12, AH — высота,                          </a:t>
            </a:r>
            <a:endParaRPr b="0" lang="en-US" sz="2400" spc="-1" strike="noStrike">
              <a:solidFill>
                <a:srgbClr val="775f55"/>
              </a:solidFill>
              <a:latin typeface="Franklin Gothic Book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Найдите BH.</a:t>
            </a:r>
            <a:endParaRPr b="0" lang="en-US" sz="2400" spc="-1" strike="noStrike">
              <a:solidFill>
                <a:srgbClr val="775f55"/>
              </a:solidFill>
              <a:latin typeface="Franklin Gothic Book"/>
            </a:endParaRPr>
          </a:p>
          <a:p>
            <a:pPr marL="318960" indent="-318960">
              <a:spcBef>
                <a:spcPts val="601"/>
              </a:spcBef>
              <a:buClr>
                <a:srgbClr val="94b6d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5f55"/>
              </a:solidFill>
              <a:latin typeface="Franklin Gothic Book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395280" cy="6892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02" name="Object 2"/>
              <p:cNvSpPr txBox="1"/>
              <p:nvPr/>
            </p:nvSpPr>
            <p:spPr>
              <a:xfrm>
                <a:off x="6804000" y="907920"/>
                <a:ext cx="16606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BA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3" name="Равнобедренный треугольник 7"/>
          <p:cNvSpPr/>
          <p:nvPr/>
        </p:nvSpPr>
        <p:spPr>
          <a:xfrm>
            <a:off x="539640" y="3716280"/>
            <a:ext cx="4319640" cy="1441440"/>
          </a:xfrm>
          <a:prstGeom prst="triangle">
            <a:avLst>
              <a:gd name="adj" fmla="val 5034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Прямоугольник 13"/>
          <p:cNvSpPr/>
          <p:nvPr/>
        </p:nvSpPr>
        <p:spPr>
          <a:xfrm>
            <a:off x="391320" y="508464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Franklin Gothic Book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Прямоугольник 14"/>
          <p:cNvSpPr/>
          <p:nvPr/>
        </p:nvSpPr>
        <p:spPr>
          <a:xfrm>
            <a:off x="4790160" y="494172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Franklin Gothic Boo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Прямоугольник 15"/>
          <p:cNvSpPr/>
          <p:nvPr/>
        </p:nvSpPr>
        <p:spPr>
          <a:xfrm>
            <a:off x="2699640" y="3429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Franklin Gothic Boo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Прямоугольник 16"/>
          <p:cNvSpPr/>
          <p:nvPr/>
        </p:nvSpPr>
        <p:spPr>
          <a:xfrm>
            <a:off x="1761480" y="292428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Franklin Gothic Book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Прямоугольник 22"/>
          <p:cNvSpPr/>
          <p:nvPr/>
        </p:nvSpPr>
        <p:spPr>
          <a:xfrm>
            <a:off x="3710880" y="414972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Прямоугольный треугольник 13"/>
          <p:cNvSpPr/>
          <p:nvPr/>
        </p:nvSpPr>
        <p:spPr>
          <a:xfrm rot="7561800">
            <a:off x="429480" y="4001760"/>
            <a:ext cx="2398680" cy="878040"/>
          </a:xfrm>
          <a:prstGeom prst="rtTriangle">
            <a:avLst/>
          </a:prstGeom>
          <a:solidFill>
            <a:srgbClr val="92d050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Прямоугольник 39"/>
          <p:cNvSpPr/>
          <p:nvPr/>
        </p:nvSpPr>
        <p:spPr>
          <a:xfrm rot="13413600">
            <a:off x="1607040" y="3093840"/>
            <a:ext cx="6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Прямая соединительная линия 15"/>
          <p:cNvSpPr/>
          <p:nvPr/>
        </p:nvSpPr>
        <p:spPr>
          <a:xfrm flipH="1" flipV="1">
            <a:off x="1979280" y="3213000"/>
            <a:ext cx="2808360" cy="191304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Прямая соединительная линия 16"/>
          <p:cNvSpPr/>
          <p:nvPr/>
        </p:nvSpPr>
        <p:spPr>
          <a:xfrm flipV="1">
            <a:off x="539640" y="3213000"/>
            <a:ext cx="1440000" cy="19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Правая фигурная скобка 18"/>
          <p:cNvSpPr/>
          <p:nvPr/>
        </p:nvSpPr>
        <p:spPr>
          <a:xfrm rot="18427800">
            <a:off x="2422800" y="2761200"/>
            <a:ext cx="192240" cy="847800"/>
          </a:xfrm>
          <a:custGeom>
            <a:avLst/>
            <a:gdLst>
              <a:gd name="textAreaLeft" fmla="*/ 0 w 192240"/>
              <a:gd name="textAreaRight" fmla="*/ 69480 w 192240"/>
              <a:gd name="textAreaTop" fmla="*/ 4680 h 847800"/>
              <a:gd name="textAreaBottom" fmla="*/ 843120 h 84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4"/>
                  <a:pt x="10800" y="408"/>
                </a:cubicBezTo>
                <a:lnTo>
                  <a:pt x="10800" y="9740"/>
                </a:lnTo>
                <a:cubicBezTo>
                  <a:pt x="10800" y="9944"/>
                  <a:pt x="16200" y="10148"/>
                  <a:pt x="21600" y="10148"/>
                </a:cubicBezTo>
                <a:cubicBezTo>
                  <a:pt x="16200" y="10148"/>
                  <a:pt x="10800" y="10352"/>
                  <a:pt x="10800" y="10556"/>
                </a:cubicBezTo>
                <a:lnTo>
                  <a:pt x="10800" y="21192"/>
                </a:lnTo>
                <a:cubicBezTo>
                  <a:pt x="10800" y="21396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Прямоугольник 23"/>
          <p:cNvSpPr/>
          <p:nvPr/>
        </p:nvSpPr>
        <p:spPr>
          <a:xfrm>
            <a:off x="1478880" y="414972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Дуга 23"/>
          <p:cNvSpPr/>
          <p:nvPr/>
        </p:nvSpPr>
        <p:spPr>
          <a:xfrm>
            <a:off x="900000" y="4797360"/>
            <a:ext cx="358920" cy="647640"/>
          </a:xfrm>
          <a:custGeom>
            <a:avLst/>
            <a:gdLst>
              <a:gd name="textAreaLeft" fmla="*/ 179640 w 358920"/>
              <a:gd name="textAreaRight" fmla="*/ 358920 w 358920"/>
              <a:gd name="textAreaTop" fmla="*/ 0 h 647640"/>
              <a:gd name="textAreaBottom" fmla="*/ 324000 h 647640"/>
            </a:gdLst>
            <a:ahLst/>
            <a:rect l="textAreaLeft" t="textAreaTop" r="textAreaRight" b="textAreaBottom"/>
            <a:pathLst>
              <a:path stroke="0" w="358775" h="647700">
                <a:moveTo>
                  <a:pt x="179388" y="0"/>
                </a:moveTo>
                <a:lnTo>
                  <a:pt x="179388" y="0"/>
                </a:lnTo>
                <a:arcTo wR="179388" hR="323850" stAng="-5400000" swAng="5400000"/>
                <a:lnTo>
                  <a:pt x="179388" y="323850"/>
                </a:lnTo>
                <a:close/>
              </a:path>
              <a:path fill="none" w="358775" h="647700">
                <a:moveTo>
                  <a:pt x="179388" y="0"/>
                </a:moveTo>
                <a:lnTo>
                  <a:pt x="179388" y="0"/>
                </a:lnTo>
                <a:arcTo wR="179388" hR="323850" stAng="-5400000" swAng="5400000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Дуга 24"/>
          <p:cNvSpPr/>
          <p:nvPr/>
        </p:nvSpPr>
        <p:spPr>
          <a:xfrm rot="16601400">
            <a:off x="4063680" y="4860360"/>
            <a:ext cx="576360" cy="503280"/>
          </a:xfrm>
          <a:custGeom>
            <a:avLst/>
            <a:gdLst>
              <a:gd name="textAreaLeft" fmla="*/ 213840 w 576360"/>
              <a:gd name="textAreaRight" fmla="*/ 564120 w 576360"/>
              <a:gd name="textAreaTop" fmla="*/ 0 h 503280"/>
              <a:gd name="textAreaBottom" fmla="*/ 178200 h 503280"/>
            </a:gdLst>
            <a:ahLst/>
            <a:rect l="textAreaLeft" t="textAreaTop" r="textAreaRight" b="textAreaBottom"/>
            <a:pathLst>
              <a:path stroke="0" w="576262" h="503237">
                <a:moveTo>
                  <a:pt x="213751" y="8528"/>
                </a:moveTo>
                <a:lnTo>
                  <a:pt x="213751" y="8528"/>
                </a:lnTo>
                <a:arcTo wR="288131" hR="251619" stAng="-6420771" swAng="5525320"/>
                <a:lnTo>
                  <a:pt x="288131" y="251619"/>
                </a:lnTo>
                <a:close/>
              </a:path>
              <a:path fill="none" w="576262" h="503237">
                <a:moveTo>
                  <a:pt x="213751" y="8528"/>
                </a:moveTo>
                <a:lnTo>
                  <a:pt x="213751" y="8528"/>
                </a:lnTo>
                <a:arcTo wR="288131" hR="251619" stAng="-6420771" swAng="5525320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7" name="Object 5"/>
              <p:cNvSpPr txBox="1"/>
              <p:nvPr/>
            </p:nvSpPr>
            <p:spPr>
              <a:xfrm>
                <a:off x="3884760" y="2133720"/>
                <a:ext cx="22716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BA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AB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8" name="Прямоугольник 27"/>
          <p:cNvSpPr/>
          <p:nvPr/>
        </p:nvSpPr>
        <p:spPr>
          <a:xfrm>
            <a:off x="3792960" y="2852640"/>
            <a:ext cx="419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ледовательно в равнобедренном ∆ АВ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Прямоугольник 28"/>
          <p:cNvSpPr/>
          <p:nvPr/>
        </p:nvSpPr>
        <p:spPr>
          <a:xfrm>
            <a:off x="4432680" y="324468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АВ = ∟СВА = 3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Прямоугольник 29"/>
          <p:cNvSpPr/>
          <p:nvPr/>
        </p:nvSpPr>
        <p:spPr>
          <a:xfrm>
            <a:off x="1194480" y="4724280"/>
            <a:ext cx="41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Прямоугольник 30"/>
          <p:cNvSpPr/>
          <p:nvPr/>
        </p:nvSpPr>
        <p:spPr>
          <a:xfrm>
            <a:off x="3787200" y="4724280"/>
            <a:ext cx="41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Прямоугольник 31"/>
          <p:cNvSpPr/>
          <p:nvPr/>
        </p:nvSpPr>
        <p:spPr>
          <a:xfrm>
            <a:off x="4419000" y="3573360"/>
            <a:ext cx="37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 ∆ АВС: ∟АСВ = 18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- 2 ∙ 3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= 12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Дуга 32"/>
          <p:cNvSpPr/>
          <p:nvPr/>
        </p:nvSpPr>
        <p:spPr>
          <a:xfrm rot="7497600">
            <a:off x="2511000" y="3456000"/>
            <a:ext cx="503280" cy="503280"/>
          </a:xfrm>
          <a:custGeom>
            <a:avLst/>
            <a:gdLst>
              <a:gd name="textAreaLeft" fmla="*/ 284760 w 503280"/>
              <a:gd name="textAreaRight" fmla="*/ 503640 w 503280"/>
              <a:gd name="textAreaTop" fmla="*/ 2160 h 503280"/>
              <a:gd name="textAreaBottom" fmla="*/ 336600 h 503280"/>
            </a:gdLst>
            <a:ahLst/>
            <a:rect l="textAreaLeft" t="textAreaTop" r="textAreaRight" b="textAreaBottom"/>
            <a:pathLst>
              <a:path stroke="0" w="503237" h="503238">
                <a:moveTo>
                  <a:pt x="284707" y="2185"/>
                </a:moveTo>
                <a:lnTo>
                  <a:pt x="284707" y="2185"/>
                </a:lnTo>
                <a:arcTo wR="251619" hR="251619" stAng="-4946608" swAng="6130212"/>
                <a:lnTo>
                  <a:pt x="251619" y="251619"/>
                </a:lnTo>
                <a:close/>
              </a:path>
              <a:path fill="none" w="503237" h="503238">
                <a:moveTo>
                  <a:pt x="284707" y="2185"/>
                </a:moveTo>
                <a:lnTo>
                  <a:pt x="284707" y="2185"/>
                </a:lnTo>
                <a:arcTo wR="251619" hR="251619" stAng="-4946608" swAng="6130212"/>
              </a:path>
            </a:pathLst>
          </a:custGeom>
          <a:solidFill>
            <a:srgbClr val="00b0f0"/>
          </a:solidFill>
          <a:ln w="10080">
            <a:solidFill>
              <a:srgbClr val="94b6d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Прямоугольник 33"/>
          <p:cNvSpPr/>
          <p:nvPr/>
        </p:nvSpPr>
        <p:spPr>
          <a:xfrm>
            <a:off x="2563560" y="393372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2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Прямоугольник 34"/>
          <p:cNvSpPr/>
          <p:nvPr/>
        </p:nvSpPr>
        <p:spPr>
          <a:xfrm>
            <a:off x="4488120" y="3860640"/>
            <a:ext cx="41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нешний угол:   ∟АСН = 18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- 12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= 6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Дуга 35"/>
          <p:cNvSpPr/>
          <p:nvPr/>
        </p:nvSpPr>
        <p:spPr>
          <a:xfrm rot="11224800">
            <a:off x="2448720" y="3246120"/>
            <a:ext cx="576360" cy="647640"/>
          </a:xfrm>
          <a:custGeom>
            <a:avLst/>
            <a:gdLst>
              <a:gd name="textAreaLeft" fmla="*/ 414000 w 576360"/>
              <a:gd name="textAreaRight" fmla="*/ 576720 w 576360"/>
              <a:gd name="textAreaTop" fmla="*/ 32400 h 647640"/>
              <a:gd name="textAreaBottom" fmla="*/ 324000 h 647640"/>
            </a:gdLst>
            <a:ahLst/>
            <a:rect l="textAreaLeft" t="textAreaTop" r="textAreaRight" b="textAreaBottom"/>
            <a:pathLst>
              <a:path stroke="0" w="576262" h="647700">
                <a:moveTo>
                  <a:pt x="413921" y="32492"/>
                </a:moveTo>
                <a:lnTo>
                  <a:pt x="413921" y="32492"/>
                </a:lnTo>
                <a:arcTo wR="288131" hR="323850" stAng="-3998902" swAng="3998914"/>
                <a:lnTo>
                  <a:pt x="288131" y="323850"/>
                </a:lnTo>
                <a:close/>
              </a:path>
              <a:path fill="none" w="576262" h="647700">
                <a:moveTo>
                  <a:pt x="413921" y="32492"/>
                </a:moveTo>
                <a:lnTo>
                  <a:pt x="413921" y="32492"/>
                </a:lnTo>
                <a:arcTo wR="288131" hR="323850" stAng="-3998902" swAng="3998914"/>
              </a:path>
            </a:pathLst>
          </a:custGeom>
          <a:noFill/>
          <a:ln w="57240">
            <a:solidFill>
              <a:srgbClr val="2107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Прямоугольник 36"/>
          <p:cNvSpPr/>
          <p:nvPr/>
        </p:nvSpPr>
        <p:spPr>
          <a:xfrm>
            <a:off x="2130480" y="3573360"/>
            <a:ext cx="41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Прямоугольник 37"/>
          <p:cNvSpPr/>
          <p:nvPr/>
        </p:nvSpPr>
        <p:spPr>
          <a:xfrm>
            <a:off x="4474440" y="4221000"/>
            <a:ext cx="37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СН – прямоугольный:  ∟САН = 3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Прямоугольник 38"/>
          <p:cNvSpPr/>
          <p:nvPr/>
        </p:nvSpPr>
        <p:spPr>
          <a:xfrm>
            <a:off x="900000" y="450864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Прямоугольник 39"/>
          <p:cNvSpPr/>
          <p:nvPr/>
        </p:nvSpPr>
        <p:spPr>
          <a:xfrm>
            <a:off x="5314320" y="4581360"/>
            <a:ext cx="376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атет прямоугольного треугольни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лежащий против угла в 30°, рав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оловине гипотену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Прямоугольник 40"/>
          <p:cNvSpPr/>
          <p:nvPr/>
        </p:nvSpPr>
        <p:spPr>
          <a:xfrm>
            <a:off x="2486160" y="28526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Прямоугольник 41"/>
          <p:cNvSpPr/>
          <p:nvPr/>
        </p:nvSpPr>
        <p:spPr>
          <a:xfrm>
            <a:off x="906480" y="551664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Н = 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Прямоугольник 42"/>
          <p:cNvSpPr/>
          <p:nvPr/>
        </p:nvSpPr>
        <p:spPr>
          <a:xfrm>
            <a:off x="1851480" y="5516640"/>
            <a:ext cx="263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Н = ВС + СН = 12 + 6 =1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Прямоугольник 43"/>
          <p:cNvSpPr/>
          <p:nvPr/>
        </p:nvSpPr>
        <p:spPr>
          <a:xfrm>
            <a:off x="7674480" y="573264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Ответ: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Управляющая кнопка: далее 44"/>
          <p:cNvSpPr/>
          <p:nvPr/>
        </p:nvSpPr>
        <p:spPr>
          <a:xfrm>
            <a:off x="8604360" y="6597720"/>
            <a:ext cx="539640" cy="260280"/>
          </a:xfrm>
          <a:custGeom>
            <a:avLst/>
            <a:gdLst>
              <a:gd name="textAreaLeft" fmla="*/ 16560 w 539640"/>
              <a:gd name="textAreaRight" fmla="*/ 523080 w 5396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44751" h="21600">
                <a:moveTo>
                  <a:pt x="0" y="0"/>
                </a:moveTo>
                <a:lnTo>
                  <a:pt x="44751" y="0"/>
                </a:lnTo>
                <a:lnTo>
                  <a:pt x="44751" y="21600"/>
                </a:lnTo>
                <a:lnTo>
                  <a:pt x="0" y="21600"/>
                </a:lnTo>
                <a:close/>
              </a:path>
              <a:path fill="lightenLess" w="44751" h="21600">
                <a:moveTo>
                  <a:pt x="0" y="0"/>
                </a:moveTo>
                <a:lnTo>
                  <a:pt x="44751" y="0"/>
                </a:lnTo>
                <a:lnTo>
                  <a:pt x="43351" y="1400"/>
                </a:lnTo>
                <a:lnTo>
                  <a:pt x="1400" y="1400"/>
                </a:lnTo>
                <a:close/>
              </a:path>
              <a:path fill="darken" w="44751" h="21600">
                <a:moveTo>
                  <a:pt x="44751" y="0"/>
                </a:moveTo>
                <a:lnTo>
                  <a:pt x="44751" y="21600"/>
                </a:lnTo>
                <a:lnTo>
                  <a:pt x="43351" y="20200"/>
                </a:lnTo>
                <a:lnTo>
                  <a:pt x="43351" y="1400"/>
                </a:lnTo>
                <a:close/>
              </a:path>
              <a:path fill="darkenLess" w="44751" h="21600">
                <a:moveTo>
                  <a:pt x="447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351" y="20200"/>
                </a:lnTo>
                <a:close/>
              </a:path>
              <a:path fill="lighten" w="447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751" h="21600">
                <a:moveTo>
                  <a:pt x="15369" y="3794"/>
                </a:moveTo>
                <a:lnTo>
                  <a:pt x="29382" y="10800"/>
                </a:lnTo>
                <a:lnTo>
                  <a:pt x="15369" y="17806"/>
                </a:lnTo>
                <a:close/>
              </a:path>
            </a:pathLst>
          </a:cu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Управляющая кнопка: домой 45"/>
          <p:cNvSpPr/>
          <p:nvPr/>
        </p:nvSpPr>
        <p:spPr>
          <a:xfrm>
            <a:off x="7740720" y="6524640"/>
            <a:ext cx="503280" cy="333360"/>
          </a:xfrm>
          <a:custGeom>
            <a:avLst/>
            <a:gdLst>
              <a:gd name="textAreaLeft" fmla="*/ 21600 w 503280"/>
              <a:gd name="textAreaRight" fmla="*/ 481680 w 503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2598" h="21600">
                <a:moveTo>
                  <a:pt x="0" y="0"/>
                </a:moveTo>
                <a:lnTo>
                  <a:pt x="32598" y="0"/>
                </a:lnTo>
                <a:lnTo>
                  <a:pt x="32598" y="21600"/>
                </a:lnTo>
                <a:lnTo>
                  <a:pt x="0" y="21600"/>
                </a:lnTo>
                <a:close/>
              </a:path>
              <a:path fill="lightenLess" w="32598" h="21600">
                <a:moveTo>
                  <a:pt x="0" y="0"/>
                </a:moveTo>
                <a:lnTo>
                  <a:pt x="32598" y="0"/>
                </a:lnTo>
                <a:lnTo>
                  <a:pt x="31198" y="1400"/>
                </a:lnTo>
                <a:lnTo>
                  <a:pt x="1400" y="1400"/>
                </a:lnTo>
                <a:close/>
              </a:path>
              <a:path fill="darken" w="32598" h="21600">
                <a:moveTo>
                  <a:pt x="32598" y="0"/>
                </a:moveTo>
                <a:lnTo>
                  <a:pt x="32598" y="21600"/>
                </a:lnTo>
                <a:lnTo>
                  <a:pt x="31198" y="20200"/>
                </a:lnTo>
                <a:lnTo>
                  <a:pt x="31198" y="1400"/>
                </a:lnTo>
                <a:close/>
              </a:path>
              <a:path fill="darkenLess" w="32598" h="21600">
                <a:moveTo>
                  <a:pt x="325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8" y="20200"/>
                </a:lnTo>
                <a:close/>
              </a:path>
              <a:path fill="lighten" w="325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8" h="21600">
                <a:moveTo>
                  <a:pt x="16299" y="3837"/>
                </a:moveTo>
                <a:lnTo>
                  <a:pt x="18875" y="6448"/>
                </a:lnTo>
                <a:lnTo>
                  <a:pt x="18875" y="4707"/>
                </a:lnTo>
                <a:lnTo>
                  <a:pt x="20651" y="4707"/>
                </a:lnTo>
                <a:lnTo>
                  <a:pt x="20651" y="8224"/>
                </a:lnTo>
                <a:lnTo>
                  <a:pt x="23262" y="10800"/>
                </a:lnTo>
                <a:lnTo>
                  <a:pt x="21608" y="10800"/>
                </a:lnTo>
                <a:lnTo>
                  <a:pt x="21608" y="17989"/>
                </a:lnTo>
                <a:lnTo>
                  <a:pt x="10990" y="17989"/>
                </a:lnTo>
                <a:lnTo>
                  <a:pt x="10990" y="10800"/>
                </a:lnTo>
                <a:lnTo>
                  <a:pt x="9336" y="10800"/>
                </a:lnTo>
                <a:close/>
              </a:path>
              <a:path fill="darkenLess" w="32598" h="21600">
                <a:moveTo>
                  <a:pt x="18875" y="6448"/>
                </a:moveTo>
                <a:lnTo>
                  <a:pt x="18875" y="4707"/>
                </a:lnTo>
                <a:lnTo>
                  <a:pt x="20651" y="4707"/>
                </a:lnTo>
                <a:lnTo>
                  <a:pt x="20651" y="8224"/>
                </a:lnTo>
                <a:close/>
              </a:path>
              <a:path fill="darkenLess" w="32598" h="21600">
                <a:moveTo>
                  <a:pt x="15376" y="14299"/>
                </a:moveTo>
                <a:lnTo>
                  <a:pt x="17222" y="14299"/>
                </a:lnTo>
                <a:lnTo>
                  <a:pt x="17222" y="17989"/>
                </a:lnTo>
                <a:lnTo>
                  <a:pt x="21608" y="17989"/>
                </a:lnTo>
                <a:lnTo>
                  <a:pt x="21608" y="10800"/>
                </a:lnTo>
                <a:lnTo>
                  <a:pt x="10990" y="10800"/>
                </a:lnTo>
                <a:lnTo>
                  <a:pt x="10990" y="17989"/>
                </a:lnTo>
                <a:lnTo>
                  <a:pt x="15376" y="17989"/>
                </a:lnTo>
                <a:close/>
              </a:path>
            </a:pathLst>
          </a:cu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Прямоугольник 46"/>
          <p:cNvSpPr/>
          <p:nvPr/>
        </p:nvSpPr>
        <p:spPr>
          <a:xfrm>
            <a:off x="4225680" y="170028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 способ реш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42"/>
          <p:cNvSpPr/>
          <p:nvPr/>
        </p:nvSpPr>
        <p:spPr>
          <a:xfrm>
            <a:off x="324000" y="18900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0000"/>
                </a:solidFill>
                <a:latin typeface="Franklin Gothic Book"/>
              </a:rPr>
              <a:t>2.2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1" dur="3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5" dur="5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8000"/>
                            </p:stCondLst>
                            <p:childTnLst>
                              <p:par>
                                <p:cTn id="10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9" dur="5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3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6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2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2" dur="5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6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7" dur="5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1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2" dur="5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2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2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3" dur="5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7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7000"/>
                            </p:stCondLst>
                            <p:childTnLst>
                              <p:par>
                                <p:cTn id="1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1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4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48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49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100"/>
                            </p:stCondLst>
                            <p:childTnLst>
                              <p:par>
                                <p:cTn id="1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5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2100"/>
                            </p:stCondLst>
                            <p:childTnLst>
                              <p:par>
                                <p:cTn id="11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9" dur="3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4" dur="5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Заголовок 1" descr=""/>
          <p:cNvPicPr/>
          <p:nvPr/>
        </p:nvPicPr>
        <p:blipFill>
          <a:blip r:embed="rId2"/>
          <a:stretch/>
        </p:blipFill>
        <p:spPr>
          <a:xfrm>
            <a:off x="450720" y="-6480"/>
            <a:ext cx="8699760" cy="115272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 txBox="1"/>
          <p:nvPr/>
        </p:nvSpPr>
        <p:spPr>
          <a:xfrm>
            <a:off x="179280" y="1052640"/>
            <a:ext cx="8964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75f55"/>
                </a:solidFill>
                <a:latin typeface="Franklin Gothic Book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Прямоугольный треугольник – треугольник, один из углов которого прямой.</a:t>
            </a:r>
            <a:endParaRPr b="0" lang="en-US" sz="2000" spc="-1" strike="noStrike">
              <a:solidFill>
                <a:srgbClr val="775f55"/>
              </a:solidFill>
              <a:latin typeface="Franklin Gothic Book"/>
            </a:endParaRPr>
          </a:p>
          <a:p>
            <a:pPr marL="288000" indent="-2880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Сторона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, лежащая против прямого угла, - 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гипотенуза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. Стороны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 и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в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- катеты</a:t>
            </a:r>
            <a:endParaRPr b="0" lang="en-US" sz="20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741" name="Управляющая кнопка: документ 3"/>
          <p:cNvSpPr/>
          <p:nvPr/>
        </p:nvSpPr>
        <p:spPr>
          <a:xfrm>
            <a:off x="971640" y="33336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7088" h="21600">
                <a:moveTo>
                  <a:pt x="8017" y="3985"/>
                </a:moveTo>
                <a:lnTo>
                  <a:pt x="15015" y="3985"/>
                </a:lnTo>
                <a:lnTo>
                  <a:pt x="19071" y="7484"/>
                </a:lnTo>
                <a:lnTo>
                  <a:pt x="19071" y="17615"/>
                </a:lnTo>
                <a:lnTo>
                  <a:pt x="8017" y="17615"/>
                </a:lnTo>
                <a:close/>
              </a:path>
              <a:path fill="darken" w="27088" h="21600">
                <a:moveTo>
                  <a:pt x="15015" y="3985"/>
                </a:moveTo>
                <a:lnTo>
                  <a:pt x="19071" y="7484"/>
                </a:lnTo>
                <a:lnTo>
                  <a:pt x="15015" y="7484"/>
                </a:lnTo>
                <a:close/>
              </a:path>
            </a:pathLst>
          </a:cu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Picture 2" descr="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0" y="0"/>
            <a:ext cx="395280" cy="6892920"/>
          </a:xfrm>
          <a:prstGeom prst="rect">
            <a:avLst/>
          </a:prstGeom>
          <a:ln w="0">
            <a:noFill/>
          </a:ln>
        </p:spPr>
      </p:pic>
      <p:sp>
        <p:nvSpPr>
          <p:cNvPr id="743" name="Прямоугольный треугольник 5"/>
          <p:cNvSpPr/>
          <p:nvPr/>
        </p:nvSpPr>
        <p:spPr>
          <a:xfrm>
            <a:off x="971640" y="2924280"/>
            <a:ext cx="1871640" cy="1152360"/>
          </a:xfrm>
          <a:prstGeom prst="rtTriangle">
            <a:avLst/>
          </a:prstGeom>
          <a:solidFill>
            <a:srgbClr val="f8e6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Прямоугольник 6"/>
          <p:cNvSpPr/>
          <p:nvPr/>
        </p:nvSpPr>
        <p:spPr>
          <a:xfrm>
            <a:off x="619560" y="39337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Прямоугольник 7"/>
          <p:cNvSpPr/>
          <p:nvPr/>
        </p:nvSpPr>
        <p:spPr>
          <a:xfrm>
            <a:off x="683640" y="256536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Прямоугольник 8"/>
          <p:cNvSpPr/>
          <p:nvPr/>
        </p:nvSpPr>
        <p:spPr>
          <a:xfrm>
            <a:off x="2851560" y="3860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Дуга 9"/>
          <p:cNvSpPr/>
          <p:nvPr/>
        </p:nvSpPr>
        <p:spPr>
          <a:xfrm rot="15984000">
            <a:off x="2570760" y="3804480"/>
            <a:ext cx="504720" cy="503280"/>
          </a:xfrm>
          <a:custGeom>
            <a:avLst/>
            <a:gdLst>
              <a:gd name="textAreaLeft" fmla="*/ 252360 w 504720"/>
              <a:gd name="textAreaRight" fmla="*/ 394560 w 504720"/>
              <a:gd name="textAreaTop" fmla="*/ 0 h 503280"/>
              <a:gd name="textAreaBottom" fmla="*/ 43560 h 503280"/>
            </a:gdLst>
            <a:ahLst/>
            <a:rect l="textAreaLeft" t="textAreaTop" r="textAreaRight" b="textAreaBottom"/>
            <a:pathLst>
              <a:path stroke="0" w="504825" h="503238">
                <a:moveTo>
                  <a:pt x="252413" y="0"/>
                </a:moveTo>
                <a:lnTo>
                  <a:pt x="252413" y="0"/>
                </a:lnTo>
                <a:arcTo wR="252413" hR="251619" stAng="-5400000" swAng="2063220"/>
                <a:lnTo>
                  <a:pt x="252413" y="251619"/>
                </a:lnTo>
                <a:close/>
              </a:path>
              <a:path fill="none" w="504825" h="503238">
                <a:moveTo>
                  <a:pt x="252413" y="0"/>
                </a:moveTo>
                <a:lnTo>
                  <a:pt x="252413" y="0"/>
                </a:lnTo>
                <a:arcTo wR="252413" hR="251619" stAng="-5400000" swAng="2063220"/>
              </a:path>
            </a:pathLst>
          </a:custGeom>
          <a:solidFill>
            <a:srgbClr val="00b050"/>
          </a:solidFill>
          <a:ln w="10080">
            <a:solidFill>
              <a:srgbClr val="94b6d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Прямоугольник 10"/>
          <p:cNvSpPr/>
          <p:nvPr/>
        </p:nvSpPr>
        <p:spPr>
          <a:xfrm>
            <a:off x="2268720" y="378936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Прямоугольник 11"/>
          <p:cNvSpPr/>
          <p:nvPr/>
        </p:nvSpPr>
        <p:spPr>
          <a:xfrm>
            <a:off x="1771200" y="3141720"/>
            <a:ext cx="27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Прямоугольник 12"/>
          <p:cNvSpPr/>
          <p:nvPr/>
        </p:nvSpPr>
        <p:spPr>
          <a:xfrm>
            <a:off x="1557360" y="4076640"/>
            <a:ext cx="2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Прямоугольник 13"/>
          <p:cNvSpPr/>
          <p:nvPr/>
        </p:nvSpPr>
        <p:spPr>
          <a:xfrm>
            <a:off x="623160" y="328464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Прямоугольник 14"/>
          <p:cNvSpPr/>
          <p:nvPr/>
        </p:nvSpPr>
        <p:spPr>
          <a:xfrm>
            <a:off x="926280" y="3716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3" name="Object 2"/>
              <p:cNvSpPr txBox="1"/>
              <p:nvPr/>
            </p:nvSpPr>
            <p:spPr>
              <a:xfrm>
                <a:off x="4356000" y="2355840"/>
                <a:ext cx="144000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Object 3"/>
              <p:cNvSpPr txBox="1"/>
              <p:nvPr/>
            </p:nvSpPr>
            <p:spPr>
              <a:xfrm>
                <a:off x="4284720" y="3213000"/>
                <a:ext cx="125244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соsα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а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Object 4"/>
              <p:cNvSpPr txBox="1"/>
              <p:nvPr/>
            </p:nvSpPr>
            <p:spPr>
              <a:xfrm>
                <a:off x="4500720" y="4581360"/>
                <a:ext cx="106488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6" name="Управляющая кнопка: возврат 19">
            <a:hlinkClick r:id="" action="ppaction://hlinkshowjump?jump=previousslide"/>
          </p:cNvPr>
          <p:cNvSpPr/>
          <p:nvPr/>
        </p:nvSpPr>
        <p:spPr>
          <a:xfrm>
            <a:off x="8496360" y="6524640"/>
            <a:ext cx="647640" cy="333360"/>
          </a:xfrm>
          <a:custGeom>
            <a:avLst/>
            <a:gdLst>
              <a:gd name="textAreaLeft" fmla="*/ 21600 w 647640"/>
              <a:gd name="textAreaRight" fmla="*/ 626040 w 647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1942" h="21600">
                <a:moveTo>
                  <a:pt x="0" y="0"/>
                </a:moveTo>
                <a:lnTo>
                  <a:pt x="41942" y="0"/>
                </a:lnTo>
                <a:lnTo>
                  <a:pt x="41942" y="21600"/>
                </a:lnTo>
                <a:lnTo>
                  <a:pt x="0" y="21600"/>
                </a:lnTo>
                <a:close/>
              </a:path>
              <a:path fill="lightenLess" w="41942" h="21600">
                <a:moveTo>
                  <a:pt x="0" y="0"/>
                </a:moveTo>
                <a:lnTo>
                  <a:pt x="41942" y="0"/>
                </a:lnTo>
                <a:lnTo>
                  <a:pt x="40542" y="1400"/>
                </a:lnTo>
                <a:lnTo>
                  <a:pt x="1400" y="1400"/>
                </a:lnTo>
                <a:close/>
              </a:path>
              <a:path fill="darken" w="41942" h="21600">
                <a:moveTo>
                  <a:pt x="41942" y="0"/>
                </a:moveTo>
                <a:lnTo>
                  <a:pt x="41942" y="21600"/>
                </a:lnTo>
                <a:lnTo>
                  <a:pt x="40542" y="20200"/>
                </a:lnTo>
                <a:lnTo>
                  <a:pt x="40542" y="1400"/>
                </a:lnTo>
                <a:close/>
              </a:path>
              <a:path fill="darkenLess" w="41942" h="21600">
                <a:moveTo>
                  <a:pt x="41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42" y="20200"/>
                </a:lnTo>
                <a:close/>
              </a:path>
              <a:path fill="lighten" w="41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942" h="21600">
                <a:moveTo>
                  <a:pt x="13964" y="7493"/>
                </a:moveTo>
                <a:lnTo>
                  <a:pt x="17472" y="7493"/>
                </a:lnTo>
                <a:lnTo>
                  <a:pt x="17472" y="12828"/>
                </a:lnTo>
                <a:cubicBezTo>
                  <a:pt x="17472" y="13751"/>
                  <a:pt x="18273" y="14482"/>
                  <a:pt x="19308" y="14482"/>
                </a:cubicBezTo>
                <a:lnTo>
                  <a:pt x="20971" y="14482"/>
                </a:lnTo>
                <a:cubicBezTo>
                  <a:pt x="22007" y="14482"/>
                  <a:pt x="22807" y="13751"/>
                  <a:pt x="22807" y="12828"/>
                </a:cubicBezTo>
                <a:lnTo>
                  <a:pt x="22807" y="7493"/>
                </a:lnTo>
                <a:lnTo>
                  <a:pt x="20971" y="7493"/>
                </a:lnTo>
                <a:lnTo>
                  <a:pt x="24478" y="3985"/>
                </a:lnTo>
                <a:lnTo>
                  <a:pt x="28151" y="7493"/>
                </a:lnTo>
                <a:lnTo>
                  <a:pt x="26315" y="7493"/>
                </a:lnTo>
                <a:lnTo>
                  <a:pt x="26315" y="12828"/>
                </a:lnTo>
                <a:cubicBezTo>
                  <a:pt x="26315" y="15596"/>
                  <a:pt x="23739" y="18155"/>
                  <a:pt x="20971" y="18155"/>
                </a:cubicBezTo>
                <a:lnTo>
                  <a:pt x="19308" y="18155"/>
                </a:lnTo>
                <a:cubicBezTo>
                  <a:pt x="16541" y="18155"/>
                  <a:pt x="13964" y="15596"/>
                  <a:pt x="13964" y="12828"/>
                </a:cubicBezTo>
                <a:close/>
              </a:path>
            </a:pathLst>
          </a:cu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fill="hold">
                      <p:stCondLst>
                        <p:cond delay="0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2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2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4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8" dur="250" autoRev="1" fill="hold"/>
                                        <p:tgtEl>
                                          <p:spTgt spid="7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8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1" dur="250" autoRev="1" fill="hold"/>
                                        <p:tgtEl>
                                          <p:spTgt spid="7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7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5500"/>
                            </p:stCondLst>
                            <p:childTnLst>
                              <p:par>
                                <p:cTn id="119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0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1" dur="500" autoRev="1" fill="hold"/>
                                        <p:tgtEl>
                                          <p:spTgt spid="7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0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3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4" dur="500" autoRev="1" fill="hold"/>
                                        <p:tgtEl>
                                          <p:spTgt spid="7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6500"/>
                            </p:stCondLst>
                            <p:childTnLst>
                              <p:par>
                                <p:cTn id="1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2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2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0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8500"/>
                            </p:stCondLst>
                            <p:childTnLst>
                              <p:par>
                                <p:cTn id="12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3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4" dur="500" autoRev="1" fill="hold"/>
                                        <p:tgtEl>
                                          <p:spTgt spid="7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1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6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7" dur="500" autoRev="1" fill="hold"/>
                                        <p:tgtEl>
                                          <p:spTgt spid="7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0T03:24:47Z</dcterms:created>
  <dc:creator>zenalla</dc:creator>
  <dc:description/>
  <dc:language>en-US</dc:language>
  <cp:lastModifiedBy>Admin</cp:lastModifiedBy>
  <dcterms:modified xsi:type="dcterms:W3CDTF">2014-10-20T13:25:08Z</dcterms:modified>
  <cp:revision>112</cp:revision>
  <dc:subject/>
  <dc:title>ЕГЭ  2012</dc:title>
</cp:coreProperties>
</file>